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2717-CDB3-442D-8B4E-C27176175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A7B9-DEAB-4593-BA8A-E9208A8D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8513-4000-483E-9472-2EB222235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2B30-4266-4362-B83F-D89B0898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714C-5D93-47CD-9926-7CAA7D10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E7C9-F13C-4058-AFA1-37EB9F31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A5CD-2DC7-42BC-8E59-6B78B5A3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0E4D-1BF2-4AFE-B1C2-F3E70E1F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31A6-B60A-485F-B685-45AB72F0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1DF0-4DFA-4458-9725-147D9049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0BF4-AC55-47A9-8F6D-011911D1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DD31-FBB0-4E36-BCCF-DBB6D2EA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1085-7D48-4450-B1EE-A78FDB246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3200400" cy="2395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796000" y="189000"/>
            <a:ext cx="3200400" cy="2395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79280" y="3645000"/>
            <a:ext cx="4030920" cy="3022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435640" y="4221000"/>
            <a:ext cx="3200400" cy="2394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276720" y="1773360"/>
            <a:ext cx="32004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0T10:05:55Z</dcterms:created>
  <dc:creator>Педагоги</dc:creator>
  <dc:description/>
  <dc:language>en-US</dc:language>
  <cp:lastModifiedBy>Педагоги</cp:lastModifiedBy>
  <dcterms:modified xsi:type="dcterms:W3CDTF">2015-04-20T10:07:47Z</dcterms:modified>
  <cp:revision>1</cp:revision>
  <dc:subject/>
  <dc:title>Слайд 1</dc:title>
</cp:coreProperties>
</file>