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8A9-A4B6-41C3-89BC-E914264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9A1-FB78-4AD2-9863-AFA17453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3CF-96D5-4710-8391-A84A57A6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B1A-634B-4922-AC1D-EE679D4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3E7-6593-4F35-8B01-CA228D35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548-78C2-43D8-AF7C-97866A9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A3D-A96F-4E87-93BC-C0557D4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26E-5137-4799-9004-1F434EF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0AE-A7CD-4FF2-81B6-44AF22C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154-584B-4C17-B872-779C67F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FED-A116-4895-BB77-7159EF1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8D5-E57A-45A2-854C-30D0E75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D1E7-B228-496C-A5AA-6916F706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4030920" cy="302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20040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76720" y="177336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0:05:55Z</dcterms:created>
  <dc:creator>Педагоги</dc:creator>
  <dc:description/>
  <dc:language>en-US</dc:language>
  <cp:lastModifiedBy>Педагоги</cp:lastModifiedBy>
  <dcterms:modified xsi:type="dcterms:W3CDTF">2015-04-20T10:07:47Z</dcterms:modified>
  <cp:revision>1</cp:revision>
  <dc:subject/>
  <dc:title>Слайд 1</dc:title>
</cp:coreProperties>
</file>