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ABE35-A168-4510-AB31-FCFF2F02D9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1FB6F-FEBA-46E5-932E-7FE5017C58F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A5FE-AACB-4AAD-8410-8661EE021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BBDC-795F-459A-ABAC-8F80D56EF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C542-336F-48FC-B2DD-E42E28752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AD0C-3B5E-468B-9426-D9156FC76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E0360-7408-4C57-94B7-59DA81C8C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E014D-6DCA-4492-96BD-233377278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2DF47-C4DE-4C1C-91FA-8C329D644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3312A-4563-4F8A-AB13-FA9421211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98524-FDFC-4920-9394-992E178EE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543CB-0EBA-4E96-8812-28226AD9C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A644B-7A65-4608-905F-4A5B6885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D954-D9F4-4F55-896F-259264494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65552-7641-43FD-87FB-80359B4A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2F988-A1C1-4551-BCAC-A654AC22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55356-392C-4C4F-99D9-116C94A68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866C6-8DEA-4420-8358-632DC0974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03164-55AD-44E2-AB19-1FA73350F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2D93-AAA5-413B-BAC1-663A38DA4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7160-BDE7-40EE-BCA6-FB7B7408F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5A2E-383D-484D-82C7-8A626300D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E281-9FCB-4002-A6F5-3BEC93D2B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54E8-0D84-48C8-8657-86A3F1BB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5543-EF87-414D-96EE-538A032F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595E-9044-4381-BD37-7CC6C439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34097-0F37-43A4-A7FC-EB053200C8F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9C169-0B9A-494D-9672-2C8723A5EBE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&#1084;&#1072;&#1090;&#1077;&#1084;&#1072;&#1090;&#1080;&#1095;&#1077;&#1089;&#1082;&#1080;&#1081;%20&#1076;&#1080;&#1082;&#1090;&#1072;&#1085;&#1090;.ppt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unga"/>
              </a:rPr>
              <a:t>Тема урока</a:t>
            </a:r>
            <a:r>
              <a:rPr b="0" i="1" lang="ru-RU" sz="4400" spc="-1" strike="noStrike">
                <a:solidFill>
                  <a:srgbClr val="e5ffff"/>
                </a:solidFill>
                <a:latin typeface="Tunga"/>
              </a:rPr>
              <a:t>: «</a:t>
            </a:r>
            <a:r>
              <a:rPr b="0" i="1" lang="ru-RU" sz="4800" spc="-1" strike="noStrike">
                <a:solidFill>
                  <a:srgbClr val="e5ffff"/>
                </a:solidFill>
                <a:latin typeface="Tunga"/>
              </a:rPr>
              <a:t>Умножение десятичных дробей»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057040" y="548604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5481"/>
                </a:solidFill>
                <a:latin typeface="Tahoma"/>
              </a:rPr>
              <a:t>Разработала учитель МБОУ ВСОШ №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5481"/>
                </a:solidFill>
                <a:latin typeface="Tahoma"/>
              </a:rPr>
              <a:t>Аксанова Ильсияр Исмагилов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пример: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              4,37 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  <a:ea typeface="Tahoma"/>
              </a:rPr>
              <a:t>∙ 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2,6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,3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×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2,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62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87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1,36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Line 5"/>
          <p:cNvSpPr/>
          <p:nvPr/>
        </p:nvSpPr>
        <p:spPr>
          <a:xfrm>
            <a:off x="3124080" y="3505320"/>
            <a:ext cx="1143000" cy="0"/>
          </a:xfrm>
          <a:prstGeom prst="line">
            <a:avLst/>
          </a:prstGeom>
          <a:ln w="4428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Line 7"/>
          <p:cNvSpPr/>
          <p:nvPr/>
        </p:nvSpPr>
        <p:spPr>
          <a:xfrm>
            <a:off x="2590920" y="5029200"/>
            <a:ext cx="1600200" cy="0"/>
          </a:xfrm>
          <a:prstGeom prst="line">
            <a:avLst/>
          </a:prstGeom>
          <a:ln w="414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5ffff"/>
                </a:solidFill>
                <a:latin typeface="Tahoma"/>
              </a:rPr>
              <a:t>вывод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бы перемножить две десятичные дроби, надо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выполнить умножение, не обращая внимания на запяты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отделить запятой столько цифр справа, сколько их стоит после запятой в обоих множителях вмест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7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4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1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Вычислить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6,25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∙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,8=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2,6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∙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7,8=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0,8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∙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0,92=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0,25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∙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0,48=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,15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∙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0,07=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6,023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∙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,6=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0,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98,2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0,7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0,12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0,080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3,728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61048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Решить задачи из учебника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№1392,№ 1396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Решите самостоятельно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№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141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2590920"/>
            <a:ext cx="8229600" cy="1371600"/>
          </a:xfrm>
          <a:prstGeom prst="rect">
            <a:avLst/>
          </a:prstGeom>
          <a:noFill/>
          <a:ln w="9360">
            <a:solidFill>
              <a:srgbClr val="2b548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Математический диктант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Домашнее задание: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№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431 (а,б), 1432( а-д), 143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Вычислите устно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0,4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∙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0,03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∙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0,7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∙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0,006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∙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8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∙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0,00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0,125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∙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2,7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∙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0,691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∙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0,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0,1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3,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0,02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0,03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2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69,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Разделите число 541,2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1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1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10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100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4,1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,41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0,541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0,0541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cc"/>
                </a:solidFill>
                <a:latin typeface="Tahoma"/>
              </a:rPr>
              <a:t>Задача: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105160" y="274320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Tahoma"/>
              </a:rPr>
              <a:t>1. за 2 час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Tahoma"/>
              </a:rPr>
              <a:t>2. за0,1 час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Tahoma"/>
              </a:rPr>
              <a:t>3. за0,3 час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25909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cc"/>
                </a:solidFill>
                <a:latin typeface="Tahoma"/>
              </a:rPr>
              <a:t>Скорость человека 5,2 км/ч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cc"/>
                </a:solidFill>
                <a:latin typeface="Tahoma"/>
              </a:rPr>
              <a:t>Сколько км пройдет человек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Tahoma"/>
              </a:rPr>
              <a:t>1</a:t>
            </a:r>
            <a:r>
              <a:rPr b="0" lang="ru-RU" sz="4000" spc="-1" strike="noStrike">
                <a:solidFill>
                  <a:srgbClr val="ff33cc"/>
                </a:solidFill>
                <a:latin typeface="Tahoma"/>
              </a:rPr>
              <a:t>. за 2 часа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2285640"/>
            <a:ext cx="67057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йдем путь по формуле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=v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∙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,2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∙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=10,4  к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Tahoma"/>
              </a:rPr>
              <a:t>2. за 0,1 час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,2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∙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0,1=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,2:10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∙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=0,52   </a:t>
            </a:r>
            <a:r>
              <a:rPr b="0" lang="ru-RU" sz="2800" spc="-1" strike="noStrike">
                <a:solidFill>
                  <a:srgbClr val="ff33cc"/>
                </a:solidFill>
                <a:latin typeface="Tahoma"/>
              </a:rPr>
              <a:t>но по условию надо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5,2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∙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0,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,2:10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∙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=0,52 км                   5,2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∙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0,1=0,52 к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4191120" y="4038480"/>
            <a:ext cx="304560" cy="976320"/>
          </a:xfrm>
          <a:prstGeom prst="downArrow">
            <a:avLst>
              <a:gd name="adj1" fmla="val 40620"/>
              <a:gd name="adj2" fmla="val 70896"/>
            </a:avLst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AutoShape 7"/>
          <p:cNvSpPr/>
          <p:nvPr/>
        </p:nvSpPr>
        <p:spPr>
          <a:xfrm>
            <a:off x="3124080" y="6705720"/>
            <a:ext cx="486000" cy="747720"/>
          </a:xfrm>
          <a:prstGeom prst="downArrow">
            <a:avLst>
              <a:gd name="adj1" fmla="val 50000"/>
              <a:gd name="adj2" fmla="val 3846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AutoShape 10"/>
          <p:cNvSpPr/>
          <p:nvPr/>
        </p:nvSpPr>
        <p:spPr>
          <a:xfrm>
            <a:off x="3505320" y="5410080"/>
            <a:ext cx="1676160" cy="228600"/>
          </a:xfrm>
          <a:prstGeom prst="leftRightArrow">
            <a:avLst>
              <a:gd name="adj1" fmla="val 50000"/>
              <a:gd name="adj2" fmla="val 145967"/>
            </a:avLst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5ffff"/>
                </a:solidFill>
                <a:latin typeface="Tahoma"/>
              </a:rPr>
              <a:t>вывод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бы умножить десятичную дробь н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ff"/>
                </a:solidFill>
                <a:latin typeface="Tahoma"/>
              </a:rPr>
              <a:t>            </a:t>
            </a:r>
            <a:r>
              <a:rPr b="1" lang="ru-RU" sz="3200" spc="-1" strike="noStrike">
                <a:solidFill>
                  <a:srgbClr val="cc00ff"/>
                </a:solidFill>
                <a:latin typeface="Tahoma"/>
              </a:rPr>
              <a:t>0,1; 0,01; 0,001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д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ренести запятую </a:t>
            </a:r>
            <a:r>
              <a:rPr b="0" lang="ru-RU" sz="3200" spc="-1" strike="noStrike">
                <a:solidFill>
                  <a:srgbClr val="cc00ff"/>
                </a:solidFill>
                <a:latin typeface="Tahoma"/>
              </a:rPr>
              <a:t>влево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на столько цифр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колько стоит их после запят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0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7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4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Выполнить умножение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723920" y="205740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5,4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,788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0,2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0,00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0,05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0,00000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54,2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∙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0,1 =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260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788,2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∙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0,001=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260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,8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∙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0,1=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260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0,08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∙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0,1 =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260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4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∙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0,001 =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260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0,001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∙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0,0001 =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Tahoma"/>
              </a:rPr>
              <a:t>          </a:t>
            </a:r>
            <a:r>
              <a:rPr b="0" lang="ru-RU" sz="4400" spc="-1" strike="noStrike">
                <a:solidFill>
                  <a:srgbClr val="ff33cc"/>
                </a:solidFill>
                <a:latin typeface="Tahoma"/>
              </a:rPr>
              <a:t>3. за 0,3 час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5,2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  <a:ea typeface="Tahoma"/>
              </a:rPr>
              <a:t>∙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0,3= 0,52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  <a:ea typeface="Tahoma"/>
              </a:rPr>
              <a:t>∙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=1,56 к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Line 5"/>
          <p:cNvSpPr/>
          <p:nvPr/>
        </p:nvSpPr>
        <p:spPr>
          <a:xfrm>
            <a:off x="2895480" y="2514600"/>
            <a:ext cx="304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2-12-04T17:52:13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