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17F5-67A4-4E78-9BB2-0A72F8506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57BA-97B1-43F1-B3C6-1DA39B3B6F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99C-B897-4799-A02C-80E430B2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6CB-D10D-48C8-935A-C938EE4C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440-728D-4B13-A080-04E878B3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741-F299-422F-9929-2534AB2B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5240-5D7F-40B5-B104-C4D74417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B04B-305B-4128-8BF2-CF52D401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9E65-2F83-4212-BCAC-1C95F1C2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071E-6BD9-48E0-A890-129FCE3D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8671-4DEA-401A-B87E-DD544800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3B22-E556-4E8D-BCD8-2A10114F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E0C9-3B4A-407D-872A-342E743C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B35-DA0D-4925-A364-9B37C2A9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5C38-AAF7-488B-BE3A-1F96C147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999E-B04E-491F-A0AC-D1F9907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4E75-9578-4EAD-9B58-C09339B6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008C-BB30-45AB-9453-7FA239D7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6DBF-D620-4D7F-9718-82590EB4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4E8-21FD-4ABB-B59A-AD8C303C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4D1-75B2-41C0-BF80-F5013B6D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6AF-808D-41EE-B9FB-D123F33F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0DA4-0E77-4DB1-8312-625D2EE1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F17-2E98-46DB-9643-A45EED15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733-4427-4A74-B91A-10B022B1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62D-084A-4F4A-A051-4C9A99D6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AEFD-C57D-48AE-A799-DE9408F38F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C956-05A0-471D-9ED6-446C46C8A9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84;&#1072;&#1090;&#1077;&#1084;&#1072;&#1090;&#1080;&#1095;&#1077;&#1089;&#1082;&#1080;&#1081;%20&#1076;&#1080;&#1082;&#1090;&#1072;&#1085;&#1090;.pp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unga"/>
              </a:rPr>
              <a:t>Тема урока</a:t>
            </a:r>
            <a:r>
              <a:rPr b="0" i="1" lang="ru-RU" sz="4400" spc="-1" strike="noStrike">
                <a:solidFill>
                  <a:srgbClr val="e5ffff"/>
                </a:solidFill>
                <a:latin typeface="Tunga"/>
              </a:rPr>
              <a:t>: «</a:t>
            </a:r>
            <a:r>
              <a:rPr b="0" i="1" lang="ru-RU" sz="4800" spc="-1" strike="noStrike">
                <a:solidFill>
                  <a:srgbClr val="e5ffff"/>
                </a:solidFill>
                <a:latin typeface="Tunga"/>
              </a:rPr>
              <a:t>Умножение десятичных дробей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040" y="54860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Разработала учитель МБОУ ВСОШ №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Аксанова Ильсияр Исмагил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имер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4,37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  <a:ea typeface="Tahoma"/>
              </a:rPr>
              <a:t>∙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2,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,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×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2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6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1,3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3124080" y="3505320"/>
            <a:ext cx="1143000" cy="0"/>
          </a:xfrm>
          <a:prstGeom prst="line">
            <a:avLst/>
          </a:prstGeom>
          <a:ln w="442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2590920" y="5029200"/>
            <a:ext cx="1600200" cy="0"/>
          </a:xfrm>
          <a:prstGeom prst="line">
            <a:avLst/>
          </a:prstGeom>
          <a:ln w="414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перемножить две десятичные дроби, над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выполнить умножение, не обращая внимания на запя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отделить запятой столько цифр справа, сколько их стоит после запятой в обоих множителях вме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числить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,2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,8=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,6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,8=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8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92=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2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48=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,1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07=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,023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6=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,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8,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7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12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08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3,728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шить задачи из учебник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№1392,№ 139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шите самостоятель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4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371600"/>
          </a:xfrm>
          <a:prstGeom prst="rect">
            <a:avLst/>
          </a:prstGeom>
          <a:noFill/>
          <a:ln w="9360">
            <a:solidFill>
              <a:srgbClr val="2b54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Математический диктан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431 (а,б), 1432( а-д), 14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числите устно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4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3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7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06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125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,7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691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,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3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9,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зделите число 541,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4,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4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54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054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Задача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05160" y="2743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1. за 2 ча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2. за0,1 ча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3. за0,3 ча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корость человека 5,2 км/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колько км пройдет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ahoma"/>
              </a:rPr>
              <a:t>1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. за 2 час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дем путь по формул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=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,2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=10,4  к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2. за 0,1 ча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1=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2:1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=0,52   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но по условию над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5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2:1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=0,52 км                   5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1=0,52 к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191120" y="4038480"/>
            <a:ext cx="304560" cy="976320"/>
          </a:xfrm>
          <a:prstGeom prst="downArrow">
            <a:avLst>
              <a:gd name="adj1" fmla="val 40620"/>
              <a:gd name="adj2" fmla="val 70896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124080" y="6705720"/>
            <a:ext cx="486000" cy="747720"/>
          </a:xfrm>
          <a:prstGeom prst="downArrow">
            <a:avLst>
              <a:gd name="adj1" fmla="val 50000"/>
              <a:gd name="adj2" fmla="val 38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505320" y="5410080"/>
            <a:ext cx="1676160" cy="228600"/>
          </a:xfrm>
          <a:prstGeom prst="leftRightArrow">
            <a:avLst>
              <a:gd name="adj1" fmla="val 50000"/>
              <a:gd name="adj2" fmla="val 1459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умножить десятичную дробь 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cc00ff"/>
                </a:solidFill>
                <a:latin typeface="Tahoma"/>
              </a:rPr>
              <a:t>0,1; 0,01; 0,001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ести запятую </a:t>
            </a:r>
            <a:r>
              <a:rPr b="0" lang="ru-RU" sz="3200" spc="-1" strike="noStrike">
                <a:solidFill>
                  <a:srgbClr val="cc00ff"/>
                </a:solidFill>
                <a:latin typeface="Tahoma"/>
              </a:rPr>
              <a:t>вле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 столько циф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стоит их после запя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полнить умноже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23920" y="20574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5,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,78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000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54,2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1 =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788,2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001=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,8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1=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8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1 =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4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0,001 =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01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0001 =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3. за 0,3 ча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,2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0,3= 0,52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=1,56 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895480" y="251460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12-04T17:52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