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A7EF-24FB-440F-ABD3-1F001A5AF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8C0D-A3BB-4352-8EEE-0854AF12D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AA4-4C5C-49CA-91F6-B5C2C249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125-3C28-4245-817A-68037683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D6B-2838-45B7-A016-CB0DFD34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01C-8200-41D1-9B7E-C1D0F9DB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3CDA-8792-4A4E-ABE8-2D7D0ECB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983D-DDD8-455B-B92E-D725444B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6278-C686-4FC1-9041-A3D2C029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EEB7-65F7-4B08-BD33-917807F8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1A4F-471B-4E52-8A2D-73BA1890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5DF5-4F12-4F9C-A715-BCB3D16D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B135-F5D4-4049-9943-73F8E64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4A8-1FEB-4D52-8DE0-7487D41F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E454-9503-4321-917D-D01197A1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43B5-F1F9-48BD-982B-50BAD805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0652-A6CB-4EFB-AD54-31399D9B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811C-F743-4051-8B33-EBABA9CB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AD55-54D7-44C5-B50B-DDB6DE17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A6D8-D63C-4BC3-BBCF-BDDE5C54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E159-5399-44CD-AE1B-64F26193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775F-746D-4502-8FC0-535321DF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1C57-DC2B-4A36-9F5F-F88F4C3C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2749-8A7B-4A5D-AE37-DB3DC942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FB5-D026-4801-8462-DF4C361D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BB40-90ED-4E1C-8DED-FF5BA77D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D9849-B7F2-4700-B84C-1F0D973B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9B85-D5F9-4D89-AB30-D3E45787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EBD8-3A0E-4F7B-A2B6-6CC51155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68637-E82E-4A86-8361-CE458DFD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FDA5-D6F1-4670-96B1-EE566A71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A7C6-765B-41BE-A3F0-49EDE9EC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7A9D3-49B7-4A9E-9584-E4A461F7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83FFB-BC18-4014-90C6-48B04135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BAAB-1618-402D-B8A8-9E90D6A3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C68-BAB4-4149-952F-227B3EE0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0581-AFC1-486A-A5BA-FBF57AD9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9BC4-C78A-478B-9D59-12EC84D2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A74E1-4609-44D8-8D49-CA6FAFA9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F558-A324-41D0-B8BB-CFE1A67E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C6D7-28CE-4031-8B59-E117F65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A578-8591-4D06-81F6-9CD2CB8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C501-74A5-4ACB-A40B-964CFE73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F5F95-BFA3-4CD0-B118-E2A2A6B5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1DAFF-DBC7-4372-9CD2-2DBD2C85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D84DF-A89F-4A4B-A0AC-BC88414E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FE3-247D-4110-812E-96A41593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CFA8-1135-4542-BA17-053B53FF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6ADA5-9C39-4884-A6FF-3D80591C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CDD6-CFD8-493F-9E7B-9FFD3722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3A196-0AB4-4852-AB1B-033AD6E5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C481-44CC-4A7C-9FE0-FAAE3A27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3A36-BA5E-4DC7-8390-AC10F84D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A4795-2245-4AAF-9D85-B35F636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69E3-18D0-45A3-AD76-F0A1E0E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DD536-1452-4AF7-997D-5DDB6302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75E1A-2571-450F-81CE-AFD842CC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86F-A4FE-4B35-B86C-EED44000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F2A8-5901-47AF-A507-BB8848FC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9D9-9DEB-4289-BAFA-B7567073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4B7-C868-48D8-8CC6-72F03050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E6F-FC98-45B7-AA20-66D61CDC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8176-37FD-4B56-AB34-31048BC8BDC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D563-9F5A-4553-86BF-3AA4741BB99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0785-9114-4045-82AF-965C4AA2E29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9762-E6F2-4019-B18B-BF26960EF67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77D2-3277-4198-9B4B-B71ECA0E660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-kurim/glossary/tabak/" TargetMode="External"/><Relationship Id="rId2" Type="http://schemas.openxmlformats.org/officeDocument/2006/relationships/hyperlink" Target="http://ne-kurim/glossary/efirnye-masla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-kurim/glossary/nikotin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93560" y="328680"/>
            <a:ext cx="8060040" cy="6396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i?id=1436083&amp;tov=6"/>
          <p:cNvPicPr/>
          <p:nvPr/>
        </p:nvPicPr>
        <p:blipFill>
          <a:blip r:embed="rId2"/>
          <a:stretch/>
        </p:blipFill>
        <p:spPr>
          <a:xfrm>
            <a:off x="450720" y="785880"/>
            <a:ext cx="390384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14200" y="1285920"/>
            <a:ext cx="8283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ьное дыхание - одна из основ здоровь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зднее мы узнали, что горячий табачный дым разрушает зубную эмаль, что в конце концов, оканчивается кариесом. Ещё известно, что у курильщика на внутренней поверхности щёк могут появиться злокачественные образова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35344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0 ежедневно выкуриваемых сигарет сокращают жизнь на 8-12 лет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ждая выкуренная сигарета стоит курильщику 15 минут жизн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лостные курильщики заболевают раком лёгких в 30 раз чаще, чем некурящ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912520" cy="1243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i?id=14571744&amp;tov=2"/>
          <p:cNvPicPr/>
          <p:nvPr/>
        </p:nvPicPr>
        <p:blipFill>
          <a:blip r:embed="rId2"/>
          <a:srcRect l="0" t="0" r="0" b="21347"/>
          <a:stretch/>
        </p:blipFill>
        <p:spPr>
          <a:xfrm>
            <a:off x="928800" y="1773360"/>
            <a:ext cx="71722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следствия кур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4" descr="i?id=6792124&amp;tov=2"/>
          <p:cNvPicPr/>
          <p:nvPr/>
        </p:nvPicPr>
        <p:blipFill>
          <a:blip r:embed="rId1"/>
          <a:stretch/>
        </p:blipFill>
        <p:spPr>
          <a:xfrm>
            <a:off x="1127160" y="2143080"/>
            <a:ext cx="7230960" cy="41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Наглядные последствия курения"/>
          <p:cNvPicPr/>
          <p:nvPr/>
        </p:nvPicPr>
        <p:blipFill>
          <a:blip r:embed="rId1"/>
          <a:stretch/>
        </p:blipFill>
        <p:spPr>
          <a:xfrm>
            <a:off x="0" y="476280"/>
            <a:ext cx="87152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сследования социологов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«Почему вы курите?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60 процентов девушек ответили: это красиво и модно. А 40 процентов курят потому, что хотят нравиться мальчикам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ыли опрошены 256 юношей. Им предложили три вопроса и соответственно три варианта ответа: положительно, безразлично, отрицательн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прос первый: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«В твоей компании девушки курят. Как ты к этому относишься?» — 4% положительно, 54% безразлично, 42% отрицательн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прос второй: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«Девушка, с которой ты дружишь, курит. Как ты к этому относишься?» — 1% положительно, 15% безразлично, 84% отрицательн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прос третий: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«Хотел бы ты, чтобы твоя жена курила?» — Буря протестов! Из 256 только двое ответили, что им всё равно. Остальные категорически возразил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8" descr="i?id=42953422&amp;tov=0"/>
          <p:cNvPicPr/>
          <p:nvPr/>
        </p:nvPicPr>
        <p:blipFill>
          <a:blip r:embed="rId1"/>
          <a:stretch/>
        </p:blipFill>
        <p:spPr>
          <a:xfrm>
            <a:off x="5357880" y="2133720"/>
            <a:ext cx="3101760" cy="29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ути избавления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от вредной привыч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4" descr="i?id=27795218&amp;tov=3"/>
          <p:cNvPicPr/>
          <p:nvPr/>
        </p:nvPicPr>
        <p:blipFill>
          <a:blip r:embed="rId1"/>
          <a:stretch/>
        </p:blipFill>
        <p:spPr>
          <a:xfrm>
            <a:off x="928800" y="2055960"/>
            <a:ext cx="3060720" cy="4109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ила вол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гулки на свежем воздух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нятие спорто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нятия с психолого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826920" y="107316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Чтобы сохранить здоровье, надо знать о себе очень много». Здоровье человека — плод использования глубоких познаний, который можно получить только в процессе образова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иценн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187280" y="1511640"/>
            <a:ext cx="75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урение — медленное самоубийств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139840" y="3079440"/>
            <a:ext cx="486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Курение или здоровье? Выбирайте сами!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проект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9680" y="2214360"/>
            <a:ext cx="81867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явить причину вредной привы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ться с составом табачных издели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яснить последствия кур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следования социолог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ути избавления от вредной привы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ичины кур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ще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судар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абость во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утствие собственных понятий о добре и зл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утствие знаний о собственном организм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устое поклонение мо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285840" y="615960"/>
            <a:ext cx="8547120" cy="15415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onstantia"/>
              </a:rPr>
              <a:t>Курить 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onstantia"/>
              </a:rPr>
              <a:t>или 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onstantia"/>
              </a:rPr>
              <a:t>не курить?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4" descr=""/>
          <p:cNvPicPr/>
          <p:nvPr/>
        </p:nvPicPr>
        <p:blipFill>
          <a:blip r:embed="rId1"/>
          <a:stretch/>
        </p:blipFill>
        <p:spPr>
          <a:xfrm>
            <a:off x="542880" y="566640"/>
            <a:ext cx="8015400" cy="1731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8351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-е: поиск информации о содержании вредных веществ в сигарет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-е: последствия курения, заболеван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3-е: поиск статистических данны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остав вредных веществ в табачных изделиях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28400" y="2428560"/>
            <a:ext cx="825804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 курении под влиянием высокой температуры из 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таба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ыделяется 30 вредных веществ: никотин, сероводород, аммиак, азот, окись углерода и различны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эфирные масл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реди них особенно опасен бензопирен — стопроцентный канцероген ( «канцер» — по-латыни — рак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214200" y="814680"/>
            <a:ext cx="86058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данным американски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табачном дым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чительное количеств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ония-21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излучает альфа-частицы. При выкуривании одной пачки сигарет лично ты получишь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зу облуч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 семь раз больше установленной международным соглашением по защите от ради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ahoma"/>
                <a:hlinkClick r:id="rId1"/>
              </a:rPr>
              <a:t>Никоти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 — это наркотик. Только так его именует высший орган мировой медицины — Всемирная организация здравоохранения. А это означает, что с каждым годом тебе будет всё труднее. Табак, сужая сосуды, не только вызывает усиленную работу сердца, но и ухудшает и разрушает деятельность многих систем организм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15" descr="i?id=4525963&amp;tov=0"/>
          <p:cNvPicPr/>
          <p:nvPr/>
        </p:nvPicPr>
        <p:blipFill>
          <a:blip r:embed="rId2"/>
          <a:stretch/>
        </p:blipFill>
        <p:spPr>
          <a:xfrm>
            <a:off x="6715080" y="5500800"/>
            <a:ext cx="2151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следствия кур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котин сужает капилляры, что ограничивает приток крови к коже и может стать причиной массы неприятностей — к примеру, появления темных кругов под глазами. К тому же кожа не справляется с выведением шлаков: сигаретный дым и смолы лишают ее необходимых питательных веществ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зультат — тусклый нездоровый цвет лица и преждевременные морщины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42560" y="1142640"/>
            <a:ext cx="8086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лосы, пахнущие дымом, прокуренные зубы, нездоровый цвет кожи, табачный запах изо рта, грубый голос... Все это - негативные последствия курения. А так как внешние проявления - лишь последствия внутренних изменений, сразу можно сделать вывод, что курильщик -нездоровый человек. К тому же, загрязнение окружающей среды - тоже одно из негативных последствий кур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09:41:38Z</dcterms:created>
  <dc:creator>ФТВ</dc:creator>
  <dc:description/>
  <dc:language>en-US</dc:language>
  <cp:lastModifiedBy>Дробязко</cp:lastModifiedBy>
  <dcterms:modified xsi:type="dcterms:W3CDTF">2014-02-17T18:25:14Z</dcterms:modified>
  <cp:revision>16</cp:revision>
  <dc:subject/>
  <dc:title>Вредные привычки: курение</dc:title>
</cp:coreProperties>
</file>