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0544-E7AA-4ABA-9D1C-F170D20FA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66F-6BC8-4EAE-A7A5-B46DE2F66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97-3DA6-44C7-BEB0-EA5716FA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1BD-7265-4840-818A-B6532C8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2E8-B9A9-4A6B-ABD1-E2C8696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6A6-4358-42E5-A74E-CAA7FD9D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73F-09B5-41A7-A32A-043B7298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C7E8-4642-4768-BFC9-B4C97ED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7DC9-0780-420C-8088-307BF6B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0BDB-2135-42B2-B433-97954845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475-9FCF-4486-8798-60DDF8D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B90-8C4B-45D2-9965-FBE4D14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94C4-33A4-4206-A452-3FB155E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47C-42A8-4612-A801-B7829AA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DE1D-BFEB-4DC8-923F-E566EE9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38D-E52F-40A2-A624-8695C2B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CD4-61A5-48C8-8E14-20624EE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BBB-7AA4-4005-8856-C5C5A53A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9F8F-438C-40E4-9451-0058A24A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759A-D45F-4C5E-9D0D-6FE4224D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1061-12E8-4921-95F1-FD8EFE99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28DB-E8AC-4995-A9D1-0D884EC3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06DC-DCAC-4CB5-8CC3-FC215E2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E6CA-E4E5-4627-91A4-4D18952A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532-792A-48C5-A767-BCAFE0ED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F5B2-AEAF-46D5-95B1-0C9B59F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1EAF-D1B0-46F7-B6E3-872A1FD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532F-BFBB-464C-AF71-3AD61CC3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F1A0-1D66-4720-B900-BB977C2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81DC-6B44-4ACC-AA19-61A75C9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39CA-5B4F-40EC-A27E-0FC77A73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D322-9F2A-4A79-99F0-1011BDD8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C139-95F2-4360-A470-817ECC7B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18F6-AC1A-4A33-9337-EB72513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CE08-9E24-4698-AE76-6E430B27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B8-F8E6-4070-8BED-D40129F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C894-7752-471A-90A0-B80D860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5D92-42B6-48EE-8FB5-E1FDA49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8A97-F032-46FB-91C5-1CD76A8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4E57-B256-46F2-B88B-A31B68E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674B-8DC4-4961-96F6-38E51A7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5C0F-4350-4172-9D79-C8DE58E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1C85-D407-4F53-B5F5-A1818C7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CF10-A5C4-45E8-A9C4-12939562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0E76-1ADF-4590-B478-D40DC273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F2E0-1D3C-47F3-A73D-79C037B7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85F-805F-4D14-AC96-10D91EF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004D-45EF-48E2-B9D2-A774821C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0D3A-F506-4F89-9549-B0C4E0ED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F6C1-8CF5-4B0D-98A8-974703FC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74BBF-7D0D-4B38-AC1D-5E46D78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A4B60-5404-42DA-810B-8BAACD4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22A4-B430-4290-A9F0-8AD8E7F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2B1F-5AC5-4844-B80E-750D8F8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0E27-6EA1-443B-87D4-9F2A0FC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42A2-D1D0-4C8C-810E-59C2CF3B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9925-C4EE-49D6-80C8-4F05BCC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634-D14D-42E1-AF1B-1C691136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45F9-3290-44E7-9735-94F02E7C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A8B-D7EE-4FC1-AF70-57B6F62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E8B-B273-4CC9-966A-2D03390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917-2C11-4221-B86C-759D85D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995-465D-4CFF-B939-9E6B8B85B8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3A54-201C-40FB-830A-487330823D0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33B2-6334-41CB-82E1-4333258FC8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9AC-E08F-4685-AE82-C6814372EB9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92F9-E17B-41C9-8E3B-DA1996E8BB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-kurim/glossary/tabak/" TargetMode="External"/><Relationship Id="rId2" Type="http://schemas.openxmlformats.org/officeDocument/2006/relationships/hyperlink" Target="http://ne-kurim/glossary/efirnye-masla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-kurim/glossary/nikotin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93560" y="328680"/>
            <a:ext cx="8060040" cy="6396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i?id=1436083&amp;tov=6"/>
          <p:cNvPicPr/>
          <p:nvPr/>
        </p:nvPicPr>
        <p:blipFill>
          <a:blip r:embed="rId2"/>
          <a:stretch/>
        </p:blipFill>
        <p:spPr>
          <a:xfrm>
            <a:off x="450720" y="785880"/>
            <a:ext cx="39038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14200" y="1285920"/>
            <a:ext cx="8283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ьное дыхание - одна из основ здоровь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днее мы узнали, что горячий табачный дым разрушает зубную эмаль, что в конце концов, оканчивается кариесом. Ещё известно, что у курильщика на внутренней поверхности щёк могут появиться злокачественные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35344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 ежедневно выкуриваемых сигарет сокращают жизнь на 8-12 лет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ая выкуренная сигарета стоит курильщику 15 минут жизн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лостные курильщики заболевают раком лёгких в 30 раз чаще, чем некурящ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912520" cy="1243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i?id=14571744&amp;tov=2"/>
          <p:cNvPicPr/>
          <p:nvPr/>
        </p:nvPicPr>
        <p:blipFill>
          <a:blip r:embed="rId2"/>
          <a:srcRect l="0" t="0" r="0" b="21347"/>
          <a:stretch/>
        </p:blipFill>
        <p:spPr>
          <a:xfrm>
            <a:off x="928800" y="1773360"/>
            <a:ext cx="71722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едствия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i?id=6792124&amp;tov=2"/>
          <p:cNvPicPr/>
          <p:nvPr/>
        </p:nvPicPr>
        <p:blipFill>
          <a:blip r:embed="rId1"/>
          <a:stretch/>
        </p:blipFill>
        <p:spPr>
          <a:xfrm>
            <a:off x="1127160" y="2143080"/>
            <a:ext cx="72309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Наглядные последствия курения"/>
          <p:cNvPicPr/>
          <p:nvPr/>
        </p:nvPicPr>
        <p:blipFill>
          <a:blip r:embed="rId1"/>
          <a:stretch/>
        </p:blipFill>
        <p:spPr>
          <a:xfrm>
            <a:off x="0" y="476280"/>
            <a:ext cx="87152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следования социологов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«Почему вы курите?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60 процентов девушек ответили: это красиво и модно. А 40 процентов курят потому, что хотят нравиться мальчика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ыли опрошены 256 юношей. Им предложили три вопроса и соответственно три варианта ответа: положительно, безразлично,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первы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В твоей компании девушки курят. Как ты к этому относишься?» — 4% положительно, 54% безразлично, 42%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второ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Девушка, с которой ты дружишь, курит. Как ты к этому относишься?» — 1% положительно, 15% безразлично, 84% отрицательн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прос третий: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«Хотел бы ты, чтобы твоя жена курила?» — Буря протестов! Из 256 только двое ответили, что им всё равно. Остальные категорически возразили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8" descr="i?id=42953422&amp;tov=0"/>
          <p:cNvPicPr/>
          <p:nvPr/>
        </p:nvPicPr>
        <p:blipFill>
          <a:blip r:embed="rId1"/>
          <a:stretch/>
        </p:blipFill>
        <p:spPr>
          <a:xfrm>
            <a:off x="5357880" y="2133720"/>
            <a:ext cx="3101760" cy="29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ути избавл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от вредной привыч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4" descr="i?id=27795218&amp;tov=3"/>
          <p:cNvPicPr/>
          <p:nvPr/>
        </p:nvPicPr>
        <p:blipFill>
          <a:blip r:embed="rId1"/>
          <a:stretch/>
        </p:blipFill>
        <p:spPr>
          <a:xfrm>
            <a:off x="928800" y="2055960"/>
            <a:ext cx="3060720" cy="4109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ла вол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улки на свежем воздух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е спорт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нятия с психолог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826920" y="107316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тобы сохранить здоровье, надо знать о себе очень много». Здоровье человека — плод использования глубоких познаний, который можно получить только в процессе образова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иценн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187280" y="151164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урение — медленное самоубийств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139840" y="3079440"/>
            <a:ext cx="486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Курение или здоровье? Выбирайте сами!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9680" y="2214360"/>
            <a:ext cx="81867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ить причину вредной привы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ться с составом табачных издели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снить последствия кур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следования социоло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ти избавления от вредной привы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чины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е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абость во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собственных понятий о добре и зл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утствие знаний о собственном организм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стое поклонение мо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85840" y="615960"/>
            <a:ext cx="8547120" cy="15415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Курить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или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onstantia"/>
              </a:rPr>
              <a:t>не курить?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4" descr=""/>
          <p:cNvPicPr/>
          <p:nvPr/>
        </p:nvPicPr>
        <p:blipFill>
          <a:blip r:embed="rId1"/>
          <a:stretch/>
        </p:blipFill>
        <p:spPr>
          <a:xfrm>
            <a:off x="542880" y="566640"/>
            <a:ext cx="8015400" cy="1731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-е: поиск информации о содержании вредных веществ в сигарет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-е: последствия курения, заболева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-е: поиск статистических данны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остав вредных веществ в табачных изделия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400" y="2428560"/>
            <a:ext cx="825804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 курении под влиянием высокой температуры из 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аба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деляется 30 вредных веществ: никотин, сероводород, аммиак, азот, окись углерода и различны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эфирные масл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реди них особенно опасен бензопирен — стопроцентный канцероген ( «канцер» — по-латыни — рак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214200" y="814680"/>
            <a:ext cx="86058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данным американски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табачном дым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чительное количеств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ония-21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излучает альфа-частицы. При выкуривании одной пачки сигарет лично ты получишь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зу облуч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 семь раз больше установленной международным соглашением по защите от ради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ahoma"/>
                <a:hlinkClick r:id="rId1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 — это наркотик. Только так его именует высший орган мировой медицины — Всемирная организация здравоохранения. А это означает, что с каждым годом тебе будет всё труднее. Табак, сужая сосуды, не только вызывает усиленную работу сердца, но и ухудшает и разрушает деятельность многих систем организм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5" descr="i?id=4525963&amp;tov=0"/>
          <p:cNvPicPr/>
          <p:nvPr/>
        </p:nvPicPr>
        <p:blipFill>
          <a:blip r:embed="rId2"/>
          <a:stretch/>
        </p:blipFill>
        <p:spPr>
          <a:xfrm>
            <a:off x="6715080" y="5500800"/>
            <a:ext cx="2151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едствия кур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котин сужает капилляры, что ограничивает приток крови к коже и может стать причиной массы неприятностей — к примеру, появления темных кругов под глазами. К тому же кожа не справляется с выведением шлаков: сигаретный дым и смолы лишают ее необходимых питательных вещест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зультат — тусклый нездоровый цвет лица и преждевременные морщины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42560" y="1142640"/>
            <a:ext cx="80866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лосы, пахнущие дымом, прокуренные зубы, нездоровый цвет кожи, табачный запах изо рта, грубый голос... Все это - негативные последствия курения. А так как внешние проявления - лишь последствия внутренних изменений, сразу можно сделать вывод, что курильщик -нездоровый человек. К тому же, загрязнение окружающей среды - тоже одно из негативных последствий кур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9:41:38Z</dcterms:created>
  <dc:creator>ФТВ</dc:creator>
  <dc:description/>
  <dc:language>en-US</dc:language>
  <cp:lastModifiedBy>Дробязко</cp:lastModifiedBy>
  <dcterms:modified xsi:type="dcterms:W3CDTF">2014-02-17T18:25:14Z</dcterms:modified>
  <cp:revision>16</cp:revision>
  <dc:subject/>
  <dc:title>Вредные привычки: курение</dc:title>
</cp:coreProperties>
</file>