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DEE-740E-4819-A0AA-D6BA57E7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301-D0D8-4987-BCA1-2D1A2C10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0F6-9486-4C7A-8460-B1BC49AA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28A-DA6F-4B64-B1AD-BB8E6634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BA42-A382-4CEC-A716-1C007E1C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78E0-E8C0-46AA-B855-6058775A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FBF4-4329-4842-B925-ECD52A31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74AA-15A7-473B-BC54-75531C73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8A67-032F-47FF-8857-5F948F9B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E9A5-6DDE-4C60-BCFE-96198E37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60B6-9B3E-420C-A31D-29779940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01B-1423-47C1-867D-3A8DFEEA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989E-3BEE-46FC-A25A-60A8FD6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012B-39CB-4EAF-9368-3A83538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3AE3-2CF2-4A50-81C8-0916ADE4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5056-A271-44B5-B26F-D0708762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0D18-E8CD-49EC-B30A-8BC99D2A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EBA-C0C5-4A61-9755-80507EC9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33E-2C6E-42EB-88A0-34B4120E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1C0-D446-4E7A-A9BB-C3EFD85E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BE2-EFA6-4754-93F1-3F9C444D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8C6-3C0F-4CB4-9731-4F2AF30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BD7-FA55-4102-BAFF-3C830FBB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DEB-C780-41BB-AD4B-3E36E2CD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5B9F-DD6D-412F-9C77-4257D681E7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2790-978B-4C17-98DF-48C5D87713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56764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доровье  наших  дете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ших руках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24360" y="3500280"/>
            <a:ext cx="2303280" cy="1746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751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859280" y="4724280"/>
            <a:ext cx="5327640" cy="13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воспитатель группы №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омисарчук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6093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Санкт- 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2015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76360" y="836640"/>
            <a:ext cx="7010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ти подражают нам, взрослым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476360" y="2133720"/>
            <a:ext cx="7334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 ребенка в ваших руках! 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84360" y="3429000"/>
            <a:ext cx="4686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Обмен опытом родителей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Здоровый образ жизни в нашей семье»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792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- Когда нужно начинать прививать навыки здорового образа жизни детя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- Как Вы укрепляете и сохраняете здоровье дет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- Какие закаливающие процедуры - Вы проводите с детьми дом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92360" y="981000"/>
            <a:ext cx="2592360" cy="91440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пальчик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гимнас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«Дружная семья»</a:t>
            </a: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2492280"/>
            <a:ext cx="1706760" cy="91440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Подвижная игр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«Скучно, скучно так сидеть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20461200">
            <a:off x="4067280" y="4437000"/>
            <a:ext cx="2232000" cy="107964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1628640"/>
            <a:ext cx="1656000" cy="91440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Дых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гимнастик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4149720"/>
            <a:ext cx="2087640" cy="91440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«Помогаем мам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765000"/>
            <a:ext cx="914400" cy="91440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Гимна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для гл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2565360"/>
            <a:ext cx="2448000" cy="9144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ител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20073600">
            <a:off x="3780000" y="47239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ходьба по дорож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2924280"/>
            <a:ext cx="1778040" cy="1439640"/>
          </a:xfrm>
          <a:prstGeom prst="ellipse">
            <a:avLst/>
          </a:prstGeom>
          <a:solidFill>
            <a:srgbClr val="a2c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амомасса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ля чего нужны шишк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рукавички с пуговицами?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6200" y="281160"/>
            <a:ext cx="17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Мастер-клас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одведение итогов 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solidFill>
            <a:srgbClr val="61894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 Необходимо  внедрять здоровый образ жизни в каждую сем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2.  Домашний режим ребенка должен быть продолжением режима дня детского 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3.  Систематически проводить закаливание ребенка в условиях семь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4.  В выходные дни обязательно выходить с детьми на прогулку не менее 2 раз в день. Пусть на прогулке ребенок больше двигается, играет в подвижные игры. Детей играми оздоровим - себя омолод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  Проверить дома все травмоопасные места и не допускать детского травматизма.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4360" y="1266480"/>
            <a:ext cx="7920000" cy="2775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сточная мудрость гласи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«Здоровье – это верши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которую должен каждый « покорить сам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Вместе с Вами мы сможем научить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покорять эту вершину.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348000" y="443700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050920" y="28918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4292640"/>
            <a:ext cx="2876400" cy="1950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2857680" cy="2229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2808360" cy="2519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148360" y="189000"/>
            <a:ext cx="3582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6076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Форма проведения: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 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руглый сто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8798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накомить родителей воспитанников с основными факторами, способствующими укреплению и сохранению здоровья дошкольников в домашних условиях и условиях детского са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у родителей мотивации здорового образа жизни, ответственности за свое здоровье и здоровье своих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4f4a8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Охранять и укреплять здоровье детей, совершенствовать их физическое развитие, повышать свойства организма, улучшать физическую 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dc0e7"/>
                </a:solidFill>
                <a:latin typeface="Arial"/>
              </a:rPr>
              <a:t>Воспитывать в детях, родителях потребность в здоровом безопасном образе жизни как показателе общечеловеческой культу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особствовать усвоению правил соблюдения гигиенических норм и культуры быта, связывая воедино элементы анатомических, физиологических и гигиенических зн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2c880"/>
                </a:solidFill>
                <a:latin typeface="Arial"/>
              </a:rPr>
              <a:t>Помочь родителям организовать с детьми дошкольного возраста оздоровительную работу, направленную на формирование у них мотивации к здоровому образу жизни, поведенческих навыков здорового образа жиз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ть оптимальный режим дня, обеспечивающий гигиену нервной системы ребёнка, комфортное самочувствие, нервно-психическое и физическое развит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авайте поразмышляем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оровье – это….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 – это…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zakalivanie-(page-picture-large)"/>
          <p:cNvPicPr/>
          <p:nvPr/>
        </p:nvPicPr>
        <p:blipFill>
          <a:blip r:embed="rId1"/>
          <a:stretch/>
        </p:blipFill>
        <p:spPr>
          <a:xfrm>
            <a:off x="5076720" y="4508640"/>
            <a:ext cx="3384720" cy="2050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3039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Здоровь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о не только отсутствие болезней, это состояние оптимальной работоспособности, творческой отдачи, эмоционального тонуса, того, что создает фундамент будущего благополучия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Закалива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эффективное средство укрепления здоровья человека, в результате закаливания организм приспосабливается к меняющимся условиям окружающе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3800" y="2997360"/>
            <a:ext cx="450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Вот Вам добрые сове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В них и спрятаны секр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Как здоровье сохран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Учитесь все его ценить!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50920" y="1052640"/>
            <a:ext cx="5410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сохранить здоровь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796000" y="285264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93480" y="339480"/>
            <a:ext cx="8070480" cy="5745240"/>
            <a:chOff x="393480" y="339480"/>
            <a:chExt cx="8070480" cy="5745240"/>
          </a:xfrm>
        </p:grpSpPr>
        <p:sp>
          <p:nvSpPr>
            <p:cNvPr id="182" name="_s162837"/>
            <p:cNvSpPr/>
            <p:nvPr/>
          </p:nvSpPr>
          <p:spPr>
            <a:xfrm flipH="1" flipV="1">
              <a:off x="3000240" y="2194920"/>
              <a:ext cx="716400" cy="51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62836"/>
            <p:cNvSpPr/>
            <p:nvPr/>
          </p:nvSpPr>
          <p:spPr>
            <a:xfrm>
              <a:off x="1279440" y="97020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Прогулк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162835"/>
            <p:cNvSpPr/>
            <p:nvPr/>
          </p:nvSpPr>
          <p:spPr>
            <a:xfrm flipH="1">
              <a:off x="2409120" y="3211200"/>
              <a:ext cx="1013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162834"/>
            <p:cNvSpPr/>
            <p:nvPr/>
          </p:nvSpPr>
          <p:spPr>
            <a:xfrm>
              <a:off x="393480" y="249372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доброжелательны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лимат в семь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62833"/>
            <p:cNvSpPr/>
            <p:nvPr/>
          </p:nvSpPr>
          <p:spPr>
            <a:xfrm flipH="1">
              <a:off x="3000240" y="3716640"/>
              <a:ext cx="716400" cy="51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162832"/>
            <p:cNvSpPr/>
            <p:nvPr/>
          </p:nvSpPr>
          <p:spPr>
            <a:xfrm>
              <a:off x="1279440" y="401760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Игра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62831"/>
            <p:cNvSpPr/>
            <p:nvPr/>
          </p:nvSpPr>
          <p:spPr>
            <a:xfrm>
              <a:off x="4427640" y="3926160"/>
              <a:ext cx="0" cy="72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162830"/>
            <p:cNvSpPr/>
            <p:nvPr/>
          </p:nvSpPr>
          <p:spPr>
            <a:xfrm>
              <a:off x="3419640" y="464796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Закаливани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162839"/>
            <p:cNvSpPr/>
            <p:nvPr/>
          </p:nvSpPr>
          <p:spPr>
            <a:xfrm>
              <a:off x="5137920" y="3716640"/>
              <a:ext cx="716400" cy="51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162838"/>
            <p:cNvSpPr/>
            <p:nvPr/>
          </p:nvSpPr>
          <p:spPr>
            <a:xfrm>
              <a:off x="5559840" y="401760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гигиен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162829"/>
            <p:cNvSpPr/>
            <p:nvPr/>
          </p:nvSpPr>
          <p:spPr>
            <a:xfrm>
              <a:off x="5432040" y="3211200"/>
              <a:ext cx="1013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162828"/>
            <p:cNvSpPr/>
            <p:nvPr/>
          </p:nvSpPr>
          <p:spPr>
            <a:xfrm>
              <a:off x="6445800" y="249372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Сон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62827"/>
            <p:cNvSpPr/>
            <p:nvPr/>
          </p:nvSpPr>
          <p:spPr>
            <a:xfrm flipV="1">
              <a:off x="5137920" y="2194920"/>
              <a:ext cx="716400" cy="51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162826"/>
            <p:cNvSpPr/>
            <p:nvPr/>
          </p:nvSpPr>
          <p:spPr>
            <a:xfrm>
              <a:off x="5559840" y="97020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Полноценное пит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162825"/>
            <p:cNvSpPr/>
            <p:nvPr/>
          </p:nvSpPr>
          <p:spPr>
            <a:xfrm flipV="1">
              <a:off x="4427640" y="1774080"/>
              <a:ext cx="0" cy="72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62824"/>
            <p:cNvSpPr/>
            <p:nvPr/>
          </p:nvSpPr>
          <p:spPr>
            <a:xfrm>
              <a:off x="3419640" y="339480"/>
              <a:ext cx="2018160" cy="1436760"/>
            </a:xfrm>
            <a:prstGeom prst="ellipse">
              <a:avLst/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Физическ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упражнен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162823"/>
            <p:cNvSpPr/>
            <p:nvPr/>
          </p:nvSpPr>
          <p:spPr>
            <a:xfrm>
              <a:off x="3419640" y="2495880"/>
              <a:ext cx="2018160" cy="14367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здоровь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26920" y="260280"/>
            <a:ext cx="7921080" cy="5038920"/>
            <a:chOff x="826920" y="260280"/>
            <a:chExt cx="7921080" cy="5038920"/>
          </a:xfrm>
        </p:grpSpPr>
        <p:cxnSp>
          <p:nvCxnSpPr>
            <p:cNvPr id="200" name="_s163852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669280" y="1392840"/>
              <a:ext cx="1008360" cy="277308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163851"/>
            <p:cNvCxnSpPr>
              <a:stCxn id="204" idx="0"/>
              <a:endCxn id="202" idx="2"/>
            </p:cNvCxnSpPr>
            <p:nvPr/>
          </p:nvCxnSpPr>
          <p:spPr>
            <a:xfrm flipV="1">
              <a:off x="4787640" y="2275200"/>
              <a:ext cx="2880" cy="100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5" name="_s163850"/>
            <p:cNvCxnSpPr>
              <a:stCxn id="206" idx="0"/>
              <a:endCxn id="202" idx="2"/>
            </p:cNvCxnSpPr>
            <p:nvPr/>
          </p:nvCxnSpPr>
          <p:spPr>
            <a:xfrm flipH="1" flipV="1" rot="5400000">
              <a:off x="2896920" y="1392840"/>
              <a:ext cx="1008360" cy="277308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2" name="_s163846"/>
            <p:cNvSpPr/>
            <p:nvPr/>
          </p:nvSpPr>
          <p:spPr>
            <a:xfrm>
              <a:off x="3599280" y="260280"/>
              <a:ext cx="2376360" cy="2015640"/>
            </a:xfrm>
            <a:prstGeom prst="roundRect">
              <a:avLst>
                <a:gd name="adj" fmla="val 16667"/>
              </a:avLst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3300"/>
                  </a:solidFill>
                  <a:latin typeface="Arial"/>
                </a:rPr>
                <a:t>Угроз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3300"/>
                  </a:solidFill>
                  <a:latin typeface="Arial"/>
                </a:rPr>
                <a:t>здоровью ребенк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163847"/>
            <p:cNvSpPr/>
            <p:nvPr/>
          </p:nvSpPr>
          <p:spPr>
            <a:xfrm>
              <a:off x="826920" y="3283560"/>
              <a:ext cx="2376360" cy="2015640"/>
            </a:xfrm>
            <a:prstGeom prst="roundRect">
              <a:avLst>
                <a:gd name="adj" fmla="val 16667"/>
              </a:avLst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cc6600"/>
                  </a:solidFill>
                  <a:latin typeface="Arial"/>
                </a:rPr>
                <a:t>вредные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</a:rPr>
                <a:t>привычки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</a:rPr>
                <a:t>родителей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163848"/>
            <p:cNvSpPr/>
            <p:nvPr/>
          </p:nvSpPr>
          <p:spPr>
            <a:xfrm>
              <a:off x="3599280" y="3283560"/>
              <a:ext cx="2376360" cy="2015640"/>
            </a:xfrm>
            <a:prstGeom prst="roundRect">
              <a:avLst>
                <a:gd name="adj" fmla="val 16667"/>
              </a:avLst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Дети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одни дома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163849"/>
            <p:cNvSpPr/>
            <p:nvPr/>
          </p:nvSpPr>
          <p:spPr>
            <a:xfrm>
              <a:off x="6371640" y="3283560"/>
              <a:ext cx="2376360" cy="2015640"/>
            </a:xfrm>
            <a:prstGeom prst="roundRect">
              <a:avLst>
                <a:gd name="adj" fmla="val 16667"/>
              </a:avLst>
            </a:prstGeom>
            <a:solidFill>
              <a:srgbClr val="4e88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Дети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на дорог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 flipH="1" rot="20843400">
            <a:off x="3994920" y="5012640"/>
            <a:ext cx="1962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4:42:21Z</dcterms:created>
  <dc:creator>Надя</dc:creator>
  <dc:description/>
  <dc:language>en-US</dc:language>
  <cp:lastModifiedBy>Надя</cp:lastModifiedBy>
  <dcterms:modified xsi:type="dcterms:W3CDTF">2015-04-20T15:11:48Z</dcterms:modified>
  <cp:revision>8</cp:revision>
  <dc:subject/>
  <dc:title>Здоровые дети - в здоровой семье" </dc:title>
</cp:coreProperties>
</file>