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9D4-1E1A-452B-8FD1-BF724C8B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9CE-1232-4257-ABBA-92D06E2C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025-FD32-4F43-BA9E-02F95529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706-A502-471E-AED7-EF95C552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DE3-B3E9-4741-8358-5D0AC8A3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697-7333-4868-8C6E-5F8B2509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06FD-172C-4235-B015-90A9BF4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0211-6A16-4DFE-9121-1DAB559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04A7-E0D0-4A11-8404-31C3319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876C-CA66-40AC-B31E-7A4340BE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58B-B187-41E4-B095-F041B495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94D-B039-4681-BFB3-FBDBE0F1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8697-EFA9-44D3-ADE4-C10DFE9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485-BC9E-4391-A003-B156D3A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B88E-654A-4A53-88D0-3F26E17B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366-6E46-4F84-9854-F01A0329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E77-C11A-4FFA-977C-487ADA5B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AE9-CDBE-432B-B576-B856405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72E-CFE1-4737-9FBB-DFB03A7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AF8-8162-45FB-9E12-D04D16D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285-900A-4D73-971A-585A0F0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009-4FB3-4C2B-A01A-F172336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DC0-F58A-458B-8759-02B1DE6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70B-21D3-4F82-ADDF-2EA3B7E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94C-34D1-4AD8-942E-D0CABC5CA0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674F-9840-42CD-8C65-4B0C056612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56764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доровье  наших  дете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ших руках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24360" y="3500280"/>
            <a:ext cx="2303280" cy="174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751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59280" y="4724280"/>
            <a:ext cx="532764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воспитатель группы 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омисарчук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6093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Санкт- 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201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76360" y="836640"/>
            <a:ext cx="7010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ти подражают нам, взрослым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476360" y="2133720"/>
            <a:ext cx="7334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 ребенка в ваших руках!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4686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Обмен опытом родителей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Здоровый образ жизни в нашей семье»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92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огда нужно начинать прививать навыки здорового образа жизни детя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ак Вы укрепляете и сохраняете здоровье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акие закаливающие процедуры - Вы проводите с детьми дом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92360" y="981000"/>
            <a:ext cx="259236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альчик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«Дружная семья»</a:t>
            </a: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2492280"/>
            <a:ext cx="170676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одвижная игр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«Скучно, скучно так сидеть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0461200">
            <a:off x="4067280" y="4437000"/>
            <a:ext cx="2232000" cy="107964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1628640"/>
            <a:ext cx="165600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Дых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4149720"/>
            <a:ext cx="208764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«Помогаем мам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765000"/>
            <a:ext cx="91440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для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565360"/>
            <a:ext cx="2448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0073600">
            <a:off x="3780000" y="4723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ходьба по дорож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2924280"/>
            <a:ext cx="1778040" cy="143964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амомасс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ля чего нужны шишк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рукавички с пуговицами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6200" y="28116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Мастер-кла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дведение итогов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6189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 Необходимо  внедрять здоровый образ жизни в каждую сем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2.  Домашний режим ребенка должен быть продолжением режима дня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3.  Систематически проводить закаливание ребенка в условиях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4.  В выходные дни обязательно выходить с детьми на прогулку не менее 2 раз в день. Пусть на прогулке ребенок больше двигается, играет в подвижные игры. Детей играми оздоровим - себя омол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  Проверить дома все травмоопасные места и не допускать детского травматизма.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1266480"/>
            <a:ext cx="7920000" cy="2775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точная мудрость гласи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«Здоровье – это верш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которую должен каждый « покорить сам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Вместе с Вами мы сможем научить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окорять эту вершину.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50920" y="28918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2876400" cy="1950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2857680" cy="2229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2519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3582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6076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Форма проведения: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 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руглый сто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8798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 родителей воспитанников с основными факторами, способствующими укреплению и сохранению здоровья дошкольников в домашних условиях и условиях детского с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у родителей мотивации здорового образа жизни, ответственности за свое здоровье и здоровье свои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4f4a8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Охранять и укреплять здоровье детей, совершенствовать их физическое развитие, повышать свойства организма, улучшать физическую 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dc0e7"/>
                </a:solidFill>
                <a:latin typeface="Arial"/>
              </a:rPr>
              <a:t>Воспитывать в детях, родителях потребность в здоровом безопасном образе жизни как показателе общечеловеческой культ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ствовать усвоению правил соблюдения гигиенических норм и культуры быта, связывая воедино элементы анатомических, физиологических и гигиенических з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2c880"/>
                </a:solidFill>
                <a:latin typeface="Arial"/>
              </a:rPr>
              <a:t>Помочь родителям организовать с детьми дошкольного возраста оздоровительную работу, направленную на формирование у них мотивации к здоровому образу жизни, поведенческих навыков здорового образа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оптимальный режим дня, обеспечивающий гигиену нервной системы ребёнка, комфортное самочувствие, нервно-психическое и физическое разви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авайте поразмышляем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 – это…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 – это…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zakalivanie-(page-picture-large)"/>
          <p:cNvPicPr/>
          <p:nvPr/>
        </p:nvPicPr>
        <p:blipFill>
          <a:blip r:embed="rId1"/>
          <a:stretch/>
        </p:blipFill>
        <p:spPr>
          <a:xfrm>
            <a:off x="5076720" y="4508640"/>
            <a:ext cx="3384720" cy="205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39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Здоровь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не только отсутствие болезней, это состояние оптимальной работоспособности, творческой отдачи, эмоционального тонуса, того, что создает фундамент будущего благополучия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Закалива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эффективное средство укрепления здоровья человека, в результате закаливания организм приспосабливается к меняющимся условиям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3800" y="2997360"/>
            <a:ext cx="45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Вот Вам добрые сове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В них и спрятаны секр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Как здоровье сохран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Учитесь все его ценить!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50920" y="1052640"/>
            <a:ext cx="5410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сохранить здоров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6000" y="285264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93480" y="339480"/>
            <a:ext cx="8070480" cy="5745240"/>
            <a:chOff x="393480" y="339480"/>
            <a:chExt cx="8070480" cy="5745240"/>
          </a:xfrm>
        </p:grpSpPr>
        <p:sp>
          <p:nvSpPr>
            <p:cNvPr id="182" name="_s162837"/>
            <p:cNvSpPr/>
            <p:nvPr/>
          </p:nvSpPr>
          <p:spPr>
            <a:xfrm flipH="1" flipV="1">
              <a:off x="3000240" y="219492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62836"/>
            <p:cNvSpPr/>
            <p:nvPr/>
          </p:nvSpPr>
          <p:spPr>
            <a:xfrm>
              <a:off x="1279440" y="9702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огул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62835"/>
            <p:cNvSpPr/>
            <p:nvPr/>
          </p:nvSpPr>
          <p:spPr>
            <a:xfrm flipH="1">
              <a:off x="2409120" y="3211200"/>
              <a:ext cx="1013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62834"/>
            <p:cNvSpPr/>
            <p:nvPr/>
          </p:nvSpPr>
          <p:spPr>
            <a:xfrm>
              <a:off x="393480" y="249372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доброжелательны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лимат в семь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62833"/>
            <p:cNvSpPr/>
            <p:nvPr/>
          </p:nvSpPr>
          <p:spPr>
            <a:xfrm flipH="1">
              <a:off x="3000240" y="371664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62832"/>
            <p:cNvSpPr/>
            <p:nvPr/>
          </p:nvSpPr>
          <p:spPr>
            <a:xfrm>
              <a:off x="1279440" y="40176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гра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62831"/>
            <p:cNvSpPr/>
            <p:nvPr/>
          </p:nvSpPr>
          <p:spPr>
            <a:xfrm>
              <a:off x="4427640" y="3926160"/>
              <a:ext cx="0" cy="72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162830"/>
            <p:cNvSpPr/>
            <p:nvPr/>
          </p:nvSpPr>
          <p:spPr>
            <a:xfrm>
              <a:off x="3419640" y="464796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Закаливани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162839"/>
            <p:cNvSpPr/>
            <p:nvPr/>
          </p:nvSpPr>
          <p:spPr>
            <a:xfrm>
              <a:off x="5137920" y="371664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162838"/>
            <p:cNvSpPr/>
            <p:nvPr/>
          </p:nvSpPr>
          <p:spPr>
            <a:xfrm>
              <a:off x="5559840" y="40176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гигиен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62829"/>
            <p:cNvSpPr/>
            <p:nvPr/>
          </p:nvSpPr>
          <p:spPr>
            <a:xfrm>
              <a:off x="5432040" y="3211200"/>
              <a:ext cx="1013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62828"/>
            <p:cNvSpPr/>
            <p:nvPr/>
          </p:nvSpPr>
          <p:spPr>
            <a:xfrm>
              <a:off x="6445800" y="249372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Сон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62827"/>
            <p:cNvSpPr/>
            <p:nvPr/>
          </p:nvSpPr>
          <p:spPr>
            <a:xfrm flipV="1">
              <a:off x="5137920" y="219492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162826"/>
            <p:cNvSpPr/>
            <p:nvPr/>
          </p:nvSpPr>
          <p:spPr>
            <a:xfrm>
              <a:off x="5559840" y="9702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олноценное пит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62825"/>
            <p:cNvSpPr/>
            <p:nvPr/>
          </p:nvSpPr>
          <p:spPr>
            <a:xfrm flipV="1">
              <a:off x="4427640" y="1774080"/>
              <a:ext cx="0" cy="72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62824"/>
            <p:cNvSpPr/>
            <p:nvPr/>
          </p:nvSpPr>
          <p:spPr>
            <a:xfrm>
              <a:off x="3419640" y="33948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изиче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пражн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62823"/>
            <p:cNvSpPr/>
            <p:nvPr/>
          </p:nvSpPr>
          <p:spPr>
            <a:xfrm>
              <a:off x="3419640" y="2495880"/>
              <a:ext cx="201816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60280"/>
            <a:ext cx="7921080" cy="5038920"/>
            <a:chOff x="826920" y="260280"/>
            <a:chExt cx="7921080" cy="5038920"/>
          </a:xfrm>
        </p:grpSpPr>
        <p:cxnSp>
          <p:nvCxnSpPr>
            <p:cNvPr id="200" name="_s163852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669280" y="1392840"/>
              <a:ext cx="1008360" cy="277308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163851"/>
            <p:cNvCxnSpPr>
              <a:stCxn id="204" idx="0"/>
              <a:endCxn id="202" idx="2"/>
            </p:cNvCxnSpPr>
            <p:nvPr/>
          </p:nvCxnSpPr>
          <p:spPr>
            <a:xfrm flipV="1">
              <a:off x="4787640" y="2275200"/>
              <a:ext cx="2880" cy="100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5" name="_s163850"/>
            <p:cNvCxnSpPr>
              <a:stCxn id="206" idx="0"/>
              <a:endCxn id="202" idx="2"/>
            </p:cNvCxnSpPr>
            <p:nvPr/>
          </p:nvCxnSpPr>
          <p:spPr>
            <a:xfrm flipH="1" flipV="1" rot="5400000">
              <a:off x="2896920" y="1392840"/>
              <a:ext cx="1008360" cy="277308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163846"/>
            <p:cNvSpPr/>
            <p:nvPr/>
          </p:nvSpPr>
          <p:spPr>
            <a:xfrm>
              <a:off x="3599280" y="26028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3300"/>
                  </a:solidFill>
                  <a:latin typeface="Arial"/>
                </a:rPr>
                <a:t>Угроз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3300"/>
                  </a:solidFill>
                  <a:latin typeface="Arial"/>
                </a:rPr>
                <a:t>здоровью ребенк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63847"/>
            <p:cNvSpPr/>
            <p:nvPr/>
          </p:nvSpPr>
          <p:spPr>
            <a:xfrm>
              <a:off x="82692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cc6600"/>
                  </a:solidFill>
                  <a:latin typeface="Arial"/>
                </a:rPr>
                <a:t>вред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привычки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родителей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63848"/>
            <p:cNvSpPr/>
            <p:nvPr/>
          </p:nvSpPr>
          <p:spPr>
            <a:xfrm>
              <a:off x="359928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Дети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одни дома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163849"/>
            <p:cNvSpPr/>
            <p:nvPr/>
          </p:nvSpPr>
          <p:spPr>
            <a:xfrm>
              <a:off x="637164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Дети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на дорог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flipH="1" rot="20843400">
            <a:off x="3994920" y="5012640"/>
            <a:ext cx="1962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42:21Z</dcterms:created>
  <dc:creator>Надя</dc:creator>
  <dc:description/>
  <dc:language>en-US</dc:language>
  <cp:lastModifiedBy>Надя</cp:lastModifiedBy>
  <dcterms:modified xsi:type="dcterms:W3CDTF">2015-04-20T15:11:48Z</dcterms:modified>
  <cp:revision>8</cp:revision>
  <dc:subject/>
  <dc:title>Здоровые дети - в здоровой семье" </dc:title>
</cp:coreProperties>
</file>