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2424-BC4D-4C03-9A9E-EAFEBDAC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0FB8-41FA-42F5-9968-65B72A2D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F480-4A6D-4810-9491-A652858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494C-088D-4C3E-BD96-48BC0EDA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7BD3-EDE2-4BC3-BED6-3FA242D2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FD5-F889-48E3-8ABA-4467F5A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AA0-C194-4895-A51D-5BE38774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8C1-C9AB-4ABB-B277-A7806354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7132-92BB-448A-B34A-6C786767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D9A-339F-4FB4-BC02-78FC837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9CA-B1FC-4083-A123-4B326E6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8AD6-21B1-42E0-9CFB-35EF9210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C49-FB03-475F-8103-36927E0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D41-D0D8-4BEE-90B6-815440D8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DC98-507D-4E38-9A5A-FCFED80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DC0-DFAB-42FD-A4A1-06E4033E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C98D-16E3-48B5-A1F4-5393FA43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6C72-8DDF-4327-99C3-F2F6E4E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F12F-28CA-4764-A44E-3E851A79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459C-AAC5-4F5C-BC5F-B58B7735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19F2-2ED0-42F9-93D3-AED2B319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8E45-A8BD-4C37-8E0C-D739A03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6B3F-40A4-44B0-BB9D-D52E528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4640-913B-4C85-BB85-8DDE878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369-9640-4393-B3F8-4F5B2F94E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759-B55E-488E-AB63-69B87E32F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ка родного кр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ульская облас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29200" y="692280"/>
            <a:ext cx="831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ая область — один из наиболее развитых регионов России с высокими экономически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годное географическое расположение, наличие природных богатств, топливно-энергетических и мине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урсов, плодородных земель, мощного промышленного комплекса, высокого научно-технического, а так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чительного туристского потенциала позволяют рассматривать регион как один из перспективных аре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кономического роста Центрального федерального окру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460680" cy="41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241800" cy="243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478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8280" y="549360"/>
            <a:ext cx="8296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 времен первых железоделательных заводов в Тульской области строились уникальные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личных отраслей промышленности, ориентированные на решение стратегических, государственных задач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астоящее время основными видами промышленного производства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шиностроение (включая оборонный комплекс), химическое производство, черная металлург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ыча бурого угля, производство стройматериалов, пищевых продуктов, текстильное и швейное производств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нергетика, радиоэлектрон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959280" cy="21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103640" cy="307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835280" y="4149720"/>
            <a:ext cx="261432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4280" y="6237360"/>
            <a:ext cx="840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осуществлении промышленной политики руководство области делает акцент на создание высокотехнологи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зводств, выпуск наукоемкой проду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3400" y="641520"/>
            <a:ext cx="854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ллургически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ключает 11 предприятий пяти подотраслей черной металлургии и одно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ветной металлургии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чугун передельный и литейный, чугунное литье, ферромарганец, прокат черных метал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еррованадий, пятиокись ванадия, огнеупорные изделия, фитин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33600" cy="187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4400" y="3521160"/>
            <a:ext cx="285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согорский металлургически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745080" cy="281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66760" y="4457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чер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2759400" cy="20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640" y="623736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ВРАЗ Ванадий Т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7560" y="641520"/>
            <a:ext cx="858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имически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ключает 25 предприятий и организаций, в том числе 3 отраслевых института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минеральные удобрения, синтетический каучук, серная кислота, метанол, химические волок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а каустическая, синтетические моющи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33720" cy="255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880" y="39528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фремовский завод синтетического кауч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562560" cy="142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3120" y="31417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ктер энд Гембл Новомосков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76720" y="371628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56200" y="611352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Х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8520" y="641520"/>
            <a:ext cx="878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оронны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изводит вооружение и военную технику, получившие международное признание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высокоточное оружие, реактивные системы залпового огня, стрелковое оруж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матические винтовки, патроны, радиолокационные системы, другая наукоемкая продукция оборонного назначения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вары общетехнического назначения и народного потребления: лазерные медицинские приборы, телефо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слуховые аппараты, светотехнические изделия, системы охраны объектов, элементная база для радио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аппаратуры, спортивно-охотничье оружие и патроны к нему, средства пожаротушения, мотоциклы и груз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тороллеры, мотокультиваторы, скваженные насосы для добычи нефти, угольные комбайны, чулочно-носо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маты, самовар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2448000" cy="1822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35280" y="422100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ПО «Спла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737080" cy="183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373800" y="42210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Б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6640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08360" y="638172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ий оружей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6640" y="785880"/>
            <a:ext cx="75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ашиностро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ашиностроительные предприятия Тульской области производят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оборудование для нефтегазового комплекс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сельского хозяйств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оборудование для горно-шахтной промышленности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транспорт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грузоподъемные машины и механизмы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перерабатывающей промышленности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шлифовальный и режущий инструмент с покрытием из искусственных алмазов, алмазного поро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562200" cy="142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9120" y="402588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маш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592360" cy="1652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76720" y="4149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желдорм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590920" cy="194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708360" y="4437000"/>
            <a:ext cx="2736720" cy="1822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0000" y="6308640"/>
            <a:ext cx="22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ий комбайнов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6760" y="6329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вод «Штам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0:17:02Z</dcterms:created>
  <dc:creator>User</dc:creator>
  <dc:description/>
  <dc:language>en-US</dc:language>
  <cp:lastModifiedBy>User</cp:lastModifiedBy>
  <dcterms:modified xsi:type="dcterms:W3CDTF">2014-04-03T11:05:16Z</dcterms:modified>
  <cp:revision>2</cp:revision>
  <dc:subject/>
  <dc:title>Экономика родного края</dc:title>
</cp:coreProperties>
</file>