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8FBF-E2E3-4E5B-9DA6-FF3E34D7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A2D3-3683-4E2E-82A2-BAFFB9E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561E-4308-4E15-B03D-91DB216E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AF19-9B53-475B-B3A0-1876D6EB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A333-0BFD-4B75-980D-C0C6EC3B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F93-39DA-4A33-98EE-EADC1650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CF2A-F45A-47CE-A33B-FBE02602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CFC2-4A1A-472C-85E1-65868079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F455-8A93-4108-906F-501D5F7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8B7-8671-49FC-89B2-E475719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CDBC-AE5D-480E-86AE-6F9F8EE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251E-7ECE-4913-83BF-D717B52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272-DB78-449C-89B0-8BA817C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7FC3-874E-4AA8-9487-33A38F3B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CAA9-C144-40C4-B245-75F485F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80A-715D-4A32-93D0-C80D3A72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04DE-DB16-4F95-B4E2-65EA220A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F4D9-7E75-4EFE-9E74-388FAC9E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0492-56E7-4B4D-B359-7ABBB659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12EE-50D7-4477-BE01-FACCD98D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5A83-AD0C-411B-AD18-C25906D9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BEE1-001E-490F-A362-8372818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6146-D6CB-4B4C-B4BF-31096FA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F769-E033-4555-9E8C-FB70605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5CFF-73A6-4B05-99B3-05D4B623C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C9A3-DAFB-4324-9CA7-9CFBE4D0B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ка родного кр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ульская облас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29200" y="692280"/>
            <a:ext cx="831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ьская область — один из наиболее развитых регионов России с высокими экономически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годное географическое расположение, наличие природных богатств, топливно-энергетических и мине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сурсов, плодородных земель, мощного промышленного комплекса, высокого научно-технического, а так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чительного туристского потенциала позволяют рассматривать регион как один из перспективных аре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кономического роста Центрального федерального окру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460680" cy="417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241800" cy="243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478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8280" y="549360"/>
            <a:ext cx="8296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 времен первых железоделательных заводов в Тульской области строились уникальные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личных отраслей промышленности, ориентированные на решение стратегических, государственных задач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астоящее время основными видами промышленного производства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шиностроение (включая оборонный комплекс), химическое производство, черная металлург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ыча бурого угля, производство стройматериалов, пищевых продуктов, текстильное и швейное производств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нергетика, радиоэлектрон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959280" cy="21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103640" cy="3070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835280" y="4149720"/>
            <a:ext cx="261432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4280" y="6237360"/>
            <a:ext cx="840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осуществлении промышленной политики руководство области делает акцент на создание высокотехнологи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зводств, выпуск наукоемкой проду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3400" y="641520"/>
            <a:ext cx="854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ллургический компле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ключает 11 предприятий пяти подотраслей черной металлургии и одно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ветной металлургии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ая продукция: чугун передельный и литейный, чугунное литье, ферромарганец, прокат черных метал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еррованадий, пятиокись ванадия, огнеупорные изделия, фитин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33600" cy="187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4400" y="3521160"/>
            <a:ext cx="285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согорский металлургически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745080" cy="2811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66760" y="4457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ачер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187280" y="4076640"/>
            <a:ext cx="2759400" cy="207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640" y="623736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ВРАЗ Ванадий Т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7560" y="641520"/>
            <a:ext cx="858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имический компле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ключает 25 предприятий и организаций, в том числе 3 отраслевых института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ая продукция: минеральные удобрения, синтетический каучук, серная кислота, метанол, химические волок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а каустическая, синтетические моющи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33720" cy="255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1880" y="39528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фремовский завод синтетического кауч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562560" cy="142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3120" y="31417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ктер энд Гембл Новомосков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76720" y="3716280"/>
            <a:ext cx="3048120" cy="2266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56200" y="611352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Х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8520" y="641520"/>
            <a:ext cx="878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оронный компле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изводит вооружение и военную технику, получившие международное признание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ая продукция: высокоточное оружие, реактивные системы залпового огня, стрелковое оруж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матические винтовки, патроны, радиолокационные системы, другая наукоемкая продукция оборонного назначения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овары общетехнического назначения и народного потребления: лазерные медицинские приборы, телефо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слуховые аппараты, светотехнические изделия, системы охраны объектов, элементная база для радио-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аппаратуры, спортивно-охотничье оружие и патроны к нему, средства пожаротушения, мотоциклы и груз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тороллеры, мотокультиваторы, скваженные насосы для добычи нефти, угольные комбайны, чулочно-носо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маты, самовар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2448000" cy="1822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35280" y="422100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ПО «Спла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737080" cy="183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373800" y="42210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Б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6640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08360" y="638172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ьский оружей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6640" y="785880"/>
            <a:ext cx="75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ашиностро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ашиностроительные предприятия Тульской области производят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оборудование для нефтегазового комплекса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машины и оборудование для сельского хозяйства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оборудование для горно-шахтной промышленности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машины и оборудование для транспорта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грузоподъемные машины и механизмы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машины и оборудование для перерабатывающей промышленности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 шлифовальный и режущий инструмент с покрытием из искусственных алмазов, алмазного поро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562200" cy="142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9120" y="402588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амаш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592360" cy="1652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76720" y="41497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ажелдорма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590920" cy="1946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708360" y="4437000"/>
            <a:ext cx="2736720" cy="1822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0000" y="6308640"/>
            <a:ext cx="22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ульский комбайнов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6760" y="6329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вод «Штам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10:17:02Z</dcterms:created>
  <dc:creator>User</dc:creator>
  <dc:description/>
  <dc:language>en-US</dc:language>
  <cp:lastModifiedBy>User</cp:lastModifiedBy>
  <dcterms:modified xsi:type="dcterms:W3CDTF">2014-04-03T11:05:16Z</dcterms:modified>
  <cp:revision>2</cp:revision>
  <dc:subject/>
  <dc:title>Экономика родного края</dc:title>
</cp:coreProperties>
</file>