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1F4-2D65-472B-BE16-B4208672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AF8-C102-44DD-B2B6-05FED6FC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067-5172-4B1D-AAC1-E9C484A4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BD2-47C1-4BBD-99C7-C91934FA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EBF3-467E-41D9-963A-E1824895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2BD8-EC10-4E88-869D-3591BFE2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9B9A-783A-463D-BF13-E201C671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422D-2746-41A1-B8B4-B29B9197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A157-8DFC-450A-8E7E-8840A90A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BC74-DE6D-4CC9-A095-24623424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7C7A-FA3D-4589-9A95-89330E85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ACF-0505-47EA-AD32-9451BF42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5158-6449-4CB8-8D0A-3FE4F271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252E-D7AC-4056-AFF1-B49BE336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D68F-BA8D-40FD-A4B7-435B0D8B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76C3-1EE1-4A1C-ACC3-0E7B59FC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109D-C691-43C1-9680-A71CE2EE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253-B804-422F-8A45-36946176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CB6-84E8-4E7B-834A-5DC289A2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AE5-CB81-487B-ADFD-46F1B910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571-E206-405B-8B68-E84FE5C1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F28-B19F-48AC-B56C-C807D4B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821-6E44-4B24-975F-E9AD20D4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97B-560A-4A21-BF99-25D4385E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A4C3-8BAD-4DF4-84BC-6C0C8D8DFE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8ED7-4530-4DE4-B8E6-7809D38597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poccuu.com/190811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Флаг – символ государст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743200" y="4643280"/>
            <a:ext cx="6400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овольской Ли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славский филиал МБОУ «Никифоровская СОШ №1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4" descr="Спасибо за внимание - Презентация 6470/20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чувства  гордости за своё Оте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9016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ся с историей возникновения Российского флаг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следить за видоизменением флага за время его существ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материал о том , что символизируют изображения на государственном флаг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редитель  символа государ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8" descr="Двуглавый орёл впервые появился в русской официальной геральдике в 1497 году. На одной стороне печати изображён всадник, поражаю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лаг- это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лотнище на деревяшке, Флаг а в сущности имел и имеет государственное значение, хотя понятие государственного флага появилось недавно, по сравнению с тем, когда появился сам фла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лаг ССС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4" descr="ussr, ссср, советский, союз, герб, красный, фото, обои, cкачать картинку в HD формате - Широкоформатные обои для компьютера, адр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4105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спублик состоит из красного прямоугольного полотнища с изображением на его верхнем углу у древка золотых серпа и молота и над ними красной пятиконечной звезды, обрамленной золотой кайм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лаг России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2 августа 1991 года Чрезвычайная  сессия Верховного Совета РСФСР постановила считать официальным символом России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коло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 указом президента РФ от 11 декабря 1993 года было утверждено Положение о государственном флаге Российской Федерации. И это не случайно, ведь именно этот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коло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развивался над головами тех, кто оказал </a:t>
            </a:r>
            <a:r>
              <a:rPr b="0" lang="ru-RU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сопротивление путчу в августе 1991 год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9" descr="Государственный гимн Российской Федерации стихи: С. Михалков музыка: А - Картинка 7817/47"/>
          <p:cNvPicPr/>
          <p:nvPr/>
        </p:nvPicPr>
        <p:blipFill>
          <a:blip r:embed="rId2"/>
          <a:stretch/>
        </p:blipFill>
        <p:spPr>
          <a:xfrm>
            <a:off x="539640" y="1484280"/>
            <a:ext cx="4105440" cy="4535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-4429080" y="3068640"/>
            <a:ext cx="12493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94 году президент России Борис Ельцин подписал указ, в котором говорится: «В связи с восстановлением 22 августа 1991 года исторического российского трехцветного государственного флага, овеянного славой многих поколений россиян, и в целях воспитания у нынешнего и будущих поколений граждан России уважительного отношения к государственным символам, постановляю: Установить праздник – День Государственного флага Российской Федерации и отмечать его 22 августа». 25 декабря 2000 года президент РФ Владимир Путин подписал Закон, в соответствии с которым Государственный флаг России представляет собой прямоугольное полотнище из трех равновеликих горизонтальных полос: верхней – белого, средней – синего и нижней – красного цвета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аг является государственным символом России. Он означает независимость России и её международное признани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независимости в России отмечается – 12 ию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09:44:32Z</dcterms:created>
  <dc:creator>Дмитрий Каленюк</dc:creator>
  <dc:description/>
  <dc:language>en-US</dc:language>
  <cp:lastModifiedBy>Пользователь</cp:lastModifiedBy>
  <dcterms:modified xsi:type="dcterms:W3CDTF">2015-02-02T12:20:51Z</dcterms:modified>
  <cp:revision>5</cp:revision>
  <dc:subject/>
  <dc:title>Флаг – символ государства</dc:title>
</cp:coreProperties>
</file>