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790-47EC-4ACA-A4CD-98F43BF4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E06-386C-44A0-B7DF-A2DB91B1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C99-8E8D-4352-A1D5-11F78E5C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856-787A-4ACC-A24B-31BE2256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C169-6123-459B-A4CD-585B175F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E400-D6F3-403A-98CB-8A5F27F4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3559-C581-4C06-BDC2-27EE77D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C10B-D3A2-48A7-8A49-7FC68A91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8E00-0350-443D-B3AC-39D9CDC4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20FC-FB28-439F-BB89-D43AE292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100D-43A7-4D9F-8783-A1AAD16B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D94-F911-48C7-90B8-7E8C17AB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9D98-AA6F-4F17-A0C1-69EA33A6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EC62-B14F-425F-911D-010295C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3A95-901B-4D2F-B19A-DC255B46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4CE4-4511-4C10-8675-2619C391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C8C5-6CBB-4321-86A7-57DD83C9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374-21BF-4DE1-A800-AA1FDAFC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302-DA4A-44FD-90FF-6F228EC0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497-C389-451A-AC89-ED650B8A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C03-96F3-4C37-9036-F73F0DC3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789-14FE-42BE-9D8A-340C95EF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26F-3F4B-455C-AABF-090B153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EE4-DA1D-4E3C-8F79-39464B55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6F06-9217-466E-BFAA-0578FA4B8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FA91-2B72-4D67-B7F6-4FE4CAE4A0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poccuu.com/190811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Флаг – символ государст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43200" y="464328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овольской Ли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славский филиал МБОУ «Никифоровская СОШ №1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4" descr="Спасибо за внимание - Презентация 6470/20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чувства  гордости за своё Оте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9016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ся с историей возникновения Российского флаг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ледить за видоизменением флага за время его существ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материал о том , что символизируют изображения на государственном флаг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редитель  символа государ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8" descr="Двуглавый орёл впервые появился в русской официальной геральдике в 1497 году. На одной стороне печати изображён всадник, поражаю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лаг- это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лотнище на деревяшке, Флаг а в сущности имел и имеет государственное значение, хотя понятие государственного флага появилось недавно, по сравнению с тем, когда появился сам фла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лаг ССС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4" descr="ussr, ссср, советский, союз, герб, красный, фото, обои, cкачать картинку в HD формате - Широкоформатные обои для компьютера, адр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4105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спублик состоит из красного прямоугольного полотнища с изображением на его верхнем углу у древка золотых серпа и молота и над ними красной пятиконечной звезды, обрамленной золотой кайм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лаг России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2 августа 1991 года Чрезвычайная  сессия Верховного Совета РСФСР постановила считать официальным символом России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кол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 указом президента РФ от 11 декабря 1993 года было утверждено Положение о государственном флаге Российской Федерации. И это не случайно, ведь именно этот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кол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развивался над головами тех, кто оказал </a:t>
            </a:r>
            <a:r>
              <a:rPr b="0" lang="ru-RU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сопротивление путчу в августе 1991 г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9" descr="Государственный гимн Российской Федерации стихи: С. Михалков музыка: А - Картинка 7817/47"/>
          <p:cNvPicPr/>
          <p:nvPr/>
        </p:nvPicPr>
        <p:blipFill>
          <a:blip r:embed="rId2"/>
          <a:stretch/>
        </p:blipFill>
        <p:spPr>
          <a:xfrm>
            <a:off x="539640" y="1484280"/>
            <a:ext cx="4105440" cy="4535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-4429080" y="3068640"/>
            <a:ext cx="12493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94 году президент России Борис Ельцин подписал указ, в котором говорится: «В связи с восстановлением 22 августа 1991 года исторического российского трехцветного государственного флага, овеянного славой многих поколений россиян, и в целях воспитания у нынешнего и будущих поколений граждан России уважительного отношения к государственным символам, постановляю: Установить праздник – День Государственного флага Российской Федерации и отмечать его 22 августа». 25 декабря 2000 года президент РФ Владимир Путин подписал Закон, в соответствии с которым Государственный флаг России представляет собой прямоугольное полотнище из трех равновеликих горизонтальных полос: верхней – белого, средней – синего и нижней – красного цвета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аг является государственным символом России. Он означает независимость России и её международное признани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независимости в России отмечается – 12 ию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9:44:32Z</dcterms:created>
  <dc:creator>Дмитрий Каленюк</dc:creator>
  <dc:description/>
  <dc:language>en-US</dc:language>
  <cp:lastModifiedBy>Пользователь</cp:lastModifiedBy>
  <dcterms:modified xsi:type="dcterms:W3CDTF">2015-02-02T12:20:51Z</dcterms:modified>
  <cp:revision>5</cp:revision>
  <dc:subject/>
  <dc:title>Флаг – символ государства</dc:title>
</cp:coreProperties>
</file>