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D6F-A014-4A62-856C-2CEA65B5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F69-4E90-4278-9F06-44BFA376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B97-2046-43E7-A9AE-7169DDD4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80B-41CD-47B9-92FA-09F4DB2C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40B-C3C3-4478-86CD-544B84A9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ABF-A47A-4396-B6FA-7D43ABA7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1B0-C7D9-42FD-AC85-E25B4359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466-3CB9-430B-A6E1-2C4D27FB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D43-FBCE-461B-99DA-54E1B9F8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6E0-7113-4A9F-B7AA-2246EF22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4DE-4BB5-4E6E-BAA8-6C3E6047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3F1-1264-4935-BE59-6AADABB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F7F7-8445-4841-BF60-3784BE8DD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19280" y="1052640"/>
            <a:ext cx="6840360" cy="36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сихологическ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товн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бен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 школ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907200"/>
            <a:ext cx="7842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основе этих симптомов лежит обобщение переживаний. У ребенка возникла новая внутренняя жизнь, жизнь переживаний, которая прямо и непосредственно не накладывается на внешнюю жизнь. Но эта внутренняя жизнь небезразлична для внешней, она на нее влияет. Возникновение внутренней жизни – чрезвычайно важный факт, теперь ориентация поведения будет осуществляться внутри этой внутренне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54972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изис требует перехода к новой социальной ситуации, требует нового содержания отношений. Ребенок должен вступить в отношения с обществом как с совокупностью людей, осуществляющих обязательную, общественно необходимую и общественно полезную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8360" y="61776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мптомом, рассекающим дошкольный и младший школьный возрасты, становится "симптом потери непосредственности": между желанием что-то сделать и самой деятельностью возникает новый момент – ориентировка в том, что принесет ребенку осуществление той или иной деятельности. Это – внутренняя ориентация в том, какой смысл может иметь для ребенка осуществление деятельности: удовлетворение или неудовлетворение от того места, которое ребенок займет в отношениях со взрослыми или другими людь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868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вое требование, которое надо учитывать при поступлении в школу – никогда не следует измерять готовность к школьному обучению по формальному уровню умений и навы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378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жде всего надо обратить внимание на возникновение произвольного поведения – как ребенок играет, подчиняется ли он правилу, берет ли на себя роли? Превращение правила во внутреннюю инстанцию поведения – важный признак готов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9280" y="1557360"/>
            <a:ext cx="8715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итерии готовности ребенка к школ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520720"/>
            <a:ext cx="820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Личностная готов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– ребенок готов к школьному обучению, если школа привлекает его не внешней стороной (атрибуты: портфель, тетради), а возможностью получить новые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60093"/>
                </a:solidFill>
                <a:uFillTx/>
                <a:latin typeface="Times New Roman"/>
              </a:rPr>
              <a:t>Интеллектуальная готов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– наличие кругозора, запаса конкретных знаний, интерес к знаниям. Способность понять связи между явлениями, воспроизвести образ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Times New Roman"/>
              </a:rPr>
              <a:t>Социально-психологическая готов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– умение общаться со взрослыми, сверстниками. Умение войти в другое общество (детское), действовать вместе с другими, подчиняться интересам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Физиологическая готов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– уровень физиологического развития, уровень биологического развития, состояние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34800" y="189000"/>
            <a:ext cx="84139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итерии психологической готовности к школ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0436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циально – психологическая готовность к шко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учебная мотивация (хочет идти в школу; понимает важность и необходимость учения; проявляет выраженный интерес к получению новых зна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умение общаться со сверстниками и взрослыми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умение принять учебную задачу (внимательно выслушать, по необходимости уточнить зад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13440"/>
            <a:ext cx="81295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звитие школьно-значимых психологических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развитие мелких мышц руки (рука развита хорошо, ребенок уверенно владеет карандашом, ножниц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пространственная организация, координация движений (умение правильно определять «выше-ниже», «вперед-назад», «слева - справа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координация в системе «глаз-рука» (ребенок может правильно перенести в тетрадь простейший графический образ – узор, фигуру, зрительно воспринимаемый на расстоянии (например, из кни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развитие логического мышления (способность находить сходство и различия разных предметов при сравнении, умение правильно объединять предметы в группы по общим существенным признака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развитие произвольного внимания (способность удерживать внимание на выполняемой работе в течение 15-20 мину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развитие произвольной памяти (способность к опосредованному запоминанию: связывать запоминаемый материал с конкретным символом: «слово – картинка» либо «слово – ситуац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12000" y="2708280"/>
            <a:ext cx="2808000" cy="2149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8800" y="685440"/>
            <a:ext cx="87552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Вы хотите лучше понять особенности развития своего ребе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тарайтесь ответить себе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меет ли ребенок играть в сюжетно-ролевые игры, доступны ли ему игры с правил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Есть ли у ребенка друз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Умеет ли ребенок вступать в разговор со старш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Умеет ли ребенок оценивать свои поступ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Есть ли у ребенка любимые игры, книжки, мультфиль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8360" y="1557360"/>
            <a:ext cx="842472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меет ли ваш ребёнок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782080"/>
            <a:ext cx="8577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иматься одним делом (не обязательно интересным) в течении 20-30 минут, может ли он хотя бы усидеть на месте так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Правильно понимать с первого раза простейшие задания, которые дает взрослый (например, нарисовать мужчину, а не просто человека, робота, принцессу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1774800"/>
            <a:ext cx="7707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Действовать точно по образцу (например, срисовать точно такой же простой рисунок, как показа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Действовать в заданном темпе, без ошибок на протяжении 4-5 минут (например, рисовать простой геометрический узор в тетради в клетку под диктовку взрослого: «кружок-квадрат-кружок-квадрат», а потом – без подсказки, но с той же скорость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19879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Хорошо ориентироваться в пространстве и на листе бумаги (не путать «над», «под», «вверх», «вниз», «направо», «налево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Запоминать короткие сти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риентироваться в понятиях «больше-меньше», «раньше-позже», «сначала-потом», «одинаковое-разно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95280" y="189000"/>
            <a:ext cx="78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ризис 7 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1700280"/>
            <a:ext cx="500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га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прям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ропт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оево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тест – бу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бесцени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спо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180648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8:51:34Z</dcterms:created>
  <dc:creator>user</dc:creator>
  <dc:description/>
  <dc:language>en-US</dc:language>
  <cp:lastModifiedBy>user</cp:lastModifiedBy>
  <dcterms:modified xsi:type="dcterms:W3CDTF">2013-10-19T06:56:39Z</dcterms:modified>
  <cp:revision>3</cp:revision>
  <dc:subject/>
  <dc:title>Слайд 1</dc:title>
</cp:coreProperties>
</file>