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B64-FCA6-4534-AED9-6D168DB8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02B-800E-4341-B251-D080AE8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029-3C4F-4DA2-AE48-2A3FEEAE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B18-8110-41A1-ACE3-7A1D3535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EDF-B269-4116-BDAC-C1CC6789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7D5-2476-4CF8-8D04-A21097D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0DB-CB0F-4A80-8462-72E642E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57B-DD03-45F5-9A1A-69C4CDD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8B4-838F-4DD5-B07B-B79271BD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C90-50EE-44D6-8FDC-231E6BFA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92E-2464-4941-B4FF-B7C0C2D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92F-1853-44B1-847B-D557123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4727-8AF2-40EE-BA7A-B83C159A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052640"/>
            <a:ext cx="6840360" cy="36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их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тов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бе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 школ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907200"/>
            <a:ext cx="784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основе этих симптомов лежит обобщение переживаний. У ребенка возникла новая внутренняя жизнь, жизнь переживаний, которая прямо и непосредственно не накладывается на внешнюю жизнь. Но эта внутренняя жизнь небезразлична для внешней, она на нее влияет. Возникновение внутренней жизни – чрезвычайно важный факт, теперь ориентация поведения будет осуществляться внутри этой внутренне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54972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зис требует перехода к новой социальной ситуации, требует нового содержания отношений. Ребенок должен вступить в отношения с обществом как с совокупностью людей, осуществляющих обязательную, общественно необходимую и общественно полезную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61776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мптомом, рассекающим дошкольный и младший школьный возрасты, становится "симптом потери непосредственности": между желанием что-то сделать и самой деятельностью возникает новый момент – ориентировка в том, что принесет ребенку осуществление той или иной деятельности. Это – внутренняя ориентация в том, какой смысл может иметь для ребенка осуществление деятельности: удовлетворение или неудовлетворение от того места, которое ребенок займет в отношениях со взрослыми или другими люд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868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вое требование, которое надо учитывать при поступлении в школу – никогда не следует измерять готовность к школьному обучению по формальному уровню умений и навы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378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всего надо обратить внимание на возникновение произвольного поведения – как ребенок играет, подчиняется ли он правилу, берет ли на себя роли? Превращение правила во внутреннюю инстанцию поведения – важный признак готов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1557360"/>
            <a:ext cx="8715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итерии готовности ребенка к школ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520720"/>
            <a:ext cx="820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Личностн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ребенок готов к школьному обучению, если школа привлекает его не внешней стороной (атрибуты: портфель, тетради), а возможностью получить новы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d60093"/>
                </a:solidFill>
                <a:uFillTx/>
                <a:latin typeface="Times New Roman"/>
              </a:rPr>
              <a:t>Интеллектуальн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наличие кругозора, запаса конкретных знаний, интерес к знаниям. Способность понять связи между явлениями, воспроизвести образ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Times New Roman"/>
              </a:rPr>
              <a:t>Социально-психологическ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умение общаться со взрослыми, сверстниками. Умение войти в другое общество (детское), действовать вместе с другими, подчиняться интересам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изиологическая готовност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– уровень физиологического развития, уровень биологического развития, состояние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34800" y="189000"/>
            <a:ext cx="84139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итерии психологической готовности к шко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43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ая готовность к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учебная мотивация (хочет идти в школу; понимает важность и необходимость учения; проявляет выраженный интерес к получению новых зн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умение общаться со сверстниками и взрослыми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умение принять учебную задачу (внимательно выслушать, по необходимости уточнить зад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13440"/>
            <a:ext cx="81295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звитие школьно-значимых психологических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развитие мелких мышц руки (рука развита хорошо, ребенок уверенно владеет карандашом, ножниц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пространственная организация, координация движений (умение правильно определять «выше-ниже», «вперед-назад», «слева - справа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координация в системе «глаз-рука» (ребенок может правильно перенести в тетрадь простейший графический образ – узор, фигуру, зрительно воспринимаемый на расстоянии (например, из кни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развитие логического мышления (способность находить сходство и различия разных предметов при сравнении, умение правильно объединять предметы в группы по общим существенным признака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развитие произвольного внимания (способность удерживать внимание на выполняемой работе в течение 15-20 мину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развитие произвольной памяти (способность к опосредованному запоминанию: связывать запоминаемый материал с конкретным символом: «слово – картинка» либо «слово – ситуац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808000" cy="214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800" y="685440"/>
            <a:ext cx="8755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ы хотите лучше понять особенности развития своего ребе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арайтесь ответить себе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ет ли ребенок играть в сюжетно-ролевые игры, доступны ли ему игры с прави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Есть ли у ребенка друз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Умеет ли ребенок вступать в разговор со старш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Умеет ли ребенок оценивать свои поступ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Есть ли у ребенка любимые игры, книжки, мультфиль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8360" y="1557360"/>
            <a:ext cx="84247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еет ли ваш ребёнок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82080"/>
            <a:ext cx="8577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иматься одним делом (не обязательно интересным) в течении 20-30 минут, может ли он хотя бы усидеть на месте так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Правильно понимать с первого раза простейшие задания, которые дает взрослый (например, нарисовать мужчину, а не просто человека, робота, принцессу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774800"/>
            <a:ext cx="7707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ействовать точно по образцу (например, срисовать точно такой же простой рисунок, как показа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Действовать в заданном темпе, без ошибок на протяжении 4-5 минут (например, рисовать простой геометрический узор в тетради в клетку под диктовку взрослого: «кружок-квадрат-кружок-квадрат», а потом – без подсказки, но с той же скорость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19879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Хорошо ориентироваться в пространстве и на листе бумаги (не путать «над», «под», «вверх», «вниз», «направо», «налево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Запоминать короткие сти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риентироваться в понятиях «больше-меньше», «раньше-позже», «сначала-потом», «одинаковое-разно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5280" y="189000"/>
            <a:ext cx="784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ризис 7 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1700280"/>
            <a:ext cx="50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га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я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ропт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ево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тест – бу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бесцен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спо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77080" y="5445000"/>
            <a:ext cx="180648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8:51:34Z</dcterms:created>
  <dc:creator>user</dc:creator>
  <dc:description/>
  <dc:language>en-US</dc:language>
  <cp:lastModifiedBy>user</cp:lastModifiedBy>
  <dcterms:modified xsi:type="dcterms:W3CDTF">2013-10-19T06:56:39Z</dcterms:modified>
  <cp:revision>3</cp:revision>
  <dc:subject/>
  <dc:title>Слайд 1</dc:title>
</cp:coreProperties>
</file>