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0.gif" ContentType="image/gif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EA7E-BF98-459B-9DAE-1701C890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38F8-10C1-41F2-BC0F-452585E2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5BF0-F3BA-4381-9DBB-D4CAAA02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4586-5AC0-4C6A-BF5A-22066507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7C1A6-27E1-4DC7-BD8E-E376EA7F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BB868-B836-43CE-A274-0DC573C7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D67D2-D76E-421D-BF9F-3D2CE7C1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5426E-88E8-4964-97E6-55285E6D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702F6-3379-4120-B13F-6B3D7A80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7EF8E-1BD6-4058-BE4A-C400CD42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C4706-2616-455B-82AD-7E5AE304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9AD5-19BB-468C-927A-626B73C0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60FC1-7617-4942-AE06-4664478F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6F537-64D3-4AF7-A1AC-0DEAE6A1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800A4-EBE8-4D54-B4C9-DF067240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085DA-F823-4278-983D-B1E08EA7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DF89D-DE99-4398-9829-96E8AD65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A364-195C-4265-A8D0-3C3B84EB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EF5B-319D-4F6A-AAB4-6E428CCF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4CE4-9C47-408E-84FC-332246A4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ECE2-1284-4A51-B47A-1A579541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B65C-3832-43E1-A9ED-DA4F4C78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DF37-EC72-46DE-8ED5-F0BE9E11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7E5A-AAE3-418F-B051-666195B7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A09E-9F40-43F2-BB79-763E7FF0E569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A88B-CA22-44E5-BD1F-8BB8B9B72609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11"/>
          <p:cNvSpPr txBox="1"/>
          <p:nvPr/>
        </p:nvSpPr>
        <p:spPr>
          <a:xfrm>
            <a:off x="2700360" y="5516640"/>
            <a:ext cx="619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Подготовила ученица 9 класса</a:t>
            </a:r>
            <a:endParaRPr b="1" lang="en-US" sz="2000" spc="1" strike="noStrike">
              <a:ln w="12600">
                <a:solidFill>
                  <a:srgbClr val="ffff99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Андросова Виктория</a:t>
            </a:r>
            <a:endParaRPr b="1" lang="en-US" sz="2000" spc="1" strike="noStrike">
              <a:ln w="12600">
                <a:solidFill>
                  <a:srgbClr val="ffff99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3" name="Прямоугольник 1" descr=""/>
          <p:cNvPicPr/>
          <p:nvPr/>
        </p:nvPicPr>
        <p:blipFill>
          <a:blip r:embed="rId2"/>
          <a:stretch/>
        </p:blipFill>
        <p:spPr>
          <a:xfrm>
            <a:off x="2620800" y="3144960"/>
            <a:ext cx="6542280" cy="179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3132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cc"/>
                </a:solidFill>
                <a:latin typeface="Comic Sans MS"/>
              </a:rPr>
              <a:t>Карское море – окраинное море, расположено между островами Новая Земля, Земля Франца-Иосифа и архипелагом Северная Земля.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5" name="Picture 6" descr="658px-Kara_Sea_map_RU"/>
          <p:cNvPicPr/>
          <p:nvPr/>
        </p:nvPicPr>
        <p:blipFill>
          <a:blip r:embed="rId1"/>
          <a:stretch/>
        </p:blipFill>
        <p:spPr>
          <a:xfrm>
            <a:off x="3132000" y="1557360"/>
            <a:ext cx="5689800" cy="4753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86" name="Line 17"/>
          <p:cNvSpPr/>
          <p:nvPr/>
        </p:nvSpPr>
        <p:spPr>
          <a:xfrm>
            <a:off x="5076720" y="2349360"/>
            <a:ext cx="503280" cy="1079640"/>
          </a:xfrm>
          <a:prstGeom prst="line">
            <a:avLst/>
          </a:prstGeom>
          <a:ln w="7632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54720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Comic Sans MS"/>
              </a:rPr>
              <a:t>Площадь 883 тыс. км²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8" name="Picture 9" descr="16297"/>
          <p:cNvPicPr/>
          <p:nvPr/>
        </p:nvPicPr>
        <p:blipFill>
          <a:blip r:embed="rId1"/>
          <a:stretch/>
        </p:blipFill>
        <p:spPr>
          <a:xfrm>
            <a:off x="2124000" y="2852640"/>
            <a:ext cx="4732560" cy="3065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Карское море - одно из самых холодных морей России.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1" name="Picture 11" descr="i"/>
          <p:cNvPicPr/>
          <p:nvPr/>
        </p:nvPicPr>
        <p:blipFill>
          <a:blip r:embed="rId1"/>
          <a:stretch/>
        </p:blipFill>
        <p:spPr>
          <a:xfrm>
            <a:off x="2484360" y="2997360"/>
            <a:ext cx="4535640" cy="3024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302040" y="1628280"/>
            <a:ext cx="494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Comic Sans MS"/>
              </a:rPr>
              <a:t>Солёность 12—33 ‰</a:t>
            </a:r>
            <a:r>
              <a:rPr b="0" lang="ru-RU" sz="3600" spc="-1" strike="noStrike">
                <a:solidFill>
                  <a:srgbClr val="205ff6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3" name="Picture 7" descr="AG00011_"/>
          <p:cNvPicPr/>
          <p:nvPr/>
        </p:nvPicPr>
        <p:blipFill>
          <a:blip r:embed="rId1"/>
          <a:stretch/>
        </p:blipFill>
        <p:spPr>
          <a:xfrm>
            <a:off x="0" y="0"/>
            <a:ext cx="101124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09"/>
          <p:cNvPicPr/>
          <p:nvPr/>
        </p:nvPicPr>
        <p:blipFill>
          <a:blip r:embed="rId2"/>
          <a:stretch/>
        </p:blipFill>
        <p:spPr>
          <a:xfrm>
            <a:off x="2556000" y="2924280"/>
            <a:ext cx="4392360" cy="29541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 spd="med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AG00037_"/>
          <p:cNvPicPr/>
          <p:nvPr/>
        </p:nvPicPr>
        <p:blipFill>
          <a:blip r:embed="rId1"/>
          <a:stretch/>
        </p:blipFill>
        <p:spPr>
          <a:xfrm>
            <a:off x="0" y="0"/>
            <a:ext cx="1085760" cy="1484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505721"/>
          <p:cNvPicPr/>
          <p:nvPr/>
        </p:nvPicPr>
        <p:blipFill>
          <a:blip r:embed="rId2"/>
          <a:stretch/>
        </p:blipFill>
        <p:spPr>
          <a:xfrm>
            <a:off x="2340000" y="2924280"/>
            <a:ext cx="4595760" cy="30938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97" name="Rectangle 11"/>
          <p:cNvSpPr/>
          <p:nvPr/>
        </p:nvSpPr>
        <p:spPr>
          <a:xfrm>
            <a:off x="0" y="162792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Море сравнительно неглубокое: преобладающая глубина 30-100 м, максимальная - 600 м.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Comic Sans MS"/>
              </a:rPr>
              <a:t>Впадают крупные реки Обь и Енисей.</a:t>
            </a:r>
            <a:r>
              <a:rPr b="0" lang="ru-RU" sz="36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9" name="Picture 6" descr="AG00011_"/>
          <p:cNvPicPr/>
          <p:nvPr/>
        </p:nvPicPr>
        <p:blipFill>
          <a:blip r:embed="rId1"/>
          <a:stretch/>
        </p:blipFill>
        <p:spPr>
          <a:xfrm>
            <a:off x="0" y="0"/>
            <a:ext cx="101124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35563b2453ac"/>
          <p:cNvPicPr/>
          <p:nvPr/>
        </p:nvPicPr>
        <p:blipFill>
          <a:blip r:embed="rId2"/>
          <a:stretch/>
        </p:blipFill>
        <p:spPr>
          <a:xfrm>
            <a:off x="2124000" y="2852640"/>
            <a:ext cx="4826160" cy="3097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 spd="med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91440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В Карском море богата фауна беспозвоночных и полупроходных рыб, морских млекопитающих.</a:t>
            </a: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2" name="Picture 6" descr="J0136865"/>
          <p:cNvPicPr/>
          <p:nvPr/>
        </p:nvPicPr>
        <p:blipFill>
          <a:blip r:embed="rId1"/>
          <a:stretch/>
        </p:blipFill>
        <p:spPr>
          <a:xfrm>
            <a:off x="0" y="0"/>
            <a:ext cx="1835280" cy="1501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275px-Bearded_Seal"/>
          <p:cNvPicPr/>
          <p:nvPr/>
        </p:nvPicPr>
        <p:blipFill>
          <a:blip r:embed="rId2"/>
          <a:stretch/>
        </p:blipFill>
        <p:spPr>
          <a:xfrm>
            <a:off x="684360" y="2637000"/>
            <a:ext cx="3384360" cy="2286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04" name="Text Box 8"/>
          <p:cNvSpPr/>
          <p:nvPr/>
        </p:nvSpPr>
        <p:spPr>
          <a:xfrm>
            <a:off x="828720" y="508464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Морской заяц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5" name="Picture 10" descr="Люрик"/>
          <p:cNvPicPr/>
          <p:nvPr/>
        </p:nvPicPr>
        <p:blipFill>
          <a:blip r:embed="rId3"/>
          <a:stretch/>
        </p:blipFill>
        <p:spPr>
          <a:xfrm>
            <a:off x="1981080" y="2997360"/>
            <a:ext cx="3384720" cy="2232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06" name="Text Box 11"/>
          <p:cNvSpPr/>
          <p:nvPr/>
        </p:nvSpPr>
        <p:spPr>
          <a:xfrm>
            <a:off x="2989440" y="5373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5ff6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Люрик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7" name="Picture 12" descr="Белый медведь"/>
          <p:cNvPicPr/>
          <p:nvPr/>
        </p:nvPicPr>
        <p:blipFill>
          <a:blip r:embed="rId4"/>
          <a:stretch/>
        </p:blipFill>
        <p:spPr>
          <a:xfrm>
            <a:off x="3637080" y="3357720"/>
            <a:ext cx="3417840" cy="21747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08" name="Text Box 13"/>
          <p:cNvSpPr/>
          <p:nvPr/>
        </p:nvSpPr>
        <p:spPr>
          <a:xfrm>
            <a:off x="4141800" y="5661000"/>
            <a:ext cx="26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Белый медведь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9" name="Picture 14" descr="Нерпа"/>
          <p:cNvPicPr/>
          <p:nvPr/>
        </p:nvPicPr>
        <p:blipFill>
          <a:blip r:embed="rId5"/>
          <a:stretch/>
        </p:blipFill>
        <p:spPr>
          <a:xfrm>
            <a:off x="5364000" y="3716280"/>
            <a:ext cx="3384720" cy="2158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10" name="Text Box 15"/>
          <p:cNvSpPr/>
          <p:nvPr/>
        </p:nvSpPr>
        <p:spPr>
          <a:xfrm>
            <a:off x="6518160" y="5950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Нерпа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20:03:19Z</dcterms:created>
  <dc:creator>Учитель</dc:creator>
  <dc:description/>
  <cp:keywords/>
  <dc:language>en-US</dc:language>
  <cp:lastModifiedBy>1</cp:lastModifiedBy>
  <dcterms:modified xsi:type="dcterms:W3CDTF">2015-04-08T07:21:27Z</dcterms:modified>
  <cp:revision>4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