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E947-6C85-40EB-AA56-3E7EC51A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6640-1DB2-4357-921D-AFC80C5F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9613-9A48-4FAE-BA04-4716CDB94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C819-1C51-454E-A466-74D95D7A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0BDC-8F7F-4968-9AEB-CD0B5DBD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AF1D-B0ED-42C3-A051-0C6AD12B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118C-94DF-4516-B093-BCD36E99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9E68-969A-4BDF-81AA-BAFD7296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EE34-1FEE-4A02-AED4-D27A8342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DF22-9086-46C4-8E01-A186A0C6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F2AE-18BF-4B48-A2A1-203DBEA9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026B-8FF0-41A4-BDE2-D86316C6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BEAA-5E13-4C24-A15A-F1B688FA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9F09-5E76-4A82-BE5C-8F24070A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152C-D758-477F-AB15-44997FA4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D9ED-011C-408F-BD79-B600DB5A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79BE-6F1D-4F56-B411-51D8D0B7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0552D-7C1B-4498-A7E5-E7AB10A6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63A9E-588F-4890-8CE6-6FCE5872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E3EFC-A248-48F3-9FA4-C90E36DD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20491-EB1E-4551-8D51-1A0DEA9E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8EE51-8ED1-4BF0-9F4D-C8F5FD2B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F335-9C22-4360-8F36-E4B5F631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AC65C-4C23-4150-8B54-29C05BB7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7F0E3-BF89-4395-AB7D-E71B5312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F873D-F3AD-443F-99C0-05906BC7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34FA7-5214-4B5C-8D71-CA2ED550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8CFA3-0900-4E9F-B645-FDEB5932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017FD-45EF-404E-96DA-F9FE81B7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CBE80-D421-47A5-87F8-10F66B7E1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1563-74CD-4082-A891-02495ABC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EB20-B3A2-41C8-BFA0-5829A484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AB10-D842-46AE-BE7D-C0773841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002D-4684-4DE8-8BD7-13AC409B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588A-6738-4272-A3C1-D3138E5C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828F-7AC9-4787-8D79-693E4A0F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7022-28B2-4FD1-92E2-5C82F8B29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1C1A-A2E0-4EF7-B2F9-30A904D475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C4C3-211E-40E9-8B33-FA8659BFAE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Классный ч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40328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Экологический праздн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«Бережём родную природ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3068640"/>
            <a:ext cx="838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Юмасултанова Минсара Авал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учитель начальных клас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5157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МОУ Байгазинская 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8000" y="63086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93080" y="602136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ужно беречь природу, эту красоту, чтобы её красота была достоянием и тех людей, которые будут жить после на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4149720"/>
            <a:ext cx="82296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как надо беречь приро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cccc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Надо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Сажать деревья, цв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Устанавливать кормушки для пт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Огораживать муравейн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292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вать цветы в л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омать дере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жигать кост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росать мусор в л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бивать животных и пт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620640"/>
            <a:ext cx="439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Нельз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6699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Если я сорву цвето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Если ты сорвёшь цвето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Если все: и я, и ты – если мы сорвём цвет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То окажутся пусты, и деревья,        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и куст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И не будет красоты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И не будет доброт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Если только я и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Если мы сорвём цветы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ихотворение Михаила Дудина; «Берегите Землю!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ерегите Земл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ерег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Жаворонка в голубом зенит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абочку на листьях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ви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тропинке солнечные б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камнях играющего краб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д пустыней т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 баобаб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Ястреба, парящего над поле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Ясный месяц над речным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кое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асточку, мелькающую в жи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ерегите ЗЕМЛЮ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реплять правила поведения в ле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спитывать любовь к Роди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ть речь, внимание, пам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Стихотворение В.Бокова «Цветёт над тихой речкой яблон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Цветёт над тихой речкой ябло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Сады, задумавшись, сто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Какая Родина нарядна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на сама – как дивный са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Играет речка переката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В ней рыба вся из сереб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Какая Родина богатая,                               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не сосчитать её доб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Бежит волна неторопливая, простор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олей ласкает глаз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Какая  Родина счастлива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И это счастье – всё для нас!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С чём автор сравнивает природ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ff"/>
                </a:solidFill>
                <a:latin typeface="Arial"/>
              </a:rPr>
              <a:t>С садами,  реками,  поля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285264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Какая наша Родин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3716280"/>
            <a:ext cx="86421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ff"/>
                </a:solidFill>
                <a:latin typeface="Arial"/>
              </a:rPr>
              <a:t>Нарядная, богатая, счастлив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ccff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Недаром о природе написано много песен, стихов, написана музы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Так, например, великий русский композитор Пётр Ильич  Чайковский очень любил родную прир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99ff99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Ему нравилось холодная осенняя пора, когда подолгу моросит дождик. Любил ясные зимние дни, когда белый снег переливается на солнце тысячами искр. Весной он радовался солнцу и теплу, и первой лесной травке. А летом любовался цветущими лугами и слушал весёлые песни жаворонков. Настроения и чувства, навеянные картинами природы, он выражал в своей музы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12:40:07Z</dcterms:created>
  <dc:creator>USER</dc:creator>
  <dc:description/>
  <dc:language>en-US</dc:language>
  <cp:lastModifiedBy>Байгазина</cp:lastModifiedBy>
  <dcterms:modified xsi:type="dcterms:W3CDTF">2008-11-24T07:51:27Z</dcterms:modified>
  <cp:revision>6</cp:revision>
  <dc:subject/>
  <dc:title>Классный час</dc:title>
</cp:coreProperties>
</file>