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078A-6148-43C9-8634-668F2544A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1408-9E6A-4836-B3C2-926CAC92B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2084-48EC-41FD-978B-0DE60E17F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08E5-A90D-4EE6-8ED2-62C827A4A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00146-E5A9-4221-9374-8C8492953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C9C39-71D2-449B-B2FF-E76E45628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5750E-3A21-4AD0-A147-60F5C785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0EDCB-DF81-4590-9B4F-659F123A9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AE978-D969-4235-9CF6-BA9F151F2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C2563-06C6-4E2D-8F89-2D8084DEB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9BE58-B5E7-4F92-A094-C99D0C4E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341E-8241-4D8C-80F6-AE7CB5E4B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336D3-3A0C-4AFE-B111-49524729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7677A-CF8A-4198-A131-B4898D5D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AA38C-E2B4-4B4D-B897-C977E05A6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759C1-1FE7-4C5D-B705-8B428982C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FB16F-A75E-4A92-A66E-7FE78AA9B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AC5E0-743B-4D73-8986-3FE38F7FB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65B87-E664-45A1-92F0-01533E269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A51E0-ED29-4004-B6E7-4AC6CF4E7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65A38-0F18-46F9-8490-B11BCFAF9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1CC76-FA61-4271-9625-88922962C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3457-B9A1-4B28-BEF9-BDFE55230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FA8C9-62B1-4FC9-85E3-F2B144616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AF796-1E72-423E-993F-B94AA787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C52CF-B16B-407F-B1BB-02662661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57EE9-9551-4B9B-A23F-6F5CB772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A4DE4-9BBC-4AE8-B976-9511322B7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25AF6-F470-4129-8C71-200631AD3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98AFF-C190-46CC-B45D-261643606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18BA-74F4-4549-8A2C-CBF555EAB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7C55-36F1-4B72-A001-26381CF81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C032-B05E-4983-B990-0607C7605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6B6B-2D28-4359-9E12-F244F90E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F404-5996-42DB-BB92-7CC186BF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3E6C-60CD-4D60-9D0C-AD1254F3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1A463-72FB-4DF0-B4F1-279AC69F5A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42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B78C7-0794-48C2-95D4-DFF68F7FDB5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dt" idx="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4930B-AA56-45F3-9953-6C37FC5A704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33"/>
                </a:solidFill>
                <a:latin typeface="Arial"/>
              </a:rPr>
              <a:t>Классный ча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403280" y="162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Экологический праздни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«Бережём родную природ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3068640"/>
            <a:ext cx="8388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Юмасултанова Минсара Авалов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учитель начальных класс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0" y="5157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МОУ Байгазинская СО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788000" y="630864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093080" y="6021360"/>
            <a:ext cx="20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ужно беречь природу, эту красоту, чтобы её красота была достоянием и тех людей, которые будут жить после нас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4149720"/>
            <a:ext cx="8229600" cy="19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 как надо беречь природ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cccc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89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Надо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Сажать деревья, цве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Устанавливать кормушки для пти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Огораживать муравейн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2920" y="23320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вать цветы в лес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омать дерев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жигать кост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росать мусор в лес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бивать животных и пти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27640" y="620640"/>
            <a:ext cx="439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Нельз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9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9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6699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9528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Если я сорву цветок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Если ты сорвёшь цветок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Если все: и я, и ты – если мы сорвём цветы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То окажутся пусты, и деревья,        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и кусты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И не будет красоты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И не будет доброты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Если только я и 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Если мы сорвём цветы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66ff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тихотворение Михаила Дудина; «Берегите Землю!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Берегите Земл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Береги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Жаворонка в голубом зенит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Бабочку на листьях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вили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 тропинке солнечные бли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6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6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6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6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66ff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 камнях играющего краб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д пустыней т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т баобаб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Ястреба, парящего над полем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Ясный месяц над речным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коем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Ласточку, мелькающую в жит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Берегите ЗЕМЛЮ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3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8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3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Цели урока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креплять правила поведения в лес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спитывать любовь к Родин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вивать речь, внимание, пам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Стихотворение В.Бокова «Цветёт над тихой речкой яблоня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Цветёт над тихой речкой ябло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Сады, задумавшись, стоя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Какая Родина нарядна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Она сама – как дивный сад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Играет речка перекатам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В ней рыба вся из сереб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Какая Родина богатая,                                 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не сосчитать её добр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Бежит волна неторопливая, простор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полей ласкает глаз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Какая  Родина счастлива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И это счастье – всё для нас!</a:t>
            </a: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" dur="500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" dur="500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С чём автор сравнивает природ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ff"/>
                </a:solidFill>
                <a:latin typeface="Arial"/>
              </a:rPr>
              <a:t>С садами,  реками,  поля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00000" y="2852640"/>
            <a:ext cx="741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Какая наша Родин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0920" y="3716280"/>
            <a:ext cx="864216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ff"/>
                </a:solidFill>
                <a:latin typeface="Arial"/>
              </a:rPr>
              <a:t>Нарядная, богатая, счастлива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5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ccff"/>
            </a:gs>
            <a:gs pos="100000">
              <a:srgbClr val="99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Недаром о природе написано много песен, стихов, написана музы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Так, например, великий русский композитор Пётр Ильич  Чайковский очень любил родную приро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99ff99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Ему нравилось холодная осенняя пора, когда подолгу моросит дождик. Любил ясные зимние дни, когда белый снег переливается на солнце тысячами искр. Весной он радовался солнцу и теплу, и первой лесной травке. А летом любовался цветущими лугами и слушал весёлые песни жаворонков. Настроения и чувства, навеянные картинами природы, он выражал в своей музык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3T12:40:07Z</dcterms:created>
  <dc:creator>USER</dc:creator>
  <dc:description/>
  <dc:language>en-US</dc:language>
  <cp:lastModifiedBy>Байгазина</cp:lastModifiedBy>
  <dcterms:modified xsi:type="dcterms:W3CDTF">2008-11-24T07:51:27Z</dcterms:modified>
  <cp:revision>6</cp:revision>
  <dc:subject/>
  <dc:title>Классный час</dc:title>
</cp:coreProperties>
</file>