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52B-BB0E-43E3-8F45-662CE4C3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837-7B0A-40D5-AE8B-6831BD47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8D2-28AE-4088-A5B6-565B0513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48E-CD9F-4EAA-8FCA-43153200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DFB8-20C7-459E-9BFB-5496E9BD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6795-E530-4901-8F3C-132FE550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4C18-E1FB-4A9A-B41C-4942C54A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BF7F-F857-42D8-A73B-3CA28E50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A1DA-3EEC-4763-8181-E47E4F9E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0D47-A957-45F5-ADFC-5E1F4619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226C-2D08-4FAC-A931-4B7CF64A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071-F264-4156-AB01-63317686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F729-98CB-4CCB-9C23-B4C3A889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4030-5397-40D6-83D0-93F00683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45C5-D6E2-4D3D-92BD-1A33A6EA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A607-18CE-40ED-8C78-12862235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279B-CFA6-46C8-AD9C-E3A50239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39295-F3BD-43FE-BD6F-FDF79D54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07D17-68C6-49A8-ABBC-D9774A14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F5773-D07B-4CCF-82E0-A07B60B3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8D353-8FFA-443B-BCB7-15AD5024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4E593-DC0C-44CE-AE3B-275A02B2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A2A-7586-4FBA-9934-8EB9AA8B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7DA29-17D4-4A99-BBFF-DE18DEBD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535FE-E627-4970-8C4F-28E03418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D4FBA-A143-40B7-8A0D-2D5703F7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599D3-36DC-4672-86FE-60E0BE2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08244-C5DA-477D-AE3B-0C63F8A6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9EAD9-A05C-4C99-A0F4-09AB388D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6B591-5542-4404-9E79-154B7D4A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5B8-05DC-4217-B352-90AA48A4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E91-AF02-4779-8F59-7B97864F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932-604D-449D-8262-8C74A9D9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F1A-121F-41B1-8530-FF7CB3CE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D6E-7810-40DB-9292-91267716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36C-BFF9-43D3-9EDB-5BA8669E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126A-2292-4D3E-8918-B70D926C21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114C-A6F6-4CB6-BB0E-0F7932BAF4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9E1A-87B0-4DB1-9DD5-F001DF0FE2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7240" y="84276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дяные пусты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07920" y="436860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ктика и Антар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a00046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447920" y="1147680"/>
            <a:ext cx="628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едяные пусты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рктика и Антарк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484360" y="3908520"/>
            <a:ext cx="648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616200" y="56545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903840" y="5999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755640" y="181080"/>
            <a:ext cx="8209080" cy="6283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1047960" y="204840"/>
            <a:ext cx="57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ивотный мир Арк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Harbour_seal"/>
          <p:cNvPicPr/>
          <p:nvPr/>
        </p:nvPicPr>
        <p:blipFill>
          <a:blip r:embed="rId1"/>
          <a:stretch/>
        </p:blipFill>
        <p:spPr>
          <a:xfrm>
            <a:off x="0" y="3672000"/>
            <a:ext cx="4932360" cy="321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img_37744038_3050_1"/>
          <p:cNvPicPr/>
          <p:nvPr/>
        </p:nvPicPr>
        <p:blipFill>
          <a:blip r:embed="rId2"/>
          <a:stretch/>
        </p:blipFill>
        <p:spPr>
          <a:xfrm>
            <a:off x="4751280" y="3616200"/>
            <a:ext cx="4429080" cy="3322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20"/>
          <p:cNvPicPr/>
          <p:nvPr/>
        </p:nvPicPr>
        <p:blipFill>
          <a:blip r:embed="rId3"/>
          <a:stretch/>
        </p:blipFill>
        <p:spPr>
          <a:xfrm>
            <a:off x="4716360" y="765000"/>
            <a:ext cx="4464000" cy="29131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108000" y="907920"/>
            <a:ext cx="90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животных в этих мес</a:t>
            </a: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тах больше всего птиц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айки, кайры, гагарки. </a:t>
            </a: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На некотор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стровах можно увидеть </a:t>
            </a: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– туп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калах и на льдинах </a:t>
            </a: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можно увидеть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тюленей, белых медвед</a:t>
            </a: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ей, морж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395280" y="1268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9880" y="44280"/>
            <a:ext cx="9077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тарктиде круглый год на суше обита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шь мелкие беспозвоночные- выдерживаю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щие замораживание тихоходки, коловрадк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которые бескрылые насекомые. Летом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ке выводят и растят потомство тюлен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нгвины, а также морские птицы, в том чис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 странствующий альбат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0" y="3616200"/>
            <a:ext cx="5219640" cy="3268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птицы"/>
          <p:cNvPicPr/>
          <p:nvPr/>
        </p:nvPicPr>
        <p:blipFill>
          <a:blip r:embed="rId2"/>
          <a:stretch/>
        </p:blipFill>
        <p:spPr>
          <a:xfrm>
            <a:off x="4973760" y="3600360"/>
            <a:ext cx="417024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пинг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пингвин"/>
          <p:cNvPicPr/>
          <p:nvPr/>
        </p:nvPicPr>
        <p:blipFill>
          <a:blip r:embed="rId1"/>
          <a:stretch/>
        </p:blipFill>
        <p:spPr>
          <a:xfrm>
            <a:off x="0" y="3068640"/>
            <a:ext cx="2987640" cy="378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м лев"/>
          <p:cNvPicPr/>
          <p:nvPr/>
        </p:nvPicPr>
        <p:blipFill>
          <a:blip r:embed="rId2"/>
          <a:stretch/>
        </p:blipFill>
        <p:spPr>
          <a:xfrm>
            <a:off x="2987640" y="3078000"/>
            <a:ext cx="6156360" cy="3780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179280" y="241920"/>
            <a:ext cx="896472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храна арктической пустын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охраны и изучения арктической пустыни создан ряд национальных парков и заповед - ников, в том числе Гренландский националь - ный парк, Остров Врангеля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кит"/>
          <p:cNvPicPr/>
          <p:nvPr/>
        </p:nvPicPr>
        <p:blipFill>
          <a:blip r:embed="rId1"/>
          <a:stretch/>
        </p:blipFill>
        <p:spPr>
          <a:xfrm>
            <a:off x="36360" y="3213000"/>
            <a:ext cx="4896000" cy="3672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71280" y="115920"/>
            <a:ext cx="907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тарктическом льду заключено 90% всех запасов пресной воды на Земле. В 1959 году был подписан договор по Антарктике, где предусматривалось использ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арктики только для научных исследований в мирных цел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7" descr="a1003"/>
          <p:cNvPicPr/>
          <p:nvPr/>
        </p:nvPicPr>
        <p:blipFill>
          <a:blip r:embed="rId2"/>
          <a:stretch/>
        </p:blipFill>
        <p:spPr>
          <a:xfrm>
            <a:off x="4932360" y="3213000"/>
            <a:ext cx="42116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503280" y="191160"/>
            <a:ext cx="85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3416"/>
                </a:solidFill>
                <a:latin typeface="Arial"/>
              </a:rPr>
              <a:t>Пустыня</a:t>
            </a:r>
            <a:r>
              <a:rPr b="0" lang="ru-RU" sz="3600" spc="-1" strike="noStrike">
                <a:solidFill>
                  <a:srgbClr val="463416"/>
                </a:solidFill>
                <a:latin typeface="Arial"/>
              </a:rPr>
              <a:t> — тип ландшафта, характеризующийся равнинной поверхностью, разреженностью или отсутствием флоры и специфической фауной.</a:t>
            </a:r>
            <a:br>
              <a:rPr sz="3600"/>
            </a:br>
            <a:r>
              <a:rPr b="0" lang="ru-RU" sz="3600" spc="-1" strike="noStrike">
                <a:solidFill>
                  <a:srgbClr val="463416"/>
                </a:solidFill>
                <a:latin typeface="Arial"/>
              </a:rPr>
              <a:t>Различают песчаные, каменистые, глинистые, солончаковые пустыни. Отдельно выделяют ледяны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3416"/>
                </a:solidFill>
                <a:latin typeface="Arial"/>
              </a:rPr>
              <a:t>(холодные ) пустыни (в Антарктиде и Арктике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a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25440" y="231840"/>
            <a:ext cx="8410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Арктика и Антарктика окружают полю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Земли – Северный и Южны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Они похожи: в этих районах всегда цар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холод, а при смене сез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происходит смена полярного дня и ноч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6348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68360" y="2878200"/>
            <a:ext cx="82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Солнце здесь никогда не поднимается высоко над горизонтом, его лучи дают очень мало тепла. Зимой - полярная ночь, которая длится несколько месяц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Летом - полярный день. Несколько месяцев круглые сутки светло, но не теп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12356346071834"/>
          <p:cNvPicPr/>
          <p:nvPr/>
        </p:nvPicPr>
        <p:blipFill>
          <a:blip r:embed="rId1"/>
          <a:stretch/>
        </p:blipFill>
        <p:spPr>
          <a:xfrm>
            <a:off x="-3636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>
            <a:off x="5654160" y="63360"/>
            <a:ext cx="204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рк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4788000" y="765000"/>
            <a:ext cx="424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ктика – это всё огромное пространство Северного Ледовитого океан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861080" y="3429000"/>
            <a:ext cx="403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имой температура снижается до −55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−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0 °C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том средняя температура 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08000" y="470052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Большую часть Антарктики занимает мате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рик Антарктида. В Антарктиде находится самое холодное  место на Земле, там была отмечена температура -89,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a00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129600" y="3840840"/>
            <a:ext cx="891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ровый климат этих районов обусловлив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низкую температуру океанических в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В области распространения дрейфу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льдов в течение всего года температу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поверхностного слоя вод (толщиной 100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200 м) близка к  - 2°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4472640" y="135000"/>
            <a:ext cx="46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стительный ми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k01218"/>
          <p:cNvPicPr/>
          <p:nvPr/>
        </p:nvPicPr>
        <p:blipFill>
          <a:blip r:embed="rId1"/>
          <a:stretch/>
        </p:blipFill>
        <p:spPr>
          <a:xfrm>
            <a:off x="0" y="0"/>
            <a:ext cx="4513320" cy="688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4554360" y="1020600"/>
            <a:ext cx="4589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суровым условия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дяных пусты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способил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многие живые организмы. На камн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ровов  встречаю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айники, кое-гд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ут  мхи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тречаются некоторые виды цветковых  растений: полярный мак, лисохвост, лютик, камнеломка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k01344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4067280" y="6064200"/>
            <a:ext cx="31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11831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663480" y="6012000"/>
            <a:ext cx="40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ХИ, ЛИШАЙ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9:03:04Z</dcterms:created>
  <dc:creator>Баранов Юрий Александрович</dc:creator>
  <dc:description/>
  <dc:language>en-US</dc:language>
  <cp:lastModifiedBy>TravelMate8573T</cp:lastModifiedBy>
  <dcterms:modified xsi:type="dcterms:W3CDTF">2015-02-11T05:10:21Z</dcterms:modified>
  <cp:revision>21</cp:revision>
  <dc:subject/>
  <dc:title>Слайд 1</dc:title>
</cp:coreProperties>
</file>