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688-FA2A-422A-945A-BD9D33BE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681-43C4-40E4-9DC4-F70D3D6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F44-6E52-400E-B496-475AA2DB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E58-2128-4D63-81ED-BE3ECEB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A33D-F63E-4463-B092-71E671BF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B78-E2B0-4E75-92E1-ED4CBBF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0E18-47D1-4D58-92E3-251CDF0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69B-4F66-4CCF-A7BE-789BA5E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B36-5F1F-4EFC-BF98-27FDCED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01D-2333-4EB8-9BAD-7593EF0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9F82-89E0-4F72-9F36-E36CB57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03D-52F0-4B80-B48A-CD28585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3EA-80E3-4AC7-850F-D81062F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C012-DEAA-4309-B6BB-681D983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7A3-B1F4-467A-A7C5-86A26CE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42F-8CF7-4C31-82FC-9543EFC5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B7C-A236-4391-966B-559E419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F8A36-5417-4C2E-B964-A36A5EAF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EFB48-80C9-4B0D-88CD-AEFEE0B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D465D-5B8D-4CF4-9E9D-71669F53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D1C72-E79C-4924-AFA2-5C621F7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EB159-6BBF-4842-9AF2-293FF16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7BB-19C5-4600-8FFD-F6520BDE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E4762-309C-46D5-9395-DC262AA1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2F240-40A8-4233-B080-A6B3BC8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8FC1E-77BB-4C21-B4CF-D6F7F00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57905-38A0-4DAB-8F77-67F7FF2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C27C3-DA9F-4DF8-BA8E-D24DF4C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44D62-5877-49E5-8255-2124856A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1F92D-0EA1-44BF-A647-8A935514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B64-F1BC-45F1-997B-5BBE4B4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D79-19E2-48FD-A664-9F78F41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DF1-18EC-48EF-94FE-9C55ADB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F3C-0F1A-4465-BA10-491BF86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1CE-BEF8-4443-8CC6-22E5D36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2E5-7F05-4B4B-BD87-3484770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132-D028-4A89-888A-ED6E4930D2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1535-1A57-4AD6-AEF5-D5C75CC00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14C-3EF0-4678-8FAC-1EC0C0D7DF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7240" y="84276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дяны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07920" y="436860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ктика и Антар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a00046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47920" y="1147680"/>
            <a:ext cx="62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едяные пусты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рктика и Антар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484360" y="3908520"/>
            <a:ext cx="648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16200" y="56545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903840" y="5999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755640" y="181080"/>
            <a:ext cx="8209080" cy="628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047960" y="204840"/>
            <a:ext cx="57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arbour_seal"/>
          <p:cNvPicPr/>
          <p:nvPr/>
        </p:nvPicPr>
        <p:blipFill>
          <a:blip r:embed="rId1"/>
          <a:stretch/>
        </p:blipFill>
        <p:spPr>
          <a:xfrm>
            <a:off x="0" y="3672000"/>
            <a:ext cx="4932360" cy="321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img_37744038_3050_1"/>
          <p:cNvPicPr/>
          <p:nvPr/>
        </p:nvPicPr>
        <p:blipFill>
          <a:blip r:embed="rId2"/>
          <a:stretch/>
        </p:blipFill>
        <p:spPr>
          <a:xfrm>
            <a:off x="4751280" y="361620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20"/>
          <p:cNvPicPr/>
          <p:nvPr/>
        </p:nvPicPr>
        <p:blipFill>
          <a:blip r:embed="rId3"/>
          <a:stretch/>
        </p:blipFill>
        <p:spPr>
          <a:xfrm>
            <a:off x="4716360" y="765000"/>
            <a:ext cx="4464000" cy="2913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08000" y="907920"/>
            <a:ext cx="90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животных в этих мес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тах больше всего пти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айки, кайры, гагарки.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На некотор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стровах можно увидеть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– туп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калах и на льдинах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можно увидеть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юленей, белых медвед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ей, морж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95280" y="126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9880" y="44280"/>
            <a:ext cx="9077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тарктиде круглый год на суше обита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ь мелкие беспозвоночные- выдерживаю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ие замораживание тихоходки, коловрадк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бескрылые насекомые. Летом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е выводят и растят потомство тюлен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нгвины, а также морские птицы, в том чис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 странствующий альбат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0" y="3616200"/>
            <a:ext cx="5219640" cy="326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птицы"/>
          <p:cNvPicPr/>
          <p:nvPr/>
        </p:nvPicPr>
        <p:blipFill>
          <a:blip r:embed="rId2"/>
          <a:stretch/>
        </p:blipFill>
        <p:spPr>
          <a:xfrm>
            <a:off x="4973760" y="3600360"/>
            <a:ext cx="417024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пинг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пингвин"/>
          <p:cNvPicPr/>
          <p:nvPr/>
        </p:nvPicPr>
        <p:blipFill>
          <a:blip r:embed="rId1"/>
          <a:stretch/>
        </p:blipFill>
        <p:spPr>
          <a:xfrm>
            <a:off x="0" y="3068640"/>
            <a:ext cx="2987640" cy="378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м лев"/>
          <p:cNvPicPr/>
          <p:nvPr/>
        </p:nvPicPr>
        <p:blipFill>
          <a:blip r:embed="rId2"/>
          <a:stretch/>
        </p:blipFill>
        <p:spPr>
          <a:xfrm>
            <a:off x="2987640" y="3078000"/>
            <a:ext cx="6156360" cy="3780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179280" y="241920"/>
            <a:ext cx="8964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храна арктической пусты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охраны и изучения арктической пустыни создан ряд национальных парков и заповед - ников, в том числе Гренландский националь - ный парк, Остров Врангеля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кит"/>
          <p:cNvPicPr/>
          <p:nvPr/>
        </p:nvPicPr>
        <p:blipFill>
          <a:blip r:embed="rId1"/>
          <a:stretch/>
        </p:blipFill>
        <p:spPr>
          <a:xfrm>
            <a:off x="36360" y="3213000"/>
            <a:ext cx="4896000" cy="3672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71280" y="115920"/>
            <a:ext cx="907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тарктическом льду заключено 90% всех запасов пресной воды на Земле. В 1959 году был подписан договор по Антарктике, где предусматривалось использ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арктики только для научных исследований в мирных цел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a1003"/>
          <p:cNvPicPr/>
          <p:nvPr/>
        </p:nvPicPr>
        <p:blipFill>
          <a:blip r:embed="rId2"/>
          <a:stretch/>
        </p:blipFill>
        <p:spPr>
          <a:xfrm>
            <a:off x="4932360" y="3213000"/>
            <a:ext cx="4211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503280" y="19116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416"/>
                </a:solidFill>
                <a:latin typeface="Arial"/>
              </a:rPr>
              <a:t>Пустыня</a:t>
            </a: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 — тип ландшафта, характеризующийся равнинной поверхностью, разреженностью или отсутствием флоры и специфической фауной.</a:t>
            </a:r>
            <a:br>
              <a:rPr sz="3600"/>
            </a:b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Различают песчаные, каменистые, глинистые, солончаковые пустыни. Отдельно выделяют ледя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(холодные ) пустыни (в Антарктиде и Арктике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a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25440" y="231840"/>
            <a:ext cx="841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Арктика и Антарктика окружают полю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Земли – Северный и Юж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ни похожи: в этих районах всегда цар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олод, а при смене сез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роисходит смена полярного дня и ноч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634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287820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Солнце здесь никогда не поднимается высоко над горизонтом, его лучи дают очень мало тепла. Зимой - полярная ночь, которая длится несколько меся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Летом - полярный день. Несколько месяцев круглые сутки светло, но не теп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2356346071834"/>
          <p:cNvPicPr/>
          <p:nvPr/>
        </p:nvPicPr>
        <p:blipFill>
          <a:blip r:embed="rId1"/>
          <a:stretch/>
        </p:blipFill>
        <p:spPr>
          <a:xfrm>
            <a:off x="-3636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5654160" y="63360"/>
            <a:ext cx="20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788000" y="765000"/>
            <a:ext cx="42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ктика – это всё огромное пространство Северного Ледовитого океа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861080" y="3429000"/>
            <a:ext cx="40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температура снижается до −55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0 °C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ом средняя температура 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8000" y="470052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Большую часть Антарктики занимает мате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рик Антарктида. В Антарктиде находится самое холодное  место на Земле, там была отмечена температура -89,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a00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129600" y="3840840"/>
            <a:ext cx="891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ровый климат этих районов обусловли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низкую температуру океанических в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В области распространения дрейфу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льдов в течение всего года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оверхностного слоя вод (толщиной 100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200 м) близка к  - 2°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472640" y="135000"/>
            <a:ext cx="46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итель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k01218"/>
          <p:cNvPicPr/>
          <p:nvPr/>
        </p:nvPicPr>
        <p:blipFill>
          <a:blip r:embed="rId1"/>
          <a:stretch/>
        </p:blipFill>
        <p:spPr>
          <a:xfrm>
            <a:off x="0" y="0"/>
            <a:ext cx="4513320" cy="688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554360" y="1020600"/>
            <a:ext cx="4589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суровым условия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дяных пусты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способ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ногие живые организмы. На камн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овов  встреч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айники, кое-гд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ут  мхи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ечаются некоторые виды цветковых  растений: полярный мак, лисохвост, лютик, камнеломк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k01344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4067280" y="6064200"/>
            <a:ext cx="31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183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663480" y="6012000"/>
            <a:ext cx="40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ХИ, ЛИШАЙ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9:03:04Z</dcterms:created>
  <dc:creator>Баранов Юрий Александрович</dc:creator>
  <dc:description/>
  <dc:language>en-US</dc:language>
  <cp:lastModifiedBy>TravelMate8573T</cp:lastModifiedBy>
  <dcterms:modified xsi:type="dcterms:W3CDTF">2015-02-11T05:10:21Z</dcterms:modified>
  <cp:revision>21</cp:revision>
  <dc:subject/>
  <dc:title>Слайд 1</dc:title>
</cp:coreProperties>
</file>