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601-1136-481C-B484-3F63AE31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EFC-3CA8-427F-A4CA-B2AD201A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C51-C393-429D-8F03-3FD47785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377-6EEE-48E0-B52D-30D68783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D55-CF7B-4A30-A0D0-514958B9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5B4-3088-4D92-A81D-0F01D24C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A22-0CBA-4999-AA79-6532BA59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C8D-C15F-4AF7-8522-763D105C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A4E-854D-4A5D-9E43-DD1A2882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1AB-EF9F-41B5-8003-23E2C5D7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D18-2D3C-4C7A-976F-8320016F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3D7-3AF4-4A11-ADA3-8F47317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A295-F93D-4924-A0F5-C0CB5F533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стер - класс для родителей:  «Куличи» - подарок на Пасх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1143000" y="1628640"/>
            <a:ext cx="6381720" cy="4392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2286000" y="296712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ДОУ детски сад №1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ю подготовила 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ей группы: Грабовская Т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187280" y="1928880"/>
            <a:ext cx="6337440" cy="44528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826920" y="260280"/>
            <a:ext cx="76327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на Пасху пекут куличи. Кулич  символизирует красное солнышко, и если человек пробует кулич, то  он вбирает в себя живительные лучики и становится добрым и си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2762280" y="1733400"/>
            <a:ext cx="3619440" cy="3391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826920" y="692280"/>
            <a:ext cx="60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ы с вами тоже изготовим куличи только из бум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риал для работы: Прямоугольники синего цвета 15/22,  жёлтого цвета 9/12, белого цвета 7/9,  3/15. Цветная бумага для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74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леиваем прямоугольник жёлтого цвета на картон по середи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гибаем белый прямоугольник по полам и держим за линию сгиба, обрезаем верхние уголки закругляя их. Разворачиваем прямоугольник и наклеиваем на работу –это глазурь у кули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рашаем произвольно кто как хоч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539640" y="1074600"/>
            <a:ext cx="82090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лфетку вырезаем произвольной  формы . Вот такой у нас получиться кули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2235240" y="474840"/>
            <a:ext cx="457200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вать условия для участия родителей в организации воспитательно -образовательного процесса в группе, в приобщении  родителей к русским национальным тради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знакомить с традициями русских народ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сширить знания родителей о традициях праздновании Светлой  Пасх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Ознакомить с техникой изготовления куличей из бумаги в технике  аппл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Заинтересовать родителей в изготовлении кулич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30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2255760" y="183024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то нам понадоб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ной картон для фо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риал для работ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угольники синего цвета 15/22,  жёлтого цвета 9/12, белого цвета 7/9,  3/15. Цветная бумага для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жницы, салфе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 хорошее настроени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10800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971640" y="-541440"/>
            <a:ext cx="720072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ажаемые, родите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я приглашаю вас в необычное путешествие-путешествие в прошлое! Вы узнаете о традициях русского народа в дни особенного праздника и научитесь радовать своих род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ажите, пожалуйста, какие народные праздники вы знает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овый год, Рождество, Маслениц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е люди до сих пор соблюдают традиции каждого их этих праздников. Давайте вспомним, что дела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Новый год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Н.год наряжают ёлк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ождество? (колядуют, гадают, дарят подарк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асленицу? (провожают зиму, встречают весну, пекут бли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286000" y="-217440"/>
            <a:ext cx="457200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: А ещё есть праздник, который люди, особенно верующие, весной очень ждут и старательно к нему готовя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т праздник называют «ПАСХ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т послушайте, какие стихи сложил один из поэтов о Пасх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вонко капают кап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ле нашего ок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тицы весело запел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сти Пасха к нам приш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К. Фофан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дитесь, пожалуйста, на стульчики (на столе - ноутбук) и 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м расскажу об этом празднике и его традициях (презентац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556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1332000" y="474840"/>
            <a:ext cx="619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сха всегда приходилась на весну и люди наблюдали за погодой, так складывались народные приме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 на улице, лежит ли еще снег? (ответы родител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Народная примета говорит нам: «Если к Пасхе весь снег уже сошел, то год будет урожайным. А если снег еще лежит, то год будет бедны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А теперь посмотрите, идет ли дождик или светит солнышко?» (ответы родител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есть и еще примета: если в Пасхальное воскресение стоит ясная солнечная погода, то лето будет жаркое, но сухое. Если пройдет «грибной дождь», то лето будет теплое, но дождливое. А если облачно, но без дождя, то лето будет холодное, но засушлив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Как вы думаете, какое у нас будет лето?» (ответы родителе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971640" y="1028880"/>
            <a:ext cx="66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Издавна существовал и обряд «отпущения птиц на волю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те мы с вами представим, что в руках у нас птички, и мы их выпуска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ети повторяют за воспитателем хором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нички-сестрич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тки-чечет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на воле полетайт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 на вольной поживит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нам весну скорей веди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«Вот и мы с вами отпустили наших птичек на волю, чтобы весна поскорее пришла, чтобы снег растаял, чтобы цветы зацв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755640" y="520560"/>
            <a:ext cx="77770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ха во всем мире является не только церковным, но и  одним из самых любимых семейных празд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к Пасхе начинают с уборки дома, многие собирают вещи для бедных и отдают их тем, кто в этом нуждается. Ведь Пасха – это праздник милосердия и сострадания, и каждый из нас может проявить эти качества помогая своему ближнему. А это, согласитесь, приятно и совсем неслож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тоже можете на Пасху вместе с детьми складывать вещи, из которых они выросли и игрушки, в которые они не играют, и отдавать их деткам по млад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верг и пятницу хозяйки пекут куличи, а дети украшают их глазурью, посыпают разноцветными сахарными звездочками и горошин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332000" y="2398680"/>
            <a:ext cx="6696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Пасхи всегда сопровождался народными играми и заба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ите ли вы узнать, как праздник Пасхи отмечали наши дедушки и бабушки? (ответ родите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проводятся следующие игры:  «Пришла матушка весна…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5:37:35Z</dcterms:created>
  <dc:creator>Татьяна</dc:creator>
  <dc:description/>
  <dc:language>en-US</dc:language>
  <cp:lastModifiedBy>Татьяна</cp:lastModifiedBy>
  <dcterms:modified xsi:type="dcterms:W3CDTF">2015-04-21T16:16:23Z</dcterms:modified>
  <cp:revision>15</cp:revision>
  <dc:subject/>
  <dc:title>Мастер класс для родителей:  «Куличи» подарок на пасху.</dc:title>
</cp:coreProperties>
</file>