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66B-6D88-47A5-B16D-F5A267F6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3BDC-E575-4360-B72D-6089021F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67F-0E71-4093-94FD-28BA1CA7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085-4127-43B9-A806-B2836676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5A6-D053-45BC-AD10-E062FF11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6DB9-B609-45AF-BF9B-46278D52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F99-9838-45E6-AA22-C3321568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D921-387E-4115-A00B-F39BE29A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B4C-4843-41D6-BB1D-C08F761A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006-EC31-4F3B-A2DB-B4939A17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FE6-4436-441B-9099-4F97C066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5F1B-F120-4D39-B6E2-7907FCF2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E966-184D-4894-9653-E636B9CED7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стер - класс для родителей:  «Куличи» - подарок на Пасх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1143000" y="1628640"/>
            <a:ext cx="6381720" cy="43927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2286000" y="2967120"/>
            <a:ext cx="685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ДОУ детски сад №1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зентацию подготовила воспит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ей группы: Грабовская Т.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187280" y="1928880"/>
            <a:ext cx="6337440" cy="44528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826920" y="260280"/>
            <a:ext cx="76327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е на Пасху пекут куличи. Кулич  символизирует красное солнышко, и если человек пробует кулич, то  он вбирает в себя живительные лучики и становится добрым и силь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"/>
          <p:cNvPicPr/>
          <p:nvPr/>
        </p:nvPicPr>
        <p:blipFill>
          <a:blip r:embed="rId2"/>
          <a:stretch/>
        </p:blipFill>
        <p:spPr>
          <a:xfrm>
            <a:off x="2762280" y="1733400"/>
            <a:ext cx="3619440" cy="33912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826920" y="692280"/>
            <a:ext cx="60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ы с вами тоже изготовим куличи только из бума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териал для работы: Прямоугольники синего цвета 15/22,  жёлтого цвета 9/12, белого цвета 7/9,  3/15. Цветная бумага для укра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74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клеиваем прямоугольник жёлтого цвета на картон по середи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гибаем белый прямоугольник по полам и держим за линию сгиба, обрезаем верхние уголки закругляя их. Разворачиваем прямоугольник и наклеиваем на работу –это глазурь у кулич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рашаем произвольно кто как хоч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539640" y="1074600"/>
            <a:ext cx="820908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лфетку вырезаем произвольной  формы . Вот такой у нас получиться кули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632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2235240" y="474840"/>
            <a:ext cx="4572000" cy="58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вать условия для участия родителей в организации воспитательно -образовательного процесса в группе, в приобщении  родителей к русским национальным традиц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Ознакомить с традициями русских народ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Расширить знания родителей о традициях праздновании Светлой  Пасх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Ознакомить с техникой изготовления куличей из бумаги в технике  аппликац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Заинтересовать родителей в изготовлении кулич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30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2255760" y="1830240"/>
            <a:ext cx="457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Что нам понадоби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ветной картон для фо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териал для работ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угольники синего цвета 15/22,  жёлтого цвета 9/12, белого цвета 7/9,  3/15. Цветная бумага для укра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жницы, салфет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язательно хорошее настроени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108000" y="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971640" y="-541440"/>
            <a:ext cx="720072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ажаемые, родител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годня я приглашаю вас в необычное путешествие-путешествие в прошлое! Вы узнаете о традициях русского народа в дни особенного праздника и научитесь радовать своих родны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ажите, пожалуйста, какие народные праздники вы знаете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овый год, Рождество, Маслениц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которые люди до сих пор соблюдают традиции каждого их этих праздников. Давайте вспомним, что делаю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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Новый год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Н.год наряжают ёлк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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ождество? (колядуют, гадают, дарят подарки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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Масленицу? (провожают зиму, встречают весну, пекут блины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60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286000" y="-217440"/>
            <a:ext cx="4572000" cy="64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: А ещё есть праздник, который люди, особенно верующие, весной очень ждут и старательно к нему готовя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т праздник называют «ПАСХ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т послушайте, какие стихи сложил один из поэтов о Пасх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вонко капают кап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ле нашего ок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тицы весело запел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гости Пасха к нам приш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К. Фофан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дитесь, пожалуйста, на стульчики (на столе - ноутбук) и 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м расскажу об этом празднике и его традициях (презентац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2556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1332000" y="474840"/>
            <a:ext cx="619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сха всегда приходилась на весну и люди наблюдали за погодой, так складывались народные приме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те на улице, лежит ли еще снег? (ответы родителе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: «Народная примета говорит нам: «Если к Пасхе весь снег уже сошел, то год будет урожайным. А если снег еще лежит, то год будет бедным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: «А теперь посмотрите, идет ли дождик или светит солнышко?» (ответы родителе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: «есть и еще примета: если в Пасхальное воскресение стоит ясная солнечная погода, то лето будет жаркое, но сухое. Если пройдет «грибной дождь», то лето будет теплое, но дождливое. А если облачно, но без дождя, то лето будет холодное, но засушливо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: «Как вы думаете, какое у нас будет лето?» (ответы родителе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971640" y="1028880"/>
            <a:ext cx="66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: «Издавна существовал и обряд «отпущения птиц на волю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вайте мы с вами представим, что в руках у нас птички, и мы их выпуска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Дети повторяют за воспитателем хором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нички-сестричк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тки-чечетк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 на воле полетайт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 на вольной поживит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нам весну скорей ведит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: «Вот и мы с вами отпустили наших птичек на волю, чтобы весна поскорее пришла, чтобы снег растаял, чтобы цветы зацве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755640" y="520560"/>
            <a:ext cx="777708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ха во всем мире является не только церковным, но и  одним из самых любимых семейных празд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у к Пасхе начинают с уборки дома, многие собирают вещи для бедных и отдают их тем, кто в этом нуждается. Ведь Пасха – это праздник милосердия и сострадания, и каждый из нас может проявить эти качества помогая своему ближнему. А это, согласитесь, приятно и совсем неслож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тоже можете на Пасху вместе с детьми складывать вещи, из которых они выросли и игрушки, в которые они не играют, и отдавать их деткам по младш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верг и пятницу хозяйки пекут куличи, а дети украшают их глазурью, посыпают разноцветными сахарными звездочками и горошинк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1332000" y="2398680"/>
            <a:ext cx="6696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Пасхи всегда сопровождался народными играми и забав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ите ли вы узнать, как праздник Пасхи отмечали наши дедушки и бабушки? (ответ родите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 проводятся следующие игры:  «Пришла матушка весна…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2T15:37:35Z</dcterms:created>
  <dc:creator>Татьяна</dc:creator>
  <dc:description/>
  <dc:language>en-US</dc:language>
  <cp:lastModifiedBy>Татьяна</cp:lastModifiedBy>
  <dcterms:modified xsi:type="dcterms:W3CDTF">2015-04-21T16:16:23Z</dcterms:modified>
  <cp:revision>15</cp:revision>
  <dc:subject/>
  <dc:title>Мастер класс для родителей:  «Куличи» подарок на пасху.</dc:title>
</cp:coreProperties>
</file>