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B437-73B8-4BEF-9374-EFD05270D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9B9F-C0C2-43A2-9DEF-DA59B01B1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796-7BB1-4C07-8E75-1066632C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CAA-DD43-4EF5-9892-CD54FD03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4CA-0ABC-489D-BE71-88DAD155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7E9-6815-43C1-B46C-C1A20D31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136-1A9D-40BB-8A93-647F8D9A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1E4-1C11-4F41-9DB7-E73A9600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D83-E298-4B70-9DB6-C3980D85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6DB-D91D-46E7-806C-BDF62F21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E46-F032-48FA-9DBA-94A48F60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290-F7E7-4889-8F2F-E46B664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E04-DD84-4EF7-9A1B-DDE8739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4F4-756F-4F2F-8A12-708397AB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7A92-D28F-4F14-A9BF-669AB5566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53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9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6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gallery_1_2_139595"/>
          <p:cNvPicPr/>
          <p:nvPr/>
        </p:nvPicPr>
        <p:blipFill>
          <a:blip r:embed="rId8">
            <a:lum bright="6000"/>
          </a:blip>
          <a:srcRect l="0" t="0" r="16984" b="0"/>
          <a:stretch/>
        </p:blipFill>
        <p:spPr>
          <a:xfrm>
            <a:off x="179280" y="4292640"/>
            <a:ext cx="1582920" cy="143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99"/>
          <p:cNvPicPr/>
          <p:nvPr/>
        </p:nvPicPr>
        <p:blipFill>
          <a:blip r:embed="rId9"/>
          <a:stretch/>
        </p:blipFill>
        <p:spPr>
          <a:xfrm>
            <a:off x="324000" y="3141720"/>
            <a:ext cx="938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6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8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10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9" descr="1568788"/>
          <p:cNvPicPr/>
          <p:nvPr/>
        </p:nvPicPr>
        <p:blipFill>
          <a:blip r:embed="rId8"/>
          <a:stretch/>
        </p:blipFill>
        <p:spPr>
          <a:xfrm>
            <a:off x="324000" y="3573360"/>
            <a:ext cx="988920" cy="1249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8eeba93a956ea81823cfcbb8232fc9f9"/>
          <p:cNvPicPr/>
          <p:nvPr/>
        </p:nvPicPr>
        <p:blipFill>
          <a:blip r:embed="rId9"/>
          <a:stretch/>
        </p:blipFill>
        <p:spPr>
          <a:xfrm>
            <a:off x="90360" y="4869000"/>
            <a:ext cx="19605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9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20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2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24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9" descr="kantemir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395280" y="3500280"/>
            <a:ext cx="1006560" cy="13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кантемировка"/>
          <p:cNvPicPr/>
          <p:nvPr/>
        </p:nvPicPr>
        <p:blipFill>
          <a:blip r:embed="rId9"/>
          <a:stretch/>
        </p:blipFill>
        <p:spPr>
          <a:xfrm>
            <a:off x="250920" y="4941720"/>
            <a:ext cx="1646280" cy="1106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kantemir"/>
          <p:cNvPicPr/>
          <p:nvPr/>
        </p:nvPicPr>
        <p:blipFill>
          <a:blip r:embed="rId10">
            <a:lum bright="12000"/>
          </a:blip>
          <a:stretch/>
        </p:blipFill>
        <p:spPr>
          <a:xfrm>
            <a:off x="395280" y="3500280"/>
            <a:ext cx="1006560" cy="135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кантемировка"/>
          <p:cNvPicPr/>
          <p:nvPr/>
        </p:nvPicPr>
        <p:blipFill>
          <a:blip r:embed="rId11"/>
          <a:stretch/>
        </p:blipFill>
        <p:spPr>
          <a:xfrm>
            <a:off x="250920" y="4941720"/>
            <a:ext cx="164628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7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42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 flipV="1">
            <a:off x="3419640" y="5661000"/>
            <a:ext cx="122364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254480" y="5616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гу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9" descr="955068gg-197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7308720" y="3573360"/>
            <a:ext cx="1067040" cy="1158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богучар"/>
          <p:cNvPicPr/>
          <p:nvPr/>
        </p:nvPicPr>
        <p:blipFill>
          <a:blip r:embed="rId9"/>
          <a:stretch/>
        </p:blipFill>
        <p:spPr>
          <a:xfrm>
            <a:off x="6659640" y="4797360"/>
            <a:ext cx="2193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/>
          <p:cNvSpPr/>
          <p:nvPr/>
        </p:nvSpPr>
        <p:spPr>
          <a:xfrm>
            <a:off x="214200" y="3571920"/>
            <a:ext cx="3714840" cy="947160"/>
          </a:xfrm>
          <a:prstGeom prst="wedgeRectCallout">
            <a:avLst>
              <a:gd name="adj1" fmla="val 63629"/>
              <a:gd name="adj2" fmla="val -255736"/>
            </a:avLst>
          </a:prstGeom>
          <a:gradFill rotWithShape="0">
            <a:gsLst>
              <a:gs pos="0">
                <a:srgbClr val="ffff66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                     объекты -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4211640" y="3552840"/>
            <a:ext cx="4714920" cy="947160"/>
          </a:xfrm>
          <a:prstGeom prst="wedgeRectCallout">
            <a:avLst>
              <a:gd name="adj1" fmla="val -36166"/>
              <a:gd name="adj2" fmla="val -253152"/>
            </a:avLst>
          </a:prstGeom>
          <a:gradFill rotWithShape="0">
            <a:gsLst>
              <a:gs pos="0">
                <a:srgbClr val="ffff66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-объекты -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071800" y="500040"/>
            <a:ext cx="635796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Простые таблицы</a:t>
            </a:r>
            <a:endParaRPr b="1" i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5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60"/>
          <p:cNvSpPr/>
          <p:nvPr/>
        </p:nvSpPr>
        <p:spPr>
          <a:xfrm>
            <a:off x="1214280" y="28584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Таблица типа </a:t>
            </a:r>
            <a:br>
              <a:rPr sz="3600"/>
            </a:b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«объекты-свойства» (О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1"/>
          <p:cNvSpPr/>
          <p:nvPr/>
        </p:nvSpPr>
        <p:spPr>
          <a:xfrm>
            <a:off x="525600" y="150012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блицы типа ОС содержат                          информацию о свойствах отдельных объектов, принадлежащих одному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79320" y="3000240"/>
          <a:ext cx="8132760" cy="2567160"/>
        </p:xfrm>
        <a:graphic>
          <a:graphicData uri="http://schemas.openxmlformats.org/drawingml/2006/table">
            <a:tbl>
              <a:tblPr/>
              <a:tblGrid>
                <a:gridCol w="2203560"/>
                <a:gridCol w="2214720"/>
                <a:gridCol w="2211120"/>
                <a:gridCol w="1503360"/>
              </a:tblGrid>
              <a:tr h="857520">
                <a:tc>
                  <a:txBody>
                    <a:bodyPr lIns="96480" rIns="96480" tIns="48240" bIns="48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класса объ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свойств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свойства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480" rIns="96480" tIns="48240" bIns="48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69880"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объекта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9880"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объекта 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9880"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cxnSp>
        <p:nvCxnSpPr>
          <p:cNvPr id="164" name="Прямая со стрелкой 10"/>
          <p:cNvCxnSpPr>
            <a:endCxn id="165" idx="0"/>
          </p:cNvCxnSpPr>
          <p:nvPr/>
        </p:nvCxnSpPr>
        <p:spPr>
          <a:xfrm>
            <a:off x="3857400" y="4158720"/>
            <a:ext cx="2632320" cy="174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5" name="TextBox 11"/>
          <p:cNvSpPr/>
          <p:nvPr/>
        </p:nvSpPr>
        <p:spPr>
          <a:xfrm>
            <a:off x="4094280" y="590544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ение свойства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67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69" name=""/>
          <p:cNvGraphicFramePr/>
          <p:nvPr/>
        </p:nvGraphicFramePr>
        <p:xfrm>
          <a:off x="571680" y="1857240"/>
          <a:ext cx="7858080" cy="2735280"/>
        </p:xfrm>
        <a:graphic>
          <a:graphicData uri="http://schemas.openxmlformats.org/drawingml/2006/table">
            <a:tbl>
              <a:tblPr/>
              <a:tblGrid>
                <a:gridCol w="2012760"/>
                <a:gridCol w="2471760"/>
                <a:gridCol w="1955880"/>
                <a:gridCol w="1417680"/>
              </a:tblGrid>
              <a:tr h="827640"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изде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изготов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70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емп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угал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0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р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3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0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дали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иста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0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квояж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8840" y="-3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ример таблицы типа 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2"/>
          <p:cNvSpPr/>
          <p:nvPr/>
        </p:nvSpPr>
        <p:spPr>
          <a:xfrm>
            <a:off x="2127240" y="1071720"/>
            <a:ext cx="50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Необычные 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438120" y="5074200"/>
            <a:ext cx="573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бъект – из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ойства – год основания, страна, д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76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Box 8"/>
          <p:cNvSpPr/>
          <p:nvPr/>
        </p:nvSpPr>
        <p:spPr>
          <a:xfrm>
            <a:off x="428760" y="1857240"/>
            <a:ext cx="83581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орядок построения таблиц 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ить объекты и св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ть класс объек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писать названия объектов и их св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писать значения св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285840" y="4929120"/>
            <a:ext cx="80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строк в таблице зависит от количества имеющихся объектов, а количество граф – от количества рассматриваемых св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0"/>
          <p:cNvSpPr/>
          <p:nvPr/>
        </p:nvSpPr>
        <p:spPr>
          <a:xfrm>
            <a:off x="1214280" y="28584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Таблица типа </a:t>
            </a:r>
            <a:br>
              <a:rPr sz="3600"/>
            </a:b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«объекты-свойства» (О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8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6" name=""/>
          <p:cNvGraphicFramePr/>
          <p:nvPr/>
        </p:nvGraphicFramePr>
        <p:xfrm>
          <a:off x="714240" y="1928880"/>
          <a:ext cx="7500960" cy="3840120"/>
        </p:xfrm>
        <a:graphic>
          <a:graphicData uri="http://schemas.openxmlformats.org/drawingml/2006/table">
            <a:tbl>
              <a:tblPr/>
              <a:tblGrid>
                <a:gridCol w="1911600"/>
                <a:gridCol w="1471320"/>
                <a:gridCol w="1903680"/>
                <a:gridCol w="2214360"/>
              </a:tblGrid>
              <a:tr h="54900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еленный пун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ос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опримеча-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мышл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льхов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дание сахарного за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сах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со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окольня Александра Нев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минеральных удобр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нтемир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ан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-34-8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машин и обору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гуч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ерковь Иоанна-во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растительного ма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62"/>
          <p:cNvSpPr/>
          <p:nvPr/>
        </p:nvSpPr>
        <p:spPr>
          <a:xfrm>
            <a:off x="1857240" y="5716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Bookman Old Style"/>
              </a:rPr>
              <a:t>Населенные пункты юга Воронеж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9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3" name=""/>
          <p:cNvGraphicFramePr/>
          <p:nvPr/>
        </p:nvGraphicFramePr>
        <p:xfrm>
          <a:off x="714240" y="2000160"/>
          <a:ext cx="8143920" cy="4057920"/>
        </p:xfrm>
        <a:graphic>
          <a:graphicData uri="http://schemas.openxmlformats.org/drawingml/2006/table">
            <a:tbl>
              <a:tblPr/>
              <a:tblGrid>
                <a:gridCol w="2000520"/>
                <a:gridCol w="1357200"/>
                <a:gridCol w="1727280"/>
                <a:gridCol w="1701720"/>
                <a:gridCol w="1357200"/>
              </a:tblGrid>
              <a:tr h="4874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еленный пун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льхова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сош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нтемир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гуч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опримеча-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дание сахарного за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окольня Александра Нев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ан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-34-8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ерковь Иоанна-во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-ство сах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минеральных удобр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-ство машин и оборудо-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-ство раститель-ного мас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исленность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йонная газ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Ольховат-ский вестн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За изобили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Кантемиров-ский вестн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Сельская нов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62"/>
          <p:cNvSpPr/>
          <p:nvPr/>
        </p:nvSpPr>
        <p:spPr>
          <a:xfrm>
            <a:off x="1857240" y="5716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Bookman Old Style"/>
              </a:rPr>
              <a:t>Населенные пункты юга Воронеж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7"/>
          <p:cNvSpPr txBox="1"/>
          <p:nvPr/>
        </p:nvSpPr>
        <p:spPr>
          <a:xfrm>
            <a:off x="1785960" y="571680"/>
            <a:ext cx="70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1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1. Любое ли словесное описание можно заменить таблицей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9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00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2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204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V="1">
            <a:off x="3419640" y="5661000"/>
            <a:ext cx="122364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4254480" y="5616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гу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1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TextBox 4"/>
          <p:cNvSpPr/>
          <p:nvPr/>
        </p:nvSpPr>
        <p:spPr>
          <a:xfrm>
            <a:off x="357120" y="147312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 типа ООО – это таблица, содержащая информацию о некотором одном свойстве пар объектов, чаще всего принадлежащих разным клас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14240" y="3021120"/>
          <a:ext cx="7858440" cy="2408040"/>
        </p:xfrm>
        <a:graphic>
          <a:graphicData uri="http://schemas.openxmlformats.org/drawingml/2006/table">
            <a:tbl>
              <a:tblPr/>
              <a:tblGrid>
                <a:gridCol w="1965600"/>
                <a:gridCol w="1963440"/>
                <a:gridCol w="1965600"/>
                <a:gridCol w="1963800"/>
              </a:tblGrid>
              <a:tr h="335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первого класса объе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второго класса объе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1-го объекта втор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2-го объекта втор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1-го объекта перв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2-го объекта перв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7"/>
          <p:cNvSpPr/>
          <p:nvPr/>
        </p:nvSpPr>
        <p:spPr>
          <a:xfrm>
            <a:off x="2786040" y="5572080"/>
            <a:ext cx="56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свойства пары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3"/>
          <p:cNvSpPr/>
          <p:nvPr/>
        </p:nvSpPr>
        <p:spPr>
          <a:xfrm flipH="1" flipV="1">
            <a:off x="3785760" y="4214520"/>
            <a:ext cx="887400" cy="14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0"/>
          <p:cNvSpPr/>
          <p:nvPr/>
        </p:nvSpPr>
        <p:spPr>
          <a:xfrm>
            <a:off x="1440000" y="214200"/>
            <a:ext cx="77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Таблица типа </a:t>
            </a:r>
            <a:br>
              <a:rPr sz="3600"/>
            </a:b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«объекты-объекты-один» (ОО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2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6" name=""/>
          <p:cNvGraphicFramePr/>
          <p:nvPr/>
        </p:nvGraphicFramePr>
        <p:xfrm>
          <a:off x="1258920" y="1773360"/>
          <a:ext cx="6834240" cy="2217600"/>
        </p:xfrm>
        <a:graphic>
          <a:graphicData uri="http://schemas.openxmlformats.org/drawingml/2006/table">
            <a:tbl>
              <a:tblPr/>
              <a:tblGrid>
                <a:gridCol w="2349360"/>
                <a:gridCol w="1368360"/>
                <a:gridCol w="1408320"/>
                <a:gridCol w="17082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итера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а Ма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Даниэ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х Нас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7" name="TextBox 4"/>
          <p:cNvSpPr/>
          <p:nvPr/>
        </p:nvSpPr>
        <p:spPr>
          <a:xfrm>
            <a:off x="928800" y="4143240"/>
            <a:ext cx="763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первых объектов – ученики (фамили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вторых объектов – предм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объекты – Иванов Петя, Петров Андрей, Сидоров Ваня, Андреев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ые объекты – русский язык, литература, матема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–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3789360" y="1214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Calibri"/>
              </a:rPr>
              <a:t>Оценки за 1 четвер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0"/>
          <p:cNvSpPr/>
          <p:nvPr/>
        </p:nvSpPr>
        <p:spPr>
          <a:xfrm>
            <a:off x="1428840" y="0"/>
            <a:ext cx="721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ример таблицы типа О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3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Rectangle 160"/>
          <p:cNvSpPr/>
          <p:nvPr/>
        </p:nvSpPr>
        <p:spPr>
          <a:xfrm>
            <a:off x="1428840" y="0"/>
            <a:ext cx="721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ример таблицы типа О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03280" y="2492280"/>
          <a:ext cx="8028000" cy="2387520"/>
        </p:xfrm>
        <a:graphic>
          <a:graphicData uri="http://schemas.openxmlformats.org/drawingml/2006/table">
            <a:tbl>
              <a:tblPr/>
              <a:tblGrid>
                <a:gridCol w="2006640"/>
                <a:gridCol w="2008080"/>
                <a:gridCol w="2006640"/>
                <a:gridCol w="2006640"/>
              </a:tblGrid>
              <a:tr h="42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а Ма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Даниэ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7" name="TextBox 5"/>
          <p:cNvSpPr/>
          <p:nvPr/>
        </p:nvSpPr>
        <p:spPr>
          <a:xfrm>
            <a:off x="3062520" y="1700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Calibri"/>
              </a:rPr>
              <a:t>Оценки за 1 четвер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39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41" name=""/>
          <p:cNvGraphicFramePr/>
          <p:nvPr/>
        </p:nvGraphicFramePr>
        <p:xfrm>
          <a:off x="500040" y="2428920"/>
          <a:ext cx="8072640" cy="3292560"/>
        </p:xfrm>
        <a:graphic>
          <a:graphicData uri="http://schemas.openxmlformats.org/drawingml/2006/table">
            <a:tbl>
              <a:tblPr/>
              <a:tblGrid>
                <a:gridCol w="2071800"/>
                <a:gridCol w="1643040"/>
                <a:gridCol w="1643040"/>
                <a:gridCol w="1285920"/>
                <a:gridCol w="1428840"/>
              </a:tblGrid>
              <a:tr h="10976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йонный цен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льхова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со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нтеми-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гуч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льхова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со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нтем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гуч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6"/>
          <p:cNvSpPr/>
          <p:nvPr/>
        </p:nvSpPr>
        <p:spPr>
          <a:xfrm>
            <a:off x="-171000" y="-1080"/>
            <a:ext cx="362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сстояние между районными центрами (к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2"/>
          <p:cNvSpPr/>
          <p:nvPr/>
        </p:nvSpPr>
        <p:spPr>
          <a:xfrm>
            <a:off x="1857240" y="5716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Bookman Old Style"/>
              </a:rPr>
              <a:t>Расстояние между районными центрами 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48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49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1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253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 flipV="1">
            <a:off x="3419640" y="5661000"/>
            <a:ext cx="122364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4254480" y="5616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гу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64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65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7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8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269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5"/>
          <p:cNvSpPr/>
          <p:nvPr/>
        </p:nvSpPr>
        <p:spPr>
          <a:xfrm flipV="1">
            <a:off x="3419640" y="5661000"/>
            <a:ext cx="122364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254480" y="5616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гу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 flipH="1" flipV="1">
            <a:off x="3214800" y="4714920"/>
            <a:ext cx="1285920" cy="8589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7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4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Picture 5" descr="айфон"/>
          <p:cNvPicPr/>
          <p:nvPr/>
        </p:nvPicPr>
        <p:blipFill>
          <a:blip r:embed="rId3"/>
          <a:srcRect l="7979" t="5100" r="58001" b="8226"/>
          <a:stretch/>
        </p:blipFill>
        <p:spPr>
          <a:xfrm>
            <a:off x="34920" y="285840"/>
            <a:ext cx="3836880" cy="59292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6"/>
          <p:cNvSpPr/>
          <p:nvPr/>
        </p:nvSpPr>
        <p:spPr>
          <a:xfrm>
            <a:off x="395280" y="1214280"/>
            <a:ext cx="3218040" cy="35020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Благодар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ас за активную работу на уроке, за ваши горящие глаза и светлые голов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rus36-map(1)"/>
          <p:cNvPicPr/>
          <p:nvPr/>
        </p:nvPicPr>
        <p:blipFill>
          <a:blip r:embed="rId4"/>
          <a:stretch/>
        </p:blipFill>
        <p:spPr>
          <a:xfrm>
            <a:off x="4572000" y="404640"/>
            <a:ext cx="3313080" cy="232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lery_1_2_139595"/>
          <p:cNvPicPr/>
          <p:nvPr/>
        </p:nvPicPr>
        <p:blipFill>
          <a:blip r:embed="rId5">
            <a:lum bright="6000"/>
          </a:blip>
          <a:srcRect l="0" t="0" r="16998" b="0"/>
          <a:stretch/>
        </p:blipFill>
        <p:spPr>
          <a:xfrm>
            <a:off x="4284720" y="2276640"/>
            <a:ext cx="1006560" cy="909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99"/>
          <p:cNvPicPr/>
          <p:nvPr/>
        </p:nvPicPr>
        <p:blipFill>
          <a:blip r:embed="rId6"/>
          <a:stretch/>
        </p:blipFill>
        <p:spPr>
          <a:xfrm>
            <a:off x="4140360" y="1341360"/>
            <a:ext cx="65088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3995640" y="3568680"/>
          <a:ext cx="4889520" cy="2524320"/>
        </p:xfrm>
        <a:graphic>
          <a:graphicData uri="http://schemas.openxmlformats.org/drawingml/2006/table">
            <a:tbl>
              <a:tblPr/>
              <a:tblGrid>
                <a:gridCol w="1681200"/>
                <a:gridCol w="979560"/>
                <a:gridCol w="1006560"/>
                <a:gridCol w="122220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итера-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атема-т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а Ма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Даниэ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286" name="Picture 76" descr="kantemir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7596360" y="1197000"/>
            <a:ext cx="523800" cy="70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7" descr="кантемировка"/>
          <p:cNvPicPr/>
          <p:nvPr/>
        </p:nvPicPr>
        <p:blipFill>
          <a:blip r:embed="rId8"/>
          <a:stretch/>
        </p:blipFill>
        <p:spPr>
          <a:xfrm>
            <a:off x="5580000" y="2924280"/>
            <a:ext cx="857160" cy="576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8" descr="1568788"/>
          <p:cNvPicPr/>
          <p:nvPr/>
        </p:nvPicPr>
        <p:blipFill>
          <a:blip r:embed="rId9"/>
          <a:stretch/>
        </p:blipFill>
        <p:spPr>
          <a:xfrm>
            <a:off x="8291520" y="549360"/>
            <a:ext cx="569880" cy="718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9" descr="8eeba93a956ea81823cfcbb8232fc9f9"/>
          <p:cNvPicPr/>
          <p:nvPr/>
        </p:nvPicPr>
        <p:blipFill>
          <a:blip r:embed="rId10"/>
          <a:stretch/>
        </p:blipFill>
        <p:spPr>
          <a:xfrm>
            <a:off x="7093080" y="2144880"/>
            <a:ext cx="18349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5" name="Подзаголовок 4"/>
          <p:cNvSpPr/>
          <p:nvPr/>
        </p:nvSpPr>
        <p:spPr>
          <a:xfrm>
            <a:off x="214200" y="2000160"/>
            <a:ext cx="8501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2. Представляемая в таблицах информация наглядна, компактна и легко обозри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9" name="Подзаголовок 4"/>
          <p:cNvSpPr/>
          <p:nvPr/>
        </p:nvSpPr>
        <p:spPr>
          <a:xfrm>
            <a:off x="214200" y="2000160"/>
            <a:ext cx="8501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3. Является ли табличной информационной моделью расписание уро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72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3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4. Бывают простые и сложные табл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7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5. В таблице не должны быть указаны единицы измер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80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1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6. Заголовки граф и строк должны быть кратки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5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7. Знак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 в ячейке таблице означает – данные невозмож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642960" y="2428920"/>
            <a:ext cx="76438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Простые таблицы</a:t>
            </a:r>
            <a:endParaRPr b="1" i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6:46:55Z</dcterms:created>
  <dc:creator>aser</dc:creator>
  <dc:description/>
  <dc:language>en-US</dc:language>
  <cp:lastModifiedBy>Колесник</cp:lastModifiedBy>
  <dcterms:modified xsi:type="dcterms:W3CDTF">2014-12-12T05:50:50Z</dcterms:modified>
  <cp:revision>1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