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B73-4D8E-44FD-96B8-94BAC491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0D5-5EE1-47F5-97D0-9BDC9DAF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FD8-F41C-4A0D-87CC-849BE51A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459-3EF7-447F-A71A-12425260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764-3244-4D58-83FC-EFF5166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003-5FA0-495C-B8F0-2EE22055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210-31B8-4EF0-BF9A-908B09F5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320-C984-470F-9E92-F6DCACDB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279-CE80-4A80-888B-D28E83BD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DB7-69C2-47DD-8700-16D1688A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33E-95F0-473B-8033-8299A1EE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A83-28A9-4070-A40D-5B54340F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6FEF-6D00-4D51-ABD0-0BAB4FE3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381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9246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тографии города Влади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IMG_0494_novyiy-razmer-900x600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IMG_0560_novyiy-razmer-400x600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IMG_0655_novyiy-razmer-900x600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б города Влади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43200" y="1219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4162320"/>
            <a:ext cx="19051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10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августа Владимирской области           исполнилось 70 лет. Она была образована Указом Президиума Верховного Совета СССР от 14 августа 1944 года, территория региона составляет 29000 кв. км. На 1 января 2014 года в области проживало 1 млн. 413 тыс. человек (77,7 процента населения - городское, 22,3 процента – сельское). Во Владимирской области 16 районов, 23 города и 9 поселков городского тип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ни и сти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лшебный и неповторим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чший на свете и самый красив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ккуратный и необыкновенн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намичный и современн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ресный и необычн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дный и романтичн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дивидуальный и сердцу милый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ной город мой – Владимир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ю тебе, о город мой родной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ердце рвётся из груди к тебе…постой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ы сохранил своё величье и любов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уши ожили, и закипела кровь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– нет места родней на земле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поможет и мне, и теб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сторью России страницу вписа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изну прославить и знаменем ста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- о центр культуры в России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– владыко, посланник Христ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адимир остался душою России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будет таким до конц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имый Владимир на Клязьме стоит,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олнце его купола золотит.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ревние соборы, и церкви, и палаты,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ие просторы древностью богаты.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ие люди повсюду –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их нигде не забуду.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 и мы подрастё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лаго Владимира трудиться пойдём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имир! Нет любимей края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вырос и родился я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купола в лучах играют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здесь живёт моя судьб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слышен щебет птиц весёлых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лышен звон колоколов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я хожу в родную школу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город дарит мне любов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9250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01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Новая папка (6)\Шествие-колонн-2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7:39:58Z</dcterms:created>
  <dc:creator>Maks-OS7</dc:creator>
  <dc:description/>
  <dc:language>en-US</dc:language>
  <cp:lastModifiedBy>Admin</cp:lastModifiedBy>
  <dcterms:modified xsi:type="dcterms:W3CDTF">2015-04-21T15:18:4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