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A146-84C5-4FC4-A85C-BCF21CB6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83EA-1C83-4A2A-8B4D-B38E3E63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CC7B-5E20-440A-A92C-FD6348E1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EB4A-D06B-40D0-9CD6-3A94EE7C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F559-4C8D-46D9-8D54-2A0CFA2C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BEBB-9FD8-4591-9EB0-758817F6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D122-1123-481F-B8F3-B25E8B14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0269-8A7A-41B4-9138-DD8CAE52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A1A1-5727-4BFA-8175-92C4A2C0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329A-4B83-4992-B0E6-6D521E56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CC45-4CF0-41C8-A344-450139D1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17FF-E15E-4445-B050-392ADEE2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1FB1-C7A9-4301-AF3B-B259B3320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3818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274680"/>
            <a:ext cx="79246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тографии города Влади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553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Новая папка (6)\IMG_0494_novyiy-razmer-900x600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Новая папка (6)\IMG_0560_novyiy-razmer-400x600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Новая папка (6)\IMG_0655_novyiy-razmer-900x600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рб города Влади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05720" y="1523880"/>
            <a:ext cx="243828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743200" y="1219320"/>
            <a:ext cx="3657600" cy="2590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581280" y="4162320"/>
            <a:ext cx="19051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210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 августа Владимирской области           исполнилось 70 лет. Она была образована Указом Президиума Верховного Совета СССР от 14 августа 1944 года, территория региона составляет 29000 кв. км. На 1 января 2014 года в области проживало 1 млн. 413 тыс. человек (77,7 процента населения - городское, 22,3 процента – сельское). Во Владимирской области 16 районов, 23 города и 9 поселков городского тип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сни и сти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лшебный и неповторимый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учший на свете и самый красивый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ккуратный и необыкновенный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инамичный и современный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тересный и необычный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одный и романтичный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дивидуальный и сердцу милый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одной город мой – Владимир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ю тебе, о город мой родной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сердце рвётся из груди к тебе…постой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ы сохранил своё величье и любовь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души ожили, и закипела кровь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ладимир – нет места родней на земле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ладимир поможет и мне, и теб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сторью России страницу вписать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чизну прославить и знаменем стать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ладимир - о центр культуры в России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ладимир – владыко, посланник Христа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ладимир остался душою России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будет таким до конца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имый Владимир на Клязьме стоит,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солнце его купола золотит.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есь древние соборы, и церкви, и палаты,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ирокие просторы древностью богаты.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ие люди повсюду –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их нигде не забуду.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о и мы подрастё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благо Владимира трудиться пойдём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ладимир! Нет любимей края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десь вырос и родился я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десь купола в лучах играют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здесь живёт моя судьб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десь слышен щебет птиц весёлых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слышен звон колоколов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десь я хожу в родную школу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город дарит мне любов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Р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79250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Новая папка (6)\01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Новая папка (6)\Шествие-колонн-2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7T17:39:58Z</dcterms:created>
  <dc:creator>Maks-OS7</dc:creator>
  <dc:description/>
  <dc:language>en-US</dc:language>
  <cp:lastModifiedBy>Admin</cp:lastModifiedBy>
  <dcterms:modified xsi:type="dcterms:W3CDTF">2015-04-21T15:18:4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