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620E-C0B8-4502-81F5-9052CCB0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3594-5686-43C9-AD69-114E81F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156F-69D8-4374-9B2E-852A10D2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0E0A-AFF6-479F-8229-F4EE5D12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9EA-3B97-44AF-8C27-3F7B07F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3ACC-7D6E-4BA6-BE4F-09352B05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34D-3995-4F2D-AD76-0B2BF6D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C709-F7A8-49AC-83BE-56CB67CB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8E52-29E5-4FB4-B83C-F556F6C9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571F-F9E1-4E73-9CEC-0D404222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4F1-2D37-42D6-BAA0-B64B043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DFAF-4C61-41EE-8966-ACE4D67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E702-103D-4851-865A-70DEEC8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EA3-284C-419E-B66B-E37078C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785-8EB3-4E23-A567-0D58094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1FD-F09F-4F24-A0BF-56DE6D21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FE2-F1E6-4787-8A48-675F4B06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8222-C852-4E93-8C25-B84007E9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A300-ED65-48CF-8A98-0C0E3D0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D1C7-21CC-4F05-AEA0-477834AA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3704-D52D-4E1B-B9B0-3C1EE216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F5A2-2F53-4AA4-ACC3-E93677B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B23E-93C4-4144-B0AF-BE3F5D2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13AA-D039-4118-82EA-06206AB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086-75CB-44D7-8B05-A6A4057BFF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6DA0-C250-4487-B899-BEE9DF347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ru.wikipedia.org/wiki/12_&#1072;&#1087;&#1088;&#1077;&#1083;&#1103;" TargetMode="External"/><Relationship Id="rId3" Type="http://schemas.openxmlformats.org/officeDocument/2006/relationships/hyperlink" Target="https://ru.wikipedia.org/wiki/1961_&#1075;&#1086;&#1076;_&#1074;_&#1085;&#1072;&#1091;&#1082;&#1077;" TargetMode="External"/><Relationship Id="rId4" Type="http://schemas.openxmlformats.org/officeDocument/2006/relationships/hyperlink" Target="https://ru.wikipedia.org/wiki/&#1043;&#1072;&#1075;&#1072;&#1088;&#1080;&#1085;,_&#1070;&#1088;&#1080;&#1081;_&#1040;&#1083;&#1077;&#1082;&#1089;&#1077;&#1077;&#1074;&#1080;&#1095;" TargetMode="External"/><Relationship Id="rId5" Type="http://schemas.openxmlformats.org/officeDocument/2006/relationships/hyperlink" Target="https://ru.wikipedia.org/wiki/&#1055;&#1080;&#1083;&#1086;&#1090;&#1080;&#1088;&#1091;&#1077;&#1084;&#1099;&#1081;_&#1082;&#1086;&#1089;&#1084;&#1080;&#1095;&#1077;&#1089;&#1082;&#1080;&#1081;_&#1087;&#1086;&#1083;&#1105;&#1090;" TargetMode="External"/><Relationship Id="rId6" Type="http://schemas.openxmlformats.org/officeDocument/2006/relationships/hyperlink" Target="https://ru.wikipedia.org/wiki/&#1041;&#1072;&#1081;&#1082;&#1086;&#1085;&#1091;&#1088;" TargetMode="External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s://ru.wikipedia.org/wiki/&#1050;&#1086;&#1089;&#1084;&#1086;&#1076;&#1088;&#1086;&#1084;" TargetMode="External"/><Relationship Id="rId4" Type="http://schemas.openxmlformats.org/officeDocument/2006/relationships/hyperlink" Target="https://ru.wikipedia.org/wiki/&#1050;&#1072;&#1079;&#1072;&#1093;&#1089;&#1090;&#1072;&#1085;" TargetMode="External"/><Relationship Id="rId5" Type="http://schemas.openxmlformats.org/officeDocument/2006/relationships/hyperlink" Target="https://ru.wikipedia.org/wiki/&#1041;&#1072;&#1081;&#1082;&#1086;&#1085;&#1091;&#1088;_(&#1075;&#1086;&#1088;&#1086;&#1076;)" TargetMode="External"/><Relationship Id="rId6" Type="http://schemas.openxmlformats.org/officeDocument/2006/relationships/hyperlink" Target="https://ru.wikipedia.org/wiki/&#1056;&#1086;&#1089;&#1089;&#1080;&#1103;" TargetMode="External"/><Relationship Id="rId7" Type="http://schemas.openxmlformats.org/officeDocument/2006/relationships/hyperlink" Target="https://ru.wikipedia.org/wiki/&#1050;&#1072;&#1079;&#1072;&#1093;&#1089;&#1090;&#1072;&#1085;" TargetMode="External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55280" y="18864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898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99"/>
                </a:solidFill>
                <a:latin typeface="Garamond"/>
              </a:rPr>
              <a:t>КОСМОС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51120" y="126828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2133720"/>
            <a:ext cx="68407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смический ми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6400" cy="436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5867280" cy="407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89200" y="260280"/>
            <a:ext cx="3754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В невесомости космонавты выращивают зелень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71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79640" y="3357720"/>
            <a:ext cx="7164360" cy="3500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96000" y="260280"/>
            <a:ext cx="302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Так спят космонавты на орбитальной станци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153040" cy="566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995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250920" y="1484280"/>
            <a:ext cx="8569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0" y="0"/>
            <a:ext cx="914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апреля-день космонавтики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Первыми в космос отправили собак - Белку и Стрелку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24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240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Самым первым космонавтом, который полетел в космос, был Юрий Гагарин</a:t>
            </a:r>
            <a:r>
              <a:rPr b="1" lang="en-US" sz="16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341360"/>
            <a:ext cx="5238720" cy="511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600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4167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На корабле «Восток»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12 апреля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1961 года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лётчик-космонавт СССР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Юрий Алексеевич Гагарин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совершил первый в мире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полёт в космическое пространство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. Старт корабля состоялся с космодрома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Байконур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в 9 часов 7 минут московского времени Корабль выполнил один оборот вокруг Земли и совершил посадку в 10 часов 55 минут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62828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6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62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Для полета в космос людям стала необходима специальная одежда – </a:t>
            </a:r>
            <a:r>
              <a:rPr b="1" lang="en-US" sz="1800" spc="-1" strike="noStrike" u="sng">
                <a:solidFill>
                  <a:srgbClr val="e5e5ff"/>
                </a:solidFill>
                <a:uFillTx/>
                <a:latin typeface="Times New Roman"/>
              </a:rPr>
              <a:t>Скафандр</a:t>
            </a: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. Космические скафандры предназначены для осуществления безопасного пребывания и работы космонавта в открытом космосе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211640" cy="532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5003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5867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айкону́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космодром «Байконур» — первый и крупнейший в мир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смодро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расположен на территории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Казахстана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Город Байкону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и космодром Байконур вместе образуют комплекс «Байконур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ндованный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Россие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у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Казахста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на период до 2050г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Космическая станция-второй дом космонавтов. Космический дом особенный - он называется орбитальная станция. Здесь космонавты живут и работают. Космонавты наблюдают за звездами, планетами и солнцем, фотографируют их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884840" cy="522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38640" y="1557360"/>
            <a:ext cx="4005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9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Еда космонав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Plaxa</cp:lastModifiedBy>
  <dcterms:modified xsi:type="dcterms:W3CDTF">2015-04-21T07:06:01Z</dcterms:modified>
  <cp:revision>40</cp:revision>
  <dc:subject/>
  <dc:title>Слайд 1</dc:title>
</cp:coreProperties>
</file>