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30AC9-67DD-4470-B458-794C482C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FDDE0-AE58-42A2-BE82-4D214899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2F32D-C108-4AD5-95EB-74FA407A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28D16-4A9A-4A81-9FAB-B514E824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99DD-FE54-4386-B6AE-522BEC33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3B48-AEA1-4AB8-95F9-F43DAB03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B3CA-D69C-41B2-A088-3400742E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9227-31AE-4926-AA1F-31229E28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4F87-B7E7-4FBD-8E98-11FE934C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09FF-04B6-4078-8862-1C4A6458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066C-8727-4F0C-93B4-071AC20D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A7AEE-4183-4DFD-830F-A06E9E14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31E5-0C09-4E4B-B5D8-330BF051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F47E-753E-484E-B447-2DB70839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1D1E-B570-4104-B05B-63B21328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039F-4750-4E22-8DB6-9107973A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2F13-F708-49A5-990D-1ADBFC4D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7F5D4-F808-49DE-9311-EB9592F4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31BE3-F8ED-4B9E-B2BE-B73CFC8B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54E65-1895-4C79-9AEA-E59A2FA4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E56A7-6F74-497A-89A8-478C3D6C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70C0A-1E57-40A5-BDFC-4DC7C2B1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8559F-F148-4F94-B697-6A884641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17CE3-479A-4EB0-8A04-77363327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79C0-C791-4BFB-9013-4FB19BE0E7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5B78-58A8-401E-B6A0-7ABA794077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s://ru.wikipedia.org/wiki/12_&#1072;&#1087;&#1088;&#1077;&#1083;&#1103;" TargetMode="External"/><Relationship Id="rId3" Type="http://schemas.openxmlformats.org/officeDocument/2006/relationships/hyperlink" Target="https://ru.wikipedia.org/wiki/1961_&#1075;&#1086;&#1076;_&#1074;_&#1085;&#1072;&#1091;&#1082;&#1077;" TargetMode="External"/><Relationship Id="rId4" Type="http://schemas.openxmlformats.org/officeDocument/2006/relationships/hyperlink" Target="https://ru.wikipedia.org/wiki/&#1043;&#1072;&#1075;&#1072;&#1088;&#1080;&#1085;,_&#1070;&#1088;&#1080;&#1081;_&#1040;&#1083;&#1077;&#1082;&#1089;&#1077;&#1077;&#1074;&#1080;&#1095;" TargetMode="External"/><Relationship Id="rId5" Type="http://schemas.openxmlformats.org/officeDocument/2006/relationships/hyperlink" Target="https://ru.wikipedia.org/wiki/&#1055;&#1080;&#1083;&#1086;&#1090;&#1080;&#1088;&#1091;&#1077;&#1084;&#1099;&#1081;_&#1082;&#1086;&#1089;&#1084;&#1080;&#1095;&#1077;&#1089;&#1082;&#1080;&#1081;_&#1087;&#1086;&#1083;&#1105;&#1090;" TargetMode="External"/><Relationship Id="rId6" Type="http://schemas.openxmlformats.org/officeDocument/2006/relationships/hyperlink" Target="https://ru.wikipedia.org/wiki/&#1041;&#1072;&#1081;&#1082;&#1086;&#1085;&#1091;&#1088;" TargetMode="External"/><Relationship Id="rId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s://ru.wikipedia.org/wiki/&#1050;&#1086;&#1089;&#1084;&#1086;&#1076;&#1088;&#1086;&#1084;" TargetMode="External"/><Relationship Id="rId4" Type="http://schemas.openxmlformats.org/officeDocument/2006/relationships/hyperlink" Target="https://ru.wikipedia.org/wiki/&#1050;&#1072;&#1079;&#1072;&#1093;&#1089;&#1090;&#1072;&#1085;" TargetMode="External"/><Relationship Id="rId5" Type="http://schemas.openxmlformats.org/officeDocument/2006/relationships/hyperlink" Target="https://ru.wikipedia.org/wiki/&#1041;&#1072;&#1081;&#1082;&#1086;&#1085;&#1091;&#1088;_(&#1075;&#1086;&#1088;&#1086;&#1076;)" TargetMode="External"/><Relationship Id="rId6" Type="http://schemas.openxmlformats.org/officeDocument/2006/relationships/hyperlink" Target="https://ru.wikipedia.org/wiki/&#1056;&#1086;&#1089;&#1089;&#1080;&#1103;" TargetMode="External"/><Relationship Id="rId7" Type="http://schemas.openxmlformats.org/officeDocument/2006/relationships/hyperlink" Target="https://ru.wikipedia.org/wiki/&#1050;&#1072;&#1079;&#1072;&#1093;&#1089;&#1090;&#1072;&#1085;" TargetMode="External"/><Relationship Id="rId8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55280" y="188640"/>
            <a:ext cx="799308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898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8269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3399"/>
                </a:solidFill>
                <a:latin typeface="Garamond"/>
              </a:rPr>
              <a:t>КОСМОС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751120" y="1268280"/>
            <a:ext cx="40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16000" y="2133720"/>
            <a:ext cx="6840720" cy="19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Космический мир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6400" cy="4365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76720" y="2781360"/>
            <a:ext cx="5867280" cy="4076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89200" y="260280"/>
            <a:ext cx="37544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В невесомости космонавты выращивают зелень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3718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979640" y="3357720"/>
            <a:ext cx="7164360" cy="3500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96000" y="260280"/>
            <a:ext cx="3024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Так спят космонавты на орбитальной станции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А вот таким космонавты увидели наше Солнце. Огромный светящийся огненный шар. Но подлететь близко к Солнцу космонавты не смогли – ведь Солнце очень и очень горячее. Если приблизиться к нему слишком близко – то можно вообще сгореть.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5153040" cy="5661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48360" y="1197000"/>
            <a:ext cx="39956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Все планеты солнечной системы вращаются вокруг Солнца по своей орбите.  На тех планетах, которые очень близко к Солнцу – очень жарко – горячей, чем на горячей сковородке! Мы не смогли бы пробыть там и секунды! А на самых дальних планетах – которые далеко от Солнца – наоборот очень холодно, потому что солнечные лучи туда плохо долетают.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http://wiki.iteach.ru/images/7/7f/%D0%9A%D0%BE%D1%81%D0%BC%D0%BE%D1%81_%D0%9F._%D0%98..png"/>
          <p:cNvPicPr/>
          <p:nvPr/>
        </p:nvPicPr>
        <p:blipFill>
          <a:blip r:embed="rId2"/>
          <a:stretch/>
        </p:blipFill>
        <p:spPr>
          <a:xfrm>
            <a:off x="250920" y="1484280"/>
            <a:ext cx="85690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0" y="0"/>
            <a:ext cx="91440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 апреля-день космонавтики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ff"/>
                </a:solidFill>
                <a:latin typeface="Times New Roman"/>
              </a:rPr>
              <a:t>Первыми в космос отправили собак - Белку и Стрелку.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5184720" cy="4248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80000" y="1413000"/>
            <a:ext cx="3240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Times New Roman"/>
              </a:rPr>
              <a:t>Самым первым космонавтом, который полетел в космос, был Юрий Гагарин</a:t>
            </a:r>
            <a:r>
              <a:rPr b="1" lang="en-US" sz="1600" spc="-1" strike="noStrike">
                <a:solidFill>
                  <a:srgbClr val="e5e5ff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laertsky.com/talks/arch_for/for/1207736230.jpg"/>
          <p:cNvPicPr/>
          <p:nvPr/>
        </p:nvPicPr>
        <p:blipFill>
          <a:blip r:embed="rId2"/>
          <a:stretch/>
        </p:blipFill>
        <p:spPr>
          <a:xfrm>
            <a:off x="0" y="1341360"/>
            <a:ext cx="5238720" cy="511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img15.nnm.ru/d/1/3/d/7/8ea0d6170de703f736c4aabff39_prev.jpg"/>
          <p:cNvPicPr/>
          <p:nvPr/>
        </p:nvPicPr>
        <p:blipFill>
          <a:blip r:embed="rId3"/>
          <a:stretch/>
        </p:blipFill>
        <p:spPr>
          <a:xfrm>
            <a:off x="5219640" y="1413000"/>
            <a:ext cx="360036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74167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5ff"/>
                </a:solidFill>
                <a:latin typeface="Times New Roman"/>
              </a:rPr>
              <a:t>На корабле «Восток» 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12 апреля</a:t>
            </a:r>
            <a:r>
              <a:rPr b="0" lang="en-US" sz="1600" spc="-1" strike="noStrike" u="sng">
                <a:solidFill>
                  <a:srgbClr val="e5e5ff"/>
                </a:solidFill>
                <a:uFillTx/>
                <a:latin typeface="Times New Roman"/>
              </a:rPr>
              <a:t> 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1961 года</a:t>
            </a:r>
            <a:r>
              <a:rPr b="0" lang="en-US" sz="1600" spc="-1" strike="noStrike" u="sng">
                <a:solidFill>
                  <a:srgbClr val="e5e5ff"/>
                </a:solidFill>
                <a:uFillTx/>
                <a:latin typeface="Times New Roman"/>
              </a:rPr>
              <a:t> лётчик-космонавт СССР 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Юрий Алексеевич Гагарин</a:t>
            </a:r>
            <a:r>
              <a:rPr b="0" lang="en-US" sz="1600" spc="-1" strike="noStrike" u="sng">
                <a:solidFill>
                  <a:srgbClr val="e5e5ff"/>
                </a:solidFill>
                <a:uFillTx/>
                <a:latin typeface="Times New Roman"/>
              </a:rPr>
              <a:t> совершил первый в мире 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полёт в космическое пространство</a:t>
            </a:r>
            <a:r>
              <a:rPr b="0" lang="en-US" sz="1600" spc="-1" strike="noStrike" u="sng">
                <a:solidFill>
                  <a:srgbClr val="e5e5ff"/>
                </a:solidFill>
                <a:uFillTx/>
                <a:latin typeface="Times New Roman"/>
              </a:rPr>
              <a:t>. Старт корабля состоялся с космодрома 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Байконур</a:t>
            </a:r>
            <a:r>
              <a:rPr b="0" lang="en-US" sz="1600" spc="-1" strike="noStrike" u="sng">
                <a:solidFill>
                  <a:srgbClr val="e5e5ff"/>
                </a:solidFill>
                <a:uFillTx/>
                <a:latin typeface="Times New Roman"/>
              </a:rPr>
              <a:t> в 9 часов 7 минут московского времени Корабль выполнил один оборот вокруг Земли и совершил посадку в 10 часов 55 минут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68360" y="1628280"/>
            <a:ext cx="7128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26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19440" y="0"/>
            <a:ext cx="462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3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ff"/>
                </a:solidFill>
                <a:latin typeface="Times New Roman"/>
              </a:rPr>
              <a:t>Для полета в космос людям стала необходима специальная одежда – </a:t>
            </a:r>
            <a:r>
              <a:rPr b="1" lang="en-US" sz="1800" spc="-1" strike="noStrike" u="sng">
                <a:solidFill>
                  <a:srgbClr val="e5e5ff"/>
                </a:solidFill>
                <a:uFillTx/>
                <a:latin typeface="Times New Roman"/>
              </a:rPr>
              <a:t>Скафандр</a:t>
            </a:r>
            <a:r>
              <a:rPr b="1" lang="en-US" sz="1800" spc="-1" strike="noStrike">
                <a:solidFill>
                  <a:srgbClr val="e5e5ff"/>
                </a:solidFill>
                <a:latin typeface="Times New Roman"/>
              </a:rPr>
              <a:t>. Космические скафандры предназначены для осуществления безопасного пребывания и работы космонавта в открытом космосе.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211640" cy="5327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140360" y="1341360"/>
            <a:ext cx="50036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58672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Байкону́р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космодром «Байконур» — первый и крупнейший в мире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космодром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расположен на территории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Казахстана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Город Байконур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и космодром Байконур вместе образуют комплекс «Байконур»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рендованный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Россией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у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Казахста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на период до 2050г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ff"/>
                </a:solidFill>
                <a:latin typeface="Times New Roman"/>
              </a:rPr>
              <a:t>Космическая станция-второй дом космонавтов. Космический дом особенный - он называется орбитальная станция. Здесь космонавты живут и работают. Космонавты наблюдают за звездами, планетами и солнцем, фотографируют их.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884840" cy="5229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138640" y="1557360"/>
            <a:ext cx="40053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35989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Еда космонавтов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Plaxa</cp:lastModifiedBy>
  <dcterms:modified xsi:type="dcterms:W3CDTF">2015-04-21T07:06:01Z</dcterms:modified>
  <cp:revision>40</cp:revision>
  <dc:subject/>
  <dc:title>Слайд 1</dc:title>
</cp:coreProperties>
</file>