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CE4-65C6-4724-ADE5-EA05C3AF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54D-39ED-4C68-825E-19F2D64D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604-0FCD-4CEE-8BD5-AB5C2215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E05-5851-4F08-A5A6-F90BF82B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496-6758-46D6-B97B-E8116EFD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52D-BD4A-45BA-9A99-84C7B147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421-F4FD-4730-9A55-F28DB3C9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DAF-C848-4699-8096-36FEA10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8AF-0889-43EC-B8E6-44165414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353-FDBB-4A61-BB8C-2619064D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6D1-D8F3-4543-84F0-DB61C137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E38-6BA5-47F2-8B41-42E0931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cc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24C-F6E3-453D-A1F9-629A100D5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404280"/>
            <a:ext cx="7488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gency FB"/>
              </a:rPr>
              <a:t>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gency FB"/>
              </a:rPr>
              <a:t>«Особенности развития мышления ребенка дошкольного возраст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4" descr="пси"/>
          <p:cNvPicPr/>
          <p:nvPr/>
        </p:nvPicPr>
        <p:blipFill>
          <a:blip r:embed="rId1"/>
          <a:stretch/>
        </p:blipFill>
        <p:spPr>
          <a:xfrm>
            <a:off x="3132000" y="4149720"/>
            <a:ext cx="273708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1"/>
          <p:cNvSpPr/>
          <p:nvPr/>
        </p:nvSpPr>
        <p:spPr>
          <a:xfrm>
            <a:off x="468360" y="260280"/>
            <a:ext cx="813600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ентральная психологическая 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о соотношение внешней и внутренн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щепризн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нутренним, умственным процессам предшествует внешняя, предметная деятельность. Последняя при определенных условиях преобразуется в деятельность психическ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9640" y="33336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следовательность превращения внешнего действия во внутреннее. (П.Я. Гальперин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5280" y="1413000"/>
            <a:ext cx="842472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слеживания чужого действия в поле вос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ериального действия, выполняемого с материальными объ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йствия в «громкой речи без предметов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йствия во «внутренней реч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втоматизации предметного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95280" y="33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и формирования представ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39640" y="1341360"/>
            <a:ext cx="82803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</a:rPr>
              <a:t>Первый пут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формирование представлений в процессе непосредственного восприятия предметов, но без их практического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</a:rPr>
              <a:t>Второй пут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формирование детских представлений в процессе практической, преобразующей деятельности самих детей. Усвоенные с помощью взрослого способы практического преобразования предметов выступают как мощный инструмент познания окружающего мира ве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468360" y="692280"/>
            <a:ext cx="8424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«В дошкольном возрасте нет возможности, да и нет необходимости добиваться, чтобы формируемые познавательные процессы всегда достигали высших этапов интериоризации ….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В. Запорож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476280"/>
            <a:ext cx="842472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 из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актуальных задач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ошкольной психологии и педагогики — это дальнейшее исследование резервов умственного развития дет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ко 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бщепризнан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что понятийное мышление — результат развития более элементарных форм мыш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68360" y="620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форма мышления  выполняет сво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фические функ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бщем процессе умственного развития де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995640" y="2060640"/>
            <a:ext cx="792360" cy="1439640"/>
          </a:xfrm>
          <a:prstGeom prst="downArrow">
            <a:avLst>
              <a:gd name="adj1" fmla="val 50000"/>
              <a:gd name="adj2" fmla="val 45423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9640" y="3573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из важны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 детской псих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рыть особенности этих фор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только как подготавливающих понятийное мышление, но и как относительно самостоятельных образований со своими специфическими функци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52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Психологические особенности мышления детей млад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j0336917"/>
          <p:cNvPicPr/>
          <p:nvPr/>
        </p:nvPicPr>
        <p:blipFill>
          <a:blip r:embed="rId1"/>
          <a:stretch/>
        </p:blipFill>
        <p:spPr>
          <a:xfrm>
            <a:off x="3780000" y="4508640"/>
            <a:ext cx="13683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2400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4000" y="260280"/>
            <a:ext cx="84978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собенности развития мышления ребенка младшего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тельная активность протекает в форме внешних исследовательски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говорить о предпосылках развития логического мыш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евые высказывания сопровождают практическое действие, не предваряя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несущественные признаки 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, где результат действия будет не прямым, а косвенным, решают на уровне наглядно-действенн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изм и эго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82710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Психологические особенности мышления детей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j0336914"/>
          <p:cNvPicPr/>
          <p:nvPr/>
        </p:nvPicPr>
        <p:blipFill>
          <a:blip r:embed="rId1"/>
          <a:stretch/>
        </p:blipFill>
        <p:spPr>
          <a:xfrm>
            <a:off x="3635280" y="4797360"/>
            <a:ext cx="151308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1280" y="40464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собенности развития мышления ребенка старшего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знавательная активность сопровождается рассуждениями в плане громкой речи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т причинно-следстве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ительные действия ребенка принимают форму действия со знаками-словами, числами и д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значительно более существенные св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ить от внешних проб к пробам, совершаемым в у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начинает предварять 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 разного рода схематические изоб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аивают операцию классиф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тся дедуктивное мышлени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99"/>
            </a:gs>
            <a:gs pos="5000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чи исследова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степень разработанности проблемы развития мышления в дошкольном возрасте в современной псих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специфику подходов к развитию детей в рамках зарубежной и отечественной псих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и описать существенные различия мышления младших и старших до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МЫШЛЕНИЕ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процесс познаватель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дивида, характеризующийся обобщенным и опосредствованным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ействи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98828508"/>
          <p:cNvPicPr/>
          <p:nvPr/>
        </p:nvPicPr>
        <p:blipFill>
          <a:blip r:embed="rId1"/>
          <a:stretch/>
        </p:blipFill>
        <p:spPr>
          <a:xfrm>
            <a:off x="6948360" y="4221000"/>
            <a:ext cx="2195640" cy="263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2534956_kub0"/>
          <p:cNvPicPr/>
          <p:nvPr/>
        </p:nvPicPr>
        <p:blipFill>
          <a:blip r:embed="rId1"/>
          <a:stretch/>
        </p:blipFill>
        <p:spPr>
          <a:xfrm>
            <a:off x="2771640" y="2492280"/>
            <a:ext cx="345600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99"/>
            </a:gs>
            <a:gs pos="5000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70408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оретико- методологическая основ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ы Поддъякова Н.Н,  Л.С. Выготского,      П.Я. Гальперина, А.Н. Леонтьева, Ж.Пиаже по проблеме развития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сновной метод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научной литера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50000">
              <a:srgbClr val="bbe0e3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486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шление- это особого рода теоретическая и практическая деятельность, предполагающая систему включенных в нее действий и операций ориентировочного- исследовательского, преобразовательного и познавательного характ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39200" y="1201680"/>
            <a:ext cx="870444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0033"/>
                </a:solidFill>
                <a:uFillTx/>
                <a:latin typeface="Arial"/>
              </a:rPr>
              <a:t>Наглядно- действенное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(предметное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это вид мышления, опирающийся на непосредственное восприятие предметов, реальное преобразование в процессе действий с предме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310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</a:rPr>
              <a:t>Наглядно- образное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(образное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мышление- это вид мышления, характеризующийся опорой на представления и образы; функция образного мышления связана с представлением ситуаций и изменений в них, которые человек хочет получить в результате своей деятельности, преобразующей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83437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Словесно- логическо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отвлеченное) мышление- это вид мышления, осуществляемый при помощи логических операций с понят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042920" y="0"/>
            <a:ext cx="7704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блемой мышления детей дошкольного возраста занимались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232000" cy="25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95084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Педагогическая психология. Тема 12 ... "/>
          <p:cNvPicPr/>
          <p:nvPr/>
        </p:nvPicPr>
        <p:blipFill>
          <a:blip r:embed="rId3"/>
          <a:stretch/>
        </p:blipFill>
        <p:spPr>
          <a:xfrm>
            <a:off x="6948360" y="692280"/>
            <a:ext cx="1943280" cy="2449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09800" y="306864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С Выго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96-19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4_5"/>
          <p:cNvPicPr/>
          <p:nvPr/>
        </p:nvPicPr>
        <p:blipFill>
          <a:blip r:embed="rId4"/>
          <a:stretch/>
        </p:blipFill>
        <p:spPr>
          <a:xfrm>
            <a:off x="1835280" y="3789360"/>
            <a:ext cx="1977840" cy="2441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2"/>
          <p:cNvSpPr/>
          <p:nvPr/>
        </p:nvSpPr>
        <p:spPr>
          <a:xfrm>
            <a:off x="2054520" y="621648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 Леон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3-19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24000" y="32749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7022160" y="306864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 Руби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89-19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471960" y="306864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 Пи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96-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i?id=6302854&amp;tov=8"/>
          <p:cNvPicPr/>
          <p:nvPr/>
        </p:nvPicPr>
        <p:blipFill>
          <a:blip r:embed="rId5"/>
          <a:stretch/>
        </p:blipFill>
        <p:spPr>
          <a:xfrm>
            <a:off x="5219640" y="3789360"/>
            <a:ext cx="201636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"/>
          <p:cNvSpPr/>
          <p:nvPr/>
        </p:nvSpPr>
        <p:spPr>
          <a:xfrm>
            <a:off x="5364000" y="621648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 Гальпе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2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042920" y="0"/>
            <a:ext cx="7704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блемой мышления детей дошкольного возраста занимались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11200512234430"/>
          <p:cNvPicPr/>
          <p:nvPr/>
        </p:nvPicPr>
        <p:blipFill>
          <a:blip r:embed="rId1"/>
          <a:stretch/>
        </p:blipFill>
        <p:spPr>
          <a:xfrm>
            <a:off x="539640" y="692280"/>
            <a:ext cx="2160720" cy="2520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685800" y="328464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 Запорож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5-19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i?id=11382593&amp;tov=5"/>
          <p:cNvPicPr/>
          <p:nvPr/>
        </p:nvPicPr>
        <p:blipFill>
          <a:blip r:embed="rId2"/>
          <a:stretch/>
        </p:blipFill>
        <p:spPr>
          <a:xfrm>
            <a:off x="2484360" y="3357720"/>
            <a:ext cx="2305080" cy="2519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844720" y="580536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Б Элько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4-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i?id=33378754&amp;tov=0"/>
          <p:cNvPicPr/>
          <p:nvPr/>
        </p:nvPicPr>
        <p:blipFill>
          <a:blip r:embed="rId3"/>
          <a:stretch/>
        </p:blipFill>
        <p:spPr>
          <a:xfrm>
            <a:off x="4500720" y="620640"/>
            <a:ext cx="2017440" cy="259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4862520" y="328464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 Бож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8-19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i?id=4820434&amp;tov=4"/>
          <p:cNvPicPr/>
          <p:nvPr/>
        </p:nvPicPr>
        <p:blipFill>
          <a:blip r:embed="rId4"/>
          <a:srcRect l="-3938" t="-2901" r="-3938" b="-2901"/>
          <a:stretch/>
        </p:blipFill>
        <p:spPr>
          <a:xfrm>
            <a:off x="6718320" y="3209760"/>
            <a:ext cx="2332080" cy="2670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7094880" y="580536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 Зин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3-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0:31:30Z</dcterms:created>
  <dc:creator>13</dc:creator>
  <dc:description/>
  <dc:language>en-US</dc:language>
  <cp:lastModifiedBy>1</cp:lastModifiedBy>
  <dcterms:modified xsi:type="dcterms:W3CDTF">2015-04-21T09:05:39Z</dcterms:modified>
  <cp:revision>116</cp:revision>
  <dc:subject/>
  <dc:title>Презентация курсовой работы по общей психологии</dc:title>
</cp:coreProperties>
</file>