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09C-FCA7-4867-9AE6-8394C4E6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DFE-4D3A-4FC9-B513-CDB2664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738-F36B-4A8F-BE48-09ED349E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334-C6AD-409E-A21D-A9FAC60F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32A-0D59-4BB1-A603-0B28B784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F20-FAD4-4594-A754-0A5AF494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1595-3B66-4CAB-86A3-BEA45A5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500-C71A-4132-B587-1864C8D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1263-19D8-416C-8B3C-B4AC02AA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24A-D00E-4EB6-A1B8-1C2450C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665-C4A0-4027-990F-8C5652A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E16-DA49-4109-BD2A-E1E7265A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1292-4AC8-487F-9421-1B27D39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B5D-CD9F-4CB7-B167-4D2D576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51EF-65A9-4675-9482-4A163CC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2C0-033B-459B-8C39-AB9F57B5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7D3-BE7C-4C80-AAD4-6330EDB6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5AC-CF2C-4CBA-B87F-5204E51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973-5D33-4755-BF99-3C268AC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B69-95F2-4AEC-952E-D1C1AC77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7E4-BBB8-4A63-AAEE-37CF5B4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9D9-A8CF-40D4-8F94-3EF974E1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4FF-72C8-4D0E-9C55-9CF3F1B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E88-EB31-45BF-87A9-3EEFB30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3629-342A-4BC1-88DA-1EB58A5E302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713-0573-477B-ACF3-A3E434C35B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549360"/>
            <a:ext cx="867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СаО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e(OH)</a:t>
            </a:r>
            <a:r>
              <a:rPr b="1" lang="ru-RU" sz="3200" spc="-1" strike="noStrike" baseline="-25000">
                <a:solidFill>
                  <a:srgbClr val="eaeaea"/>
                </a:solidFill>
                <a:latin typeface="Times New Roman"/>
              </a:rPr>
              <a:t>3  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bO 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OH    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HCl       K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N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Na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    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      LiOH    ZnO    BaCl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i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u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Cu(OH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(P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NaCl     Mg(OH)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BaO   KO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P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4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2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gBr      MgO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О каком веществе идёт речь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Хлебом и этим веществом  встречали добрых гостей, без него  не обходился ни один народный обряд, ни один праздник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Чтобы узнать человека, надо с ним пуд этого вещества съе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                                          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горитм составления формул и названий сол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. Записываем ионы, из которых состоит соедин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Определяем заряды ионов (по таблице Менделеева определяем заряд иона металла, по таблице растворимости определяем ион кислотного остатка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 Находим наименьшее общее кратное для зарядов ион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Делим наименьшее общее кратное на заряды ионов. Получаем индекс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. Составляем химическую формулу, вписывая индекс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азвание соли  = название кисл. ост-ка + название металла + ст. окисл. м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a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2+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(PO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3-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eaeaea"/>
                </a:solidFill>
                <a:latin typeface="Times New Roman"/>
              </a:rPr>
              <a:t>    ____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Ca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PO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8360" y="1773360"/>
            <a:ext cx="50328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03280" y="1773000"/>
            <a:ext cx="57636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Растворимость солей в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творимые - (Р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ерастворимые - (Н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алорастворимые - (М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я определения растворимости солей используют таблицу растворимости кислот, оснований и солей в воде (таблица есть в учебнике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NaCl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. Минерал, представляющий собой хлорид натрия, называется каменная соль или галит. В быту эта соль известна под названием – поваренная.Без этой соли невозможна жизнь растений, животных и человека. Она обеспечивает важнейшие жизненные процессы в организм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Хлорид натрия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– не только консервант продуктов и обязательный атрибут объединенного стола, но также и ценное химическое сырье. С помощью электролиза его расплава или раствора получают нужные для неорганического синтеза вещества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aCO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ru-RU" sz="3200" spc="-1" strike="noStrike" baseline="-25000">
                <a:solidFill>
                  <a:srgbClr val="eaeaea"/>
                </a:solidFill>
                <a:latin typeface="Times New Roman"/>
              </a:rPr>
              <a:t>. </a:t>
            </a:r>
            <a:r>
              <a:rPr b="1" lang="en-US" sz="32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рбонат кальци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ейшая соль, из которой многочисленные морские животные : моллюски, раки, простейшие строят покровы своего тела – разнообразные по форме, многоцветные по окраске раковины. Карбонат кальция – это не только строительный и художественный материал, но и материал ювелиров. Жемчуг – это не что иное как карбонат кальция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осфат кальция Са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(РО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)</a:t>
            </a:r>
            <a:r>
              <a:rPr b="1" lang="en-US" sz="40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Фосфат кальция входит в состав кальция апатитов и фосфоритов, которые являются сырьем для производства фосфора и фосфорных удобрений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2:58:32Z</dcterms:created>
  <dc:creator>12</dc:creator>
  <dc:description/>
  <dc:language>en-US</dc:language>
  <cp:lastModifiedBy>12</cp:lastModifiedBy>
  <dcterms:modified xsi:type="dcterms:W3CDTF">2014-11-27T15:20:31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