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240-483E-4288-B1A1-6AB7F469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9C1-F324-4DCC-8C52-B8384FA9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BBA-A4AA-4020-B6A7-2C5A4FEE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F11-6874-4921-9D7D-4FCF642D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67DD-037E-47DD-97CF-9DB386E7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1969-CF62-42BA-A269-3996EDFB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5C72-8866-454E-B55B-0573B6F7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768D-51E0-43A2-969A-405BF8FB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FAA1-B6C2-4452-9F00-D32A5F11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6446-D4DF-4C86-BB63-FE55BB9E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0DB9-A7F2-4D09-8450-A9E650F6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577-7AAC-4A6D-89D6-3C8971E0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2EF7-9852-46FF-9A8A-001F683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C2C8-307E-4CEE-8159-C3A66CCC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0648-F037-4F4A-8607-272BDCE5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0488-59B8-4C1C-94B0-608C912F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F41B-4293-449D-BDE9-D563565F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BB2-B49D-4563-8C33-B02BC4E8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90A-8FA9-4820-A2E9-0EA0F70C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1DD-E514-4E93-AC3D-E9DD052E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923-4C18-4040-93F7-E39F28AF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4C7-B483-42E9-86FC-86C4E799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B2A-27F2-4AC3-9516-21EC6DE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427-DA44-4A08-92B2-1579320F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0A98-ECF1-4DF8-A810-18CE25FAAB1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B011-3600-404A-8DB1-D927AD3C2C6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-360" y="549360"/>
            <a:ext cx="8675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СаО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e(OH)</a:t>
            </a:r>
            <a:r>
              <a:rPr b="1" lang="ru-RU" sz="3200" spc="-1" strike="noStrike" baseline="-25000">
                <a:solidFill>
                  <a:srgbClr val="eaeaea"/>
                </a:solidFill>
                <a:latin typeface="Times New Roman"/>
              </a:rPr>
              <a:t>3   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4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bO  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NaOH    C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HCl       K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4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aC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N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Na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    H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      LiOH    ZnO    BaCl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i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uS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Cu(OH)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a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(P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NaCl     Mg(OH)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BaO   KO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4 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gBr      MgO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О каком веществе идёт речь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Хлебом и этим веществом  встречали добрых гостей, без него  не обходился ни один народный обряд, ни один праздник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Чтобы узнать человека, надо с ним пуд этого вещества съесть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                                           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лгоритм составления формул и названий соле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. Записываем ионы, из которых состоит соедин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. Определяем заряды ионов (по таблице Менделеева определяем заряд иона металла, по таблице растворимости определяем ион кислотного остатка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. Находим наименьшее общее кратное для зарядов ион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. Делим наименьшее общее кратное на заряды ионов. Получаем индекс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5. Составляем химическую формулу, вписывая индекс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Название соли  = название кисл. ост-ка + название металла + ст. окисл. м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a</a:t>
            </a:r>
            <a:r>
              <a:rPr b="0" lang="en-US" sz="4400" spc="-1" strike="noStrike" baseline="30000">
                <a:solidFill>
                  <a:srgbClr val="eaeaea"/>
                </a:solidFill>
                <a:latin typeface="Times New Roman"/>
              </a:rPr>
              <a:t>2+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(PO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eaeaea"/>
                </a:solidFill>
                <a:latin typeface="Times New Roman"/>
              </a:rPr>
              <a:t>3-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4400" spc="-1" strike="noStrike" baseline="30000">
                <a:solidFill>
                  <a:srgbClr val="eaeaea"/>
                </a:solidFill>
                <a:latin typeface="Times New Roman"/>
              </a:rPr>
              <a:t>    ____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Ca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(PO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8360" y="1773360"/>
            <a:ext cx="50328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203280" y="1773000"/>
            <a:ext cx="57636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Растворимость солей в вод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творимые - (Р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ерастворимые - (Н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алорастворимые - (М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ля определения растворимости солей используют таблицу растворимости кислот, оснований и солей в воде (таблица есть в учебнике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NaCl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. Минерал, представляющий собой хлорид натрия, называется каменная соль или галит. В быту эта соль известна под названием – поваренная.Без этой соли невозможна жизнь растений, животных и человека. Она обеспечивает важнейшие жизненные процессы в организм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Хлорид натрия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– не только консервант продуктов и обязательный атрибут объединенного стола, но также и ценное химическое сырье. С помощью электролиза его расплава или раствора получают нужные для неорганического синтеза вещества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aC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ru-RU" sz="3200" spc="-1" strike="noStrike" baseline="-25000">
                <a:solidFill>
                  <a:srgbClr val="eaeaea"/>
                </a:solidFill>
                <a:latin typeface="Times New Roman"/>
              </a:rPr>
              <a:t>. 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арбонат кальци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важнейшая соль, из которой многочисленные морские животные : моллюски, раки, простейшие строят покровы своего тела – разнообразные по форме, многоцветные по окраске раковины. Карбонат кальция – это не только строительный и художественный материал, но и материал ювелиров. Жемчуг – это не что иное как карбонат кальция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Фосфат кальция Са</a:t>
            </a:r>
            <a:r>
              <a:rPr b="1" lang="en-US" sz="40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(РО</a:t>
            </a:r>
            <a:r>
              <a:rPr b="1" lang="en-US" sz="40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)</a:t>
            </a:r>
            <a:r>
              <a:rPr b="1" lang="en-US" sz="4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Фосфат кальция входит в состав кальция апатитов и фосфоритов, которые являются сырьем для производства фосфора и фосфорных удобрений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2:58:32Z</dcterms:created>
  <dc:creator>12</dc:creator>
  <dc:description/>
  <dc:language>en-US</dc:language>
  <cp:lastModifiedBy>12</cp:lastModifiedBy>
  <dcterms:modified xsi:type="dcterms:W3CDTF">2014-11-27T15:20:31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