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19.jpeg" ContentType="image/jpeg"/>
  <Override PartName="/ppt/media/image2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6EB-1E11-4B6D-A532-15A9F5A8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192-B1C5-48C4-91CE-7B0774C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878-2E12-4DBA-A09A-26C7647D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E45-99A8-47CB-8CFD-633F2A5E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719-0A46-4860-AADF-FF2CEC1F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EE7-7040-4B69-BA36-ADFD859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53A-194D-4387-AE9D-3825AC32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F9A-D096-46B6-8C22-99A5DBCB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71E-CE5B-47E6-A76D-2D535D19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0A3-8AF2-4E89-BA05-5A1685C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8D9-4317-4D9F-928D-1C00A3D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CA6-F804-4019-A242-43AAA23A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36C9-7E5C-41D7-9EF9-D8F4B903696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565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714600 w 5181480"/>
              <a:gd name="textAreaRight" fmla="*/ 4466880 w 5181480"/>
              <a:gd name="textAreaTop" fmla="*/ 199440 h 1447920"/>
              <a:gd name="textAreaBottom" fmla="*/ 1248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74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</a:rPr>
              <a:t>Viki.rdf.ru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714600 w 5181840"/>
              <a:gd name="textAreaRight" fmla="*/ 4467240 w 5181840"/>
              <a:gd name="textAreaTop" fmla="*/ 241560 h 1752480"/>
              <a:gd name="textAreaBottom" fmla="*/ 15109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i</cp:lastModifiedBy>
  <dcterms:modified xsi:type="dcterms:W3CDTF">2007-01-08T09:58:2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