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C3D-D049-4C90-87DA-6FA5281C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62D-1823-4A3B-8C94-9C11E87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66D-C699-432C-A7EC-AECD9699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F6E-7250-4A27-BC31-2F793CB5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918-0458-4677-AE5C-78122CD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339-F3FB-427B-9D40-8B4E217A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370-08E0-48B7-8BED-D2168F35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5E5-A1EC-4EBA-866D-06D15799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037-DBAA-438B-AEC3-EB621B05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79F-7309-48AC-96FE-504AFC27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03E-576D-494B-818F-F972660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0B4-0632-498C-86BB-A54AD8A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96B0-B8BA-42CB-8514-C9C63C148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hyperlink" Target="http://filinkova-nasty.narod.ru/images/7_0065.jpg" TargetMode="External"/><Relationship Id="rId5" Type="http://schemas.openxmlformats.org/officeDocument/2006/relationships/hyperlink" Target="http://www.filipok.ru/show_good.php?idtov=5773" TargetMode="External"/><Relationship Id="rId6" Type="http://schemas.openxmlformats.org/officeDocument/2006/relationships/hyperlink" Target="http://allday.ru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Картинка 20 из 3710"/>
          <p:cNvPicPr/>
          <p:nvPr/>
        </p:nvPicPr>
        <p:blipFill>
          <a:blip r:embed="rId4"/>
          <a:srcRect l="0" t="65669" r="0" b="17487"/>
          <a:stretch/>
        </p:blipFill>
        <p:spPr>
          <a:xfrm>
            <a:off x="2411280" y="404640"/>
            <a:ext cx="4033800" cy="862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3"/>
          <p:cNvSpPr txBox="1"/>
          <p:nvPr/>
        </p:nvSpPr>
        <p:spPr>
          <a:xfrm>
            <a:off x="1979640" y="2276640"/>
            <a:ext cx="46576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иҙәйткестә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1042920" y="1916280"/>
            <a:ext cx="56167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0000"/>
                </a:solidFill>
                <a:latin typeface="Arial"/>
              </a:rPr>
              <a:t>Өммөгөлсөм өләсәй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0000"/>
                </a:solidFill>
                <a:latin typeface="Arial"/>
              </a:rPr>
              <a:t>Өлөштәрен өләш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0000"/>
                </a:solidFill>
                <a:latin typeface="Arial"/>
              </a:rPr>
              <a:t>Өлөшһөҙҙәр көтә өлө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0000"/>
                </a:solidFill>
                <a:latin typeface="Arial"/>
              </a:rPr>
              <a:t>Өлөшлөләр көлөшә</a:t>
            </a:r>
            <a:r>
              <a:rPr b="0" lang="ba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042920" y="1916280"/>
            <a:ext cx="561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Йәмле йәйҙә йәйләүҙә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Йәмле йәшел болон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Йәйрәп йөрөй елә-ел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Йәп-йәш кенә ҡолонса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204920" y="1916280"/>
            <a:ext cx="5618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3300"/>
                </a:solidFill>
                <a:latin typeface="Arial"/>
              </a:rPr>
              <a:t>Алланған алма а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3300"/>
                </a:solidFill>
                <a:latin typeface="Arial"/>
              </a:rPr>
              <a:t>Балдары тама-т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3300"/>
                </a:solidFill>
                <a:latin typeface="Arial"/>
              </a:rPr>
              <a:t>Аша, алһыу алм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3300"/>
                </a:solidFill>
                <a:latin typeface="Arial"/>
              </a:rPr>
              <a:t>Балына мана-мана</a:t>
            </a: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861840" y="1887480"/>
            <a:ext cx="7166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Һылыу һигеҙ һарыҡ һуйғ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һигеҙе лә бик һиме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Һигеҙенән,һеңкелдәп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Һигеҙ һауыт май сыҡҡ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1042920" y="1916280"/>
            <a:ext cx="6193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333399"/>
                </a:solidFill>
                <a:latin typeface="Arial"/>
              </a:rPr>
              <a:t>Вазифа менән Вар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333399"/>
                </a:solidFill>
                <a:latin typeface="Arial"/>
              </a:rPr>
              <a:t>Ваҡ-ваҡ валсыҡ ваҡлайҙа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333399"/>
                </a:solidFill>
                <a:latin typeface="Arial"/>
              </a:rPr>
              <a:t>Вайымһыҙ түгел ула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333399"/>
                </a:solidFill>
                <a:latin typeface="Arial"/>
              </a:rPr>
              <a:t>Ваҡ ҡоштарҙы һаҡлайҙ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39640" y="2276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ilinkova-nasty.narod.ru/images/7_00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ртинка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ilipok.ru/show_good.php?idtov=577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убики «Алфав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llday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олочка с кни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800" spc="-1" strike="noStrike">
                <a:solidFill>
                  <a:srgbClr val="000000"/>
                </a:solidFill>
                <a:latin typeface="Arial"/>
              </a:rPr>
              <a:t>Шаблон: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Ермилова Марина Владимировна, учитель рус яз и литер МОУ  СОШ № 1 г. Гуково «http://pedsovet.su/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49536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9"/>
          <p:cNvSpPr txBox="1"/>
          <p:nvPr/>
        </p:nvSpPr>
        <p:spPr>
          <a:xfrm>
            <a:off x="1332000" y="1700280"/>
            <a:ext cx="53276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ыҫала менән ҡырмыҫҡ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ҫмала дуҫлашҡандар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ҫтәлеккә аҫыл төҫтәг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ҫмалар алышҡанда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49536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1332000" y="1700280"/>
            <a:ext cx="53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үпер башында күк күркә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үк күркәнән кем ҡурҡа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49536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9"/>
          <p:cNvSpPr txBox="1"/>
          <p:nvPr/>
        </p:nvSpPr>
        <p:spPr>
          <a:xfrm>
            <a:off x="1332000" y="1700280"/>
            <a:ext cx="5327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бәр, Сәймә һәм Сәлимә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әй эсәләр өсәүләп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улпан ситтә сәсәй-сәсә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әй көтә был өсәүҙән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506520" y="46512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9"/>
          <p:cNvSpPr txBox="1"/>
          <p:nvPr/>
        </p:nvSpPr>
        <p:spPr>
          <a:xfrm>
            <a:off x="1217520" y="1736640"/>
            <a:ext cx="532764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илгән Ғата, кейгән ҡата,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ң аяҡта һул ҡат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атала түгел хата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ата кейелгән хат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619280" y="2349360"/>
            <a:ext cx="576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6"/>
          <p:cNvSpPr txBox="1"/>
          <p:nvPr/>
        </p:nvSpPr>
        <p:spPr>
          <a:xfrm>
            <a:off x="863640" y="1413000"/>
            <a:ext cx="56530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оймаҡ ҡойҙом, ҡарбуз ҡуйҙым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оштар килде һәр яҡтан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ара ҡарға ҡабаланып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айтып китте ҡунаҡтан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1619280" y="2349360"/>
            <a:ext cx="576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6"/>
          <p:cNvSpPr txBox="1"/>
          <p:nvPr/>
        </p:nvSpPr>
        <p:spPr>
          <a:xfrm>
            <a:off x="863640" y="1413000"/>
            <a:ext cx="56530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йес башында биш бесәй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иш бесәйҙең биш башы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иш бесәйҙең биш башы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мерелмәһен мейес ташы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9536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Һары Сабираға һары санд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Һары сандалиға һары Саб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Һары Сабираны һары сан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Һап-һап итеп сейәгә алып б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9"/>
          <p:cNvSpPr txBox="1"/>
          <p:nvPr/>
        </p:nvSpPr>
        <p:spPr>
          <a:xfrm>
            <a:off x="1332000" y="1700280"/>
            <a:ext cx="53276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49536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1" lang="ba-RU" sz="4000" spc="-1" strike="noStrike">
                <a:solidFill>
                  <a:srgbClr val="262673"/>
                </a:solidFill>
                <a:latin typeface="Times New Roman"/>
              </a:rPr>
              <a:t>Бүрәнәгә баҫты бүҙәнә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262673"/>
                </a:solidFill>
                <a:latin typeface="Times New Roman"/>
              </a:rPr>
              <a:t>Бүҙәнәне баҫты бүрән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262673"/>
                </a:solidFill>
                <a:latin typeface="Times New Roman"/>
              </a:rPr>
              <a:t>Ғәйеп бүҙәнәлә лә ба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262673"/>
                </a:solidFill>
                <a:latin typeface="Times New Roman"/>
              </a:rPr>
              <a:t>Бүрәнәлә лә ба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9"/>
          <p:cNvSpPr txBox="1"/>
          <p:nvPr/>
        </p:nvSpPr>
        <p:spPr>
          <a:xfrm>
            <a:off x="1332000" y="1700280"/>
            <a:ext cx="53276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Mirat</cp:lastModifiedBy>
  <dcterms:modified xsi:type="dcterms:W3CDTF">2015-04-19T12:07:55Z</dcterms:modified>
  <cp:revision>13</cp:revision>
  <dc:subject/>
  <dc:title>Слайд 1</dc:title>
</cp:coreProperties>
</file>