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08D-BCB8-4ED4-A7AA-B76EAE11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BAA-6F3A-477C-A6D4-E667BA8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692-FCA0-4A94-8008-00966FBB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7F1-78A7-4FF7-97D9-FAE542B2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9E-D0ED-45BE-9A3E-55B0E17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D6E-8327-4C81-BE01-8B16E77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7FB-D65E-4CCB-A7DE-8333E058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5EA-208F-4A93-A6B1-A2AA349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2C2-BD79-4B89-A840-37CAD84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C58-F20C-4F07-A42D-EE40F3A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CA5-9244-401B-B609-2AFB388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D08-438D-482E-B470-6930901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5B6-500D-4C37-8C7A-7B0549690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hyperlink" Target="http://filinkova-nasty.narod.ru/images/7_0065.jpg" TargetMode="External"/><Relationship Id="rId5" Type="http://schemas.openxmlformats.org/officeDocument/2006/relationships/hyperlink" Target="http://www.filipok.ru/show_good.php?idtov=5773" TargetMode="External"/><Relationship Id="rId6" Type="http://schemas.openxmlformats.org/officeDocument/2006/relationships/hyperlink" Target="http://allday.ru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Картинка 20 из 3710"/>
          <p:cNvPicPr/>
          <p:nvPr/>
        </p:nvPicPr>
        <p:blipFill>
          <a:blip r:embed="rId4"/>
          <a:srcRect l="0" t="65669" r="0" b="17487"/>
          <a:stretch/>
        </p:blipFill>
        <p:spPr>
          <a:xfrm>
            <a:off x="2411280" y="404640"/>
            <a:ext cx="4033800" cy="862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3"/>
          <p:cNvSpPr txBox="1"/>
          <p:nvPr/>
        </p:nvSpPr>
        <p:spPr>
          <a:xfrm>
            <a:off x="1979640" y="2276640"/>
            <a:ext cx="46576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иҙәйткестә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042920" y="1916280"/>
            <a:ext cx="56167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ммөгөлсөм өләсәй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тәрен өләш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һөҙҙәр көтә өлө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0000"/>
                </a:solidFill>
                <a:latin typeface="Arial"/>
              </a:rPr>
              <a:t>Өлөшлөләр көлөшә</a:t>
            </a:r>
            <a:r>
              <a:rPr b="0" lang="ba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042920" y="1916280"/>
            <a:ext cx="56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мле йәйҙә йәйләүҙ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мле йәшел болон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йрәп йөрөй елә-ел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Йәп-йәш кенә ҡолонса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204920" y="1916280"/>
            <a:ext cx="561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Алланған алма а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Балдары тама-т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Аша, алһыу алм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3300"/>
                </a:solidFill>
                <a:latin typeface="Arial"/>
              </a:rPr>
              <a:t>Балына мана-мана</a:t>
            </a: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861840" y="1887480"/>
            <a:ext cx="7166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ылыу һигеҙ һарыҡ һуйғ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е лә бик һиме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енән,һеңкелдәп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b050"/>
                </a:solidFill>
                <a:latin typeface="Arial"/>
              </a:rPr>
              <a:t>Һигеҙ һауыт май сыҡҡ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042920" y="1916280"/>
            <a:ext cx="6193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зифа менән Вар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ҡ-ваҡ валсыҡ ваҡлайҙ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йымһыҙ түгел ул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333399"/>
                </a:solidFill>
                <a:latin typeface="Arial"/>
              </a:rPr>
              <a:t>Ваҡ ҡоштарҙы һаҡлайҙ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39640" y="2276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ilinkova-nasty.narod.ru/images/7_00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инка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ilipok.ru/show_good.php?idtov=577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убики «Алфав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llday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лочка с кни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Arial"/>
              </a:rPr>
              <a:t>Шаблон: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Ермилова Марина Владимировна, учитель рус яз и литер МОУ  СОШ № 1 г. Гуково «http://pedsovet.su/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ыҫала менән ҡырмыҫҡ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ҫмала дуҫлашҡандар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ҫтәлеккә аҫыл төҫтәг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ҫмалар алышҡанда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1332000" y="1700280"/>
            <a:ext cx="53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пер башында күк күркә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к күркәнән кем ҡурҡа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49536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9"/>
          <p:cNvSpPr txBox="1"/>
          <p:nvPr/>
        </p:nvSpPr>
        <p:spPr>
          <a:xfrm>
            <a:off x="1332000" y="1700280"/>
            <a:ext cx="53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бәр, Сәймә һәм Сәлимә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әй эсәләр өсәүләп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улпан ситтә сәсәй-сәсә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7030a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әй көтә был өсәүҙән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7030a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506520" y="46512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9"/>
          <p:cNvSpPr txBox="1"/>
          <p:nvPr/>
        </p:nvSpPr>
        <p:spPr>
          <a:xfrm>
            <a:off x="1217520" y="1736640"/>
            <a:ext cx="532764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лгән Ғата, кейгән ҡата,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ң аяҡта һул ҡат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тала түгел хата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та кейелгән хат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619280" y="234936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6"/>
          <p:cNvSpPr txBox="1"/>
          <p:nvPr/>
        </p:nvSpPr>
        <p:spPr>
          <a:xfrm>
            <a:off x="863640" y="1413000"/>
            <a:ext cx="5653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оймаҡ ҡойҙом, ҡарбуз ҡуйҙым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оштар килде һәр яҡтан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ра ҡарға ҡабаланып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Ҡайтып китте ҡунаҡтан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619280" y="2349360"/>
            <a:ext cx="576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6"/>
          <p:cNvSpPr txBox="1"/>
          <p:nvPr/>
        </p:nvSpPr>
        <p:spPr>
          <a:xfrm>
            <a:off x="863640" y="1413000"/>
            <a:ext cx="5653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йес башында биш бесәй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ш бесәйҙең биш баш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ш бесәйҙең биш башы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мерелмәһен мейес ташы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9536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бираға һары санд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ндалиға һары Саб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ры Сабираны һары сан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Һап-һап итеп сейәгә алып б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49536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28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рәнәгә баҫты бүҙәнә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ҙәнәне баҫты бүрән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Ғәйеп бүҙәнәлә лә ба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000" spc="-1" strike="noStrike">
                <a:solidFill>
                  <a:srgbClr val="262673"/>
                </a:solidFill>
                <a:latin typeface="Times New Roman"/>
              </a:rPr>
              <a:t>Бүрәнәлә лә ба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1332000" y="1700280"/>
            <a:ext cx="5327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f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f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Mirat</cp:lastModifiedBy>
  <dcterms:modified xsi:type="dcterms:W3CDTF">2015-04-19T12:07:55Z</dcterms:modified>
  <cp:revision>13</cp:revision>
  <dc:subject/>
  <dc:title>Слайд 1</dc:title>
</cp:coreProperties>
</file>