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28.gif" ContentType="image/gif"/>
  <Override PartName="/ppt/media/image25.gif" ContentType="image/gif"/>
  <Override PartName="/ppt/media/image6.jpeg" ContentType="image/jpeg"/>
  <Override PartName="/ppt/media/image23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21.jpeg" ContentType="image/jpeg"/>
  <Override PartName="/ppt/media/image36.gif" ContentType="image/gif"/>
  <Override PartName="/ppt/media/image17.gif" ContentType="image/gif"/>
  <Override PartName="/ppt/media/image16.gif" ContentType="image/gif"/>
  <Override PartName="/ppt/media/image27.gif" ContentType="image/gif"/>
  <Override PartName="/ppt/media/image22.jpeg" ContentType="image/jpeg"/>
  <Override PartName="/ppt/media/image1.jpeg" ContentType="image/jpeg"/>
  <Override PartName="/ppt/media/image34.gif" ContentType="image/gif"/>
  <Override PartName="/ppt/media/image9.gif" ContentType="image/gif"/>
  <Override PartName="/ppt/media/image39.gif" ContentType="image/gif"/>
  <Override PartName="/ppt/media/image12.gif" ContentType="image/gif"/>
  <Override PartName="/ppt/media/image31.gif" ContentType="image/gif"/>
  <Override PartName="/ppt/media/image44.jpeg" ContentType="image/jpeg"/>
  <Override PartName="/ppt/media/image32.gif" ContentType="image/gif"/>
  <Override PartName="/ppt/media/image10.gif" ContentType="image/gif"/>
  <Override PartName="/ppt/media/image37.gif" ContentType="image/gif"/>
  <Override PartName="/ppt/media/image2.jpeg" ContentType="image/jpeg"/>
  <Override PartName="/ppt/media/image40.gif" ContentType="image/gif"/>
  <Override PartName="/ppt/media/image30.gif" ContentType="image/gif"/>
  <Override PartName="/ppt/media/image42.gif" ContentType="image/gif"/>
  <Override PartName="/ppt/media/image43.jpeg" ContentType="image/jpeg"/>
  <Override PartName="/ppt/media/image13.gif" ContentType="image/gif"/>
  <Override PartName="/ppt/media/image38.gif" ContentType="image/gif"/>
  <Override PartName="/ppt/media/image8.gif" ContentType="image/gif"/>
  <Override PartName="/ppt/media/image35.gif" ContentType="image/gif"/>
  <Override PartName="/ppt/media/image7.jpeg" ContentType="image/jpeg"/>
  <Override PartName="/ppt/media/image5.jpeg" ContentType="image/jpeg"/>
  <Override PartName="/ppt/media/image15.gif" ContentType="image/gif"/>
  <Override PartName="/ppt/media/image11.gif" ContentType="image/gif"/>
  <Override PartName="/ppt/media/image14.png" ContentType="image/png"/>
  <Override PartName="/ppt/media/image41.gif" ContentType="image/gif"/>
  <Override PartName="/ppt/media/image4.png" ContentType="image/png"/>
  <Override PartName="/ppt/media/image24.gif" ContentType="image/gif"/>
  <Override PartName="/ppt/media/image33.gif" ContentType="image/gif"/>
  <Override PartName="/ppt/media/image3.gif" ContentType="image/gif"/>
  <Override PartName="/ppt/media/image26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D5B5-0DE2-40C7-A2F5-2B7E77B95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BE5D-2E38-41BD-AD91-5CFC1073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CC59-9E27-4FF4-A3AE-7BCB3D5D2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424B-676C-4907-B6B7-9DA3959F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0F19-111F-4564-88F0-C8EA815BA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5D4A-1B2B-40D7-AC8F-64E8BEA6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3DA5-8E79-429A-BF0E-9603A7A8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C634-AF17-44CD-B2D9-9CF7AB2A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817B-7ECC-4422-B736-78B66763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C929-643F-4808-876D-987ED552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6FB8-6A07-4491-A440-4AA39FC8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15A4-FF0F-4BB9-AA34-C7992D1C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68CE-DC35-4610-B578-8432004B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D59F-7111-4827-A8EB-46A7FC2C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6ED0-2880-47A8-BFB2-3D8EA675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2BBA-BD5B-4809-B67F-DDFAB0B5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EA77-5FC6-473E-92D3-DC79685B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EF117-AB4E-4CBB-96BE-26B8755B7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158F6-0B93-4EB3-B64F-0E350366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47019-9513-43E5-9E18-0CCC7888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944D2-C61F-4EEB-95CF-C514B339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7EE64-3DBF-47C3-9A00-60F9A91B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0557-497C-4773-A02C-4F3FE717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FE983-097E-4DCE-8B88-99D2736F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DF102-6CF6-4126-9C1E-C76CCAFF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62E93-BBE9-4C1B-9B1D-2EE37D9F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6A8ED-18D9-4AD7-8A98-18032EB8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BFCA5-2350-465B-8036-4DCE8C35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39A58-8B65-4C7E-B384-24670D2C9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71BDE-EAB1-456C-8003-8935E35C0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8A88-1E79-4D1F-A609-B1216410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611A-ADF9-4B9F-9128-8B07DD66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3501-C440-4BB1-81D2-939B3DCF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0F3F-48C6-4EDF-9104-D7EC8E06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23F4-2D80-445D-A20D-099EA619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E73E-6AFE-4827-99F9-FE92C209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B2D4-B25E-4FC6-AB3A-849FFF0EC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BC4A-0B0E-4238-A27D-08E61722EF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C3DD-10C6-4CA1-89C6-C1309AECCC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1.xml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3.xml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5.xml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7.xml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9.xml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1.xml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3.xml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26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.xml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20.gif"/><Relationship Id="rId11" Type="http://schemas.openxmlformats.org/officeDocument/2006/relationships/image" Target="../media/image25.gif"/><Relationship Id="rId12" Type="http://schemas.openxmlformats.org/officeDocument/2006/relationships/image" Target="../media/image25.gif"/><Relationship Id="rId13" Type="http://schemas.openxmlformats.org/officeDocument/2006/relationships/image" Target="../media/image25.gif"/><Relationship Id="rId14" Type="http://schemas.openxmlformats.org/officeDocument/2006/relationships/image" Target="../media/image25.gif"/><Relationship Id="rId15" Type="http://schemas.openxmlformats.org/officeDocument/2006/relationships/image" Target="../media/image25.gif"/><Relationship Id="rId16" Type="http://schemas.openxmlformats.org/officeDocument/2006/relationships/image" Target="../media/image25.gif"/><Relationship Id="rId17" Type="http://schemas.openxmlformats.org/officeDocument/2006/relationships/image" Target="../media/image25.gif"/><Relationship Id="rId18" Type="http://schemas.openxmlformats.org/officeDocument/2006/relationships/image" Target="../media/image26.gif"/><Relationship Id="rId19" Type="http://schemas.openxmlformats.org/officeDocument/2006/relationships/image" Target="../media/image26.gif"/><Relationship Id="rId20" Type="http://schemas.openxmlformats.org/officeDocument/2006/relationships/image" Target="../media/image26.gif"/><Relationship Id="rId21" Type="http://schemas.openxmlformats.org/officeDocument/2006/relationships/image" Target="../media/image26.gif"/><Relationship Id="rId22" Type="http://schemas.openxmlformats.org/officeDocument/2006/relationships/image" Target="../media/image26.gif"/><Relationship Id="rId23" Type="http://schemas.openxmlformats.org/officeDocument/2006/relationships/image" Target="../media/image26.gif"/><Relationship Id="rId24" Type="http://schemas.openxmlformats.org/officeDocument/2006/relationships/image" Target="../media/image4.png"/><Relationship Id="rId25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24.gif"/><Relationship Id="rId11" Type="http://schemas.openxmlformats.org/officeDocument/2006/relationships/image" Target="../media/image24.gif"/><Relationship Id="rId12" Type="http://schemas.openxmlformats.org/officeDocument/2006/relationships/image" Target="../media/image24.gif"/><Relationship Id="rId13" Type="http://schemas.openxmlformats.org/officeDocument/2006/relationships/image" Target="../media/image24.gif"/><Relationship Id="rId14" Type="http://schemas.openxmlformats.org/officeDocument/2006/relationships/image" Target="../media/image24.gif"/><Relationship Id="rId15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image" Target="../media/image26.gif"/><Relationship Id="rId8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9.xm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image" Target="../media/image38.gif"/><Relationship Id="rId5" Type="http://schemas.openxmlformats.org/officeDocument/2006/relationships/image" Target="../media/image39.gif"/><Relationship Id="rId6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41.gif"/><Relationship Id="rId4" Type="http://schemas.openxmlformats.org/officeDocument/2006/relationships/slideLayout" Target="../slideLayouts/slideLayout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image" Target="../media/image26.gif"/><Relationship Id="rId8" Type="http://schemas.openxmlformats.org/officeDocument/2006/relationships/image" Target="../media/image26.gif"/><Relationship Id="rId9" Type="http://schemas.openxmlformats.org/officeDocument/2006/relationships/slideLayout" Target="../slideLayouts/slideLayout4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971640" y="620640"/>
            <a:ext cx="7632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Урок - аукцион знаний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 повести "Ночь перед Рождеством"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з цикла Н.В.Гогол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"Вечера на хуторе близ Диканьки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2627280" y="4005360"/>
            <a:ext cx="3809880" cy="26193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468360" y="537372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7387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900000" y="2852640"/>
            <a:ext cx="744552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лавное увлечение гимназист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8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492360" y="4076640"/>
            <a:ext cx="221472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2843280" y="1700280"/>
            <a:ext cx="300492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ат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492360" y="4076640"/>
            <a:ext cx="2214720" cy="20019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7524720" y="6308640"/>
            <a:ext cx="1008000" cy="289080"/>
          </a:xfrm>
          <a:custGeom>
            <a:avLst/>
            <a:gdLst>
              <a:gd name="textAreaLeft" fmla="*/ 18720 w 1008000"/>
              <a:gd name="textAreaRight" fmla="*/ 989280 w 1008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75251" h="21600">
                <a:moveTo>
                  <a:pt x="0" y="0"/>
                </a:moveTo>
                <a:lnTo>
                  <a:pt x="75251" y="0"/>
                </a:lnTo>
                <a:lnTo>
                  <a:pt x="75251" y="21600"/>
                </a:lnTo>
                <a:lnTo>
                  <a:pt x="0" y="21600"/>
                </a:lnTo>
                <a:close/>
              </a:path>
              <a:path fill="lightenLess" w="75251" h="21600">
                <a:moveTo>
                  <a:pt x="0" y="0"/>
                </a:moveTo>
                <a:lnTo>
                  <a:pt x="75251" y="0"/>
                </a:lnTo>
                <a:lnTo>
                  <a:pt x="73851" y="1400"/>
                </a:lnTo>
                <a:lnTo>
                  <a:pt x="1400" y="1400"/>
                </a:lnTo>
                <a:close/>
              </a:path>
              <a:path fill="darken" w="75251" h="21600">
                <a:moveTo>
                  <a:pt x="75251" y="0"/>
                </a:moveTo>
                <a:lnTo>
                  <a:pt x="75251" y="21600"/>
                </a:lnTo>
                <a:lnTo>
                  <a:pt x="73851" y="20200"/>
                </a:lnTo>
                <a:lnTo>
                  <a:pt x="73851" y="1400"/>
                </a:lnTo>
                <a:close/>
              </a:path>
              <a:path fill="darkenLess" w="75251" h="21600">
                <a:moveTo>
                  <a:pt x="7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851" y="20200"/>
                </a:lnTo>
                <a:close/>
              </a:path>
              <a:path fill="lighten" w="7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1476360" y="1844640"/>
            <a:ext cx="666432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узыкальный инструмент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 котором играл Гоголь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9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843280" y="4149720"/>
            <a:ext cx="292248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2627280" y="2349360"/>
            <a:ext cx="3529080" cy="18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крип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843280" y="4149720"/>
            <a:ext cx="2922480" cy="21510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7524720" y="6308640"/>
            <a:ext cx="1008000" cy="289080"/>
          </a:xfrm>
          <a:custGeom>
            <a:avLst/>
            <a:gdLst>
              <a:gd name="textAreaLeft" fmla="*/ 18720 w 1008000"/>
              <a:gd name="textAreaRight" fmla="*/ 989280 w 1008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75251" h="21600">
                <a:moveTo>
                  <a:pt x="0" y="0"/>
                </a:moveTo>
                <a:lnTo>
                  <a:pt x="75251" y="0"/>
                </a:lnTo>
                <a:lnTo>
                  <a:pt x="75251" y="21600"/>
                </a:lnTo>
                <a:lnTo>
                  <a:pt x="0" y="21600"/>
                </a:lnTo>
                <a:close/>
              </a:path>
              <a:path fill="lightenLess" w="75251" h="21600">
                <a:moveTo>
                  <a:pt x="0" y="0"/>
                </a:moveTo>
                <a:lnTo>
                  <a:pt x="75251" y="0"/>
                </a:lnTo>
                <a:lnTo>
                  <a:pt x="73851" y="1400"/>
                </a:lnTo>
                <a:lnTo>
                  <a:pt x="1400" y="1400"/>
                </a:lnTo>
                <a:close/>
              </a:path>
              <a:path fill="darken" w="75251" h="21600">
                <a:moveTo>
                  <a:pt x="75251" y="0"/>
                </a:moveTo>
                <a:lnTo>
                  <a:pt x="75251" y="21600"/>
                </a:lnTo>
                <a:lnTo>
                  <a:pt x="73851" y="20200"/>
                </a:lnTo>
                <a:lnTo>
                  <a:pt x="73851" y="1400"/>
                </a:lnTo>
                <a:close/>
              </a:path>
              <a:path fill="darkenLess" w="75251" h="21600">
                <a:moveTo>
                  <a:pt x="7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851" y="20200"/>
                </a:lnTo>
                <a:close/>
              </a:path>
              <a:path fill="lighten" w="7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395280" y="1628640"/>
            <a:ext cx="8424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ана, куда совершил путешествие Гоголь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 Гробу Господню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9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564000" y="3789360"/>
            <a:ext cx="22096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556000" y="2205000"/>
            <a:ext cx="4135320" cy="165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ерусали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564000" y="3789360"/>
            <a:ext cx="2209680" cy="26002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7524720" y="6308640"/>
            <a:ext cx="1008000" cy="289080"/>
          </a:xfrm>
          <a:custGeom>
            <a:avLst/>
            <a:gdLst>
              <a:gd name="textAreaLeft" fmla="*/ 18720 w 1008000"/>
              <a:gd name="textAreaRight" fmla="*/ 989280 w 1008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75251" h="21600">
                <a:moveTo>
                  <a:pt x="0" y="0"/>
                </a:moveTo>
                <a:lnTo>
                  <a:pt x="75251" y="0"/>
                </a:lnTo>
                <a:lnTo>
                  <a:pt x="75251" y="21600"/>
                </a:lnTo>
                <a:lnTo>
                  <a:pt x="0" y="21600"/>
                </a:lnTo>
                <a:close/>
              </a:path>
              <a:path fill="lightenLess" w="75251" h="21600">
                <a:moveTo>
                  <a:pt x="0" y="0"/>
                </a:moveTo>
                <a:lnTo>
                  <a:pt x="75251" y="0"/>
                </a:lnTo>
                <a:lnTo>
                  <a:pt x="73851" y="1400"/>
                </a:lnTo>
                <a:lnTo>
                  <a:pt x="1400" y="1400"/>
                </a:lnTo>
                <a:close/>
              </a:path>
              <a:path fill="darken" w="75251" h="21600">
                <a:moveTo>
                  <a:pt x="75251" y="0"/>
                </a:moveTo>
                <a:lnTo>
                  <a:pt x="75251" y="21600"/>
                </a:lnTo>
                <a:lnTo>
                  <a:pt x="73851" y="20200"/>
                </a:lnTo>
                <a:lnTo>
                  <a:pt x="73851" y="1400"/>
                </a:lnTo>
                <a:close/>
              </a:path>
              <a:path fill="darkenLess" w="75251" h="21600">
                <a:moveTo>
                  <a:pt x="7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851" y="20200"/>
                </a:lnTo>
                <a:close/>
              </a:path>
              <a:path fill="lighten" w="7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179280" y="2133720"/>
            <a:ext cx="87915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исатель, с которым 20 мая 1831 год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стоялось знакомство Гоголя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0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564000" y="3933720"/>
            <a:ext cx="244944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611280" y="1916280"/>
            <a:ext cx="4105080" cy="17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.С. Пушк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932360" y="1052640"/>
            <a:ext cx="4029120" cy="47415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7524720" y="6308640"/>
            <a:ext cx="1008000" cy="289080"/>
          </a:xfrm>
          <a:custGeom>
            <a:avLst/>
            <a:gdLst>
              <a:gd name="textAreaLeft" fmla="*/ 18720 w 1008000"/>
              <a:gd name="textAreaRight" fmla="*/ 989280 w 1008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75251" h="21600">
                <a:moveTo>
                  <a:pt x="0" y="0"/>
                </a:moveTo>
                <a:lnTo>
                  <a:pt x="75251" y="0"/>
                </a:lnTo>
                <a:lnTo>
                  <a:pt x="75251" y="21600"/>
                </a:lnTo>
                <a:lnTo>
                  <a:pt x="0" y="21600"/>
                </a:lnTo>
                <a:close/>
              </a:path>
              <a:path fill="lightenLess" w="75251" h="21600">
                <a:moveTo>
                  <a:pt x="0" y="0"/>
                </a:moveTo>
                <a:lnTo>
                  <a:pt x="75251" y="0"/>
                </a:lnTo>
                <a:lnTo>
                  <a:pt x="73851" y="1400"/>
                </a:lnTo>
                <a:lnTo>
                  <a:pt x="1400" y="1400"/>
                </a:lnTo>
                <a:close/>
              </a:path>
              <a:path fill="darken" w="75251" h="21600">
                <a:moveTo>
                  <a:pt x="75251" y="0"/>
                </a:moveTo>
                <a:lnTo>
                  <a:pt x="75251" y="21600"/>
                </a:lnTo>
                <a:lnTo>
                  <a:pt x="73851" y="20200"/>
                </a:lnTo>
                <a:lnTo>
                  <a:pt x="73851" y="1400"/>
                </a:lnTo>
                <a:close/>
              </a:path>
              <a:path fill="darkenLess" w="75251" h="21600">
                <a:moveTo>
                  <a:pt x="7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851" y="20200"/>
                </a:lnTo>
                <a:close/>
              </a:path>
              <a:path fill="lighten" w="7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1692360" y="2349360"/>
            <a:ext cx="5605200" cy="9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севдоним Гогол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0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10800000">
            <a:off x="3203640" y="4365360"/>
            <a:ext cx="201600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2987640" y="2421000"/>
            <a:ext cx="27781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10800000">
            <a:off x="3203640" y="4365360"/>
            <a:ext cx="2016000" cy="18493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7524720" y="6308640"/>
            <a:ext cx="1008000" cy="289080"/>
          </a:xfrm>
          <a:custGeom>
            <a:avLst/>
            <a:gdLst>
              <a:gd name="textAreaLeft" fmla="*/ 18720 w 1008000"/>
              <a:gd name="textAreaRight" fmla="*/ 989280 w 1008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75251" h="21600">
                <a:moveTo>
                  <a:pt x="0" y="0"/>
                </a:moveTo>
                <a:lnTo>
                  <a:pt x="75251" y="0"/>
                </a:lnTo>
                <a:lnTo>
                  <a:pt x="75251" y="21600"/>
                </a:lnTo>
                <a:lnTo>
                  <a:pt x="0" y="21600"/>
                </a:lnTo>
                <a:close/>
              </a:path>
              <a:path fill="lightenLess" w="75251" h="21600">
                <a:moveTo>
                  <a:pt x="0" y="0"/>
                </a:moveTo>
                <a:lnTo>
                  <a:pt x="75251" y="0"/>
                </a:lnTo>
                <a:lnTo>
                  <a:pt x="73851" y="1400"/>
                </a:lnTo>
                <a:lnTo>
                  <a:pt x="1400" y="1400"/>
                </a:lnTo>
                <a:close/>
              </a:path>
              <a:path fill="darken" w="75251" h="21600">
                <a:moveTo>
                  <a:pt x="75251" y="0"/>
                </a:moveTo>
                <a:lnTo>
                  <a:pt x="75251" y="21600"/>
                </a:lnTo>
                <a:lnTo>
                  <a:pt x="73851" y="20200"/>
                </a:lnTo>
                <a:lnTo>
                  <a:pt x="73851" y="1400"/>
                </a:lnTo>
                <a:close/>
              </a:path>
              <a:path fill="darkenLess" w="75251" h="21600">
                <a:moveTo>
                  <a:pt x="7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851" y="20200"/>
                </a:lnTo>
                <a:close/>
              </a:path>
              <a:path fill="lighten" w="7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50920" y="1268280"/>
            <a:ext cx="8713800" cy="532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>
                  <a:alpha val="60392"/>
                </a:srgbClr>
              </a:gs>
              <a:gs pos="100000">
                <a:srgbClr val="bbe0e3">
                  <a:alpha val="69019"/>
                </a:srgbClr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углубить первоначальное впечатление от повестей Гого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помочь учащимся составит целостное представление о природе авторского слова, богатстве внутреннего мира писат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развивать логическое и творческое мышление через игровые момен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воспитать у учащихся нравственные качества: доброту, любовь к людям и родине, уважение ее традиций и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03640" y="404640"/>
            <a:ext cx="2158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Цел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651640" y="0"/>
            <a:ext cx="2376360" cy="22446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611280" y="2492280"/>
            <a:ext cx="7993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сто в гимназии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торое Гоголь почитал как святилищ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059280" y="404640"/>
            <a:ext cx="2663640" cy="25164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2627280" y="2924280"/>
            <a:ext cx="374508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иблиот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3" name=""/>
          <p:cNvSpPr/>
          <p:nvPr/>
        </p:nvSpPr>
        <p:spPr>
          <a:xfrm>
            <a:off x="7524720" y="6308640"/>
            <a:ext cx="1008000" cy="289080"/>
          </a:xfrm>
          <a:custGeom>
            <a:avLst/>
            <a:gdLst>
              <a:gd name="textAreaLeft" fmla="*/ 18720 w 1008000"/>
              <a:gd name="textAreaRight" fmla="*/ 989280 w 1008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75251" h="21600">
                <a:moveTo>
                  <a:pt x="0" y="0"/>
                </a:moveTo>
                <a:lnTo>
                  <a:pt x="75251" y="0"/>
                </a:lnTo>
                <a:lnTo>
                  <a:pt x="75251" y="21600"/>
                </a:lnTo>
                <a:lnTo>
                  <a:pt x="0" y="21600"/>
                </a:lnTo>
                <a:close/>
              </a:path>
              <a:path fill="lightenLess" w="75251" h="21600">
                <a:moveTo>
                  <a:pt x="0" y="0"/>
                </a:moveTo>
                <a:lnTo>
                  <a:pt x="75251" y="0"/>
                </a:lnTo>
                <a:lnTo>
                  <a:pt x="73851" y="1400"/>
                </a:lnTo>
                <a:lnTo>
                  <a:pt x="1400" y="1400"/>
                </a:lnTo>
                <a:close/>
              </a:path>
              <a:path fill="darken" w="75251" h="21600">
                <a:moveTo>
                  <a:pt x="75251" y="0"/>
                </a:moveTo>
                <a:lnTo>
                  <a:pt x="75251" y="21600"/>
                </a:lnTo>
                <a:lnTo>
                  <a:pt x="73851" y="20200"/>
                </a:lnTo>
                <a:lnTo>
                  <a:pt x="73851" y="1400"/>
                </a:lnTo>
                <a:close/>
              </a:path>
              <a:path fill="darkenLess" w="75251" h="21600">
                <a:moveTo>
                  <a:pt x="7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851" y="20200"/>
                </a:lnTo>
                <a:close/>
              </a:path>
              <a:path fill="lighten" w="7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627280" y="4508640"/>
            <a:ext cx="4211640" cy="17650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395280" y="2060640"/>
            <a:ext cx="8505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ана, где больше всего жил Гоголь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удучи за границей с 1842 года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2627280" y="2276640"/>
            <a:ext cx="3809880" cy="165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тал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2627280" y="4508640"/>
            <a:ext cx="4211640" cy="17650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524720" y="6308640"/>
            <a:ext cx="1008000" cy="289080"/>
          </a:xfrm>
          <a:custGeom>
            <a:avLst/>
            <a:gdLst>
              <a:gd name="textAreaLeft" fmla="*/ 18720 w 1008000"/>
              <a:gd name="textAreaRight" fmla="*/ 989280 w 1008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75251" h="21600">
                <a:moveTo>
                  <a:pt x="0" y="0"/>
                </a:moveTo>
                <a:lnTo>
                  <a:pt x="75251" y="0"/>
                </a:lnTo>
                <a:lnTo>
                  <a:pt x="75251" y="21600"/>
                </a:lnTo>
                <a:lnTo>
                  <a:pt x="0" y="21600"/>
                </a:lnTo>
                <a:close/>
              </a:path>
              <a:path fill="lightenLess" w="75251" h="21600">
                <a:moveTo>
                  <a:pt x="0" y="0"/>
                </a:moveTo>
                <a:lnTo>
                  <a:pt x="75251" y="0"/>
                </a:lnTo>
                <a:lnTo>
                  <a:pt x="73851" y="1400"/>
                </a:lnTo>
                <a:lnTo>
                  <a:pt x="1400" y="1400"/>
                </a:lnTo>
                <a:close/>
              </a:path>
              <a:path fill="darken" w="75251" h="21600">
                <a:moveTo>
                  <a:pt x="75251" y="0"/>
                </a:moveTo>
                <a:lnTo>
                  <a:pt x="75251" y="21600"/>
                </a:lnTo>
                <a:lnTo>
                  <a:pt x="73851" y="20200"/>
                </a:lnTo>
                <a:lnTo>
                  <a:pt x="73851" y="1400"/>
                </a:lnTo>
                <a:close/>
              </a:path>
              <a:path fill="darkenLess" w="75251" h="21600">
                <a:moveTo>
                  <a:pt x="7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851" y="20200"/>
                </a:lnTo>
                <a:close/>
              </a:path>
              <a:path fill="lighten" w="7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755640" y="333360"/>
            <a:ext cx="761508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6659640" y="422100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8244000" y="260280"/>
            <a:ext cx="561960" cy="5619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 rot="230400">
            <a:off x="553680" y="1120680"/>
            <a:ext cx="7777080" cy="359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7c8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торой лот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7c8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7c8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7c8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Эрудиты - толкователи"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7c8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395280" y="4292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8244000" y="260280"/>
            <a:ext cx="561960" cy="5619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1332000" y="1341360"/>
            <a:ext cx="5545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евада -</a:t>
            </a:r>
            <a:endParaRPr b="0" i="1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 flipH="1">
            <a:off x="395280" y="4292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8244000" y="260280"/>
            <a:ext cx="561960" cy="5619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2987640" y="3933720"/>
            <a:ext cx="5545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садьба</a:t>
            </a:r>
            <a:endParaRPr b="0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332000" y="1341360"/>
            <a:ext cx="5545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евада -</a:t>
            </a:r>
            <a:endParaRPr b="0" i="1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76360" y="1484280"/>
            <a:ext cx="60483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Швец -</a:t>
            </a:r>
            <a:endParaRPr b="0" i="1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3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59640" y="422100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8244000" y="260280"/>
            <a:ext cx="5619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6659640" y="422100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684360" y="3933720"/>
            <a:ext cx="5616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апожник</a:t>
            </a:r>
            <a:endParaRPr b="0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8244000" y="260280"/>
            <a:ext cx="561960" cy="5619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1476360" y="1484280"/>
            <a:ext cx="60483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Швец -</a:t>
            </a:r>
            <a:endParaRPr b="0" i="1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1403280" y="115920"/>
            <a:ext cx="635004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547640" y="1700280"/>
            <a:ext cx="5761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юлька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395280" y="4292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8244000" y="260280"/>
            <a:ext cx="5619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 flipH="1">
            <a:off x="395280" y="429264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3276720" y="4221000"/>
            <a:ext cx="4824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рубка</a:t>
            </a:r>
            <a:endParaRPr b="0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8244000" y="260280"/>
            <a:ext cx="561960" cy="5619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1547640" y="1700280"/>
            <a:ext cx="5761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юлька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116000" y="1628640"/>
            <a:ext cx="590544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вун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59640" y="422100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8244000" y="260280"/>
            <a:ext cx="5619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6659640" y="422100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1979640" y="3933720"/>
            <a:ext cx="446400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рбуз</a:t>
            </a:r>
            <a:endParaRPr b="0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8244000" y="260280"/>
            <a:ext cx="561960" cy="56196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1116000" y="1628640"/>
            <a:ext cx="590544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вун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619280" y="1125360"/>
            <a:ext cx="6480000" cy="20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раблик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 flipH="1">
            <a:off x="395280" y="4292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8244000" y="260280"/>
            <a:ext cx="5619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619280" y="1125360"/>
            <a:ext cx="6480000" cy="20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раблик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 flipH="1">
            <a:off x="395280" y="429264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1835280" y="3500280"/>
            <a:ext cx="6842160" cy="217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аринный головной</a:t>
            </a:r>
            <a:endParaRPr b="0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бор</a:t>
            </a:r>
            <a:endParaRPr b="0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8244000" y="260280"/>
            <a:ext cx="561960" cy="5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619280" y="1484280"/>
            <a:ext cx="6481800" cy="203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еревички - 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59640" y="422100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8244000" y="260280"/>
            <a:ext cx="5619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00000" y="3789360"/>
            <a:ext cx="5329440" cy="15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ашмачки</a:t>
            </a:r>
            <a:endParaRPr b="0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619280" y="1484280"/>
            <a:ext cx="6481800" cy="203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еревички - 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6659640" y="422100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8244000" y="260280"/>
            <a:ext cx="561960" cy="5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763640" y="1413000"/>
            <a:ext cx="576108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ухоль - </a:t>
            </a:r>
            <a:endParaRPr b="0" i="1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395280" y="4292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8244000" y="260280"/>
            <a:ext cx="5619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763640" y="1413000"/>
            <a:ext cx="576108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ухоль - 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268360" y="3429000"/>
            <a:ext cx="6477120" cy="15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линяная кружка</a:t>
            </a:r>
            <a:endParaRPr b="0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 flipH="1">
            <a:off x="395280" y="4292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8244000" y="260280"/>
            <a:ext cx="561960" cy="5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2556000" y="1341360"/>
            <a:ext cx="4170240" cy="54025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1403280" y="189000"/>
            <a:ext cx="6769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 ло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Жизнь и творчество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иколая Васильевича Гоголя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979640" y="1773360"/>
            <a:ext cx="6553080" cy="20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ибуля - 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59640" y="422100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8244000" y="260280"/>
            <a:ext cx="5619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843280" y="4508640"/>
            <a:ext cx="345744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ук</a:t>
            </a:r>
            <a:endParaRPr b="0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979640" y="1773360"/>
            <a:ext cx="6553080" cy="20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ибуля - 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6659640" y="422100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8244000" y="260280"/>
            <a:ext cx="561960" cy="5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403280" y="1916280"/>
            <a:ext cx="7056360" cy="173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ляница - </a:t>
            </a:r>
            <a:endParaRPr b="0" i="1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1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395280" y="4292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8244000" y="260280"/>
            <a:ext cx="5619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124000" y="4005360"/>
            <a:ext cx="619128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ебольшой хлеб</a:t>
            </a:r>
            <a:endParaRPr b="0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403280" y="1916280"/>
            <a:ext cx="7056360" cy="173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ляница - </a:t>
            </a:r>
            <a:endParaRPr b="0" i="1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 flipH="1">
            <a:off x="108000" y="4508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8244000" y="260280"/>
            <a:ext cx="561960" cy="5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332000" y="1773360"/>
            <a:ext cx="59040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алушки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59640" y="422100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332000" y="1773360"/>
            <a:ext cx="59040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алушки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547640" y="3933720"/>
            <a:ext cx="4608720" cy="13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лецки</a:t>
            </a:r>
            <a:endParaRPr b="0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59640" y="422100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476360" y="1628640"/>
            <a:ext cx="5975280" cy="19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вчина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395280" y="4292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476360" y="1628640"/>
            <a:ext cx="5975280" cy="19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вчина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203640" y="3860640"/>
            <a:ext cx="4680000" cy="13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евушка</a:t>
            </a:r>
            <a:endParaRPr b="0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395280" y="4292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547640" y="1484280"/>
            <a:ext cx="7128000" cy="213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жух -   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59640" y="422100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1547640" y="1484280"/>
            <a:ext cx="7128000" cy="213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жух -   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692360" y="4076640"/>
            <a:ext cx="4535280" cy="15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улуп</a:t>
            </a:r>
            <a:endParaRPr b="0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04000" y="4365720"/>
            <a:ext cx="216072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395280" y="765000"/>
          <a:ext cx="8229600" cy="58960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94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"/>
          <p:cNvSpPr txBox="1"/>
          <p:nvPr/>
        </p:nvSpPr>
        <p:spPr>
          <a:xfrm>
            <a:off x="2987640" y="1125360"/>
            <a:ext cx="8334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003640" y="1197000"/>
            <a:ext cx="9781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7236000" y="1125360"/>
            <a:ext cx="97776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987640" y="3141720"/>
            <a:ext cx="8334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59280" y="5157720"/>
            <a:ext cx="8334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076720" y="3068640"/>
            <a:ext cx="9781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076720" y="5157720"/>
            <a:ext cx="9781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7236000" y="3068640"/>
            <a:ext cx="9777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7308720" y="5084640"/>
            <a:ext cx="9781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68360" y="1268280"/>
            <a:ext cx="19051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 рубл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11280" y="2852640"/>
            <a:ext cx="180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0 рубл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39640" y="5084640"/>
            <a:ext cx="1800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5 рубл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835280" y="1700280"/>
            <a:ext cx="619128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мора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 flipH="1">
            <a:off x="395280" y="4292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835280" y="1700280"/>
            <a:ext cx="619128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мора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203640" y="4365720"/>
            <a:ext cx="4608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мбар</a:t>
            </a:r>
            <a:endParaRPr b="0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395280" y="4292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619280" y="1413000"/>
            <a:ext cx="6335640" cy="24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урень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6659640" y="422100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619280" y="1413000"/>
            <a:ext cx="6335640" cy="24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урень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539640" y="4292640"/>
            <a:ext cx="6264360" cy="15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ломенный шалаш</a:t>
            </a:r>
            <a:endParaRPr b="0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59640" y="422100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332000" y="1628640"/>
            <a:ext cx="6192720" cy="213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рубок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 flipH="1">
            <a:off x="395280" y="4292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1332000" y="1628640"/>
            <a:ext cx="6192720" cy="213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рубок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2843280" y="4149720"/>
            <a:ext cx="5327640" cy="15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арень</a:t>
            </a:r>
            <a:endParaRPr b="0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395280" y="4292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547640" y="1628640"/>
            <a:ext cx="6409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кло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6659640" y="422100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547640" y="1628640"/>
            <a:ext cx="6409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кло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3564000" y="4365720"/>
            <a:ext cx="244800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д</a:t>
            </a:r>
            <a:endParaRPr b="0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59640" y="422100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403280" y="1628640"/>
            <a:ext cx="648036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хта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 flipH="1">
            <a:off x="395280" y="4292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547640" y="3429000"/>
            <a:ext cx="684072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ижняя одежда женщины</a:t>
            </a:r>
            <a:endParaRPr b="0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250920" y="443700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 txBox="1"/>
          <p:nvPr/>
        </p:nvSpPr>
        <p:spPr>
          <a:xfrm>
            <a:off x="1619280" y="981000"/>
            <a:ext cx="6480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хта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79280" y="1773360"/>
            <a:ext cx="84981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зовите имение, в котором прошл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тские годы писателя Н.В. Гогол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7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059280" y="4508640"/>
            <a:ext cx="3384360" cy="18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403280" y="1628640"/>
            <a:ext cx="66978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пилка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6659640" y="422100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84360" y="4508640"/>
            <a:ext cx="601632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вирель</a:t>
            </a:r>
            <a:endParaRPr b="0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59640" y="422100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 txBox="1"/>
          <p:nvPr/>
        </p:nvSpPr>
        <p:spPr>
          <a:xfrm>
            <a:off x="1403280" y="1628640"/>
            <a:ext cx="66978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пилка -</a:t>
            </a:r>
            <a:endParaRPr b="0" i="1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1258920" y="1916280"/>
            <a:ext cx="6402240" cy="20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лопец -</a:t>
            </a:r>
            <a:endParaRPr b="0" i="1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 flipH="1">
            <a:off x="395280" y="4292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258920" y="1916280"/>
            <a:ext cx="6402240" cy="20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лопец -</a:t>
            </a:r>
            <a:endParaRPr b="0" i="1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627280" y="4508640"/>
            <a:ext cx="5616720" cy="13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льчик</a:t>
            </a:r>
            <a:endParaRPr b="0" lang="en-US" sz="1800" spc="1" strike="noStrike">
              <a:ln w="22320">
                <a:solidFill>
                  <a:srgbClr val="8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395280" y="4292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2050920" y="1557360"/>
            <a:ext cx="6516720" cy="18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лядки - </a:t>
            </a:r>
            <a:endParaRPr b="0" i="1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6659640" y="422100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8244000" y="260280"/>
            <a:ext cx="5619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11280" y="3573360"/>
            <a:ext cx="770580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ождественский </a:t>
            </a:r>
            <a:endParaRPr b="0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бряд</a:t>
            </a:r>
            <a:endParaRPr b="0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1979640" y="1125360"/>
            <a:ext cx="6516720" cy="18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лядки - </a:t>
            </a:r>
            <a:endParaRPr b="0" i="1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6804000" y="458136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8244000" y="260280"/>
            <a:ext cx="561960" cy="5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8177040" cy="62150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108000" y="6308640"/>
            <a:ext cx="43164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1403280" y="115920"/>
            <a:ext cx="635004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900000" y="1052640"/>
            <a:ext cx="7201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ст по повести Н.В.Гогол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Ночь перед Рождеством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6156360" y="3933720"/>
            <a:ext cx="2162160" cy="193212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4"/>
          <a:stretch/>
        </p:blipFill>
        <p:spPr>
          <a:xfrm>
            <a:off x="6084720" y="321300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5"/>
          <a:stretch/>
        </p:blipFill>
        <p:spPr>
          <a:xfrm>
            <a:off x="7451640" y="2602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6"/>
          <a:stretch/>
        </p:blipFill>
        <p:spPr>
          <a:xfrm>
            <a:off x="2268360" y="3500280"/>
            <a:ext cx="562320" cy="56196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7"/>
          <a:stretch/>
        </p:blipFill>
        <p:spPr>
          <a:xfrm>
            <a:off x="4211640" y="404640"/>
            <a:ext cx="561960" cy="56232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8"/>
          <a:stretch/>
        </p:blipFill>
        <p:spPr>
          <a:xfrm>
            <a:off x="8028000" y="27813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9"/>
          <a:stretch/>
        </p:blipFill>
        <p:spPr>
          <a:xfrm>
            <a:off x="179280" y="21337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10"/>
          <a:stretch/>
        </p:blipFill>
        <p:spPr>
          <a:xfrm>
            <a:off x="4643280" y="292428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11"/>
          <a:stretch/>
        </p:blipFill>
        <p:spPr>
          <a:xfrm>
            <a:off x="468360" y="2205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12"/>
          <a:stretch/>
        </p:blipFill>
        <p:spPr>
          <a:xfrm>
            <a:off x="1116000" y="335772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13"/>
          <a:stretch/>
        </p:blipFill>
        <p:spPr>
          <a:xfrm>
            <a:off x="2411280" y="549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14"/>
          <a:stretch/>
        </p:blipFill>
        <p:spPr>
          <a:xfrm>
            <a:off x="7164360" y="3068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15"/>
          <a:stretch/>
        </p:blipFill>
        <p:spPr>
          <a:xfrm>
            <a:off x="4859280" y="386064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16"/>
          <a:stretch/>
        </p:blipFill>
        <p:spPr>
          <a:xfrm>
            <a:off x="5219640" y="76500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17"/>
          <a:stretch/>
        </p:blipFill>
        <p:spPr>
          <a:xfrm>
            <a:off x="8317080" y="155736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18"/>
          <a:stretch/>
        </p:blipFill>
        <p:spPr>
          <a:xfrm>
            <a:off x="1332000" y="26028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19"/>
          <a:stretch/>
        </p:blipFill>
        <p:spPr>
          <a:xfrm>
            <a:off x="684360" y="4005360"/>
            <a:ext cx="285480" cy="27612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20"/>
          <a:stretch/>
        </p:blipFill>
        <p:spPr>
          <a:xfrm>
            <a:off x="7020000" y="54936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21"/>
          <a:stretch/>
        </p:blipFill>
        <p:spPr>
          <a:xfrm>
            <a:off x="3419640" y="907920"/>
            <a:ext cx="285480" cy="27648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2"/>
          <a:stretch/>
        </p:blipFill>
        <p:spPr>
          <a:xfrm>
            <a:off x="5435640" y="378936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23"/>
          <a:stretch/>
        </p:blipFill>
        <p:spPr>
          <a:xfrm>
            <a:off x="2050920" y="3213000"/>
            <a:ext cx="285840" cy="27648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24"/>
          <a:stretch/>
        </p:blipFill>
        <p:spPr>
          <a:xfrm>
            <a:off x="395280" y="611028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63584" fill="hold"/>
                                        <p:tgtEl>
                                          <p:spTgt spid="5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1547640" y="1844640"/>
            <a:ext cx="64090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на вопрос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 рубле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2484360" y="2133720"/>
            <a:ext cx="4175280" cy="165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асильев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700360" y="4221000"/>
            <a:ext cx="4319640" cy="23925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7524720" y="6308640"/>
            <a:ext cx="1008000" cy="289080"/>
          </a:xfrm>
          <a:custGeom>
            <a:avLst/>
            <a:gdLst>
              <a:gd name="textAreaLeft" fmla="*/ 18720 w 1008000"/>
              <a:gd name="textAreaRight" fmla="*/ 989280 w 1008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75251" h="21600">
                <a:moveTo>
                  <a:pt x="0" y="0"/>
                </a:moveTo>
                <a:lnTo>
                  <a:pt x="75251" y="0"/>
                </a:lnTo>
                <a:lnTo>
                  <a:pt x="75251" y="21600"/>
                </a:lnTo>
                <a:lnTo>
                  <a:pt x="0" y="21600"/>
                </a:lnTo>
                <a:close/>
              </a:path>
              <a:path fill="lightenLess" w="75251" h="21600">
                <a:moveTo>
                  <a:pt x="0" y="0"/>
                </a:moveTo>
                <a:lnTo>
                  <a:pt x="75251" y="0"/>
                </a:lnTo>
                <a:lnTo>
                  <a:pt x="73851" y="1400"/>
                </a:lnTo>
                <a:lnTo>
                  <a:pt x="1400" y="1400"/>
                </a:lnTo>
                <a:close/>
              </a:path>
              <a:path fill="darken" w="75251" h="21600">
                <a:moveTo>
                  <a:pt x="75251" y="0"/>
                </a:moveTo>
                <a:lnTo>
                  <a:pt x="75251" y="21600"/>
                </a:lnTo>
                <a:lnTo>
                  <a:pt x="73851" y="20200"/>
                </a:lnTo>
                <a:lnTo>
                  <a:pt x="73851" y="1400"/>
                </a:lnTo>
                <a:close/>
              </a:path>
              <a:path fill="darkenLess" w="75251" h="21600">
                <a:moveTo>
                  <a:pt x="7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851" y="20200"/>
                </a:lnTo>
                <a:close/>
              </a:path>
              <a:path fill="lighten" w="7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684000" y="1557000"/>
            <a:ext cx="7924680" cy="4419720"/>
          </a:xfrm>
          <a:prstGeom prst="rect">
            <a:avLst/>
          </a:prstGeom>
          <a:gradFill rotWithShape="0">
            <a:gsLst>
              <a:gs pos="0">
                <a:srgbClr val="ffffff">
                  <a:alpha val="74117"/>
                </a:srgbClr>
              </a:gs>
              <a:gs pos="100000">
                <a:srgbClr val="757575">
                  <a:alpha val="64313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Черт, задумав украсть месяц, перекидывает его «из одной руки в другую, как мужик, доставший голыми руками огонь для своей люльки». «ЛЮЛЬКА» -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а)колыбель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б)круж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в)свеч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г)трубка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611280" y="333360"/>
            <a:ext cx="828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ст по повести Н.В.Гоголя </a:t>
            </a:r>
            <a:endParaRPr b="0" i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Вечера на хуторе близ Диканьки». </a:t>
            </a:r>
            <a:endParaRPr b="0" i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6188040" y="3141720"/>
            <a:ext cx="2955960" cy="361800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3"/>
          <a:stretch/>
        </p:blipFill>
        <p:spPr>
          <a:xfrm>
            <a:off x="1042920" y="4221000"/>
            <a:ext cx="936720" cy="8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1547640" y="1844640"/>
            <a:ext cx="64090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на вопрос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 рубле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826920" y="2565360"/>
            <a:ext cx="7499520" cy="2836800"/>
          </a:xfrm>
          <a:prstGeom prst="rect">
            <a:avLst/>
          </a:prstGeom>
          <a:gradFill rotWithShape="0">
            <a:gsLst>
              <a:gs pos="0">
                <a:srgbClr val="ffffff">
                  <a:alpha val="74117"/>
                </a:srgbClr>
              </a:gs>
              <a:gs pos="100000">
                <a:srgbClr val="757575">
                  <a:alpha val="64313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а)гер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б)рассказчи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в)изда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г)такого персонажа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179280" y="404640"/>
            <a:ext cx="84981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2.Рудый Панько в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«Вечерах на хуторе близ Диканьки» - это: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258920" cy="126828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3"/>
          <a:stretch/>
        </p:blipFill>
        <p:spPr>
          <a:xfrm>
            <a:off x="6443640" y="3284640"/>
            <a:ext cx="1438200" cy="166680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4"/>
          <a:stretch/>
        </p:blipFill>
        <p:spPr>
          <a:xfrm>
            <a:off x="179280" y="52293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5"/>
          <a:stretch/>
        </p:blipFill>
        <p:spPr>
          <a:xfrm>
            <a:off x="8388360" y="32130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6"/>
          <a:stretch/>
        </p:blipFill>
        <p:spPr>
          <a:xfrm>
            <a:off x="3348000" y="191628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7"/>
          <a:stretch/>
        </p:blipFill>
        <p:spPr>
          <a:xfrm>
            <a:off x="108000" y="21337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8"/>
          <a:stretch/>
        </p:blipFill>
        <p:spPr>
          <a:xfrm>
            <a:off x="4716360" y="55166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9"/>
          <a:stretch/>
        </p:blipFill>
        <p:spPr>
          <a:xfrm>
            <a:off x="7885080" y="404640"/>
            <a:ext cx="561960" cy="56232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10"/>
          <a:stretch/>
        </p:blipFill>
        <p:spPr>
          <a:xfrm>
            <a:off x="6948360" y="40464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11"/>
          <a:stretch/>
        </p:blipFill>
        <p:spPr>
          <a:xfrm>
            <a:off x="108000" y="3141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12"/>
          <a:stretch/>
        </p:blipFill>
        <p:spPr>
          <a:xfrm>
            <a:off x="6084720" y="206064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13"/>
          <a:stretch/>
        </p:blipFill>
        <p:spPr>
          <a:xfrm>
            <a:off x="8388360" y="2133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14"/>
          <a:stretch/>
        </p:blipFill>
        <p:spPr>
          <a:xfrm>
            <a:off x="1835280" y="184464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1547640" y="1844640"/>
            <a:ext cx="64090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на вопрос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0 рубле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611280" y="404640"/>
            <a:ext cx="8172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3. Какие тропы использованы Гоголем 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в предложении: "Снег загорелся широким серебряным полем 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и весь обсыпался хрустальными звездами"?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26920" y="2565360"/>
            <a:ext cx="7499520" cy="2836800"/>
          </a:xfrm>
          <a:prstGeom prst="rect">
            <a:avLst/>
          </a:prstGeom>
          <a:gradFill rotWithShape="0">
            <a:gsLst>
              <a:gs pos="0">
                <a:srgbClr val="ffffff">
                  <a:alpha val="74117"/>
                </a:srgbClr>
              </a:gs>
              <a:gs pos="100000">
                <a:srgbClr val="757575">
                  <a:alpha val="6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а)метаф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б)эпит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в)гипербо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г)лит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6156360" y="3284640"/>
            <a:ext cx="1871640" cy="137952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3"/>
          <a:stretch/>
        </p:blipFill>
        <p:spPr>
          <a:xfrm>
            <a:off x="250920" y="3429000"/>
            <a:ext cx="24098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1547640" y="1844640"/>
            <a:ext cx="64090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на вопрос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 рубле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108000" y="549360"/>
            <a:ext cx="864072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4. Кому принадлежала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«невыразимо приятная усмешка, 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прожигавшая душу»?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26920" y="2565360"/>
            <a:ext cx="7499520" cy="2836800"/>
          </a:xfrm>
          <a:prstGeom prst="rect">
            <a:avLst/>
          </a:prstGeom>
          <a:gradFill rotWithShape="0">
            <a:gsLst>
              <a:gs pos="0">
                <a:srgbClr val="ffffff">
                  <a:alpha val="74117"/>
                </a:srgbClr>
              </a:gs>
              <a:gs pos="100000">
                <a:srgbClr val="757575">
                  <a:alpha val="6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а)Солох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б)Окса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в)цариц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г)Ваку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5508720" y="4365720"/>
            <a:ext cx="1957320" cy="195732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3"/>
          <a:stretch/>
        </p:blipFill>
        <p:spPr>
          <a:xfrm>
            <a:off x="4859280" y="400536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4"/>
          <a:stretch/>
        </p:blipFill>
        <p:spPr>
          <a:xfrm>
            <a:off x="7596360" y="4149720"/>
            <a:ext cx="285480" cy="27612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5"/>
          <a:stretch/>
        </p:blipFill>
        <p:spPr>
          <a:xfrm>
            <a:off x="6156360" y="3860640"/>
            <a:ext cx="285840" cy="27648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6"/>
          <a:stretch/>
        </p:blipFill>
        <p:spPr>
          <a:xfrm>
            <a:off x="5292720" y="314172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7"/>
          <a:stretch/>
        </p:blipFill>
        <p:spPr>
          <a:xfrm>
            <a:off x="7164360" y="3068640"/>
            <a:ext cx="28584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1547640" y="1844640"/>
            <a:ext cx="64090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на вопрос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0 рубле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757575">
                  <a:alpha val="78039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а)был зол на Чуба, за то что он не давал согласия на свадьбу с Окса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б)Вакула не хотел, чтобы Чуб женился на Солох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в)Чуб заблудился в метели, не узнал собственную хату, переменил голос и попал Вакуле под горячую ру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г)Вакула вспомнил старую вражду.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1187280" y="189000"/>
            <a:ext cx="6913800" cy="13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5. Кузнец Вакула поколотил 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уба, потому что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24000" y="5013360"/>
            <a:ext cx="13986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1547640" y="1844640"/>
            <a:ext cx="64090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на вопрос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 рубле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324000" y="2205000"/>
            <a:ext cx="8496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ород, в котором основали гимназию,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уда в мае 1821 года поступил Гоголь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8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76720" y="436572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ffff">
                  <a:alpha val="74117"/>
                </a:srgbClr>
              </a:gs>
              <a:gs pos="100000">
                <a:srgbClr val="757575">
                  <a:alpha val="64313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а)хотел попросить дене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б)хотел поколядовать около его до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в)в г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г)хотел с его помощью найти дорогу к чер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395280" y="404640"/>
            <a:ext cx="792180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6. Зачем Вакула отправился к 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Пузатому Пацюку?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5651640" y="4437000"/>
            <a:ext cx="1076040" cy="215280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3"/>
          <a:stretch/>
        </p:blipFill>
        <p:spPr>
          <a:xfrm>
            <a:off x="1547640" y="3645000"/>
            <a:ext cx="20941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1547640" y="1844640"/>
            <a:ext cx="64090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на вопрос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0 рубле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gradFill rotWithShape="0">
            <a:gsLst>
              <a:gs pos="0">
                <a:srgbClr val="ffffff">
                  <a:alpha val="74117"/>
                </a:srgbClr>
              </a:gs>
              <a:gs pos="100000">
                <a:srgbClr val="757575">
                  <a:alpha val="64313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а)гипербо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б)олицетвор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в)эпит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г)сравн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826920" y="333360"/>
            <a:ext cx="7632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7. Какой троп позволяет ярче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представить Пузатого Пацюка, который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"ел за шестерых косарей и выпивал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одним разом почти по целому ведру"?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 flipH="1">
            <a:off x="5508360" y="2997360"/>
            <a:ext cx="1847880" cy="372744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3"/>
          <a:stretch/>
        </p:blipFill>
        <p:spPr>
          <a:xfrm>
            <a:off x="4211640" y="4292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4"/>
          <a:stretch/>
        </p:blipFill>
        <p:spPr>
          <a:xfrm>
            <a:off x="5076720" y="2924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5"/>
          <a:stretch/>
        </p:blipFill>
        <p:spPr>
          <a:xfrm>
            <a:off x="7812000" y="2852640"/>
            <a:ext cx="4953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1547640" y="1844640"/>
            <a:ext cx="64090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на вопрос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 рубле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ffff">
                  <a:alpha val="76078"/>
                </a:srgbClr>
              </a:gs>
              <a:gs pos="100000">
                <a:srgbClr val="757575">
                  <a:alpha val="69019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а)архитекту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б)медная руч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в)карти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г)наряды придвор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332000" y="333360"/>
            <a:ext cx="6480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8. Что больше всего поразило 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Вакулу во дворце?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5651640" y="2792520"/>
            <a:ext cx="289692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1547640" y="1844640"/>
            <a:ext cx="64090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на вопрос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0 рубле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ffff">
                  <a:alpha val="77254"/>
                </a:srgbClr>
              </a:gs>
              <a:gs pos="100000">
                <a:srgbClr val="757575">
                  <a:alpha val="7921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а) Екатерина </a:t>
            </a: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II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б) Потемки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в) Фонвизи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г) Сув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476360" y="189000"/>
            <a:ext cx="6048360" cy="12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9. Какие реальные лица 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действуют в повести?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7596360" y="333360"/>
            <a:ext cx="857160" cy="78120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857160" cy="78120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4"/>
          <a:stretch/>
        </p:blipFill>
        <p:spPr>
          <a:xfrm>
            <a:off x="5292720" y="3141720"/>
            <a:ext cx="2303640" cy="138096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5"/>
          <a:stretch/>
        </p:blipFill>
        <p:spPr>
          <a:xfrm flipH="1">
            <a:off x="1115640" y="5661000"/>
            <a:ext cx="224316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1547640" y="1844640"/>
            <a:ext cx="64090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на вопрос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0 рубле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gradFill rotWithShape="0">
            <a:gsLst>
              <a:gs pos="0">
                <a:srgbClr val="ffffff">
                  <a:alpha val="76078"/>
                </a:srgbClr>
              </a:gs>
              <a:gs pos="100000">
                <a:srgbClr val="757575">
                  <a:alpha val="69019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а)он хотел погубить свою душу и воспользовался помощью нечистой сил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б)он хотел жениться на чужой невес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в)он непочтительно разговаривал с цариц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г)он не послушался своей мате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042920" y="692280"/>
            <a:ext cx="6772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10. В чем состоит грех Вакулы?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2"/>
          <a:stretch/>
        </p:blipFill>
        <p:spPr>
          <a:xfrm>
            <a:off x="3419640" y="6148440"/>
            <a:ext cx="230472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1547640" y="1844640"/>
            <a:ext cx="64090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на вопрос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0 рубле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2771640" y="2349360"/>
            <a:ext cx="340848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ж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76720" y="4365720"/>
            <a:ext cx="2087280" cy="2087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7524720" y="6308640"/>
            <a:ext cx="1008000" cy="289080"/>
          </a:xfrm>
          <a:custGeom>
            <a:avLst/>
            <a:gdLst>
              <a:gd name="textAreaLeft" fmla="*/ 18720 w 1008000"/>
              <a:gd name="textAreaRight" fmla="*/ 989280 w 1008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75251" h="21600">
                <a:moveTo>
                  <a:pt x="0" y="0"/>
                </a:moveTo>
                <a:lnTo>
                  <a:pt x="75251" y="0"/>
                </a:lnTo>
                <a:lnTo>
                  <a:pt x="75251" y="21600"/>
                </a:lnTo>
                <a:lnTo>
                  <a:pt x="0" y="21600"/>
                </a:lnTo>
                <a:close/>
              </a:path>
              <a:path fill="lightenLess" w="75251" h="21600">
                <a:moveTo>
                  <a:pt x="0" y="0"/>
                </a:moveTo>
                <a:lnTo>
                  <a:pt x="75251" y="0"/>
                </a:lnTo>
                <a:lnTo>
                  <a:pt x="73851" y="1400"/>
                </a:lnTo>
                <a:lnTo>
                  <a:pt x="1400" y="1400"/>
                </a:lnTo>
                <a:close/>
              </a:path>
              <a:path fill="darken" w="75251" h="21600">
                <a:moveTo>
                  <a:pt x="75251" y="0"/>
                </a:moveTo>
                <a:lnTo>
                  <a:pt x="75251" y="21600"/>
                </a:lnTo>
                <a:lnTo>
                  <a:pt x="73851" y="20200"/>
                </a:lnTo>
                <a:lnTo>
                  <a:pt x="73851" y="1400"/>
                </a:lnTo>
                <a:close/>
              </a:path>
              <a:path fill="darkenLess" w="75251" h="21600">
                <a:moveTo>
                  <a:pt x="7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851" y="20200"/>
                </a:lnTo>
                <a:close/>
              </a:path>
              <a:path fill="lighten" w="7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757575">
                  <a:alpha val="53333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1)галуш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2)пампуш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3)сластё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4)чума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642920" y="1628280"/>
            <a:ext cx="4038840" cy="4464360"/>
          </a:xfrm>
          <a:prstGeom prst="rect">
            <a:avLst/>
          </a:prstGeom>
          <a:gradFill rotWithShape="0">
            <a:gsLst>
              <a:gs pos="0">
                <a:srgbClr val="ffffff">
                  <a:alpha val="72156"/>
                </a:srgbClr>
              </a:gs>
              <a:gs pos="100000">
                <a:srgbClr val="757575">
                  <a:alpha val="64313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а)пыш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б)обозники, едущие в Крым за солью и ры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в)клёц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г)кушанье из т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539640" y="549360"/>
            <a:ext cx="763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11. Найдите соответствия: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3132000" y="1557360"/>
            <a:ext cx="1371600" cy="138096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3"/>
          <a:stretch/>
        </p:blipFill>
        <p:spPr>
          <a:xfrm>
            <a:off x="7596360" y="5103720"/>
            <a:ext cx="105408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1547640" y="1844640"/>
            <a:ext cx="64090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на вопрос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0 рубле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gradFill rotWithShape="0">
            <a:gsLst>
              <a:gs pos="0">
                <a:srgbClr val="ffffff">
                  <a:alpha val="62352"/>
                </a:srgbClr>
              </a:gs>
              <a:gs pos="100000">
                <a:srgbClr val="757575">
                  <a:alpha val="58039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1)жупа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2)макит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3)плах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4)цибу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5)оселедец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6)свит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76360" y="1628280"/>
            <a:ext cx="3589560" cy="4464360"/>
          </a:xfrm>
          <a:prstGeom prst="rect">
            <a:avLst/>
          </a:prstGeom>
          <a:gradFill rotWithShape="0">
            <a:gsLst>
              <a:gs pos="0">
                <a:srgbClr val="ffffff">
                  <a:alpha val="71372"/>
                </a:srgbClr>
              </a:gs>
              <a:gs pos="100000">
                <a:srgbClr val="757575">
                  <a:alpha val="62352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990033"/>
                </a:solidFill>
                <a:latin typeface="Arial"/>
              </a:rPr>
              <a:t>а)горшок, в котором трут мак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990033"/>
                </a:solidFill>
                <a:latin typeface="Arial"/>
              </a:rPr>
              <a:t>б)род кафтан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990033"/>
                </a:solidFill>
                <a:latin typeface="Arial"/>
              </a:rPr>
              <a:t>в)род полукафтанья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990033"/>
                </a:solidFill>
                <a:latin typeface="Arial"/>
              </a:rPr>
              <a:t>г)длинная прядь волос на голове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990033"/>
                </a:solidFill>
                <a:latin typeface="Arial"/>
              </a:rPr>
              <a:t>д)лук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990033"/>
                </a:solidFill>
                <a:latin typeface="Arial"/>
              </a:rPr>
              <a:t>е)нижняя одежда женщи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258920" y="549360"/>
            <a:ext cx="6769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12. Найдите соответствия: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1763640" y="4581360"/>
            <a:ext cx="3168720" cy="202104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7812000" y="292428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4"/>
          <a:stretch/>
        </p:blipFill>
        <p:spPr>
          <a:xfrm>
            <a:off x="3348000" y="191628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5"/>
          <a:stretch/>
        </p:blipFill>
        <p:spPr>
          <a:xfrm>
            <a:off x="6588000" y="4724280"/>
            <a:ext cx="285840" cy="27648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6"/>
          <a:stretch/>
        </p:blipFill>
        <p:spPr>
          <a:xfrm>
            <a:off x="8101080" y="5805360"/>
            <a:ext cx="285840" cy="27648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7"/>
          <a:stretch/>
        </p:blipFill>
        <p:spPr>
          <a:xfrm>
            <a:off x="1042920" y="537372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8"/>
          <a:stretch/>
        </p:blipFill>
        <p:spPr>
          <a:xfrm>
            <a:off x="3492360" y="3789360"/>
            <a:ext cx="28584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611280" y="1197000"/>
            <a:ext cx="81374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лодцы! 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работу!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2124000" y="3141720"/>
            <a:ext cx="475308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5:53:52Z</dcterms:created>
  <dc:creator>Люба</dc:creator>
  <dc:description/>
  <dc:language>en-US</dc:language>
  <cp:lastModifiedBy>Customer</cp:lastModifiedBy>
  <dcterms:modified xsi:type="dcterms:W3CDTF">2012-01-08T18:17:11Z</dcterms:modified>
  <cp:revision>17</cp:revision>
  <dc:subject/>
  <dc:title>Тест по повести Н.В.Гоголя «Вечера на хуторе близ Диканьки» </dc:title>
</cp:coreProperties>
</file>