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8.gif" ContentType="image/gif"/>
  <Override PartName="/ppt/media/image25.gif" ContentType="image/gif"/>
  <Override PartName="/ppt/media/image6.jpeg" ContentType="image/jpeg"/>
  <Override PartName="/ppt/media/image23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21.jpeg" ContentType="image/jpeg"/>
  <Override PartName="/ppt/media/image36.gif" ContentType="image/gif"/>
  <Override PartName="/ppt/media/image17.gif" ContentType="image/gif"/>
  <Override PartName="/ppt/media/image16.gif" ContentType="image/gif"/>
  <Override PartName="/ppt/media/image27.gif" ContentType="image/gif"/>
  <Override PartName="/ppt/media/image22.jpeg" ContentType="image/jpeg"/>
  <Override PartName="/ppt/media/image1.jpeg" ContentType="image/jpeg"/>
  <Override PartName="/ppt/media/image34.gif" ContentType="image/gif"/>
  <Override PartName="/ppt/media/image9.gif" ContentType="image/gif"/>
  <Override PartName="/ppt/media/image39.gif" ContentType="image/gif"/>
  <Override PartName="/ppt/media/image12.gif" ContentType="image/gif"/>
  <Override PartName="/ppt/media/image31.gif" ContentType="image/gif"/>
  <Override PartName="/ppt/media/image44.jpeg" ContentType="image/jpeg"/>
  <Override PartName="/ppt/media/image32.gif" ContentType="image/gif"/>
  <Override PartName="/ppt/media/image10.gif" ContentType="image/gif"/>
  <Override PartName="/ppt/media/image37.gif" ContentType="image/gif"/>
  <Override PartName="/ppt/media/image2.jpeg" ContentType="image/jpeg"/>
  <Override PartName="/ppt/media/image40.gif" ContentType="image/gif"/>
  <Override PartName="/ppt/media/image30.gif" ContentType="image/gif"/>
  <Override PartName="/ppt/media/image42.gif" ContentType="image/gif"/>
  <Override PartName="/ppt/media/image43.jpeg" ContentType="image/jpeg"/>
  <Override PartName="/ppt/media/image13.gif" ContentType="image/gif"/>
  <Override PartName="/ppt/media/image38.gif" ContentType="image/gif"/>
  <Override PartName="/ppt/media/image8.gif" ContentType="image/gif"/>
  <Override PartName="/ppt/media/image35.gif" ContentType="image/gif"/>
  <Override PartName="/ppt/media/image7.jpeg" ContentType="image/jpeg"/>
  <Override PartName="/ppt/media/image5.jpeg" ContentType="image/jpeg"/>
  <Override PartName="/ppt/media/image15.gif" ContentType="image/gif"/>
  <Override PartName="/ppt/media/image11.gif" ContentType="image/gif"/>
  <Override PartName="/ppt/media/image14.png" ContentType="image/png"/>
  <Override PartName="/ppt/media/image41.gif" ContentType="image/gif"/>
  <Override PartName="/ppt/media/image4.png" ContentType="image/png"/>
  <Override PartName="/ppt/media/image24.gif" ContentType="image/gif"/>
  <Override PartName="/ppt/media/image33.gif" ContentType="image/gif"/>
  <Override PartName="/ppt/media/image3.gif" ContentType="image/gif"/>
  <Override PartName="/ppt/media/image26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9FF4-6CCC-43BC-9C96-AE586926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524-D16D-4892-B990-4FA55DD9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455D-001B-4379-AB6D-143A4AD4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002B-7100-4A34-8B76-A6577882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CD36-FCC0-40A9-A57B-7A7C441C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B81B-5ECF-489C-99BA-0093F308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FAE1-E1FF-4D26-84E4-BBD34939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CBB2-8505-474E-846F-42C72CFA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BE86-92BB-40EF-A32D-45ECA1D5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DFB3-6A0E-4ECC-83E9-B0BA5630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009C-8109-43E3-8E04-6E647BF8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5317-FFD7-4506-914D-842DD346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EF8D-D4CB-4A59-9859-EB958246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86B1-E594-491E-8E11-39F6507F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FF1C-C1D2-4369-B2FA-D4BDCEC3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A484-3A99-46BD-AB00-E59317B8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92B2-F125-4E76-AC94-43F20C4A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17079-76D0-4E37-A668-2A03F2B1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EB140-1DBF-48DE-B507-0B075DFA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F72D9-E0A5-4BF4-940C-6A8D118E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592CF-DD70-4696-88A5-CD670D63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8AA78-9D27-4DE2-82FD-181FCD72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D84-D7B5-4519-8365-0EA16FA5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C7750-EF05-4447-A766-80E6E7C3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87689-5BC2-4959-A8FD-48E5F2F2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0FFE6-254B-4A22-A0B4-15EA9991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188CA-06D1-4D25-A514-87BC171D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694DC-AA2B-4F21-8586-434A7276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1B263-2E6C-4418-9097-1FA8775C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F01D6-CCA3-45A2-96C0-89692138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D58-3862-4CE3-8542-0BAA05D9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0FE6-436C-4128-9BCC-67C5B0F3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541-A365-4ACF-A6FC-61DA8ABF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1E0-D6C8-4304-9F50-92EE69A3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6F53-0B9D-49E0-BA7C-1FD866C9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9200-F911-4FEB-AED4-A6B33ED7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1C17-7A70-42A6-B891-B0A57AB98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5A3E-7725-46B9-9AFF-4E4ADC9042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63CE-6B94-4F29-97F7-9BFE5ED9AD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1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5.xml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7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1.xml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3.xm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26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5.gif"/><Relationship Id="rId12" Type="http://schemas.openxmlformats.org/officeDocument/2006/relationships/image" Target="../media/image25.gif"/><Relationship Id="rId13" Type="http://schemas.openxmlformats.org/officeDocument/2006/relationships/image" Target="../media/image25.gif"/><Relationship Id="rId14" Type="http://schemas.openxmlformats.org/officeDocument/2006/relationships/image" Target="../media/image25.gif"/><Relationship Id="rId15" Type="http://schemas.openxmlformats.org/officeDocument/2006/relationships/image" Target="../media/image25.gif"/><Relationship Id="rId16" Type="http://schemas.openxmlformats.org/officeDocument/2006/relationships/image" Target="../media/image25.gif"/><Relationship Id="rId17" Type="http://schemas.openxmlformats.org/officeDocument/2006/relationships/image" Target="../media/image25.gif"/><Relationship Id="rId18" Type="http://schemas.openxmlformats.org/officeDocument/2006/relationships/image" Target="../media/image26.gif"/><Relationship Id="rId19" Type="http://schemas.openxmlformats.org/officeDocument/2006/relationships/image" Target="../media/image26.gif"/><Relationship Id="rId20" Type="http://schemas.openxmlformats.org/officeDocument/2006/relationships/image" Target="../media/image26.gif"/><Relationship Id="rId21" Type="http://schemas.openxmlformats.org/officeDocument/2006/relationships/image" Target="../media/image26.gif"/><Relationship Id="rId22" Type="http://schemas.openxmlformats.org/officeDocument/2006/relationships/image" Target="../media/image26.gif"/><Relationship Id="rId23" Type="http://schemas.openxmlformats.org/officeDocument/2006/relationships/image" Target="../media/image26.gif"/><Relationship Id="rId24" Type="http://schemas.openxmlformats.org/officeDocument/2006/relationships/image" Target="../media/image4.png"/><Relationship Id="rId2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4.gif"/><Relationship Id="rId11" Type="http://schemas.openxmlformats.org/officeDocument/2006/relationships/image" Target="../media/image24.gif"/><Relationship Id="rId12" Type="http://schemas.openxmlformats.org/officeDocument/2006/relationships/image" Target="../media/image24.gif"/><Relationship Id="rId13" Type="http://schemas.openxmlformats.org/officeDocument/2006/relationships/image" Target="../media/image24.gif"/><Relationship Id="rId14" Type="http://schemas.openxmlformats.org/officeDocument/2006/relationships/image" Target="../media/image24.gif"/><Relationship Id="rId15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8.gif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971640" y="620640"/>
            <a:ext cx="7632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рок - аукцион знани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 повести "Ночь перед Рождеством"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з цикла Н.В.Гогол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Вечера на хуторе близ Диканьки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627280" y="4005360"/>
            <a:ext cx="3809880" cy="2619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68360" y="537372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7387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900000" y="2852640"/>
            <a:ext cx="744552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лавное увлечение гимназист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92360" y="4076640"/>
            <a:ext cx="221472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2843280" y="1700280"/>
            <a:ext cx="300492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ат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92360" y="4076640"/>
            <a:ext cx="2214720" cy="2001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524720" y="6308640"/>
            <a:ext cx="1008000" cy="28908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75251" h="21600">
                <a:moveTo>
                  <a:pt x="0" y="0"/>
                </a:moveTo>
                <a:lnTo>
                  <a:pt x="75251" y="0"/>
                </a:lnTo>
                <a:lnTo>
                  <a:pt x="75251" y="21600"/>
                </a:lnTo>
                <a:lnTo>
                  <a:pt x="0" y="21600"/>
                </a:lnTo>
                <a:close/>
              </a:path>
              <a:path fill="lightenLess" w="75251" h="21600">
                <a:moveTo>
                  <a:pt x="0" y="0"/>
                </a:moveTo>
                <a:lnTo>
                  <a:pt x="75251" y="0"/>
                </a:lnTo>
                <a:lnTo>
                  <a:pt x="73851" y="1400"/>
                </a:lnTo>
                <a:lnTo>
                  <a:pt x="1400" y="1400"/>
                </a:lnTo>
                <a:close/>
              </a:path>
              <a:path fill="darken" w="75251" h="21600">
                <a:moveTo>
                  <a:pt x="75251" y="0"/>
                </a:moveTo>
                <a:lnTo>
                  <a:pt x="75251" y="21600"/>
                </a:lnTo>
                <a:lnTo>
                  <a:pt x="73851" y="20200"/>
                </a:lnTo>
                <a:lnTo>
                  <a:pt x="73851" y="1400"/>
                </a:lnTo>
                <a:close/>
              </a:path>
              <a:path fill="darkenLess" w="75251" h="21600">
                <a:moveTo>
                  <a:pt x="7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851" y="20200"/>
                </a:lnTo>
                <a:close/>
              </a:path>
              <a:path fill="lighten" w="7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476360" y="1844640"/>
            <a:ext cx="666432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узыкальный инструмент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котором играл Гоголь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843280" y="4149720"/>
            <a:ext cx="29224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2627280" y="2349360"/>
            <a:ext cx="3529080" cy="18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крип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843280" y="4149720"/>
            <a:ext cx="2922480" cy="2151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524720" y="6308640"/>
            <a:ext cx="1008000" cy="28908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75251" h="21600">
                <a:moveTo>
                  <a:pt x="0" y="0"/>
                </a:moveTo>
                <a:lnTo>
                  <a:pt x="75251" y="0"/>
                </a:lnTo>
                <a:lnTo>
                  <a:pt x="75251" y="21600"/>
                </a:lnTo>
                <a:lnTo>
                  <a:pt x="0" y="21600"/>
                </a:lnTo>
                <a:close/>
              </a:path>
              <a:path fill="lightenLess" w="75251" h="21600">
                <a:moveTo>
                  <a:pt x="0" y="0"/>
                </a:moveTo>
                <a:lnTo>
                  <a:pt x="75251" y="0"/>
                </a:lnTo>
                <a:lnTo>
                  <a:pt x="73851" y="1400"/>
                </a:lnTo>
                <a:lnTo>
                  <a:pt x="1400" y="1400"/>
                </a:lnTo>
                <a:close/>
              </a:path>
              <a:path fill="darken" w="75251" h="21600">
                <a:moveTo>
                  <a:pt x="75251" y="0"/>
                </a:moveTo>
                <a:lnTo>
                  <a:pt x="75251" y="21600"/>
                </a:lnTo>
                <a:lnTo>
                  <a:pt x="73851" y="20200"/>
                </a:lnTo>
                <a:lnTo>
                  <a:pt x="73851" y="1400"/>
                </a:lnTo>
                <a:close/>
              </a:path>
              <a:path fill="darkenLess" w="75251" h="21600">
                <a:moveTo>
                  <a:pt x="7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851" y="20200"/>
                </a:lnTo>
                <a:close/>
              </a:path>
              <a:path fill="lighten" w="7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95280" y="1628640"/>
            <a:ext cx="8424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ана, куда совершил путешествие Гоголь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 Гробу Господню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64000" y="3789360"/>
            <a:ext cx="22096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556000" y="2205000"/>
            <a:ext cx="4135320" cy="16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ерусал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64000" y="3789360"/>
            <a:ext cx="2209680" cy="26002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524720" y="6308640"/>
            <a:ext cx="1008000" cy="28908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75251" h="21600">
                <a:moveTo>
                  <a:pt x="0" y="0"/>
                </a:moveTo>
                <a:lnTo>
                  <a:pt x="75251" y="0"/>
                </a:lnTo>
                <a:lnTo>
                  <a:pt x="75251" y="21600"/>
                </a:lnTo>
                <a:lnTo>
                  <a:pt x="0" y="21600"/>
                </a:lnTo>
                <a:close/>
              </a:path>
              <a:path fill="lightenLess" w="75251" h="21600">
                <a:moveTo>
                  <a:pt x="0" y="0"/>
                </a:moveTo>
                <a:lnTo>
                  <a:pt x="75251" y="0"/>
                </a:lnTo>
                <a:lnTo>
                  <a:pt x="73851" y="1400"/>
                </a:lnTo>
                <a:lnTo>
                  <a:pt x="1400" y="1400"/>
                </a:lnTo>
                <a:close/>
              </a:path>
              <a:path fill="darken" w="75251" h="21600">
                <a:moveTo>
                  <a:pt x="75251" y="0"/>
                </a:moveTo>
                <a:lnTo>
                  <a:pt x="75251" y="21600"/>
                </a:lnTo>
                <a:lnTo>
                  <a:pt x="73851" y="20200"/>
                </a:lnTo>
                <a:lnTo>
                  <a:pt x="73851" y="1400"/>
                </a:lnTo>
                <a:close/>
              </a:path>
              <a:path fill="darkenLess" w="75251" h="21600">
                <a:moveTo>
                  <a:pt x="7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851" y="20200"/>
                </a:lnTo>
                <a:close/>
              </a:path>
              <a:path fill="lighten" w="7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79280" y="2133720"/>
            <a:ext cx="87915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сатель, с которым 20 мая 1831 год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стоялось знакомство Гоголя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64000" y="3933720"/>
            <a:ext cx="244944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611280" y="1916280"/>
            <a:ext cx="4105080" cy="17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.С. Пушк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932360" y="1052640"/>
            <a:ext cx="4029120" cy="47415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7524720" y="6308640"/>
            <a:ext cx="1008000" cy="28908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75251" h="21600">
                <a:moveTo>
                  <a:pt x="0" y="0"/>
                </a:moveTo>
                <a:lnTo>
                  <a:pt x="75251" y="0"/>
                </a:lnTo>
                <a:lnTo>
                  <a:pt x="75251" y="21600"/>
                </a:lnTo>
                <a:lnTo>
                  <a:pt x="0" y="21600"/>
                </a:lnTo>
                <a:close/>
              </a:path>
              <a:path fill="lightenLess" w="75251" h="21600">
                <a:moveTo>
                  <a:pt x="0" y="0"/>
                </a:moveTo>
                <a:lnTo>
                  <a:pt x="75251" y="0"/>
                </a:lnTo>
                <a:lnTo>
                  <a:pt x="73851" y="1400"/>
                </a:lnTo>
                <a:lnTo>
                  <a:pt x="1400" y="1400"/>
                </a:lnTo>
                <a:close/>
              </a:path>
              <a:path fill="darken" w="75251" h="21600">
                <a:moveTo>
                  <a:pt x="75251" y="0"/>
                </a:moveTo>
                <a:lnTo>
                  <a:pt x="75251" y="21600"/>
                </a:lnTo>
                <a:lnTo>
                  <a:pt x="73851" y="20200"/>
                </a:lnTo>
                <a:lnTo>
                  <a:pt x="73851" y="1400"/>
                </a:lnTo>
                <a:close/>
              </a:path>
              <a:path fill="darkenLess" w="75251" h="21600">
                <a:moveTo>
                  <a:pt x="7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851" y="20200"/>
                </a:lnTo>
                <a:close/>
              </a:path>
              <a:path fill="lighten" w="7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692360" y="2349360"/>
            <a:ext cx="560520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севдоним Гогол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0800000">
            <a:off x="3203640" y="4365360"/>
            <a:ext cx="20160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2987640" y="2421000"/>
            <a:ext cx="2778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0800000">
            <a:off x="3203640" y="4365360"/>
            <a:ext cx="2016000" cy="18493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524720" y="6308640"/>
            <a:ext cx="1008000" cy="28908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75251" h="21600">
                <a:moveTo>
                  <a:pt x="0" y="0"/>
                </a:moveTo>
                <a:lnTo>
                  <a:pt x="75251" y="0"/>
                </a:lnTo>
                <a:lnTo>
                  <a:pt x="75251" y="21600"/>
                </a:lnTo>
                <a:lnTo>
                  <a:pt x="0" y="21600"/>
                </a:lnTo>
                <a:close/>
              </a:path>
              <a:path fill="lightenLess" w="75251" h="21600">
                <a:moveTo>
                  <a:pt x="0" y="0"/>
                </a:moveTo>
                <a:lnTo>
                  <a:pt x="75251" y="0"/>
                </a:lnTo>
                <a:lnTo>
                  <a:pt x="73851" y="1400"/>
                </a:lnTo>
                <a:lnTo>
                  <a:pt x="1400" y="1400"/>
                </a:lnTo>
                <a:close/>
              </a:path>
              <a:path fill="darken" w="75251" h="21600">
                <a:moveTo>
                  <a:pt x="75251" y="0"/>
                </a:moveTo>
                <a:lnTo>
                  <a:pt x="75251" y="21600"/>
                </a:lnTo>
                <a:lnTo>
                  <a:pt x="73851" y="20200"/>
                </a:lnTo>
                <a:lnTo>
                  <a:pt x="73851" y="1400"/>
                </a:lnTo>
                <a:close/>
              </a:path>
              <a:path fill="darkenLess" w="75251" h="21600">
                <a:moveTo>
                  <a:pt x="7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851" y="20200"/>
                </a:lnTo>
                <a:close/>
              </a:path>
              <a:path fill="lighten" w="7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50920" y="1268280"/>
            <a:ext cx="8713800" cy="532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>
                  <a:alpha val="60392"/>
                </a:srgbClr>
              </a:gs>
              <a:gs pos="100000">
                <a:srgbClr val="bbe0e3">
                  <a:alpha val="69019"/>
                </a:srgbClr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углубить первоначальное впечатление от повестей Гого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помочь учащимся составит целостное представление о природе авторского слова, богатстве внутреннего мира писа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развивать логическое и творческое мышление через игровые момен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воспитать у учащихся нравственные качества: доброту, любовь к людям и родине, уважение ее традиций и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03640" y="404640"/>
            <a:ext cx="215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Це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651640" y="0"/>
            <a:ext cx="2376360" cy="22446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611280" y="2492280"/>
            <a:ext cx="7993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сто в гимназии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торое Гоголь почитал как святилищ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59280" y="404640"/>
            <a:ext cx="2663640" cy="25164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2627280" y="2924280"/>
            <a:ext cx="374508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иблиот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"/>
          <p:cNvSpPr/>
          <p:nvPr/>
        </p:nvSpPr>
        <p:spPr>
          <a:xfrm>
            <a:off x="7524720" y="6308640"/>
            <a:ext cx="1008000" cy="28908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75251" h="21600">
                <a:moveTo>
                  <a:pt x="0" y="0"/>
                </a:moveTo>
                <a:lnTo>
                  <a:pt x="75251" y="0"/>
                </a:lnTo>
                <a:lnTo>
                  <a:pt x="75251" y="21600"/>
                </a:lnTo>
                <a:lnTo>
                  <a:pt x="0" y="21600"/>
                </a:lnTo>
                <a:close/>
              </a:path>
              <a:path fill="lightenLess" w="75251" h="21600">
                <a:moveTo>
                  <a:pt x="0" y="0"/>
                </a:moveTo>
                <a:lnTo>
                  <a:pt x="75251" y="0"/>
                </a:lnTo>
                <a:lnTo>
                  <a:pt x="73851" y="1400"/>
                </a:lnTo>
                <a:lnTo>
                  <a:pt x="1400" y="1400"/>
                </a:lnTo>
                <a:close/>
              </a:path>
              <a:path fill="darken" w="75251" h="21600">
                <a:moveTo>
                  <a:pt x="75251" y="0"/>
                </a:moveTo>
                <a:lnTo>
                  <a:pt x="75251" y="21600"/>
                </a:lnTo>
                <a:lnTo>
                  <a:pt x="73851" y="20200"/>
                </a:lnTo>
                <a:lnTo>
                  <a:pt x="73851" y="1400"/>
                </a:lnTo>
                <a:close/>
              </a:path>
              <a:path fill="darkenLess" w="75251" h="21600">
                <a:moveTo>
                  <a:pt x="7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851" y="20200"/>
                </a:lnTo>
                <a:close/>
              </a:path>
              <a:path fill="lighten" w="7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627280" y="4508640"/>
            <a:ext cx="4211640" cy="1765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395280" y="2060640"/>
            <a:ext cx="8505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ана, где больше всего жил Гоголь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удучи за границей с 1842 года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2627280" y="2276640"/>
            <a:ext cx="3809880" cy="16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тал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2627280" y="4508640"/>
            <a:ext cx="4211640" cy="17650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524720" y="6308640"/>
            <a:ext cx="1008000" cy="28908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75251" h="21600">
                <a:moveTo>
                  <a:pt x="0" y="0"/>
                </a:moveTo>
                <a:lnTo>
                  <a:pt x="75251" y="0"/>
                </a:lnTo>
                <a:lnTo>
                  <a:pt x="75251" y="21600"/>
                </a:lnTo>
                <a:lnTo>
                  <a:pt x="0" y="21600"/>
                </a:lnTo>
                <a:close/>
              </a:path>
              <a:path fill="lightenLess" w="75251" h="21600">
                <a:moveTo>
                  <a:pt x="0" y="0"/>
                </a:moveTo>
                <a:lnTo>
                  <a:pt x="75251" y="0"/>
                </a:lnTo>
                <a:lnTo>
                  <a:pt x="73851" y="1400"/>
                </a:lnTo>
                <a:lnTo>
                  <a:pt x="1400" y="1400"/>
                </a:lnTo>
                <a:close/>
              </a:path>
              <a:path fill="darken" w="75251" h="21600">
                <a:moveTo>
                  <a:pt x="75251" y="0"/>
                </a:moveTo>
                <a:lnTo>
                  <a:pt x="75251" y="21600"/>
                </a:lnTo>
                <a:lnTo>
                  <a:pt x="73851" y="20200"/>
                </a:lnTo>
                <a:lnTo>
                  <a:pt x="73851" y="1400"/>
                </a:lnTo>
                <a:close/>
              </a:path>
              <a:path fill="darkenLess" w="75251" h="21600">
                <a:moveTo>
                  <a:pt x="7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851" y="20200"/>
                </a:lnTo>
                <a:close/>
              </a:path>
              <a:path fill="lighten" w="7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761508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 rot="230400">
            <a:off x="553680" y="1120680"/>
            <a:ext cx="7777080" cy="35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7c8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торой лот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7c8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7c8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7c8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Эрудиты - толкователи"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7c8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1332000" y="1341360"/>
            <a:ext cx="5545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евада -</a:t>
            </a:r>
            <a:endParaRPr b="0" i="1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2987640" y="3933720"/>
            <a:ext cx="5545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садьба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332000" y="1341360"/>
            <a:ext cx="5545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евада -</a:t>
            </a:r>
            <a:endParaRPr b="0" i="1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76360" y="1484280"/>
            <a:ext cx="604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вец -</a:t>
            </a:r>
            <a:endParaRPr b="0" i="1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3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684360" y="3933720"/>
            <a:ext cx="561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пожник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1476360" y="1484280"/>
            <a:ext cx="604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вец -</a:t>
            </a:r>
            <a:endParaRPr b="0" i="1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403280" y="115920"/>
            <a:ext cx="63500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547640" y="1700280"/>
            <a:ext cx="5761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юлька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3276720" y="4221000"/>
            <a:ext cx="482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рубка</a:t>
            </a:r>
            <a:endParaRPr b="0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1547640" y="1700280"/>
            <a:ext cx="5761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юлька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116000" y="1628640"/>
            <a:ext cx="590544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вун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1979640" y="3933720"/>
            <a:ext cx="446400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рбуз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1116000" y="1628640"/>
            <a:ext cx="590544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вун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619280" y="1125360"/>
            <a:ext cx="6480000" cy="20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раблик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619280" y="1125360"/>
            <a:ext cx="6480000" cy="20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раблик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1835280" y="3500280"/>
            <a:ext cx="6842160" cy="217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ринный головной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бор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619280" y="1484280"/>
            <a:ext cx="6481800" cy="20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еревички - 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00000" y="3789360"/>
            <a:ext cx="5329440" cy="15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ашмачки</a:t>
            </a:r>
            <a:endParaRPr b="0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619280" y="1484280"/>
            <a:ext cx="6481800" cy="20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еревички - 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763640" y="1413000"/>
            <a:ext cx="57610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холь - </a:t>
            </a:r>
            <a:endParaRPr b="0" i="1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763640" y="1413000"/>
            <a:ext cx="57610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холь - 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68360" y="3429000"/>
            <a:ext cx="6477120" cy="15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линяная кружка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556000" y="1341360"/>
            <a:ext cx="4170240" cy="54025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1403280" y="189000"/>
            <a:ext cx="6769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 ло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Жизнь и творчество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иколая Васильевича Гоголя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979640" y="1773360"/>
            <a:ext cx="6553080" cy="20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ибуля - 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843280" y="4508640"/>
            <a:ext cx="345744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ук</a:t>
            </a:r>
            <a:endParaRPr b="0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979640" y="1773360"/>
            <a:ext cx="6553080" cy="20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ибуля - 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403280" y="1916280"/>
            <a:ext cx="7056360" cy="17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ляница - </a:t>
            </a:r>
            <a:endParaRPr b="0" i="1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124000" y="4005360"/>
            <a:ext cx="619128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ебольшой хлеб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03280" y="1916280"/>
            <a:ext cx="7056360" cy="17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ляница - </a:t>
            </a:r>
            <a:endParaRPr b="0" i="1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 flipH="1">
            <a:off x="108000" y="4508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332000" y="1773360"/>
            <a:ext cx="5904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алушки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332000" y="1773360"/>
            <a:ext cx="5904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алушки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547640" y="3933720"/>
            <a:ext cx="4608720" cy="13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лецки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476360" y="1628640"/>
            <a:ext cx="5975280" cy="19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вчина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476360" y="1628640"/>
            <a:ext cx="5975280" cy="19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вчина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203640" y="3860640"/>
            <a:ext cx="4680000" cy="13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вушка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547640" y="1484280"/>
            <a:ext cx="7128000" cy="21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жух -   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547640" y="1484280"/>
            <a:ext cx="7128000" cy="21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жух -   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692360" y="4076640"/>
            <a:ext cx="4535280" cy="15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улуп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04000" y="436572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395280" y="765000"/>
          <a:ext cx="8229600" cy="5896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9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 txBox="1"/>
          <p:nvPr/>
        </p:nvSpPr>
        <p:spPr>
          <a:xfrm>
            <a:off x="2987640" y="1125360"/>
            <a:ext cx="8334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03640" y="1197000"/>
            <a:ext cx="9781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236000" y="1125360"/>
            <a:ext cx="9777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987640" y="3141720"/>
            <a:ext cx="8334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59280" y="5157720"/>
            <a:ext cx="8334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76720" y="3068640"/>
            <a:ext cx="9781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076720" y="5157720"/>
            <a:ext cx="9781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236000" y="3068640"/>
            <a:ext cx="9777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308720" y="5084640"/>
            <a:ext cx="9781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68360" y="1268280"/>
            <a:ext cx="19051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 рубл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11280" y="2852640"/>
            <a:ext cx="180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0 рубл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39640" y="5084640"/>
            <a:ext cx="1800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5 рубл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835280" y="1700280"/>
            <a:ext cx="619128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мора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835280" y="1700280"/>
            <a:ext cx="619128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мора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203640" y="4365720"/>
            <a:ext cx="460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мбар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619280" y="1413000"/>
            <a:ext cx="6335640" cy="24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рень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619280" y="1413000"/>
            <a:ext cx="6335640" cy="24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рень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39640" y="4292640"/>
            <a:ext cx="6264360" cy="15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ломенный шалаш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332000" y="1628640"/>
            <a:ext cx="6192720" cy="21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рубок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1332000" y="1628640"/>
            <a:ext cx="6192720" cy="21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рубок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843280" y="4149720"/>
            <a:ext cx="5327640" cy="15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арень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547640" y="1628640"/>
            <a:ext cx="6409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кло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547640" y="1628640"/>
            <a:ext cx="6409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кло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564000" y="4365720"/>
            <a:ext cx="24480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д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403280" y="1628640"/>
            <a:ext cx="6480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хта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547640" y="3429000"/>
            <a:ext cx="684072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ижняя одежда женщины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250920" y="443700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1619280" y="981000"/>
            <a:ext cx="6480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хта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79280" y="1773360"/>
            <a:ext cx="84981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зовите имение, в котором прошл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тские годы писателя Н.В. Гогол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59280" y="4508640"/>
            <a:ext cx="3384360" cy="18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403280" y="1628640"/>
            <a:ext cx="6697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пилка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84360" y="4508640"/>
            <a:ext cx="601632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вирель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1403280" y="1628640"/>
            <a:ext cx="6697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пилка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258920" y="1916280"/>
            <a:ext cx="6402240" cy="20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лопец -</a:t>
            </a:r>
            <a:endParaRPr b="0" i="1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258920" y="1916280"/>
            <a:ext cx="6402240" cy="20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лопец -</a:t>
            </a:r>
            <a:endParaRPr b="0" i="1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627280" y="4508640"/>
            <a:ext cx="5616720" cy="13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льчик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2050920" y="1557360"/>
            <a:ext cx="6516720" cy="18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лядки - </a:t>
            </a:r>
            <a:endParaRPr b="0" i="1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11280" y="3573360"/>
            <a:ext cx="770580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ждественский </a:t>
            </a:r>
            <a:endParaRPr b="0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бряд</a:t>
            </a:r>
            <a:endParaRPr b="0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979640" y="1125360"/>
            <a:ext cx="6516720" cy="18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лядки - </a:t>
            </a:r>
            <a:endParaRPr b="0" i="1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804000" y="458136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8177040" cy="62150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108000" y="630864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403280" y="115920"/>
            <a:ext cx="63500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900000" y="1052640"/>
            <a:ext cx="7201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ст по повести Н.В.Гогол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Ночь перед Рождеством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6156360" y="3933720"/>
            <a:ext cx="2162160" cy="19321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6084720" y="321300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5"/>
          <a:stretch/>
        </p:blipFill>
        <p:spPr>
          <a:xfrm>
            <a:off x="7451640" y="2602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6"/>
          <a:stretch/>
        </p:blipFill>
        <p:spPr>
          <a:xfrm>
            <a:off x="2268360" y="3500280"/>
            <a:ext cx="562320" cy="5619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7"/>
          <a:stretch/>
        </p:blipFill>
        <p:spPr>
          <a:xfrm>
            <a:off x="4211640" y="404640"/>
            <a:ext cx="561960" cy="56232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8028000" y="2781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9"/>
          <a:stretch/>
        </p:blipFill>
        <p:spPr>
          <a:xfrm>
            <a:off x="179280" y="2133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10"/>
          <a:stretch/>
        </p:blipFill>
        <p:spPr>
          <a:xfrm>
            <a:off x="4643280" y="29242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1"/>
          <a:stretch/>
        </p:blipFill>
        <p:spPr>
          <a:xfrm>
            <a:off x="468360" y="2205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12"/>
          <a:stretch/>
        </p:blipFill>
        <p:spPr>
          <a:xfrm>
            <a:off x="1116000" y="33577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13"/>
          <a:stretch/>
        </p:blipFill>
        <p:spPr>
          <a:xfrm>
            <a:off x="2411280" y="54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4"/>
          <a:stretch/>
        </p:blipFill>
        <p:spPr>
          <a:xfrm>
            <a:off x="7164360" y="3068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5"/>
          <a:stretch/>
        </p:blipFill>
        <p:spPr>
          <a:xfrm>
            <a:off x="4859280" y="386064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16"/>
          <a:stretch/>
        </p:blipFill>
        <p:spPr>
          <a:xfrm>
            <a:off x="5219640" y="76500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17"/>
          <a:stretch/>
        </p:blipFill>
        <p:spPr>
          <a:xfrm>
            <a:off x="8317080" y="155736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18"/>
          <a:stretch/>
        </p:blipFill>
        <p:spPr>
          <a:xfrm>
            <a:off x="1332000" y="26028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19"/>
          <a:stretch/>
        </p:blipFill>
        <p:spPr>
          <a:xfrm>
            <a:off x="684360" y="4005360"/>
            <a:ext cx="285480" cy="2761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20"/>
          <a:stretch/>
        </p:blipFill>
        <p:spPr>
          <a:xfrm>
            <a:off x="7020000" y="54936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1"/>
          <a:stretch/>
        </p:blipFill>
        <p:spPr>
          <a:xfrm>
            <a:off x="3419640" y="907920"/>
            <a:ext cx="285480" cy="2764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2"/>
          <a:stretch/>
        </p:blipFill>
        <p:spPr>
          <a:xfrm>
            <a:off x="5435640" y="378936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3"/>
          <a:stretch/>
        </p:blipFill>
        <p:spPr>
          <a:xfrm>
            <a:off x="2050920" y="3213000"/>
            <a:ext cx="285840" cy="27648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4"/>
          <a:stretch/>
        </p:blipFill>
        <p:spPr>
          <a:xfrm>
            <a:off x="395280" y="611028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63584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2484360" y="2133720"/>
            <a:ext cx="4175280" cy="16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асильев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700360" y="4221000"/>
            <a:ext cx="4319640" cy="2392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524720" y="6308640"/>
            <a:ext cx="1008000" cy="28908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75251" h="21600">
                <a:moveTo>
                  <a:pt x="0" y="0"/>
                </a:moveTo>
                <a:lnTo>
                  <a:pt x="75251" y="0"/>
                </a:lnTo>
                <a:lnTo>
                  <a:pt x="75251" y="21600"/>
                </a:lnTo>
                <a:lnTo>
                  <a:pt x="0" y="21600"/>
                </a:lnTo>
                <a:close/>
              </a:path>
              <a:path fill="lightenLess" w="75251" h="21600">
                <a:moveTo>
                  <a:pt x="0" y="0"/>
                </a:moveTo>
                <a:lnTo>
                  <a:pt x="75251" y="0"/>
                </a:lnTo>
                <a:lnTo>
                  <a:pt x="73851" y="1400"/>
                </a:lnTo>
                <a:lnTo>
                  <a:pt x="1400" y="1400"/>
                </a:lnTo>
                <a:close/>
              </a:path>
              <a:path fill="darken" w="75251" h="21600">
                <a:moveTo>
                  <a:pt x="75251" y="0"/>
                </a:moveTo>
                <a:lnTo>
                  <a:pt x="75251" y="21600"/>
                </a:lnTo>
                <a:lnTo>
                  <a:pt x="73851" y="20200"/>
                </a:lnTo>
                <a:lnTo>
                  <a:pt x="73851" y="1400"/>
                </a:lnTo>
                <a:close/>
              </a:path>
              <a:path fill="darkenLess" w="75251" h="21600">
                <a:moveTo>
                  <a:pt x="7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851" y="20200"/>
                </a:lnTo>
                <a:close/>
              </a:path>
              <a:path fill="lighten" w="7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684000" y="1557000"/>
            <a:ext cx="7924680" cy="4419720"/>
          </a:xfrm>
          <a:prstGeom prst="rect">
            <a:avLst/>
          </a:prstGeom>
          <a:gradFill rotWithShape="0">
            <a:gsLst>
              <a:gs pos="0">
                <a:srgbClr val="ffffff">
                  <a:alpha val="74117"/>
                </a:srgbClr>
              </a:gs>
              <a:gs pos="100000">
                <a:srgbClr val="757575">
                  <a:alpha val="64313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Черт, задумав украсть месяц, перекидывает его «из одной руки в другую, как мужик, доставший голыми руками огонь для своей люльки». «ЛЮЛЬКА» -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а)колыбель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б)круж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в)свеч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г)трубка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11280" y="333360"/>
            <a:ext cx="828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ст по повести Н.В.Гоголя </a:t>
            </a:r>
            <a:endParaRPr b="0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Вечера на хуторе близ Диканьки». </a:t>
            </a:r>
            <a:endParaRPr b="0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6188040" y="3141720"/>
            <a:ext cx="2955960" cy="36180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1042920" y="4221000"/>
            <a:ext cx="93672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826920" y="2565360"/>
            <a:ext cx="7499520" cy="2836800"/>
          </a:xfrm>
          <a:prstGeom prst="rect">
            <a:avLst/>
          </a:prstGeom>
          <a:gradFill rotWithShape="0">
            <a:gsLst>
              <a:gs pos="0">
                <a:srgbClr val="ffffff">
                  <a:alpha val="74117"/>
                </a:srgbClr>
              </a:gs>
              <a:gs pos="100000">
                <a:srgbClr val="757575">
                  <a:alpha val="64313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а)гер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б)рассказч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в)изда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г)такого персонажа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179280" y="404640"/>
            <a:ext cx="8498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2.Рудый Панько в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«Вечерах на хуторе близ Диканьки» - это: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258920" cy="126828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6443640" y="3284640"/>
            <a:ext cx="1438200" cy="166680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4"/>
          <a:stretch/>
        </p:blipFill>
        <p:spPr>
          <a:xfrm>
            <a:off x="179280" y="5229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5"/>
          <a:stretch/>
        </p:blipFill>
        <p:spPr>
          <a:xfrm>
            <a:off x="8388360" y="32130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6"/>
          <a:stretch/>
        </p:blipFill>
        <p:spPr>
          <a:xfrm>
            <a:off x="3348000" y="19162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7"/>
          <a:stretch/>
        </p:blipFill>
        <p:spPr>
          <a:xfrm>
            <a:off x="108000" y="2133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8"/>
          <a:stretch/>
        </p:blipFill>
        <p:spPr>
          <a:xfrm>
            <a:off x="4716360" y="5516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9"/>
          <a:stretch/>
        </p:blipFill>
        <p:spPr>
          <a:xfrm>
            <a:off x="7885080" y="404640"/>
            <a:ext cx="561960" cy="5623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10"/>
          <a:stretch/>
        </p:blipFill>
        <p:spPr>
          <a:xfrm>
            <a:off x="6948360" y="40464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11"/>
          <a:stretch/>
        </p:blipFill>
        <p:spPr>
          <a:xfrm>
            <a:off x="108000" y="3141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12"/>
          <a:stretch/>
        </p:blipFill>
        <p:spPr>
          <a:xfrm>
            <a:off x="6084720" y="206064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13"/>
          <a:stretch/>
        </p:blipFill>
        <p:spPr>
          <a:xfrm>
            <a:off x="8388360" y="2133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14"/>
          <a:stretch/>
        </p:blipFill>
        <p:spPr>
          <a:xfrm>
            <a:off x="1835280" y="184464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11280" y="404640"/>
            <a:ext cx="8172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3. Какие тропы использованы Гоголем 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 предложении: "Снег загорелся широким серебряным полем 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и весь обсыпался хрустальными звездами"?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2565360"/>
            <a:ext cx="7499520" cy="2836800"/>
          </a:xfrm>
          <a:prstGeom prst="rect">
            <a:avLst/>
          </a:prstGeom>
          <a:gradFill rotWithShape="0">
            <a:gsLst>
              <a:gs pos="0">
                <a:srgbClr val="ffffff">
                  <a:alpha val="74117"/>
                </a:srgbClr>
              </a:gs>
              <a:gs pos="100000">
                <a:srgbClr val="757575">
                  <a:alpha val="6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а)метаф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б)эпит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в)гипербо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г)лит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6156360" y="3284640"/>
            <a:ext cx="1871640" cy="13795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250920" y="3429000"/>
            <a:ext cx="24098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108000" y="549360"/>
            <a:ext cx="8640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4. Кому принадлежала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«невыразимо приятная усмешка, 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прожигавшая душу»?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26920" y="2565360"/>
            <a:ext cx="7499520" cy="2836800"/>
          </a:xfrm>
          <a:prstGeom prst="rect">
            <a:avLst/>
          </a:prstGeom>
          <a:gradFill rotWithShape="0">
            <a:gsLst>
              <a:gs pos="0">
                <a:srgbClr val="ffffff">
                  <a:alpha val="74117"/>
                </a:srgbClr>
              </a:gs>
              <a:gs pos="100000">
                <a:srgbClr val="757575">
                  <a:alpha val="6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а)Солох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б)Окс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в)цари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г)Ваку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5508720" y="4365720"/>
            <a:ext cx="1957320" cy="195732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3"/>
          <a:stretch/>
        </p:blipFill>
        <p:spPr>
          <a:xfrm>
            <a:off x="4859280" y="400536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4"/>
          <a:stretch/>
        </p:blipFill>
        <p:spPr>
          <a:xfrm>
            <a:off x="7596360" y="4149720"/>
            <a:ext cx="285480" cy="2761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5"/>
          <a:stretch/>
        </p:blipFill>
        <p:spPr>
          <a:xfrm>
            <a:off x="6156360" y="3860640"/>
            <a:ext cx="285840" cy="27648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6"/>
          <a:stretch/>
        </p:blipFill>
        <p:spPr>
          <a:xfrm>
            <a:off x="5292720" y="314172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7"/>
          <a:stretch/>
        </p:blipFill>
        <p:spPr>
          <a:xfrm>
            <a:off x="7164360" y="3068640"/>
            <a:ext cx="2858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757575">
                  <a:alpha val="78039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а)был зол на Чуба, за то что он не давал согласия на свадьбу с Окса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б)Вакула не хотел, чтобы Чуб женился на Солох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в)Чуб заблудился в метели, не узнал собственную хату, переменил голос и попал Вакуле под горячую ру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г)Вакула вспомнил старую вражду.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187280" y="189000"/>
            <a:ext cx="691380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5. Кузнец Вакула поколотил 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уба, потому что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13986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24000" y="2205000"/>
            <a:ext cx="849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род, в котором основали гимназию,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да в мае 1821 года поступил Гогол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436572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>
                  <a:alpha val="74117"/>
                </a:srgbClr>
              </a:gs>
              <a:gs pos="100000">
                <a:srgbClr val="757575">
                  <a:alpha val="64313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а)хотел попросить дене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б)хотел поколядовать около его до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в)в г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г)хотел с его помощью найти дорогу к чер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95280" y="404640"/>
            <a:ext cx="792180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6. Зачем Вакула отправился к 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Пузатому Пацюку?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5651640" y="4437000"/>
            <a:ext cx="1076040" cy="21528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1547640" y="3645000"/>
            <a:ext cx="20941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gradFill rotWithShape="0">
            <a:gsLst>
              <a:gs pos="0">
                <a:srgbClr val="ffffff">
                  <a:alpha val="74117"/>
                </a:srgbClr>
              </a:gs>
              <a:gs pos="100000">
                <a:srgbClr val="757575">
                  <a:alpha val="64313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а)гипербо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б)олицетвор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в)эпит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г)срав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826920" y="333360"/>
            <a:ext cx="7632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7. Какой троп позволяет ярче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представить Пузатого Пацюка, который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"ел за шестерых косарей и выпивал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одним разом почти по целому ведру"?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 flipH="1">
            <a:off x="5508360" y="2997360"/>
            <a:ext cx="1847880" cy="37274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4211640" y="4292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4"/>
          <a:stretch/>
        </p:blipFill>
        <p:spPr>
          <a:xfrm>
            <a:off x="5076720" y="2924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5"/>
          <a:stretch/>
        </p:blipFill>
        <p:spPr>
          <a:xfrm>
            <a:off x="7812000" y="285264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>
                  <a:alpha val="76078"/>
                </a:srgbClr>
              </a:gs>
              <a:gs pos="100000">
                <a:srgbClr val="757575">
                  <a:alpha val="69019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а)архитекту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б)медная руч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в)карт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г)наряды придво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32000" y="333360"/>
            <a:ext cx="648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8. Что больше всего поразило 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акулу во дворце?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5651640" y="2792520"/>
            <a:ext cx="28969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>
                  <a:alpha val="77254"/>
                </a:srgbClr>
              </a:gs>
              <a:gs pos="100000">
                <a:srgbClr val="757575">
                  <a:alpha val="7921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а) Екатерина </a:t>
            </a: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II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б) Потемки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в) Фонвизи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г) Сув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476360" y="189000"/>
            <a:ext cx="604836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9. Какие реальные лица 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действуют в повести?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7596360" y="333360"/>
            <a:ext cx="857160" cy="78120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857160" cy="78120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4"/>
          <a:stretch/>
        </p:blipFill>
        <p:spPr>
          <a:xfrm>
            <a:off x="5292720" y="3141720"/>
            <a:ext cx="2303640" cy="13809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5"/>
          <a:stretch/>
        </p:blipFill>
        <p:spPr>
          <a:xfrm flipH="1">
            <a:off x="1115640" y="5661000"/>
            <a:ext cx="22431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>
                  <a:alpha val="76078"/>
                </a:srgbClr>
              </a:gs>
              <a:gs pos="100000">
                <a:srgbClr val="757575">
                  <a:alpha val="69019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а)он хотел погубить свою душу и воспользовался помощью нечистой си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б)он хотел жениться на чужой невес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в)он непочтительно разговаривал с цариц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г)он не послушался своей мате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42920" y="692280"/>
            <a:ext cx="6772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10. В чем состоит грех Вакулы?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3419640" y="6148440"/>
            <a:ext cx="230472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0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2771640" y="2349360"/>
            <a:ext cx="340848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ж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4365720"/>
            <a:ext cx="2087280" cy="2087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524720" y="6308640"/>
            <a:ext cx="1008000" cy="28908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75251" h="21600">
                <a:moveTo>
                  <a:pt x="0" y="0"/>
                </a:moveTo>
                <a:lnTo>
                  <a:pt x="75251" y="0"/>
                </a:lnTo>
                <a:lnTo>
                  <a:pt x="75251" y="21600"/>
                </a:lnTo>
                <a:lnTo>
                  <a:pt x="0" y="21600"/>
                </a:lnTo>
                <a:close/>
              </a:path>
              <a:path fill="lightenLess" w="75251" h="21600">
                <a:moveTo>
                  <a:pt x="0" y="0"/>
                </a:moveTo>
                <a:lnTo>
                  <a:pt x="75251" y="0"/>
                </a:lnTo>
                <a:lnTo>
                  <a:pt x="73851" y="1400"/>
                </a:lnTo>
                <a:lnTo>
                  <a:pt x="1400" y="1400"/>
                </a:lnTo>
                <a:close/>
              </a:path>
              <a:path fill="darken" w="75251" h="21600">
                <a:moveTo>
                  <a:pt x="75251" y="0"/>
                </a:moveTo>
                <a:lnTo>
                  <a:pt x="75251" y="21600"/>
                </a:lnTo>
                <a:lnTo>
                  <a:pt x="73851" y="20200"/>
                </a:lnTo>
                <a:lnTo>
                  <a:pt x="73851" y="1400"/>
                </a:lnTo>
                <a:close/>
              </a:path>
              <a:path fill="darkenLess" w="75251" h="21600">
                <a:moveTo>
                  <a:pt x="7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851" y="20200"/>
                </a:lnTo>
                <a:close/>
              </a:path>
              <a:path fill="lighten" w="7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57575">
                  <a:alpha val="53333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1)галуш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2)пампуш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3)сластё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4)чума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4464360"/>
          </a:xfrm>
          <a:prstGeom prst="rect">
            <a:avLst/>
          </a:prstGeom>
          <a:gradFill rotWithShape="0">
            <a:gsLst>
              <a:gs pos="0">
                <a:srgbClr val="ffffff">
                  <a:alpha val="72156"/>
                </a:srgbClr>
              </a:gs>
              <a:gs pos="100000">
                <a:srgbClr val="757575">
                  <a:alpha val="64313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а)пыш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б)обозники, едущие в Крым за солью и ры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в)клёц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г)кушанье из т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539640" y="549360"/>
            <a:ext cx="763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11. Найдите соответствия: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3132000" y="1557360"/>
            <a:ext cx="1371600" cy="138096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3"/>
          <a:stretch/>
        </p:blipFill>
        <p:spPr>
          <a:xfrm>
            <a:off x="7596360" y="5103720"/>
            <a:ext cx="105408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0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ffffff">
                  <a:alpha val="62352"/>
                </a:srgbClr>
              </a:gs>
              <a:gs pos="100000">
                <a:srgbClr val="757575">
                  <a:alpha val="58039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1)жуп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2)макит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3)плах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4)цибу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5)оселедец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6)свит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76360" y="1628280"/>
            <a:ext cx="3589560" cy="4464360"/>
          </a:xfrm>
          <a:prstGeom prst="rect">
            <a:avLst/>
          </a:prstGeom>
          <a:gradFill rotWithShape="0">
            <a:gsLst>
              <a:gs pos="0">
                <a:srgbClr val="ffffff">
                  <a:alpha val="71372"/>
                </a:srgbClr>
              </a:gs>
              <a:gs pos="100000">
                <a:srgbClr val="757575">
                  <a:alpha val="62352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90033"/>
                </a:solidFill>
                <a:latin typeface="Arial"/>
              </a:rPr>
              <a:t>а)горшок, в котором трут мак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90033"/>
                </a:solidFill>
                <a:latin typeface="Arial"/>
              </a:rPr>
              <a:t>б)род кафтан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90033"/>
                </a:solidFill>
                <a:latin typeface="Arial"/>
              </a:rPr>
              <a:t>в)род полукафтань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90033"/>
                </a:solidFill>
                <a:latin typeface="Arial"/>
              </a:rPr>
              <a:t>г)длинная прядь волос на голов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90033"/>
                </a:solidFill>
                <a:latin typeface="Arial"/>
              </a:rPr>
              <a:t>д)лук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90033"/>
                </a:solidFill>
                <a:latin typeface="Arial"/>
              </a:rPr>
              <a:t>е)нижняя одежда женщи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258920" y="549360"/>
            <a:ext cx="676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12. Найдите соответствия: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1763640" y="4581360"/>
            <a:ext cx="3168720" cy="202104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7812000" y="292428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4"/>
          <a:stretch/>
        </p:blipFill>
        <p:spPr>
          <a:xfrm>
            <a:off x="3348000" y="191628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5"/>
          <a:stretch/>
        </p:blipFill>
        <p:spPr>
          <a:xfrm>
            <a:off x="6588000" y="4724280"/>
            <a:ext cx="285840" cy="27648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6"/>
          <a:stretch/>
        </p:blipFill>
        <p:spPr>
          <a:xfrm>
            <a:off x="8101080" y="5805360"/>
            <a:ext cx="285840" cy="27648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7"/>
          <a:stretch/>
        </p:blipFill>
        <p:spPr>
          <a:xfrm>
            <a:off x="1042920" y="537372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8"/>
          <a:stretch/>
        </p:blipFill>
        <p:spPr>
          <a:xfrm>
            <a:off x="3492360" y="3789360"/>
            <a:ext cx="2858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611280" y="1197000"/>
            <a:ext cx="8137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! 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работу!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2124000" y="3141720"/>
            <a:ext cx="47530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5:53:52Z</dcterms:created>
  <dc:creator>Люба</dc:creator>
  <dc:description/>
  <dc:language>en-US</dc:language>
  <cp:lastModifiedBy>Customer</cp:lastModifiedBy>
  <dcterms:modified xsi:type="dcterms:W3CDTF">2012-01-08T18:17:11Z</dcterms:modified>
  <cp:revision>17</cp:revision>
  <dc:subject/>
  <dc:title>Тест по повести Н.В.Гоголя «Вечера на хуторе близ Диканьки» </dc:title>
</cp:coreProperties>
</file>