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60E-948E-49A4-A41A-7C4084CC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13B-B0A5-4EC2-909A-9DDE4866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E20-0856-4F08-9078-02AF2DB0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B50-054E-4CB5-BC1E-3DC97CC7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44A-C14E-4D79-90B3-22A87A3D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5EE-6310-4198-8A84-A150BFA8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A5A-4BAD-42B6-A2A8-EAE46FA3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7652-4DDC-4A82-B784-D493D5A0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DD9-7DC1-4E8D-9AB3-257FAC54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0D3-D4DC-4445-8E06-85CE8C78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5B9E-453B-424A-9FC5-4BD40AC8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BB9-1D00-4C83-ACDB-99D3C3D9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C5ED-9C7F-460F-BE66-07DC9DEAC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9296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JasmineUPC"/>
              </a:rPr>
              <a:t>       </a:t>
            </a:r>
            <a:r>
              <a:rPr b="0" i="1" lang="en-US" sz="6000" spc="-1" strike="noStrike">
                <a:solidFill>
                  <a:srgbClr val="000000"/>
                </a:solidFill>
                <a:latin typeface="JasmineUPC"/>
              </a:rPr>
              <a:t>«Японские </a:t>
            </a: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JasmineUPC"/>
              </a:rPr>
              <a:t>             традиции </a:t>
            </a: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JasmineUPC"/>
              </a:rPr>
              <a:t>                           чая…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Правила чайной церемо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-аранжировка цветов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-кипячение воды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-заваривание чая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-разливание напитка и т. д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зречении Рикю: </a:t>
            </a:r>
            <a:br>
              <a:rPr sz="4400"/>
            </a:b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«Тяною — это поклонение красоте в сером свете будней»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705360" y="160020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ай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н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6477120" cy="618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15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Чайная церемония: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«Отя» – чай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«Тяною» - горячая чайная в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43000" y="15228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5181480"/>
            <a:ext cx="7924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школа «Урасэнкэ» в Киото (Япон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7391520" cy="476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инципы чайной церемонии: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. Гармония;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. Почтительность;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. Чистота;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4. Спокойств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8458200" cy="5494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SimSun"/>
              </a:rPr>
              <a:t>Китайская церемония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SimSun"/>
              </a:rPr>
              <a:t>в наше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7772400" cy="5061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Формы чайной церемонии: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1. чай с восходом солнца; 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2. утренний чай; 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3. послеобеденный чай; 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4. вечерний чай;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5. ночной чай.; 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6. специальный ча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Как заварить Японский чай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558828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итайская поговорка: «Китайская чайная традиция – это много чая и мало церемоний, японская – много церемоний и мало чая»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29200" cy="3768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05280" y="2924280"/>
            <a:ext cx="523872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Отличия Японских сортов чая от Китайских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133720" y="3352680"/>
            <a:ext cx="4876560" cy="326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09588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Вывод по чаю: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Японский зеленый чай отличается от китайского, тем что чай обрабатывают паром, а не жарят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8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Японская церемония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в наше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391160" cy="482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2578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«Тяною» - искусство пития ча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4552920" cy="6324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«Мастер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6902640" cy="5060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542880"/>
            <a:ext cx="7619760" cy="5772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458200" cy="4821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Тясицу» - чайный дом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7086600" cy="4915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5T14:02:40Z</dcterms:created>
  <dc:creator>Настя</dc:creator>
  <dc:description/>
  <dc:language>en-US</dc:language>
  <cp:lastModifiedBy>Настя</cp:lastModifiedBy>
  <dcterms:modified xsi:type="dcterms:W3CDTF">2015-04-16T16:13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