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797-CF70-4DF7-86D8-420BAEBA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D704-0B9F-42F4-8A03-67315945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9BFD-BFE1-48C0-ADF8-31FC2245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73D7-8718-4696-B1A1-E028A7A8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F61C-CB8A-4964-BD6E-168F7263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1F96-2758-4829-8346-E3EA2E2F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29BF-1CF5-4742-91F8-68EE4A4B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9077-6383-4A55-BC61-4A35FF30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F808-3CE1-48B5-8170-3EC6B1F8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247E-9B07-477C-8143-460D2A88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35CA-201F-4490-ADDC-1C0B5AAB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A1C-DFB7-4250-B699-B82E705E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A61D-E267-4A4C-8D89-D3B081C42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9296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JasmineUPC"/>
              </a:rPr>
              <a:t>       </a:t>
            </a:r>
            <a:r>
              <a:rPr b="0" i="1" lang="en-US" sz="6000" spc="-1" strike="noStrike">
                <a:solidFill>
                  <a:srgbClr val="000000"/>
                </a:solidFill>
                <a:latin typeface="JasmineUPC"/>
              </a:rPr>
              <a:t>«Японские </a:t>
            </a:r>
            <a:br>
              <a:rPr sz="6000"/>
            </a:br>
            <a:r>
              <a:rPr b="0" i="1" lang="en-US" sz="6000" spc="-1" strike="noStrike">
                <a:solidFill>
                  <a:srgbClr val="000000"/>
                </a:solidFill>
                <a:latin typeface="JasmineUPC"/>
              </a:rPr>
              <a:t>             традиции </a:t>
            </a:r>
            <a:br>
              <a:rPr sz="6000"/>
            </a:br>
            <a:r>
              <a:rPr b="0" i="1" lang="en-US" sz="6000" spc="-1" strike="noStrike">
                <a:solidFill>
                  <a:srgbClr val="000000"/>
                </a:solidFill>
                <a:latin typeface="JasmineUPC"/>
              </a:rPr>
              <a:t>                           чая…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Правила чайной церемо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-аранжировка цветов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-кипячение воды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-заваривание чая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-разливание напитка и т. д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зречении Рикю: </a:t>
            </a:r>
            <a:br>
              <a:rPr sz="4400"/>
            </a:b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«Тяною — это поклонение красоте в сером свете будней»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705360" y="160020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ай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мн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6477120" cy="6188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15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Чайная церемония:</a:t>
            </a:r>
            <a:br>
              <a:rPr sz="6000"/>
            </a:b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«Отя» – чай</a:t>
            </a:r>
            <a:br>
              <a:rPr sz="6000"/>
            </a:b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«Тяною» - горячая чайная во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143000" y="152280"/>
            <a:ext cx="640080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5181480"/>
            <a:ext cx="79246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школа «Урасэнкэ» в Киото (Япон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7391520" cy="476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инципы чайной церемонии: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. Гармония;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2. Почтительность;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3. Чистота;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4. Спокойств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8458200" cy="5494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SimSun"/>
              </a:rPr>
              <a:t>Китайская церемония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SimSun"/>
              </a:rPr>
              <a:t>в наше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7772400" cy="5061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Формы чайной церемонии: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1. чай с восходом солнца; 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2. утренний чай; 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3. послеобеденный чай; 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4. вечерний чай;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5. ночной чай.; 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6. специальный ча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Как заварить Японский чай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558828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Китайская поговорка: «Китайская чайная традиция – это много чая и мало церемоний, японская – много церемоний и мало чая»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29200" cy="3768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05280" y="2924280"/>
            <a:ext cx="523872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Отличия Японских сортов чая от Китайских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133720" y="3352680"/>
            <a:ext cx="4876560" cy="326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6095880" cy="6095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Вывод по чаю: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Японский зеленый чай отличается от китайского, тем что чай обрабатывают паром, а не жарят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8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Японская церемония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в наше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391160" cy="482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2578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«Тяною» - искусство пития ча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4552920" cy="6324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«Мастер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66680" y="1447920"/>
            <a:ext cx="6902640" cy="5060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2120" y="542880"/>
            <a:ext cx="7619760" cy="57722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8458200" cy="4821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848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Тясицу» - чайный доми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7086600" cy="4915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5T14:02:40Z</dcterms:created>
  <dc:creator>Настя</dc:creator>
  <dc:description/>
  <dc:language>en-US</dc:language>
  <cp:lastModifiedBy>Настя</cp:lastModifiedBy>
  <dcterms:modified xsi:type="dcterms:W3CDTF">2015-04-16T16:13:4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