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35A-DE79-4D9D-9084-164B4411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F8B-C88E-489F-A08C-25103D3E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DC3-2DCE-4FA5-8540-5A9F8791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AD9-5124-4C3D-807A-434FEF84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270-EAF6-46AE-AB71-F066ADCB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AF2-5E6D-4BFF-96ED-7B6B41C3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D28-B972-4DC2-9742-FBC51FD2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458-251A-4DE7-B21E-E7B1A2A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C80-DBF1-4ECB-AA6E-30837AC1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A01-4A38-4376-96B5-E4990D06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9A9-4A52-4BEB-95AB-F2A5710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243-7795-4DFD-9541-158DC0D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C946-2733-4934-BE33-28A64F822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́пер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( «труд, изделие, произведение» ) — жанр театральных представлений, в котором речь, соединённая с музыкой (пение и аккомпанемент), и сценическое действ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р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(по-итальянски - aria - ветер, воздух) – это законченный эпизод в опере, исполняемый певцом в сопровождении оркестра. Для арии характерна широкая распевность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5520" y="456840"/>
            <a:ext cx="35053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ьфганг Амадей Моцар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австрийский композитор пианист, скрипач, клавесинист, органист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228600"/>
          <a:ext cx="8229600" cy="631836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2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0"/>
          <a:ext cx="8229600" cy="631836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2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274680"/>
          <a:ext cx="8229600" cy="630720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64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28600"/>
          <a:ext cx="8229600" cy="631836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2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04920" y="304920"/>
          <a:ext cx="8229600" cy="631800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1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304920"/>
          <a:ext cx="8229600" cy="631800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1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228600"/>
          <a:ext cx="8229600" cy="6318360"/>
        </p:xfrm>
        <a:graphic>
          <a:graphicData uri="http://schemas.openxmlformats.org/drawingml/2006/table">
            <a:tbl>
              <a:tblPr/>
              <a:tblGrid>
                <a:gridCol w="631800"/>
                <a:gridCol w="635040"/>
                <a:gridCol w="631800"/>
                <a:gridCol w="635040"/>
                <a:gridCol w="631800"/>
                <a:gridCol w="631800"/>
                <a:gridCol w="635040"/>
                <a:gridCol w="596880"/>
                <a:gridCol w="666720"/>
                <a:gridCol w="635040"/>
                <a:gridCol w="631800"/>
                <a:gridCol w="635040"/>
                <a:gridCol w="631800"/>
              </a:tblGrid>
              <a:tr h="592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тра́к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действие) — перерыв между действиями, предназначен для нескольких целей: отдыха актёров и зрителей, и перемены декораций, а также, при необходимости, смены костюмов и грима акте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йствие в опер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Завершённая часть, в развитие общего хода. В действии может быть несколько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цен или ак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3760" y="990720"/>
            <a:ext cx="3809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оганн Себастьян Ба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немецкий композитор и органис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пера – «Волшебная флейт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бретто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это текст, кратко отражающий содержание всей постановк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10287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стя</cp:lastModifiedBy>
  <dcterms:modified xsi:type="dcterms:W3CDTF">2014-06-06T13:33:5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