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4CD-D136-4A5C-BED0-12B9D5C8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A4B-7550-4B9A-8DEE-0A590161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A63-BA41-4BBF-81B8-EC43F753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F41-D352-409E-81C5-AFD2D2BA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297-FACE-4438-8944-31297AC2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4AE-FF5B-43FC-AA9A-153E7C27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C45-9E7A-4FB6-B43B-E167AA5B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51E-0E61-42BE-B048-597F0BD6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4FA-D5BB-4C88-B28D-129A3F07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BBE-87B0-4F74-9305-94A69395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7BB-20F9-4138-B8C6-3350C89F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951-5DB6-4077-9A65-7C1687A8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33B7-8055-48FB-B831-5069B7C3E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́пер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( «труд, изделие, произведение» ) — жанр театральных представлений, в котором речь, соединённая с музыкой (пение и аккомпанемент), и сценическое действ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р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(по-итальянски - aria - ветер, воздух) – это законченный эпизод в опере, исполняемый певцом в сопровождении оркестра. Для арии характерна широкая распевность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5520" y="456840"/>
            <a:ext cx="35053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ьфганг Амадей Моцар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австрийский композитор пианист, скрипач, клавесинист, органист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228600"/>
          <a:ext cx="8229600" cy="631836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2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0"/>
          <a:ext cx="8229600" cy="631836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2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274680"/>
          <a:ext cx="8229600" cy="630720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64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28600"/>
          <a:ext cx="8229600" cy="631836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2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04920" y="304920"/>
          <a:ext cx="8229600" cy="631800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1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304920"/>
          <a:ext cx="8229600" cy="631800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1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880" y="228600"/>
          <a:ext cx="8229600" cy="631836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2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тра́к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действие) — перерыв между действиями, предназначен для нескольких целей: отдыха актёров и зрителей, и перемены декораций, а также, при необходимости, смены костюмов и грима акте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йствие в опер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 Завершённая часть, в развитие общего хода. В действии может быть несколько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цен или акт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3760" y="990720"/>
            <a:ext cx="3809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оганн Себастьян Ба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немецкий композитор и органис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пера – «Волшебная флейт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ибретто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это текст, кратко отражающий содержание всей постановк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10287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стя</cp:lastModifiedBy>
  <dcterms:modified xsi:type="dcterms:W3CDTF">2014-06-06T13:33:5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