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457-03D4-4AE1-A2AA-66834396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E3-FAC2-4B07-9C7F-654CA25C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328-95CD-4E8A-85F8-80FDC6FE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0B2-57AD-4B3A-9AF4-B80CB48C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1F2B-6647-41DE-934D-5727E038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CA17-CCFD-4BAC-9DAA-F7E1B9AA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764F-4D59-45B0-B582-571F655A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D56F-8669-4D53-A354-CFDD7279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7B93-260F-449A-A487-C2CD6D9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14D7-774E-46A5-9E9F-7202C32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EC74-528A-4268-A656-FE59F2F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A36-7CB2-499C-823C-99D23EA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66F6-0511-446B-8978-965CA21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C76C-82E8-4A85-88F9-1279524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6C95-2F08-40E0-8D49-30EEF4B3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43E-65B4-465A-BD60-61EAB6BF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E83B-52D1-4590-AC35-4A73DD53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D616-404C-4BB6-B70B-8D23095E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F83F-6DFE-4ED1-A5C5-6B8ACC6F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F915-2986-4E2B-A7A4-B09FCAEE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C8D4-85EC-4E61-8D25-7A4BA4BA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A43F-BD72-4CA9-9041-A3D5A10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D2E-C581-4665-80C7-D20E207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B4A7-BA0D-4ED0-90C1-9CDB719D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DD66-5ADD-45E2-8408-365B180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8BD8-51AB-4DB0-8EA4-FF944DD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95B2-5F1A-4219-9BE0-A7E985F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7738-221A-40D1-909B-9EB52E70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4D1F-3BFA-4D47-A607-71D6532C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D574-D448-4269-9B3E-D9B46EAD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6E00-C80C-40E7-B394-C95A22E2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ADC4-862F-43C1-BA61-22498C0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FC82-0369-4B8F-B60E-C51A3EF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10D-09D6-44B8-8301-57357FE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FC52-438B-4BA0-8CE8-A485689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C8FA-A450-4061-AF51-D9BABDDB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85AA-9FAB-4215-ACA9-65FCA358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A65B-3FA9-40C1-AA69-BC9256B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4419-AE62-4435-B267-97749B4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D8E2-177F-4756-845A-E1FDFED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0BBE-9430-4916-9268-80027439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3FA0-8605-4F69-98E8-7DE4BD7B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4385-9203-49CC-A6BB-6B89691E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02F5F-6F28-4E9F-82E5-01E55DF9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AED-FCF2-44CD-9EE0-26DA4494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7FD83-BF21-48D9-B4E9-BC8D4F0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E36D-3797-4F23-A51A-721BE829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EA7A-A33B-4CAC-8534-6DBABB5A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D5DAD-6A25-4D0E-B148-5E0710DD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7E69-4A8A-4172-8F1C-C0BD4ECF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146F4-7739-4275-87C0-DE8B2855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5588-0EF5-47D6-B872-A26624B6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4F54-3E8E-4BB7-A297-AFCE9B9D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C465B-FD9A-4054-93B1-4B4D297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74692-3E60-4EA0-9530-87968E53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ACE-C40B-4469-AF75-46CAC3A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F766A-EA58-4681-97A5-9FFF8A95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E47-54FF-448A-929F-9CD9D8D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BA7-0B98-4A00-B4E0-435E189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B10-CC04-4E65-B755-60725E69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F597-53A5-44DE-BC61-F7C45AB540A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E24E-F3A7-4096-897F-3B993E49F7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AB4-A091-481F-B229-966FA0AEDAD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9C83-17EC-40C1-B828-6EAB88F6DB5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BCF-3E4E-4D59-87B0-1B73E1C354D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4"/>
          <p:cNvSpPr/>
          <p:nvPr/>
        </p:nvSpPr>
        <p:spPr>
          <a:xfrm>
            <a:off x="395280" y="476280"/>
            <a:ext cx="8064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Персональны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би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гимназии «Гамма» №14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товой С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39640" y="2400480"/>
            <a:ext cx="83534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здание инструментария для введения ФГОС в 5-х классах на уроках </a:t>
            </a:r>
            <a:r>
              <a:rPr b="0" lang="ru-RU" sz="32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биолог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ig.att.oho.lv/3267/5632.jpg">
            <a:hlinkClick r:id="rId1"/>
          </p:cNvPr>
          <p:cNvPicPr/>
          <p:nvPr/>
        </p:nvPicPr>
        <p:blipFill>
          <a:blip r:embed="rId2"/>
          <a:srcRect l="0" t="28858" r="0" b="26906"/>
          <a:stretch/>
        </p:blipFill>
        <p:spPr>
          <a:xfrm>
            <a:off x="1330200" y="4076640"/>
            <a:ext cx="67280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539640" y="40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"/>
          <p:cNvSpPr/>
          <p:nvPr/>
        </p:nvSpPr>
        <p:spPr>
          <a:xfrm>
            <a:off x="468360" y="1197000"/>
            <a:ext cx="810576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совокупность способов действий учащегося,</a:t>
            </a:r>
            <a:r>
              <a:rPr b="0" lang="ru-RU" sz="28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 обеспечивающих самостоятельное усвоение новых знаний, формирование умений, включая организацию эт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3121920" y="3429000"/>
            <a:ext cx="24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иды У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2195640" y="3645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знав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о-символ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826920" y="4762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знавательные учебные дейст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996120" y="119700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общеучеб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5310720" y="119700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лог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539640" y="1773360"/>
            <a:ext cx="48243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выделение и формулирование познавательной цел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выделение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ие зн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наиболее эффективных способов решения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декватно, осознанно и произвольно строить речевое высказы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и формулирование проблемы,  создание алгоритмов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со знаково-символическими сред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5435640" y="1916280"/>
            <a:ext cx="29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ан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зн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под понят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след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аналог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2114640" y="333360"/>
            <a:ext cx="42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39640" y="981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Банк заданий для формирования познавательных УУД на уроках биологии в 5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68360" y="1821600"/>
            <a:ext cx="831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с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умение синте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опо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классиф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умение проводить ана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установление причинно-следственны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2340000" y="33336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анали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324000" y="191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учите теоретический материал по теме «Строение клетки». За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55640" y="3141720"/>
          <a:ext cx="5616720" cy="148284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ь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2" descr=""/>
          <p:cNvPicPr/>
          <p:nvPr/>
        </p:nvPicPr>
        <p:blipFill>
          <a:blip r:embed="rId1"/>
          <a:srcRect l="50258" t="0" r="0" b="0"/>
          <a:stretch/>
        </p:blipFill>
        <p:spPr>
          <a:xfrm>
            <a:off x="6732720" y="1916280"/>
            <a:ext cx="1942920" cy="2582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5"/>
          <p:cNvSpPr/>
          <p:nvPr/>
        </p:nvSpPr>
        <p:spPr>
          <a:xfrm>
            <a:off x="468360" y="5013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уйте природное сообщество парка Кусково. Запишите  названия растений и животны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39640" y="9831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Calibri"/>
              </a:rPr>
              <a:t>Анализ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деление элементов и «единиц» из целого; расчленение целого на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539640" y="10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сравнив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устанавливать черты сходства (сопоставлять) и различия (противопоставля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1348560" y="40464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умение сравни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395280" y="1773360"/>
            <a:ext cx="554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равните строение амебы обыкновенной и инфузории-туфель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98520" y="3213000"/>
            <a:ext cx="43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олните сравнительную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39640" y="3716280"/>
          <a:ext cx="6096240" cy="1854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тения и живот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Picture 2" descr="http://chemistry-chemists.com/N5_2011/L1/amoeba-proteus.jpg"/>
          <p:cNvPicPr/>
          <p:nvPr/>
        </p:nvPicPr>
        <p:blipFill>
          <a:blip r:embed="rId1"/>
          <a:stretch/>
        </p:blipFill>
        <p:spPr>
          <a:xfrm>
            <a:off x="5867280" y="1773360"/>
            <a:ext cx="170208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5" name="Picture 6" descr="http://www.petushok.info/old_site/sites/default/files/images/Paramecium%20caudatum.jpg"/>
          <p:cNvPicPr/>
          <p:nvPr/>
        </p:nvPicPr>
        <p:blipFill>
          <a:blip r:embed="rId2"/>
          <a:stretch/>
        </p:blipFill>
        <p:spPr>
          <a:xfrm>
            <a:off x="7164360" y="2852640"/>
            <a:ext cx="144000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46836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Синтез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ысленное соединение отдельных элементов, частей, признаков в единое це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1354680" y="54936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умение синтезир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468360" y="2349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интез, неподвижность, хлоропласты, автотрофы - ? (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и, потребители, разрушители - ? (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, вода, свет, температура - ? (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иот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1643400" y="404640"/>
            <a:ext cx="56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классифик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468360" y="2276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реди названных организмов производителей, потребителей, разрушителей органически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дождевой червь;       Б – клевер;        В – заяц-беляк;      Г – голуб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– мукор;      Е – бактерии;     Ж – волк;    З– хламидомонада;     И– пше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468360" y="1052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классифициров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распределять какие-либо объекты по классам, отделам, разрядам в зависимости от их общих при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539640" y="357336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соответств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еклеточ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Безъядер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Ядерные организмы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5"/>
          <p:cNvSpPr/>
          <p:nvPr/>
        </p:nvSpPr>
        <p:spPr>
          <a:xfrm>
            <a:off x="3851280" y="378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стейшие     2.Гриб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ктерии           4. Живо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русы             6. Рас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395280" y="5229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дите соответств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4938120" y="5165640"/>
            <a:ext cx="153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оце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3348000" y="5157720"/>
            <a:ext cx="120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1763640" y="40464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обобщ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395280" y="1052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обобщ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выражать основные результаты в общем положении, делать вывод, придавать общее значение чему-либо. </a:t>
            </a: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Обобщен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ыслительный процесс, который приводит к нахождению общего в заданных предметах и явл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468360" y="2997360"/>
            <a:ext cx="77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является лишним в данном переч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, животные, грибы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оросл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к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бло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блоня, осина, бере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предложенном наборе понятий, выбрать 2 по одному общему призна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а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итон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ягушка, квакша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ламанд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ягушка-бык. Стрекоза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ранту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ук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у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бочка, бло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проводить аналог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находить сходство, в каком либо отношении между предметами, явлениями или понятиям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611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умение проводить ана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539640" y="1989000"/>
            <a:ext cx="7777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ервым и вторым понятием существует определенная связь. Такая же связь существует между третьим и одним из нескольких приведенных ниже понятий. Найдите это пон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е – лист = клетка -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– корень   Б – пестик    В – стебель    Г –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611280" y="4437000"/>
            <a:ext cx="806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закономе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– информация, хлоропласт – фотосинтез, вакуоль -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1771 году английским химиком Джозефом Пристли был осуществлён опы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http://festival.1september.ru/articles/100478/img1.jpg"/>
          <p:cNvPicPr/>
          <p:nvPr/>
        </p:nvPicPr>
        <p:blipFill>
          <a:blip r:embed="rId1"/>
          <a:stretch/>
        </p:blipFill>
        <p:spPr>
          <a:xfrm>
            <a:off x="755640" y="2892600"/>
            <a:ext cx="3600360" cy="31050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611280" y="40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выявление причинно-следственных связ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4788000" y="242100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мерла мыш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ышка, находящаяся под колпаком с растением жи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обходимо для горения св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е помогло выжить мышке и гореть свеч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39640" y="1268280"/>
            <a:ext cx="60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539640" y="1844640"/>
            <a:ext cx="7056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е количество методического и  дидактического материала для реализации ФГОС в 5-х классах на уроках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542880" y="2997360"/>
            <a:ext cx="20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39640" y="3603960"/>
            <a:ext cx="7993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струментария для введения ФГОС на уроке  биологии позволит создать условия для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54684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</a:t>
            </a:r>
            <a:r>
              <a:rPr b="0" lang="ru-RU" sz="3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539640" y="5157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инструментарий для активного введения ФГОС  в 5-х классах на уроках биологии и апробирова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7596360" y="1916280"/>
            <a:ext cx="863280" cy="19000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468360" y="2746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еграмотный будущего – это не тот, кто не умеет читать. Им станет тот, кто не умеет уч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Тоффлер, американский социолог и футурол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9640" y="867960"/>
            <a:ext cx="7993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струментарий для введения ФГОС на уроке  биологии создает оптимальные условия для их реализации.</a:t>
            </a: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ТП с прописанными результатами обучения позволяет четко видеть конечную цель обучения и пути ее дост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анк заданий по формированию УУД облегчает работу учителя и обеспечивает деятельност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596360" y="476280"/>
            <a:ext cx="1203120" cy="23050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531720" y="54936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68360" y="264312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 - тематическое план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образования ученика по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 заданий для формирования УУД на уроках биологии в 5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478800" y="404640"/>
            <a:ext cx="49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58720" y="155736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539640" y="1052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ФГОС в 5-х классах на уроках </a:t>
            </a:r>
            <a:r>
              <a:rPr b="0" lang="ru-RU" sz="28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би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0" y="2205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инструментарий для введения ФГОС в 5-х классах на уроках </a:t>
            </a:r>
            <a:r>
              <a:rPr b="0" lang="ru-RU" sz="28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би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539640" y="3500280"/>
            <a:ext cx="181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468360" y="4221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еории ФГ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струментария для введения ФГОС в 5-х классах на уроках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professor_with_telescope_hc"/>
          <p:cNvPicPr/>
          <p:nvPr/>
        </p:nvPicPr>
        <p:blipFill>
          <a:blip r:embed="rId1"/>
          <a:stretch/>
        </p:blipFill>
        <p:spPr>
          <a:xfrm flipH="1">
            <a:off x="6983280" y="549360"/>
            <a:ext cx="216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1424160" y="333360"/>
            <a:ext cx="61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 работы над проек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5280" y="981000"/>
          <a:ext cx="8424720" cy="5515200"/>
        </p:xfrm>
        <a:graphic>
          <a:graphicData uri="http://schemas.openxmlformats.org/drawingml/2006/table">
            <a:tbl>
              <a:tblPr/>
              <a:tblGrid>
                <a:gridCol w="1805040"/>
                <a:gridCol w="3159000"/>
                <a:gridCol w="3460680"/>
              </a:tblGrid>
              <a:tr h="63972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сяцы, триместр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темы, ознакомление с теорией вопроса. Подбор программы , создание КТП и карты образования уче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материалов по теории вопроса. Рабочая программа, КТП и карта образования по биологии для 5х клас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– 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им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оретической части. Обзор литературы.  Подбор заданий на формирование различных видов УУД. Апробация методических разработ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банка  заданий по формированию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практической частью проекта. Разработка и апробация заданий по формированию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банка  заданий по формированию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–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им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использование заданий на формировани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результатов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заданий по УУ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 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озданием презентации по теме самообра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043720" y="33336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39640" y="981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Рабочая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«ФГОС. Биология 5-9 класс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Н. Пономарёва, В.С. Кучмен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А. Корнилова, А.Г. Драгомилов, Т.С. Су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395280" y="285300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курса биологии в базисном учебном пл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своения 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lsbook.ru/published/publicdata/EXTRAMODELSBOOK/attachments/SC/products_pictures/%D0%9F%D1%80%D0%B8%D0%BC%D0%B5%D1%80%D0%BD%D1%8B%D0%B5%20%D0%BF%D1%80%D0%BE%D0%B3%D1%80%D0%B0%D0%BC%D0%BC%D1%8B%20%D0%BF%D0%BE%20%D1%83%D1%87%D0%B5%D0%B1%D0%BD%D1%8B%D0%BC%20%D0%BF%D1%80%D0%B5%D0%B4%D0%BC%D0%B5%D1%82%D0%B0%D0%BC.%20%D0%91%D0%B8%D0%BE%D0%BB%D0%BE%D0%B3%D0%B8%D1%8F.%205-9%20%D0%BA%D0%BB%D0%B0%D1%81%D1%81%D1%8B_en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9440" y="2389320"/>
            <a:ext cx="2219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2043720" y="33336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9640" y="981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алендарно - тематическое планирование по биологии в 5 класс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68360" y="2349000"/>
            <a:ext cx="47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разд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– наука о живом мире. Многообразие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зучения ж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организмов на планете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 планете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http://online-bibliograph.ru/files/orig/4/6/d/46d7daaa4755d310cc900e9eedadceeb.jpg"/>
          <p:cNvPicPr/>
          <p:nvPr/>
        </p:nvPicPr>
        <p:blipFill>
          <a:blip r:embed="rId1"/>
          <a:stretch/>
        </p:blipFill>
        <p:spPr>
          <a:xfrm>
            <a:off x="5718240" y="1816200"/>
            <a:ext cx="26272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547640" y="115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арта образования уче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Таблица 2" descr=""/>
          <p:cNvPicPr/>
          <p:nvPr/>
        </p:nvPicPr>
        <p:blipFill>
          <a:blip r:embed="rId1"/>
          <a:stretch/>
        </p:blipFill>
        <p:spPr>
          <a:xfrm>
            <a:off x="249120" y="622440"/>
            <a:ext cx="8645760" cy="590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34"/>
          <p:cNvSpPr/>
          <p:nvPr/>
        </p:nvSpPr>
        <p:spPr>
          <a:xfrm>
            <a:off x="611280" y="2205000"/>
            <a:ext cx="7993080" cy="410364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"/>
          <p:cNvSpPr/>
          <p:nvPr/>
        </p:nvSpPr>
        <p:spPr>
          <a:xfrm>
            <a:off x="468360" y="9079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Банк заданий для формирования УУД на уроках биологии в 5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259360" y="333360"/>
            <a:ext cx="42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Группа 18"/>
          <p:cNvGrpSpPr/>
          <p:nvPr/>
        </p:nvGrpSpPr>
        <p:grpSpPr>
          <a:xfrm>
            <a:off x="1087200" y="2133720"/>
            <a:ext cx="7248240" cy="4130640"/>
            <a:chOff x="1087200" y="2133720"/>
            <a:chExt cx="7248240" cy="4130640"/>
          </a:xfrm>
        </p:grpSpPr>
        <p:sp>
          <p:nvSpPr>
            <p:cNvPr id="258" name="TextBox 2"/>
            <p:cNvSpPr/>
            <p:nvPr/>
          </p:nvSpPr>
          <p:spPr>
            <a:xfrm>
              <a:off x="1261800" y="2133720"/>
              <a:ext cx="70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 u="sng">
                  <a:solidFill>
                    <a:srgbClr val="006600"/>
                  </a:solidFill>
                  <a:uFillTx/>
                  <a:latin typeface="Bookman Old Style"/>
                </a:rPr>
                <a:t>Круговорот веществ в природе </a:t>
              </a:r>
              <a:r>
                <a:rPr b="0" lang="ru-RU" sz="3200" spc="-1" strike="noStrike">
                  <a:solidFill>
                    <a:srgbClr val="c00000"/>
                  </a:solidFill>
                  <a:latin typeface="Bookman Old Style"/>
                </a:rPr>
                <a:t>-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Группа 16"/>
            <p:cNvGrpSpPr/>
            <p:nvPr/>
          </p:nvGrpSpPr>
          <p:grpSpPr>
            <a:xfrm>
              <a:off x="1087200" y="3194280"/>
              <a:ext cx="7216920" cy="3070080"/>
              <a:chOff x="1087200" y="3194280"/>
              <a:chExt cx="7216920" cy="3070080"/>
            </a:xfrm>
          </p:grpSpPr>
          <p:sp>
            <p:nvSpPr>
              <p:cNvPr id="260" name="TextBox 3"/>
              <p:cNvSpPr/>
              <p:nvPr/>
            </p:nvSpPr>
            <p:spPr>
              <a:xfrm>
                <a:off x="1087200" y="3548160"/>
                <a:ext cx="184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6600"/>
                    </a:solidFill>
                    <a:latin typeface="Bookman Old Style"/>
                  </a:rPr>
                  <a:t>« ? 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Bookman Old Style"/>
                  </a:rPr>
                  <a:t>раст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4"/>
              <p:cNvSpPr/>
              <p:nvPr/>
            </p:nvSpPr>
            <p:spPr>
              <a:xfrm>
                <a:off x="5375520" y="3618360"/>
                <a:ext cx="292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33cc"/>
                    </a:solidFill>
                    <a:latin typeface="Bookman Old Style"/>
                  </a:rPr>
                  <a:t>«Потребители»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Bookman Old Style"/>
                  </a:rPr>
                  <a:t>животны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5"/>
              <p:cNvSpPr/>
              <p:nvPr/>
            </p:nvSpPr>
            <p:spPr>
              <a:xfrm>
                <a:off x="2958120" y="5317200"/>
                <a:ext cx="2693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800000"/>
                    </a:solidFill>
                    <a:latin typeface="Bookman Old Style"/>
                  </a:rPr>
                  <a:t>«Разлагатели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Bookman Old Style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Стрелка вправо 25"/>
              <p:cNvGrpSpPr/>
              <p:nvPr/>
            </p:nvGrpSpPr>
            <p:grpSpPr>
              <a:xfrm>
                <a:off x="3614400" y="3724560"/>
                <a:ext cx="1810440" cy="322920"/>
                <a:chOff x="3614400" y="3724560"/>
                <a:chExt cx="1810440" cy="322920"/>
              </a:xfrm>
            </p:grpSpPr>
            <p:pic>
              <p:nvPicPr>
                <p:cNvPr id="264" name="Стрелка вправо 2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14400" y="3724560"/>
                  <a:ext cx="1810440" cy="32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3677760" y="3813480"/>
                  <a:ext cx="1640520" cy="1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Стрелка вправо 26"/>
              <p:cNvGrpSpPr/>
              <p:nvPr/>
            </p:nvGrpSpPr>
            <p:grpSpPr>
              <a:xfrm>
                <a:off x="5110920" y="4547520"/>
                <a:ext cx="971280" cy="865440"/>
                <a:chOff x="5110920" y="4547520"/>
                <a:chExt cx="971280" cy="865440"/>
              </a:xfrm>
            </p:grpSpPr>
            <p:pic>
              <p:nvPicPr>
                <p:cNvPr id="267" name="Стрелка вправо 2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10920" y="4547520"/>
                  <a:ext cx="971280" cy="86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 rot="8482200">
                  <a:off x="5095440" y="4902480"/>
                  <a:ext cx="101808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Стрелка вправо 27"/>
              <p:cNvGrpSpPr/>
              <p:nvPr/>
            </p:nvGrpSpPr>
            <p:grpSpPr>
              <a:xfrm>
                <a:off x="2773080" y="4505760"/>
                <a:ext cx="932760" cy="872640"/>
                <a:chOff x="2773080" y="4505760"/>
                <a:chExt cx="932760" cy="872640"/>
              </a:xfrm>
            </p:grpSpPr>
            <p:pic>
              <p:nvPicPr>
                <p:cNvPr id="270" name="Стрелка вправо 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73080" y="4505760"/>
                  <a:ext cx="932760" cy="87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 rot="13612200">
                  <a:off x="2757960" y="4872240"/>
                  <a:ext cx="97488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Box 15"/>
              <p:cNvSpPr/>
              <p:nvPr/>
            </p:nvSpPr>
            <p:spPr>
              <a:xfrm>
                <a:off x="3672360" y="3194280"/>
                <a:ext cx="151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органическ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веще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16"/>
              <p:cNvSpPr/>
              <p:nvPr/>
            </p:nvSpPr>
            <p:spPr>
              <a:xfrm>
                <a:off x="1130760" y="4892760"/>
                <a:ext cx="175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неорганическ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веще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Выгнутая вверх стрелка 30"/>
              <p:cNvSpPr/>
              <p:nvPr/>
            </p:nvSpPr>
            <p:spPr>
              <a:xfrm>
                <a:off x="3959640" y="4044240"/>
                <a:ext cx="1191600" cy="577080"/>
              </a:xfrm>
              <a:custGeom>
                <a:avLst/>
                <a:gdLst>
                  <a:gd name="textAreaLeft" fmla="*/ 243720 w 1191600"/>
                  <a:gd name="textAreaRight" fmla="*/ 875880 w 1191600"/>
                  <a:gd name="textAreaTop" fmla="*/ 77040 h 577080"/>
                  <a:gd name="textAreaBottom" fmla="*/ 500040 h 57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844" hR="21600" stAng="10800000" swAng="5400000"/>
                    <a:lnTo>
                      <a:pt x="11453" y="0"/>
                    </a:lnTo>
                    <a:arcTo wR="8844" hR="21600" stAng="-5400000" swAng="3465761"/>
                    <a:lnTo>
                      <a:pt x="21319" y="16200"/>
                    </a:lnTo>
                    <a:lnTo>
                      <a:pt x="18992" y="21600"/>
                    </a:lnTo>
                    <a:lnTo>
                      <a:pt x="16102" y="16200"/>
                    </a:lnTo>
                    <a:lnTo>
                      <a:pt x="17406" y="16200"/>
                    </a:lnTo>
                    <a:arcTo wR="8844" hR="21600" stAng="-1934239" swAng="-3256107"/>
                    <a:lnTo>
                      <a:pt x="10148" y="236"/>
                    </a:lnTo>
                    <a:arcTo wR="8844" hR="21600" stAng="-5609654" swAng="-5190346"/>
                    <a:close/>
                  </a:path>
                  <a:path fill="darkenLess" w="21600" h="21600">
                    <a:moveTo>
                      <a:pt x="0" y="21600"/>
                    </a:moveTo>
                    <a:arcTo wR="8844" hR="21600" stAng="10800000" swAng="5400000"/>
                    <a:lnTo>
                      <a:pt x="8844" y="0"/>
                    </a:lnTo>
                    <a:arcTo wR="8844" hR="21600" stAng="-5400000" swAng="209654"/>
                    <a:lnTo>
                      <a:pt x="10148" y="236"/>
                    </a:lnTo>
                    <a:arcTo wR="8844" hR="21600" stAng="-5609654" swAng="-5190346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Выгнутая вверх стрелка 31"/>
              <p:cNvSpPr/>
              <p:nvPr/>
            </p:nvSpPr>
            <p:spPr>
              <a:xfrm rot="10800000">
                <a:off x="3889800" y="4680360"/>
                <a:ext cx="1191600" cy="577080"/>
              </a:xfrm>
              <a:custGeom>
                <a:avLst/>
                <a:gdLst>
                  <a:gd name="textAreaLeft" fmla="*/ 243720 w 1191600"/>
                  <a:gd name="textAreaRight" fmla="*/ 875880 w 1191600"/>
                  <a:gd name="textAreaTop" fmla="*/ 77040 h 577080"/>
                  <a:gd name="textAreaBottom" fmla="*/ 500040 h 57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844" hR="21600" stAng="10800000" swAng="5400000"/>
                    <a:lnTo>
                      <a:pt x="11453" y="0"/>
                    </a:lnTo>
                    <a:arcTo wR="8844" hR="21600" stAng="-5400000" swAng="3465761"/>
                    <a:lnTo>
                      <a:pt x="21319" y="16200"/>
                    </a:lnTo>
                    <a:lnTo>
                      <a:pt x="18992" y="21600"/>
                    </a:lnTo>
                    <a:lnTo>
                      <a:pt x="16102" y="16200"/>
                    </a:lnTo>
                    <a:lnTo>
                      <a:pt x="17406" y="16200"/>
                    </a:lnTo>
                    <a:arcTo wR="8844" hR="21600" stAng="-1934239" swAng="-3256107"/>
                    <a:lnTo>
                      <a:pt x="10148" y="236"/>
                    </a:lnTo>
                    <a:arcTo wR="8844" hR="21600" stAng="-5609654" swAng="-5190346"/>
                    <a:close/>
                  </a:path>
                  <a:path fill="darkenLess" w="21600" h="21600">
                    <a:moveTo>
                      <a:pt x="0" y="21600"/>
                    </a:moveTo>
                    <a:arcTo wR="8844" hR="21600" stAng="10800000" swAng="5400000"/>
                    <a:lnTo>
                      <a:pt x="8844" y="0"/>
                    </a:lnTo>
                    <a:arcTo wR="8844" hR="21600" stAng="-5400000" swAng="209654"/>
                    <a:lnTo>
                      <a:pt x="10148" y="236"/>
                    </a:lnTo>
                    <a:arcTo wR="8844" hR="21600" stAng="-5609654" swAng="-5190346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Стрелка вправо 32"/>
              <p:cNvGrpSpPr/>
              <p:nvPr/>
            </p:nvGrpSpPr>
            <p:grpSpPr>
              <a:xfrm>
                <a:off x="3022920" y="4391640"/>
                <a:ext cx="914400" cy="888120"/>
                <a:chOff x="3022920" y="4391640"/>
                <a:chExt cx="914400" cy="888120"/>
              </a:xfrm>
            </p:grpSpPr>
            <p:pic>
              <p:nvPicPr>
                <p:cNvPr id="277" name="Стрелка вправо 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22920" y="4391640"/>
                  <a:ext cx="914400" cy="88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"/>
                <p:cNvSpPr/>
                <p:nvPr/>
              </p:nvSpPr>
              <p:spPr>
                <a:xfrm rot="2854200">
                  <a:off x="2993400" y="4762080"/>
                  <a:ext cx="97488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TextBox 2"/>
            <p:cNvSpPr/>
            <p:nvPr/>
          </p:nvSpPr>
          <p:spPr>
            <a:xfrm>
              <a:off x="1261080" y="2133720"/>
              <a:ext cx="70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 u="sng">
                  <a:solidFill>
                    <a:srgbClr val="006600"/>
                  </a:solidFill>
                  <a:uFillTx/>
                  <a:latin typeface="Bookman Old Style"/>
                </a:rPr>
                <a:t>Круговорот веществ в природе </a:t>
              </a:r>
              <a:r>
                <a:rPr b="0" lang="ru-RU" sz="3200" spc="-1" strike="noStrike">
                  <a:solidFill>
                    <a:srgbClr val="c00000"/>
                  </a:solidFill>
                  <a:latin typeface="Bookman Old Style"/>
                </a:rPr>
                <a:t>-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Прямоугольник 33"/>
          <p:cNvSpPr/>
          <p:nvPr/>
        </p:nvSpPr>
        <p:spPr>
          <a:xfrm>
            <a:off x="5973840" y="4653000"/>
            <a:ext cx="4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05:35:46Z</dcterms:created>
  <dc:creator>Сергей-ПК</dc:creator>
  <dc:description/>
  <dc:language>en-US</dc:language>
  <cp:lastModifiedBy>Сергей</cp:lastModifiedBy>
  <dcterms:modified xsi:type="dcterms:W3CDTF">2013-06-13T18:35:58Z</dcterms:modified>
  <cp:revision>60</cp:revision>
  <dc:subject/>
  <dc:title>Слайд 1</dc:title>
</cp:coreProperties>
</file>