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EDE-3ACF-4A09-B68C-17DF2287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163-FC94-4746-B1A0-64A525D2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813-CAD2-474B-860E-7E021DD7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834-AD69-4367-9543-AB185F11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22FF-CCC3-43FA-89C6-2723D306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6505-8796-4C45-B160-4B22DB5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2C7D-C963-4E84-A284-BC8BBDF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751F-18F2-4D6F-80B1-CA9CD81F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B92-E366-4528-86D3-3465AB1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307C-DB47-4A09-97D4-FE0D6F8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14C4-24B8-4947-B6CC-5CCCC94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4B0-1151-4F9A-8E8F-995CF244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AC0-A04F-42C4-8BB9-810FBB1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5922-A530-4BCF-9B77-91C8CAA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C15-2B90-4159-A7E3-E57E571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D99-A58A-48F6-A8BF-71265E06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5E72-5113-46C9-BC96-EEA1DE12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D9D1-69A5-43FF-AB17-7863A55A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6B6D-E37B-4818-870C-02F1FD9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19D7-5F9E-4B49-A7EE-1C32488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1306-FE87-458F-9681-D326C248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7A32-BA90-4C4D-90BE-23C1E1A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D3D-EB46-4FC2-98AA-E83F88E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ABFD-669D-408A-81ED-4F85673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1087-35B3-4CE2-8560-E25DF422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DC2B-390B-4311-A4E9-0C0F162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1683-D08E-4767-882B-ACA3311E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F3BE-B98C-474F-937F-7C66F857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6434-ABCB-4F54-9260-30198D78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89FE-D994-4AA7-A821-FBDA58CC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14F4-E081-466A-94FE-9B2FF0DF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AAC9-6995-4F8A-A817-8F48F29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6EB4-3EF2-4496-8FCF-418F8F7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475-3A7C-4033-8D9F-1BF14133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B4D7-E706-4F5D-8600-7329199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8962-127F-41FD-ADE4-03FD0FA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B41A-EFB8-40B5-9341-A2A3E34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C157-F1C3-4560-ABD8-6320587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AB13-A569-4E2D-993D-D73E8BF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5B20-F06B-467B-8AA4-7F46703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51FC-2335-4701-BB1B-701C4D1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69C1-9E7F-450F-9E47-17692E81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9D98-6B4A-482B-8F89-2934A17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0D4D1-2B1D-48A3-A521-916C505E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4E4-4F7B-4EBD-837C-C7F934E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BA8B-D7F2-40CC-BA77-4574D937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6043-C65F-4928-A0E2-12E9CE32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ADEA-9522-4E85-B231-74EFE4F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D987-93B1-45D3-8E5D-6DF6A48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9114-5000-4B6F-902A-BC04FF1F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67C8-9C0D-47BA-B70F-0C7DDD4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3464-2DD5-4A63-B84B-ECEC5A2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9312-F550-48E5-8F91-37E046F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460C-AE45-4400-BDF8-77618A7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1BE83-CDD8-4B7D-AB4B-E72998E6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BB4-7F49-4EF1-868B-53E0F906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D1212-FAA2-46C9-BA67-685B8C62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EAF-9A94-4290-81F9-9029E7B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8CF-8110-4A5E-8B6E-FC6F2F1D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B8E-27F1-41C0-ADEA-9B658F3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120-1356-4998-8AC4-8A2F072F92F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BD5-B8C7-4E63-93F6-226677CEAAE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B19-001D-4176-9796-719EA3D7A25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70A9-FF60-4359-BB2B-59343BA606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CF38-E6E2-4DBB-B380-49EC4783FD1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395280" y="476280"/>
            <a:ext cx="8064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ерсональный 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биолог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гимназии «Гамма» №14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товой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39640" y="2400480"/>
            <a:ext cx="83534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здание инструментария для введения ФГОС в 5-х классах на уроках </a:t>
            </a:r>
            <a:r>
              <a:rPr b="0" lang="ru-RU" sz="32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http://ig.att.oho.lv/3267/5632.jpg">
            <a:hlinkClick r:id="rId1"/>
          </p:cNvPr>
          <p:cNvPicPr/>
          <p:nvPr/>
        </p:nvPicPr>
        <p:blipFill>
          <a:blip r:embed="rId2"/>
          <a:srcRect l="0" t="28858" r="0" b="26906"/>
          <a:stretch/>
        </p:blipFill>
        <p:spPr>
          <a:xfrm>
            <a:off x="1330200" y="4076640"/>
            <a:ext cx="67280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539640" y="40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"/>
          <p:cNvSpPr/>
          <p:nvPr/>
        </p:nvSpPr>
        <p:spPr>
          <a:xfrm>
            <a:off x="468360" y="1197000"/>
            <a:ext cx="810576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совокупность способов действий учащегося,</a:t>
            </a:r>
            <a:r>
              <a:rPr b="0" lang="ru-RU" sz="28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 обеспечивающих самостоятельное усвоение новых знаний, формирование умений, включая организацию эт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3121920" y="3429000"/>
            <a:ext cx="24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иды У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2195640" y="364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знав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о-символ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826920" y="4762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ознавательные учебные дейст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996120" y="119700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общеучеб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310720" y="119700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лог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539640" y="1773360"/>
            <a:ext cx="48243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выделение и формулирование познавательной цел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выделени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 зн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наиболее эффективных способов решения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декватно, осознанно и произвольно строить речевое высказы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и формулирование проблемы,  создание алгоритмов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со знаково-символическими сред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5435640" y="1916280"/>
            <a:ext cx="29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ан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зн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под понят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след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аналог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2114640" y="333360"/>
            <a:ext cx="42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39640" y="981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Банк заданий для формирования познавательных УУД на уроках биологии в 5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68360" y="1821600"/>
            <a:ext cx="831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с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мение синте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оп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класс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мение проводить ана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установление причинно-следствен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2340000" y="33336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анали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324000" y="191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учите теоретический материал по теме «Строение клетки». За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55640" y="3141720"/>
          <a:ext cx="5616720" cy="148284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ь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2" descr=""/>
          <p:cNvPicPr/>
          <p:nvPr/>
        </p:nvPicPr>
        <p:blipFill>
          <a:blip r:embed="rId1"/>
          <a:srcRect l="50258" t="0" r="0" b="0"/>
          <a:stretch/>
        </p:blipFill>
        <p:spPr>
          <a:xfrm>
            <a:off x="6732720" y="1916280"/>
            <a:ext cx="1942920" cy="2582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5"/>
          <p:cNvSpPr/>
          <p:nvPr/>
        </p:nvSpPr>
        <p:spPr>
          <a:xfrm>
            <a:off x="468360" y="5013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уйте природное сообщество парка Кусково. Запишите  названия растений и живот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39640" y="9831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Calibri"/>
              </a:rPr>
              <a:t>Анали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деление элементов и «единиц» из целого; расчленение целого на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53964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сравнив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устанавливать черты сходства (сопоставлять) и различия (противопоставля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1348560" y="40464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сравн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5280" y="1773360"/>
            <a:ext cx="554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равните строение амебы обыкновенной и инфузории-туфель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98520" y="3213000"/>
            <a:ext cx="43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олните сравнительную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39640" y="3716280"/>
          <a:ext cx="6096240" cy="1854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тения и живот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Picture 2" descr="http://chemistry-chemists.com/N5_2011/L1/amoeba-proteus.jpg"/>
          <p:cNvPicPr/>
          <p:nvPr/>
        </p:nvPicPr>
        <p:blipFill>
          <a:blip r:embed="rId1"/>
          <a:stretch/>
        </p:blipFill>
        <p:spPr>
          <a:xfrm>
            <a:off x="5867280" y="1773360"/>
            <a:ext cx="170208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5" name="Picture 6" descr="http://www.petushok.info/old_site/sites/default/files/images/Paramecium%20caudatum.jpg"/>
          <p:cNvPicPr/>
          <p:nvPr/>
        </p:nvPicPr>
        <p:blipFill>
          <a:blip r:embed="rId2"/>
          <a:stretch/>
        </p:blipFill>
        <p:spPr>
          <a:xfrm>
            <a:off x="7164360" y="2852640"/>
            <a:ext cx="1440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Синтез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ысленное соединение отдельных элементов, частей, признаков в единое це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1354680" y="54936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синтезир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468360" y="2349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идет реч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интез, неподвижность, хлоропласты, автотрофы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и, потребители, разрушители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, вода, свет, температура - ? (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иот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1643400" y="40464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классифик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468360" y="2276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реди названных организмов производителей, потребителей, разрушителей органическ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дождевой червь;       Б – клевер;        В – заяц-беляк;      Г – голуб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– мукор;      Е – бактерии;     Ж – волк;    З– хламидомонада;     И– пше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468360" y="1052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классифициров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распределять какие-либо объекты по классам, отделам, разрядам в зависимости от их общих при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539640" y="357336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соответств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Неклеточ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– Безъядер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Ядерные организмы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"/>
          <p:cNvSpPr/>
          <p:nvPr/>
        </p:nvSpPr>
        <p:spPr>
          <a:xfrm>
            <a:off x="3851280" y="378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стейшие     2.Гриб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ктерии           4. Живо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русы             6. Рас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6"/>
          <p:cNvSpPr/>
          <p:nvPr/>
        </p:nvSpPr>
        <p:spPr>
          <a:xfrm>
            <a:off x="395280" y="5229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дите соответств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4938120" y="5165640"/>
            <a:ext cx="153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оце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>
            <a:off x="3348000" y="5157720"/>
            <a:ext cx="120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1763640" y="40464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обоб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395280" y="1052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обобщ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выражать основные результаты в общем положении, делать вывод, придавать общее значение чему-либо. </a:t>
            </a: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Обобще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ыслительный процесс, который приводит к нахождению общего в заданных предметах и явл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468360" y="2997360"/>
            <a:ext cx="777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является лишним в данном переч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, животные, грибы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оросл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блок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блоня, осина, бере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предложенном наборе понятий, выбрать 2 по одному общему призн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итон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ягушка, квакш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ламанд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ягушка-бык. Стрекоза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ранту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ук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у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бочка, блох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bbc"/>
                </a:solidFill>
                <a:latin typeface="Times New Roman"/>
                <a:ea typeface="Times New Roman"/>
              </a:rPr>
              <a:t>Умение проводить аналог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ение находить сходство, в каком либо отношении между предметами, явлениями или понятиям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611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умение проводить ана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539640" y="1989000"/>
            <a:ext cx="7777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ервым и вторым понятием существует определенная связь. Такая же связь существует между третьим и одним из нескольких приведенных ниже понятий. Найдите это пон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ние – лист = клетка -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– корень   Б – пестик    В – стебель    Г –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611280" y="4437000"/>
            <a:ext cx="806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закономе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– информация, хлоропласт – фотосинтез, вакуоль -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1771 году английским химиком Джозефом Пристли был осуществлён опы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http://festival.1september.ru/articles/100478/img1.jpg"/>
          <p:cNvPicPr/>
          <p:nvPr/>
        </p:nvPicPr>
        <p:blipFill>
          <a:blip r:embed="rId1"/>
          <a:stretch/>
        </p:blipFill>
        <p:spPr>
          <a:xfrm>
            <a:off x="755640" y="2892600"/>
            <a:ext cx="3600360" cy="31050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61128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Задания на выявление причинно-следственных связ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4788000" y="242100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мерла мыш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ышка, находящаяся под колпаком с растением жи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обходимо для горения св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е помогло выжить мышке и гореть свеч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39640" y="1268280"/>
            <a:ext cx="60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39640" y="1844640"/>
            <a:ext cx="7056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е количество методического и  дидактического материала для реализации ФГОС в 5-х классах на уроках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542880" y="299736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39640" y="3603960"/>
            <a:ext cx="7993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струментария для введения ФГОС на уроке  биологии позволит создать условия для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54684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</a:t>
            </a:r>
            <a:r>
              <a:rPr b="0" lang="ru-RU" sz="3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539640" y="5157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инструментарий для активного введения ФГОС  в 5-х классах на уроках биологии и апробирова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7596360" y="1916280"/>
            <a:ext cx="863280" cy="19000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468360" y="2746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еграмотный будущего – это не тот, кто не умеет читать. Им станет тот, кто не умеет уч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Тоффлер, американский социолог и футурол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9640" y="867960"/>
            <a:ext cx="7993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струментарий для введения ФГОС на уроке  биологии создает оптимальные условия для их реализации.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ТП с прописанными результатами обучения позволяет четко видеть конечную цель обучения и пути ее дост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анк заданий по формированию УУД облегчает работу учителя и обеспечивает деятельност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1203120" cy="23050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531720" y="549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68360" y="264312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 - тематическое план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образования ученика по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 заданий для формирования УУД на уроках биологии в 5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478800" y="404640"/>
            <a:ext cx="49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58720" y="155736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539640" y="10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ФГОС в 5-х классах на уроках </a:t>
            </a: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0" y="2205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инструментарий для введения ФГОС в 5-х классах на уроках </a:t>
            </a:r>
            <a:r>
              <a:rPr b="0" lang="ru-RU" sz="2800" spc="-1" strike="noStrike">
                <a:solidFill>
                  <a:srgbClr val="a80054"/>
                </a:solidFill>
                <a:latin typeface="Times New Roman"/>
                <a:ea typeface="Times New Roman"/>
              </a:rPr>
              <a:t>би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539640" y="350028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468360" y="4221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еории ФГ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струментария для введения ФГОС в 5-х классах на уроках 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professor_with_telescope_hc"/>
          <p:cNvPicPr/>
          <p:nvPr/>
        </p:nvPicPr>
        <p:blipFill>
          <a:blip r:embed="rId1"/>
          <a:stretch/>
        </p:blipFill>
        <p:spPr>
          <a:xfrm flipH="1">
            <a:off x="6983280" y="549360"/>
            <a:ext cx="216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1424160" y="333360"/>
            <a:ext cx="61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 работы над проек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5280" y="981000"/>
          <a:ext cx="8424720" cy="5515200"/>
        </p:xfrm>
        <a:graphic>
          <a:graphicData uri="http://schemas.openxmlformats.org/drawingml/2006/table">
            <a:tbl>
              <a:tblPr/>
              <a:tblGrid>
                <a:gridCol w="1805040"/>
                <a:gridCol w="3159000"/>
                <a:gridCol w="3460680"/>
              </a:tblGrid>
              <a:tr h="639720"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сяцы, триместр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- 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, ознакомление с теорией вопроса. Подбор программы , создание КТП и карты образования уче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материалов по теории вопроса. Рабочая программа, КТП и карта образования по биологии для 5х клас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– 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им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оретической части. Обзор литературы.  Подбор заданий на формирование различных видов УУД. Апробация методических разрабо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банка 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практической частью проекта. Разработка и апробация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банка  заданий по формированию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–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им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использование заданий на формировани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езультатов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заданий по УУ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 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ме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зданием презентации по теме само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043720" y="333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39640" y="981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Рабочая програм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«ФГОС. Биология 5-9 класс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Н. Пономарёва, В.С. Кучмен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А. Корнилова, А.Г. Драгомилов, Т.С. Су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395280" y="285300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курса биологии в базисном учебном пл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своения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урса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lsbook.ru/published/publicdata/EXTRAMODELSBOOK/attachments/SC/products_pictures/%D0%9F%D1%80%D0%B8%D0%BC%D0%B5%D1%80%D0%BD%D1%8B%D0%B5%20%D0%BF%D1%80%D0%BE%D0%B3%D1%80%D0%B0%D0%BC%D0%BC%D1%8B%20%D0%BF%D0%BE%20%D1%83%D1%87%D0%B5%D0%B1%D0%BD%D1%8B%D0%BC%20%D0%BF%D1%80%D0%B5%D0%B4%D0%BC%D0%B5%D1%82%D0%B0%D0%BC.%20%D0%91%D0%B8%D0%BE%D0%BB%D0%BE%D0%B3%D0%B8%D1%8F.%205-9%20%D0%BA%D0%BB%D0%B0%D1%81%D1%81%D1%8B_en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9440" y="2389320"/>
            <a:ext cx="2219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2043720" y="33336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9640" y="981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алендарно - тематическое планирование по биологии в 5 класс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68360" y="2349000"/>
            <a:ext cx="47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разд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– наука о живом мире. Многообразие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зучения ж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организмов на планете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 планете Зем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http://online-bibliograph.ru/files/orig/4/6/d/46d7daaa4755d310cc900e9eedadceeb.jpg"/>
          <p:cNvPicPr/>
          <p:nvPr/>
        </p:nvPicPr>
        <p:blipFill>
          <a:blip r:embed="rId1"/>
          <a:stretch/>
        </p:blipFill>
        <p:spPr>
          <a:xfrm>
            <a:off x="5718240" y="1816200"/>
            <a:ext cx="26272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547640" y="115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арта образования уче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Таблица 2" descr=""/>
          <p:cNvPicPr/>
          <p:nvPr/>
        </p:nvPicPr>
        <p:blipFill>
          <a:blip r:embed="rId1"/>
          <a:stretch/>
        </p:blipFill>
        <p:spPr>
          <a:xfrm>
            <a:off x="249120" y="622440"/>
            <a:ext cx="8645760" cy="590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34"/>
          <p:cNvSpPr/>
          <p:nvPr/>
        </p:nvSpPr>
        <p:spPr>
          <a:xfrm>
            <a:off x="611280" y="2205000"/>
            <a:ext cx="7993080" cy="4103640"/>
          </a:xfrm>
          <a:prstGeom prst="rect">
            <a:avLst/>
          </a:prstGeom>
          <a:gradFill rotWithShape="0">
            <a:gsLst>
              <a:gs pos="0">
                <a:srgbClr val="adc2db"/>
              </a:gs>
              <a:gs pos="100000">
                <a:srgbClr val="e9eff5"/>
              </a:gs>
            </a:gsLst>
            <a:lin ang="16200000"/>
          </a:gra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"/>
          <p:cNvSpPr/>
          <p:nvPr/>
        </p:nvSpPr>
        <p:spPr>
          <a:xfrm>
            <a:off x="468360" y="9079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Банк заданий для формирования УУД на уроках биологии в 5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259360" y="333360"/>
            <a:ext cx="42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ечный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18"/>
          <p:cNvGrpSpPr/>
          <p:nvPr/>
        </p:nvGrpSpPr>
        <p:grpSpPr>
          <a:xfrm>
            <a:off x="1087200" y="2133720"/>
            <a:ext cx="7248240" cy="4130640"/>
            <a:chOff x="1087200" y="2133720"/>
            <a:chExt cx="7248240" cy="4130640"/>
          </a:xfrm>
        </p:grpSpPr>
        <p:sp>
          <p:nvSpPr>
            <p:cNvPr id="258" name="TextBox 2"/>
            <p:cNvSpPr/>
            <p:nvPr/>
          </p:nvSpPr>
          <p:spPr>
            <a:xfrm>
              <a:off x="1261800" y="2133720"/>
              <a:ext cx="70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 u="sng">
                  <a:solidFill>
                    <a:srgbClr val="006600"/>
                  </a:solidFill>
                  <a:uFillTx/>
                  <a:latin typeface="Bookman Old Style"/>
                </a:rPr>
                <a:t>Круговорот веществ в природе </a:t>
              </a:r>
              <a:r>
                <a:rPr b="0" lang="ru-RU" sz="3200" spc="-1" strike="noStrike">
                  <a:solidFill>
                    <a:srgbClr val="c00000"/>
                  </a:solidFill>
                  <a:latin typeface="Bookman Old Style"/>
                </a:rPr>
                <a:t>-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Группа 16"/>
            <p:cNvGrpSpPr/>
            <p:nvPr/>
          </p:nvGrpSpPr>
          <p:grpSpPr>
            <a:xfrm>
              <a:off x="1087200" y="3194280"/>
              <a:ext cx="7216920" cy="3070080"/>
              <a:chOff x="1087200" y="3194280"/>
              <a:chExt cx="7216920" cy="3070080"/>
            </a:xfrm>
          </p:grpSpPr>
          <p:sp>
            <p:nvSpPr>
              <p:cNvPr id="260" name="TextBox 3"/>
              <p:cNvSpPr/>
              <p:nvPr/>
            </p:nvSpPr>
            <p:spPr>
              <a:xfrm>
                <a:off x="1087200" y="3548160"/>
                <a:ext cx="1845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6600"/>
                    </a:solidFill>
                    <a:latin typeface="Bookman Old Style"/>
                  </a:rPr>
                  <a:t>« ? 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раст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4"/>
              <p:cNvSpPr/>
              <p:nvPr/>
            </p:nvSpPr>
            <p:spPr>
              <a:xfrm>
                <a:off x="5375520" y="3618360"/>
                <a:ext cx="2928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33cc"/>
                    </a:solidFill>
                    <a:latin typeface="Bookman Old Style"/>
                  </a:rPr>
                  <a:t>«Потребители»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животны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5"/>
              <p:cNvSpPr/>
              <p:nvPr/>
            </p:nvSpPr>
            <p:spPr>
              <a:xfrm>
                <a:off x="2958120" y="5317200"/>
                <a:ext cx="2693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800000"/>
                    </a:solidFill>
                    <a:latin typeface="Bookman Old Style"/>
                  </a:rPr>
                  <a:t>«Разлагатели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800" spc="-1" strike="noStrike">
                    <a:solidFill>
                      <a:srgbClr val="000000"/>
                    </a:solidFill>
                    <a:latin typeface="Bookman Old Style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Стрелка вправо 25"/>
              <p:cNvGrpSpPr/>
              <p:nvPr/>
            </p:nvGrpSpPr>
            <p:grpSpPr>
              <a:xfrm>
                <a:off x="3614400" y="3724560"/>
                <a:ext cx="1810440" cy="322920"/>
                <a:chOff x="3614400" y="3724560"/>
                <a:chExt cx="1810440" cy="322920"/>
              </a:xfrm>
            </p:grpSpPr>
            <p:pic>
              <p:nvPicPr>
                <p:cNvPr id="264" name="Стрелка вправо 2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14400" y="3724560"/>
                  <a:ext cx="1810440" cy="32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3677760" y="3813480"/>
                  <a:ext cx="1640520" cy="1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Стрелка вправо 26"/>
              <p:cNvGrpSpPr/>
              <p:nvPr/>
            </p:nvGrpSpPr>
            <p:grpSpPr>
              <a:xfrm>
                <a:off x="5110920" y="4547520"/>
                <a:ext cx="971280" cy="865440"/>
                <a:chOff x="5110920" y="4547520"/>
                <a:chExt cx="971280" cy="865440"/>
              </a:xfrm>
            </p:grpSpPr>
            <p:pic>
              <p:nvPicPr>
                <p:cNvPr id="267" name="Стрелка вправо 2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10920" y="4547520"/>
                  <a:ext cx="971280" cy="86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 rot="8482200">
                  <a:off x="5095440" y="4902480"/>
                  <a:ext cx="10180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Стрелка вправо 27"/>
              <p:cNvGrpSpPr/>
              <p:nvPr/>
            </p:nvGrpSpPr>
            <p:grpSpPr>
              <a:xfrm>
                <a:off x="2773080" y="4505760"/>
                <a:ext cx="932760" cy="872640"/>
                <a:chOff x="2773080" y="4505760"/>
                <a:chExt cx="932760" cy="872640"/>
              </a:xfrm>
            </p:grpSpPr>
            <p:pic>
              <p:nvPicPr>
                <p:cNvPr id="270" name="Стрелка вправо 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73080" y="4505760"/>
                  <a:ext cx="932760" cy="87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 rot="13612200">
                  <a:off x="2757960" y="4872240"/>
                  <a:ext cx="9748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Box 15"/>
              <p:cNvSpPr/>
              <p:nvPr/>
            </p:nvSpPr>
            <p:spPr>
              <a:xfrm>
                <a:off x="3672360" y="319428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органическ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веще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16"/>
              <p:cNvSpPr/>
              <p:nvPr/>
            </p:nvSpPr>
            <p:spPr>
              <a:xfrm>
                <a:off x="1130760" y="4892760"/>
                <a:ext cx="175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неорганическ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веще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Выгнутая вверх стрелка 30"/>
              <p:cNvSpPr/>
              <p:nvPr/>
            </p:nvSpPr>
            <p:spPr>
              <a:xfrm>
                <a:off x="3959640" y="4044240"/>
                <a:ext cx="1191600" cy="577080"/>
              </a:xfrm>
              <a:custGeom>
                <a:avLst/>
                <a:gdLst>
                  <a:gd name="textAreaLeft" fmla="*/ 243720 w 1191600"/>
                  <a:gd name="textAreaRight" fmla="*/ 875880 w 1191600"/>
                  <a:gd name="textAreaTop" fmla="*/ 77040 h 577080"/>
                  <a:gd name="textAreaBottom" fmla="*/ 50004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844" hR="21600" stAng="10800000" swAng="5400000"/>
                    <a:lnTo>
                      <a:pt x="11453" y="0"/>
                    </a:lnTo>
                    <a:arcTo wR="8844" hR="21600" stAng="-5400000" swAng="3465761"/>
                    <a:lnTo>
                      <a:pt x="21319" y="16200"/>
                    </a:lnTo>
                    <a:lnTo>
                      <a:pt x="18992" y="21600"/>
                    </a:lnTo>
                    <a:lnTo>
                      <a:pt x="16102" y="16200"/>
                    </a:lnTo>
                    <a:lnTo>
                      <a:pt x="17406" y="16200"/>
                    </a:lnTo>
                    <a:arcTo wR="8844" hR="21600" stAng="-1934239" swAng="-3256107"/>
                    <a:lnTo>
                      <a:pt x="10148" y="236"/>
                    </a:lnTo>
                    <a:arcTo wR="8844" hR="21600" stAng="-5609654" swAng="-5190346"/>
                    <a:close/>
                  </a:path>
                  <a:path fill="darkenLess" w="21600" h="21600">
                    <a:moveTo>
                      <a:pt x="0" y="21600"/>
                    </a:moveTo>
                    <a:arcTo wR="8844" hR="21600" stAng="10800000" swAng="5400000"/>
                    <a:lnTo>
                      <a:pt x="8844" y="0"/>
                    </a:lnTo>
                    <a:arcTo wR="8844" hR="21600" stAng="-5400000" swAng="209654"/>
                    <a:lnTo>
                      <a:pt x="10148" y="236"/>
                    </a:lnTo>
                    <a:arcTo wR="8844" hR="21600" stAng="-5609654" swAng="-5190346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Выгнутая вверх стрелка 31"/>
              <p:cNvSpPr/>
              <p:nvPr/>
            </p:nvSpPr>
            <p:spPr>
              <a:xfrm rot="10800000">
                <a:off x="3889800" y="4680360"/>
                <a:ext cx="1191600" cy="577080"/>
              </a:xfrm>
              <a:custGeom>
                <a:avLst/>
                <a:gdLst>
                  <a:gd name="textAreaLeft" fmla="*/ 243720 w 1191600"/>
                  <a:gd name="textAreaRight" fmla="*/ 875880 w 1191600"/>
                  <a:gd name="textAreaTop" fmla="*/ 77040 h 577080"/>
                  <a:gd name="textAreaBottom" fmla="*/ 500040 h 57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844" hR="21600" stAng="10800000" swAng="5400000"/>
                    <a:lnTo>
                      <a:pt x="11453" y="0"/>
                    </a:lnTo>
                    <a:arcTo wR="8844" hR="21600" stAng="-5400000" swAng="3465761"/>
                    <a:lnTo>
                      <a:pt x="21319" y="16200"/>
                    </a:lnTo>
                    <a:lnTo>
                      <a:pt x="18992" y="21600"/>
                    </a:lnTo>
                    <a:lnTo>
                      <a:pt x="16102" y="16200"/>
                    </a:lnTo>
                    <a:lnTo>
                      <a:pt x="17406" y="16200"/>
                    </a:lnTo>
                    <a:arcTo wR="8844" hR="21600" stAng="-1934239" swAng="-3256107"/>
                    <a:lnTo>
                      <a:pt x="10148" y="236"/>
                    </a:lnTo>
                    <a:arcTo wR="8844" hR="21600" stAng="-5609654" swAng="-5190346"/>
                    <a:close/>
                  </a:path>
                  <a:path fill="darkenLess" w="21600" h="21600">
                    <a:moveTo>
                      <a:pt x="0" y="21600"/>
                    </a:moveTo>
                    <a:arcTo wR="8844" hR="21600" stAng="10800000" swAng="5400000"/>
                    <a:lnTo>
                      <a:pt x="8844" y="0"/>
                    </a:lnTo>
                    <a:arcTo wR="8844" hR="21600" stAng="-5400000" swAng="209654"/>
                    <a:lnTo>
                      <a:pt x="10148" y="236"/>
                    </a:lnTo>
                    <a:arcTo wR="8844" hR="21600" stAng="-5609654" swAng="-5190346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Стрелка вправо 32"/>
              <p:cNvGrpSpPr/>
              <p:nvPr/>
            </p:nvGrpSpPr>
            <p:grpSpPr>
              <a:xfrm>
                <a:off x="3022920" y="4391640"/>
                <a:ext cx="914400" cy="888120"/>
                <a:chOff x="3022920" y="4391640"/>
                <a:chExt cx="914400" cy="888120"/>
              </a:xfrm>
            </p:grpSpPr>
            <p:pic>
              <p:nvPicPr>
                <p:cNvPr id="277" name="Стрелка вправо 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22920" y="4391640"/>
                  <a:ext cx="914400" cy="88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 rot="2854200">
                  <a:off x="2993400" y="4762080"/>
                  <a:ext cx="97488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TextBox 2"/>
            <p:cNvSpPr/>
            <p:nvPr/>
          </p:nvSpPr>
          <p:spPr>
            <a:xfrm>
              <a:off x="1261080" y="2133720"/>
              <a:ext cx="70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 u="sng">
                  <a:solidFill>
                    <a:srgbClr val="006600"/>
                  </a:solidFill>
                  <a:uFillTx/>
                  <a:latin typeface="Bookman Old Style"/>
                </a:rPr>
                <a:t>Круговорот веществ в природе </a:t>
              </a:r>
              <a:r>
                <a:rPr b="0" lang="ru-RU" sz="3200" spc="-1" strike="noStrike">
                  <a:solidFill>
                    <a:srgbClr val="c00000"/>
                  </a:solidFill>
                  <a:latin typeface="Bookman Old Style"/>
                </a:rPr>
                <a:t>-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Прямоугольник 33"/>
          <p:cNvSpPr/>
          <p:nvPr/>
        </p:nvSpPr>
        <p:spPr>
          <a:xfrm>
            <a:off x="5973840" y="4653000"/>
            <a:ext cx="4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05:35:46Z</dcterms:created>
  <dc:creator>Сергей-ПК</dc:creator>
  <dc:description/>
  <dc:language>en-US</dc:language>
  <cp:lastModifiedBy>Сергей</cp:lastModifiedBy>
  <dcterms:modified xsi:type="dcterms:W3CDTF">2013-06-13T18:35:58Z</dcterms:modified>
  <cp:revision>60</cp:revision>
  <dc:subject/>
  <dc:title>Слайд 1</dc:title>
</cp:coreProperties>
</file>