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C76-4FDB-4D49-B843-8982B823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000-C3ED-4811-BE19-50EFA542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91B-B25E-42BC-9133-132207F8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53D-88C5-4058-A52D-1427FE9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D39-C799-40A2-9B96-08AF6C4F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986-BD8B-407E-B795-9FDFEF57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BC1A-C567-4B3B-8396-29E669A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AA02-CFAC-4E1B-BE40-F3AB24E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7DF5-FD66-4837-9516-EA1AB4CF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7AF5-B8D7-4C6A-ACAD-A81AEB1D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7163-775A-4CB7-96A4-CEBFE3A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6A5-597E-44E0-B2B6-1BEC18E8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D7C-1E5F-4F65-95F3-0B5D292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9D7-DCF8-4FA7-B1C1-F46373B7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4E3-14F0-4A5D-83E7-D17CDE04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E07-3506-4207-BF5D-78A0BA0A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199-69DD-44C5-BAB0-19DFB3F1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AEC8-7BD6-4506-8FA5-3C0B8BE3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0927-C42E-4A79-94B9-00D4BB9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CDC5-9412-4982-916E-A3F4D85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4B49-ACC5-44F2-8796-A649BDFB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E9E3-6726-42CF-925B-9228669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A76-0CEB-4FB0-A5DA-333892B1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C0A0-9022-4D37-8CCC-76CF4630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BF73-664C-4314-98F5-2243226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95BB-A153-47F1-8EE8-3512441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7333-2CE1-4BA0-AA9E-EB85F1A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982E-E04E-4F86-94D3-DEEFA2D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F1C1-98EC-4BB1-BBA8-2804CA9A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46DD-0B37-41AC-9111-BF3C2FF9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FB87-A395-4001-8A04-D4E729D6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CE27-DEF1-4B62-AA17-8C8E42A6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2669-3E9D-4D73-8882-98E231B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ABC-694C-4CBF-AAAF-83487B3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6C74-CFCD-4F58-9C69-DC13C32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5258-82B5-4F43-B3C2-A27775A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071B-9178-4C9D-AA61-81E41A04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A92B-9778-4875-A20D-6AE71CD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9D18-16FA-410A-A261-3E3AC6F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9437-01D6-48F0-97C5-FC2E1A0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65A4-034B-4855-A973-08361B30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20FD-F63F-41D0-B159-E9F68ACB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41B7-75AF-4771-B8DF-C83FBF0B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D27E-ACE9-4A14-B5AD-72262886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0BA-A1ED-4928-940B-E6E6748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B8E2-E9C0-48A3-8C9D-4589EEAC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8DDF-D655-43BD-87E3-5E8607E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B41C-0099-407A-A0E6-C26CFD8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0FF5-2A69-442A-BD8E-F2526A9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95C8-E4DB-47E1-9432-06E584A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0FFB-96A6-4F7B-9787-E422208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5B93-4AF3-44BE-985F-87C6F9C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41C4-636F-483B-9F27-73BAA95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1A7E-A558-4F4E-8310-68D20DA1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B36CF-30A1-4EBD-9BDE-CCF05634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4C0-4877-4CA9-BD70-7C4F90E7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5437-B318-44EB-B4FE-8F218B5F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2C45C-80E6-4EE2-ACBE-7B422BC2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114B-54EB-4146-AB18-430AA65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FAC4-596D-4D04-B273-15F33DB3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B86B-1B83-4051-BAB2-466C9475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25F4-6C1D-47DB-BABB-202BF051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0872-B0AE-428F-9B63-03C1D2E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B4461-FC89-4253-8BCC-84DEEB2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71DD-B233-4D30-8E77-3AF24F1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88B7-A627-448E-8062-CAC97B56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B23-3B28-479E-AB4E-4887D57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2283-AF25-4DAD-80D8-6AB5FE22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5CC7-E0A5-486B-8678-EBFB9176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17E36-5138-4F81-A0C5-923B0458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555-3783-473A-9849-A57C3C2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430-DB25-40EE-BE9B-FEEA720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0717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81A30-77DB-461A-A13E-26D24DD53FA5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0FF7E-AAC5-4671-84FB-436DB8CA5998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595071-2399-479D-A25D-EE5C24AB67B9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A1A74E-4445-4F81-89D3-B7A78378D1C3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2" descr="C:\Documents and Settings\Ольга\Рабочий стол\rast100.jpg"/>
          <p:cNvPicPr/>
          <p:nvPr/>
        </p:nvPicPr>
        <p:blipFill>
          <a:blip r:embed="rId11"/>
          <a:stretch/>
        </p:blipFill>
        <p:spPr>
          <a:xfrm>
            <a:off x="3429000" y="0"/>
            <a:ext cx="2466720" cy="7619760"/>
          </a:xfrm>
          <a:prstGeom prst="rect">
            <a:avLst/>
          </a:prstGeom>
          <a:ln w="9525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14400" y="10000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B7265-EF35-4043-8F75-90A1DE0CA86D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2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259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83C923-0010-4AB9-9473-8C7C25B8E200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814356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Повторительно-обобщающий урок в 11 классе / 2 часа/</a:t>
            </a:r>
            <a:br>
              <a:rPr sz="4800"/>
            </a:b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Фонетика. Орфоэпия.</a:t>
            </a:r>
            <a:br>
              <a:rPr sz="4800"/>
            </a:b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рфоэпические нормы современного русского языка </a:t>
            </a:r>
            <a:br>
              <a:rPr sz="1800"/>
            </a:b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285920" y="1285920"/>
            <a:ext cx="32857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каком слове при произношении происходит оглушение согласного зв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1) раз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2) вхо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3) сгр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4) влож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4643280" y="1000080"/>
            <a:ext cx="4500360" cy="53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ом задании речь идет о звонком согласном звуке, т.к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глушить глухой звук невозмож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вонкие согласные оглушаются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бсолютном конце слова или перед глухим согласны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лабой позиции в конце слов нет, значит, ищем стык звонкого и глухого согласных.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и в первом, ни в четвертом вариант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акого стыка нет. В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третьем случа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блюдаем озвончение глухого согласного — [зг]рест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ается второй вариант: буква «в» перед глухим [х] обозначает [ф]. Правильный ответ —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071720" y="1097640"/>
            <a:ext cx="807192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РУССКОГО УДАРЕНИЯ И ЕГО РОЛЬ В РУС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реди ударных орфоэпических норм существуют следующие вариан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обладает единственно правильным значением (от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ить, с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, кух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предполагает 2 равноправных варианта постановки ударения (т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гу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кий,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наряду с современным ударением допускает устаревшую удар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– ра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Ударение связано с употреблением слова в профессиональной речи (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пас – ком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осужд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ный – о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д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000080" y="1242360"/>
            <a:ext cx="792936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Ударение выполняет в языке смыслоразличительную функц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личает формы разных слов (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у – нош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личает формы одного слова (с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 – снег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000080" y="885600"/>
            <a:ext cx="8143560" cy="545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ие места ударения в с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чным является ударение в кратких формах прилагательных и страдательных причастий прошед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А также в глаголах прошед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этих случаях в женском роде ударение падает на окончание, а в мужском, среднем роде и во множественном числе на осн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ат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т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ло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о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143000" y="1099800"/>
            <a:ext cx="800064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современном русском языке среди кратких прилагательных активно проявляется тенденция  к постановке ударения в женском роде на основу, в результате чего появляются вариант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ый – 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а- 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57240" y="928800"/>
            <a:ext cx="728640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57200" y="1285920"/>
            <a:ext cx="8129160" cy="50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</a:rPr>
              <a:t>Словарно-орфоэп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карточку –справочник  «особенности русского ударения» и при затруднении орфоэпические словари, расставьте в словах ударение. Какие звуки обозначают выделенные бук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  (средний уровень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ватный, анти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, аф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, камбала, маркетинг, 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дж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т, мизерный, р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и, пустячный, фено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группа (низкий уровень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уя, факсимиле, форзац, украинцы, сосредоточение, пломбированный, дремота, облегчил, цыган, вклю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00160" y="714240"/>
            <a:ext cx="77148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8772120" cy="428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ерите к данным словам  омографы, расставьте ударение, составьте с полученными парами слов словосочетания, учитывая  лексическ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тлас, броня, пасти, замок, ледник, характерный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68860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071720" y="1571760"/>
            <a:ext cx="742932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ворите правильно по-рус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групп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ставить с данными словами рассказ « А у нас сегодня г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курс дикторов центрального телеви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Итоги урока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7343280" cy="35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Индивидуальное задание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</a:rPr>
              <a:t>Проблем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*</a:t>
            </a:r>
            <a:r>
              <a:rPr b="1" i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Нужно ли изучать фонетику и орфоэп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кажите свою точку зрения в публицистическом стиле, опираясь на мнения ученых и пис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1143000" y="519120"/>
            <a:ext cx="7500600" cy="520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Произвол в произношении почти так же недопустим, как анархия в письме. Отклонения от литературного произношения почти так же мешают языковому общению, как и неграмотн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Р.И.Аван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071720" y="4071960"/>
            <a:ext cx="742932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При помощи звуков речи, музыки слов, великий Пушкин достигает в своих сказках предельной выразительности: в его стихах много значат не только каждое слово, но и каждый звук, каждый гласный и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С.Я.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8000640" cy="59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обобщить и систематизировать знания учащихся о фонетике и орфоэпии как разделах лингвистики, о системе гласных и согласных звуков русского языка, о способах их обозначения на письме, показать соотношение  звукового и буквенного (орфографического) облика слова; повторить основные правила произношения гласных и согласных звуков, нормы ударения в современном русском языке.</a:t>
            </a:r>
            <a:br>
              <a:rPr sz="1800"/>
            </a:br>
            <a:br>
              <a:rPr sz="1800"/>
            </a:b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совершенствовать умения находить в слове  основные звуковые процессы ,  производить фонетический разбор слова и транскрибировать слово; оценивать свою и чужую речь с точки зрения соблюдения орфоэпических норм современного русского языка; совершенствовать навыки работы с различными видами словарей и учить извлекать необходимую информацию из справочной литературы и современных  источников информации.</a:t>
            </a:r>
            <a:br>
              <a:rPr sz="1800"/>
            </a:br>
            <a:br>
              <a:rPr sz="1800"/>
            </a:b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 воспитывать в детях чувство любви к русскому языку, чувство глубокой ответственности за чистоту и правильность русской речи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28840" y="928800"/>
            <a:ext cx="850068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Цели урока: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928800"/>
            <a:ext cx="77148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ифференцированное домашнее   зад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28800" y="2071800"/>
            <a:ext cx="8000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амостоятельный  выбор 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Низкий уровен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Ответить на вопросы 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. 10-11           , упр.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редни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Составить текст призыва изучать фонетику и орфоэпию в виде рассуждения, приводя аргументы в формате ЕГЭ(100 с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2"/>
          <p:cNvSpPr txBox="1"/>
          <p:nvPr/>
        </p:nvSpPr>
        <p:spPr>
          <a:xfrm>
            <a:off x="1714680" y="928800"/>
            <a:ext cx="7000560" cy="626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984807"/>
                </a:solidFill>
                <a:latin typeface="Arial"/>
              </a:rPr>
              <a:t>Сегодня на уроке</a:t>
            </a:r>
            <a:endParaRPr b="0" lang="en-US" sz="3600" spc="-1" strike="noStrike">
              <a:ln w="0">
                <a:noFill/>
              </a:ln>
              <a:solidFill>
                <a:srgbClr val="984807"/>
              </a:solidFill>
              <a:latin typeface="Arial"/>
            </a:endParaRPr>
          </a:p>
        </p:txBody>
      </p:sp>
      <p:sp>
        <p:nvSpPr>
          <p:cNvPr id="338" name="WordArt 3"/>
          <p:cNvSpPr txBox="1"/>
          <p:nvPr/>
        </p:nvSpPr>
        <p:spPr>
          <a:xfrm>
            <a:off x="1714680" y="2071800"/>
            <a:ext cx="5000400" cy="356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947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я научился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2286000" y="3071880"/>
            <a:ext cx="435744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я постарался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2857680" y="3857760"/>
            <a:ext cx="528588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мне понравилось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3214800" y="4572000"/>
            <a:ext cx="4571640" cy="53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мне было трудно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3500280" y="5286240"/>
            <a:ext cx="4643280" cy="7138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ln w="0">
                <a:noFill/>
              </a:ln>
              <a:solidFill>
                <a:srgbClr val="b2b2b2">
                  <a:alpha val="50000"/>
                </a:srgb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920" y="1071720"/>
            <a:ext cx="785772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Информационные источ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28800" y="2286000"/>
            <a:ext cx="8786520" cy="42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Г.Наруш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етодика подготовки к ЕГЭ по русскому язы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Т.Егорае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: материалы издательства «Экзам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857160" y="891000"/>
            <a:ext cx="7786440" cy="648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984807"/>
                </a:solidFill>
                <a:uFillTx/>
                <a:latin typeface="Times New Roman"/>
              </a:rPr>
              <a:t>          </a:t>
            </a:r>
            <a:r>
              <a:rPr b="1" i="1" lang="ru-RU" sz="2800" spc="-1" strike="noStrike" u="sng">
                <a:solidFill>
                  <a:srgbClr val="984807"/>
                </a:solidFill>
                <a:uFillTx/>
                <a:latin typeface="Times New Roman"/>
              </a:rPr>
              <a:t>Оборудование и учебные пособия к уро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Таблица «Гласные и согласные звуки русского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Задания демонстрационных вариантов ЕГЭ-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У каждого учащегося на столе карточка-справочник « Особенности русского ударения и его роль в русском язы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Раздаточный материал для индивидуальной и группов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Орфоэпические и толковые слов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Магнитофон и звукозапись к конкурсу ди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Мультимедийная 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-1472760" y="-181080"/>
            <a:ext cx="1208952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ЭПИГРАФ К УРО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Язык имеет свои краски, то есть звуки. Он ими воображению нашему может весьма часто рисовать или живописать предметы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стужев- Марлин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000080" y="1171080"/>
            <a:ext cx="814356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2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chemeClr val="accent2"/>
                </a:solidFill>
                <a:uFillTx/>
                <a:latin typeface="Times New Roman"/>
              </a:rPr>
              <a:t>ЭПИГРАФ К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…</a:t>
            </a: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Язык имеет свои краски, то есть звуки. Он ими воображению нашему может весьма часто рисовать или живописать предметы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4400" spc="-1" strike="noStrike">
                <a:solidFill>
                  <a:schemeClr val="accent2"/>
                </a:solidFill>
                <a:latin typeface="Times New Roman"/>
              </a:rPr>
              <a:t>Бестужев -Марлин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928800" y="1092240"/>
            <a:ext cx="9143640" cy="392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ФОНЕТИЧЕСК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214280" y="811800"/>
            <a:ext cx="7929360" cy="508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Что является предметом изучения фонетики и орфоэп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В чем состоит отличие между буквами и зву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На какие группы делятся звуки речи? Чем они отличаются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Что называется сло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колько звуков в русском язы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аблицу «Гласные и согласные звуки русского языка», которая демонстрируется  в классе, ребята работаю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 доске вызывается уч-ся 1 группы, учащиеся этой группы задают ему подготовленный дома вопрос. Если отвечающий не дает верного ответа, то на поставленный вопрос отвечает тот, кто его зада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71480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гласные звуки</a:t>
            </a: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Group 303"/>
          <p:cNvGraphicFramePr/>
          <p:nvPr/>
        </p:nvGraphicFramePr>
        <p:xfrm>
          <a:off x="928800" y="2357280"/>
          <a:ext cx="8214840" cy="5816160"/>
        </p:xfrm>
        <a:graphic>
          <a:graphicData uri="http://schemas.openxmlformats.org/drawingml/2006/table">
            <a:tbl>
              <a:tblPr/>
              <a:tblGrid>
                <a:gridCol w="1064880"/>
                <a:gridCol w="380160"/>
                <a:gridCol w="380160"/>
                <a:gridCol w="380160"/>
                <a:gridCol w="456120"/>
                <a:gridCol w="456120"/>
                <a:gridCol w="47520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</a:tblGrid>
              <a:tr h="90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вон-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лу-х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160">
                <a:tc gridSpan="16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66"/>
                          </a:solidFill>
                          <a:uFillTx/>
                          <a:latin typeface="Comic Sans MS"/>
                        </a:rPr>
                        <a:t>Легко запомнить: эти фразы содерж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ё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,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Ш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Щ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Ц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–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Ф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!» -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вс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глухи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согласны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5160">
                <a:tc gridSpan="16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«У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М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я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Г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,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ЗБ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Ра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Й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Б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Ж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и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Д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Ла!» -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вс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 u="sng">
                          <a:solidFill>
                            <a:srgbClr val="660066"/>
                          </a:solidFill>
                          <a:uFillTx/>
                          <a:latin typeface="Comic Sans MS"/>
                        </a:rPr>
                        <a:t>звон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согласны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711468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ратите внимание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8071920" cy="4928760"/>
          </a:xfrm>
          <a:prstGeom prst="rect">
            <a:avLst/>
          </a:prstGeom>
          <a:solidFill>
            <a:srgbClr val="ffff99"/>
          </a:solidFill>
          <a:ln w="9360">
            <a:noFill/>
          </a:ln>
        </p:spPr>
        <p:txBody>
          <a:bodyPr numCol="1" spcCol="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еред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вонким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согласными </a:t>
            </a:r>
            <a:r>
              <a:rPr b="0" lang="ru-RU" sz="1800" spc="-1" strike="noStrike">
                <a:solidFill>
                  <a:schemeClr val="hlink"/>
                </a:solidFill>
                <a:latin typeface="Arial Black"/>
              </a:rPr>
              <a:t>глухие озвончаютс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с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бить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бить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экзамен - э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замен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еред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глухим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согласными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звонкие оглуша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ходы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ходы; по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д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ходить - по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ходить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вонкие согласные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оглушаютс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в конце сл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вездеход — вездехо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,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рассказ — расск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Помните это, когда будете выполнять следующие задания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и произношении происходит озвончение согласного звука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и произношении происходит оглушение согласного звука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все согласные глухие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все согласные звонкие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оизносится звук [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указа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]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711468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ратите внимание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8071920" cy="5000400"/>
          </a:xfrm>
          <a:prstGeom prst="rect">
            <a:avLst/>
          </a:prstGeom>
          <a:solidFill>
            <a:srgbClr val="ffcc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уквы </a:t>
            </a: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Е, Ё, Ю, 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передают звуки </a:t>
            </a: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[э], [о], [у],[а],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если употребляются после мягкого согласного (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м. предыдущий слайд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)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Два звука</a:t>
            </a:r>
            <a:r>
              <a:rPr b="1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эти буквы передают: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 начале слов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ест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Э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;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юноша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У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ш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осле Ъ и Ь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вьюга 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’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У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осле гласного звук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приехал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[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’и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Э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ал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Учтите это, когда будете выполнять задания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количество букв и звуков совпадает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букв больше, чем звуко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звуков больше, чем бук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(количество указано) звуко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Не забывайте при этом, что</a:t>
            </a: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Ъ и Ь звуков речи не обозначают!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/>
          <p:cNvSpPr/>
          <p:nvPr/>
        </p:nvSpPr>
        <p:spPr>
          <a:xfrm>
            <a:off x="1357200" y="2643120"/>
            <a:ext cx="29998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каком слове звуков больше, чем бук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1) окр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2) ябл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3) разъ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4) 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4357800" y="1571760"/>
            <a:ext cx="4214520" cy="546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Большее количество звуков в словах могут давать букв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, Ё, Ю, Я, если стоят в начале слова или после гласно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Такое слово одно — 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яблочный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 — 9 звуков, 8 букв.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В слове 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разъезд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 после Ъ буква Е также дает два звука, но звука не обозначает Ъ, поэтому в этом слове 7 букв и столько же звуков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авильный ответ —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43040" y="714240"/>
            <a:ext cx="835776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онетические задачи</a:t>
            </a:r>
            <a:br>
              <a:rPr sz="3200"/>
            </a:b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Times New Roman"/>
              </a:rPr>
              <a:t>2 группа (</a:t>
            </a:r>
            <a:r>
              <a:rPr b="0" i="1" lang="ru-RU" sz="2000" spc="-1" strike="noStrike" cap="all">
                <a:solidFill>
                  <a:srgbClr val="000000"/>
                </a:solidFill>
                <a:latin typeface="Times New Roman"/>
              </a:rPr>
              <a:t>анализ примеров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8b8b8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190A7039-EA11-4399-A65B-6A189471C65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102425414</Template>
  <TotalTime>335</TotalTime>
  <Application>LibreOffice/7.4.7.2$Linux_X86_64 LibreOffice_project/40$Build-2</Application>
  <AppVersion>15.0000</AppVersion>
  <Words>1147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56:10Z</dcterms:created>
  <dc:creator>111</dc:creator>
  <dc:description/>
  <dc:language>en-US</dc:language>
  <cp:lastModifiedBy>Анна</cp:lastModifiedBy>
  <dcterms:modified xsi:type="dcterms:W3CDTF">2015-04-20T09:09:53Z</dcterms:modified>
  <cp:revision>39</cp:revision>
  <dc:subject/>
  <dc:title>Творческий отчет  учителя русского языка и литературы Науменко Людмилы Ивановны  2012-2013 уч.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  <property fmtid="{D5CDD505-2E9C-101B-9397-08002B2CF9AE}" pid="4" name="_TemplateID">
    <vt:lpwstr>TC024254149991</vt:lpwstr>
  </property>
</Properties>
</file>