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699-5E99-42C2-8405-B1FD4279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901-C5BD-444A-A288-4C560F3A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DD0-1165-4D44-AFBF-472FAFA6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DE9-05A7-4181-8756-F390B543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4E07-4F46-4CBC-8634-8F5A5DC4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080E-4490-40D9-837B-A5FA9116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AB7D-D325-4515-8F11-32C8DD08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C1D4-1CA0-4D8F-A901-8C12DF34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5C5A-A1BA-4A8D-A0D6-FEA19866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D279-5399-4A13-BFEC-B6CF266A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A473-5634-4D88-8B5F-7249C191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605-6668-456F-9205-5AD1474F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E4C9-DB65-4B72-BF00-0F9A942E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B01C-F7F7-43F8-B288-1523A288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87EA-EE23-4A6E-8BAC-A1096169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2081-9118-47F0-B811-B23EB2F8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57A1-6BA4-4D98-B9D2-B8807CC6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0859-3442-4021-ADE1-AD4BE5A4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ECB0-77C9-4F91-8DF2-4A7A47FD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D88D-2241-41B7-A034-AC022A99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F0B9-897E-4AE6-A297-10D6BFA5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26870-CFB9-4634-83CE-54646836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0C1-441A-46D5-938D-40D5FDC1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74D16-47D5-4A08-BE0A-BE56725D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523A-2AEE-4693-B68A-597CC000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393D-0D4B-4DEF-8D8B-3AA25FC1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57BF-DB11-455A-BCF8-7F6D9F7F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A5F2-DC58-4AD1-85BC-3148EE8E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E79B-4626-488C-B21C-60283886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5925-9DC3-42F9-B041-DEFA8B0A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085E5-9EA0-43FF-BC72-F3FA291F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FD2C-F450-425A-AFF0-6A8CEDBD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A425-49B1-4C47-AA99-906B66D1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9ED-0CB3-4485-BB7F-A629001A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69617-A6B4-4A62-B27A-A21E7846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49B8E-F10A-4D7F-B325-5FAA269B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26495-7AFA-491F-907D-7E8E5F8C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AE1E-CA25-420F-AA9D-F3C2A1AF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442C5-C6EF-4502-B570-FFDE39FD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6D414-0ABE-42CA-AF54-F78CD216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A3B44-3ECE-4A81-9661-B55A8CEF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ED8F-6856-4A49-9003-1F301DA7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5692C-FD25-40AC-ADE1-08E226E7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94E6-BDA1-4E54-B3B3-D7723BF2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519-E3BE-4ED6-ADA8-DED3DB54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1F39C-9F84-4822-A034-8D3B4068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10DD2-649E-4095-AC52-7EDEB775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986EA-DA7D-4DEA-8512-36D70366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8D8B6-C3B0-402E-8379-4FB794C2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C0176-3C53-408A-8825-86A7C1A0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D9D47-F2FD-4499-8BBC-C285D50E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68615-DC8C-433F-915D-AD1825F6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8A76D-8AEF-478E-8F4C-CF853B51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1D7F5-E85B-4339-9F38-A044A1F3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DA535-13AF-42CC-965B-2A77E2CB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D8A-87A7-4923-9852-2552C270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7E636-5E8E-481E-8E32-DC80DED4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24AA9-7300-4F5F-82D8-E918D4D4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07BC0-3B61-44D2-AAD6-DC070FAD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D07F7-85A0-4537-9EC9-92772134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71CCD-5F78-496F-A990-A79E95B6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8EBD9-CF53-42C1-8B9F-2F75E346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371D0-92AC-45E7-83D9-74AD636B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8C7A0-4F5C-49E9-AA14-E7EC0E46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880CC-0854-4ED8-A537-624F4775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BC87E-FCEA-4C16-A726-9C3971A5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31D-C82B-42DF-ADEC-618D4E17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6C5A1-4195-4E57-BEAF-8CEC92D8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FCCCF-2FD8-4A3E-9AF7-B6B8CE35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B47F0-2DC9-47D6-8C3C-5492420C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978-F165-48CD-A944-01ED27E8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1B1-1CE9-4617-BF18-41CB11A5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Ольга\Рабочий стол\rast3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4" descr="C:\Documents and Settings\Ольга\Рабочий стол\rast33.jpg"/>
          <p:cNvPicPr/>
          <p:nvPr/>
        </p:nvPicPr>
        <p:blipFill>
          <a:blip r:embed="rId3"/>
          <a:stretch/>
        </p:blipFill>
        <p:spPr>
          <a:xfrm>
            <a:off x="0" y="292896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" name="Picture 4" descr="C:\Documents and Settings\Ольга\Рабочий стол\rast33.jpg"/>
          <p:cNvPicPr/>
          <p:nvPr/>
        </p:nvPicPr>
        <p:blipFill>
          <a:blip r:embed="rId4"/>
          <a:stretch/>
        </p:blipFill>
        <p:spPr>
          <a:xfrm>
            <a:off x="0" y="585792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3" name="Picture 5" descr="C:\Documents and Settings\Ольга\Рабочий стол\rast100.jpg"/>
          <p:cNvPicPr/>
          <p:nvPr/>
        </p:nvPicPr>
        <p:blipFill>
          <a:blip r:embed="rId5"/>
          <a:stretch/>
        </p:blipFill>
        <p:spPr>
          <a:xfrm>
            <a:off x="9288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6" descr="C:\Documents and Settings\Ольга\Рабочий стол\rast100.jpg"/>
          <p:cNvPicPr/>
          <p:nvPr/>
        </p:nvPicPr>
        <p:blipFill>
          <a:blip r:embed="rId6"/>
          <a:stretch/>
        </p:blipFill>
        <p:spPr>
          <a:xfrm>
            <a:off x="335772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7" descr="C:\Documents and Settings\Ольга\Рабочий стол\rast100.jpg"/>
          <p:cNvPicPr/>
          <p:nvPr/>
        </p:nvPicPr>
        <p:blipFill>
          <a:blip r:embed="rId7"/>
          <a:stretch/>
        </p:blipFill>
        <p:spPr>
          <a:xfrm>
            <a:off x="578628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8" descr="C:\Documents and Settings\Ольга\Рабочий стол\rast100.jpg"/>
          <p:cNvPicPr/>
          <p:nvPr/>
        </p:nvPicPr>
        <p:blipFill>
          <a:blip r:embed="rId8"/>
          <a:stretch/>
        </p:blipFill>
        <p:spPr>
          <a:xfrm>
            <a:off x="82152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7" name="Picture 9" descr="C:\Documents and Settings\Ольга\Рабочий стол\ugol28.gif"/>
          <p:cNvPicPr/>
          <p:nvPr/>
        </p:nvPicPr>
        <p:blipFill>
          <a:blip r:embed="rId9"/>
          <a:stretch/>
        </p:blipFill>
        <p:spPr>
          <a:xfrm>
            <a:off x="-500040" y="-571680"/>
            <a:ext cx="3428640" cy="3214440"/>
          </a:xfrm>
          <a:prstGeom prst="rect">
            <a:avLst/>
          </a:prstGeom>
          <a:ln w="9525">
            <a:noFill/>
          </a:ln>
        </p:spPr>
      </p:pic>
      <p:pic>
        <p:nvPicPr>
          <p:cNvPr id="8" name="Picture 10" descr="C:\Documents and Settings\Ольга\Рабочий стол\ugol28.gif"/>
          <p:cNvPicPr/>
          <p:nvPr/>
        </p:nvPicPr>
        <p:blipFill>
          <a:blip r:embed="rId10"/>
          <a:stretch/>
        </p:blipFill>
        <p:spPr>
          <a:xfrm>
            <a:off x="7572240" y="5286240"/>
            <a:ext cx="1571400" cy="1571400"/>
          </a:xfrm>
          <a:prstGeom prst="rect">
            <a:avLst/>
          </a:prstGeom>
          <a:ln w="9525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0717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B223B3-C28B-4BC0-A509-BB1675CA6D28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:\Documents and Settings\Ольга\Рабочий стол\rast3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51" name="Picture 4" descr="C:\Documents and Settings\Ольга\Рабочий стол\rast33.jpg"/>
          <p:cNvPicPr/>
          <p:nvPr/>
        </p:nvPicPr>
        <p:blipFill>
          <a:blip r:embed="rId3"/>
          <a:stretch/>
        </p:blipFill>
        <p:spPr>
          <a:xfrm>
            <a:off x="0" y="292896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52" name="Picture 4" descr="C:\Documents and Settings\Ольга\Рабочий стол\rast33.jpg"/>
          <p:cNvPicPr/>
          <p:nvPr/>
        </p:nvPicPr>
        <p:blipFill>
          <a:blip r:embed="rId4"/>
          <a:stretch/>
        </p:blipFill>
        <p:spPr>
          <a:xfrm>
            <a:off x="0" y="585792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53" name="Picture 5" descr="C:\Documents and Settings\Ольга\Рабочий стол\rast100.jpg"/>
          <p:cNvPicPr/>
          <p:nvPr/>
        </p:nvPicPr>
        <p:blipFill>
          <a:blip r:embed="rId5"/>
          <a:stretch/>
        </p:blipFill>
        <p:spPr>
          <a:xfrm>
            <a:off x="9288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54" name="Picture 6" descr="C:\Documents and Settings\Ольга\Рабочий стол\rast100.jpg"/>
          <p:cNvPicPr/>
          <p:nvPr/>
        </p:nvPicPr>
        <p:blipFill>
          <a:blip r:embed="rId6"/>
          <a:stretch/>
        </p:blipFill>
        <p:spPr>
          <a:xfrm>
            <a:off x="335772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55" name="Picture 7" descr="C:\Documents and Settings\Ольга\Рабочий стол\rast100.jpg"/>
          <p:cNvPicPr/>
          <p:nvPr/>
        </p:nvPicPr>
        <p:blipFill>
          <a:blip r:embed="rId7"/>
          <a:stretch/>
        </p:blipFill>
        <p:spPr>
          <a:xfrm>
            <a:off x="578628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56" name="Picture 8" descr="C:\Documents and Settings\Ольга\Рабочий стол\rast100.jpg"/>
          <p:cNvPicPr/>
          <p:nvPr/>
        </p:nvPicPr>
        <p:blipFill>
          <a:blip r:embed="rId8"/>
          <a:stretch/>
        </p:blipFill>
        <p:spPr>
          <a:xfrm>
            <a:off x="82152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57" name="Picture 9" descr="C:\Documents and Settings\Ольга\Рабочий стол\ugol28.gif"/>
          <p:cNvPicPr/>
          <p:nvPr/>
        </p:nvPicPr>
        <p:blipFill>
          <a:blip r:embed="rId9"/>
          <a:stretch/>
        </p:blipFill>
        <p:spPr>
          <a:xfrm>
            <a:off x="-500040" y="-571680"/>
            <a:ext cx="3428640" cy="3214440"/>
          </a:xfrm>
          <a:prstGeom prst="rect">
            <a:avLst/>
          </a:prstGeom>
          <a:ln w="9525">
            <a:noFill/>
          </a:ln>
        </p:spPr>
      </p:pic>
      <p:pic>
        <p:nvPicPr>
          <p:cNvPr id="58" name="Picture 10" descr="C:\Documents and Settings\Ольга\Рабочий стол\ugol28.gif"/>
          <p:cNvPicPr/>
          <p:nvPr/>
        </p:nvPicPr>
        <p:blipFill>
          <a:blip r:embed="rId10"/>
          <a:stretch/>
        </p:blipFill>
        <p:spPr>
          <a:xfrm>
            <a:off x="7572240" y="5286240"/>
            <a:ext cx="1571400" cy="1571400"/>
          </a:xfrm>
          <a:prstGeom prst="rect">
            <a:avLst/>
          </a:prstGeom>
          <a:ln w="9525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entury Gothic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67B6D8-45CE-4B53-8446-FEF861D8F38E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Documents and Settings\Ольга\Рабочий стол\rast3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01" name="Picture 4" descr="C:\Documents and Settings\Ольга\Рабочий стол\rast33.jpg"/>
          <p:cNvPicPr/>
          <p:nvPr/>
        </p:nvPicPr>
        <p:blipFill>
          <a:blip r:embed="rId3"/>
          <a:stretch/>
        </p:blipFill>
        <p:spPr>
          <a:xfrm>
            <a:off x="0" y="292896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02" name="Picture 4" descr="C:\Documents and Settings\Ольга\Рабочий стол\rast33.jpg"/>
          <p:cNvPicPr/>
          <p:nvPr/>
        </p:nvPicPr>
        <p:blipFill>
          <a:blip r:embed="rId4"/>
          <a:stretch/>
        </p:blipFill>
        <p:spPr>
          <a:xfrm>
            <a:off x="0" y="585792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03" name="Picture 5" descr="C:\Documents and Settings\Ольга\Рабочий стол\rast100.jpg"/>
          <p:cNvPicPr/>
          <p:nvPr/>
        </p:nvPicPr>
        <p:blipFill>
          <a:blip r:embed="rId5"/>
          <a:stretch/>
        </p:blipFill>
        <p:spPr>
          <a:xfrm>
            <a:off x="9288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04" name="Picture 6" descr="C:\Documents and Settings\Ольга\Рабочий стол\rast100.jpg"/>
          <p:cNvPicPr/>
          <p:nvPr/>
        </p:nvPicPr>
        <p:blipFill>
          <a:blip r:embed="rId6"/>
          <a:stretch/>
        </p:blipFill>
        <p:spPr>
          <a:xfrm>
            <a:off x="335772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05" name="Picture 7" descr="C:\Documents and Settings\Ольга\Рабочий стол\rast100.jpg"/>
          <p:cNvPicPr/>
          <p:nvPr/>
        </p:nvPicPr>
        <p:blipFill>
          <a:blip r:embed="rId7"/>
          <a:stretch/>
        </p:blipFill>
        <p:spPr>
          <a:xfrm>
            <a:off x="578628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06" name="Picture 8" descr="C:\Documents and Settings\Ольга\Рабочий стол\rast100.jpg"/>
          <p:cNvPicPr/>
          <p:nvPr/>
        </p:nvPicPr>
        <p:blipFill>
          <a:blip r:embed="rId8"/>
          <a:stretch/>
        </p:blipFill>
        <p:spPr>
          <a:xfrm>
            <a:off x="82152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07" name="Picture 9" descr="C:\Documents and Settings\Ольга\Рабочий стол\ugol28.gif"/>
          <p:cNvPicPr/>
          <p:nvPr/>
        </p:nvPicPr>
        <p:blipFill>
          <a:blip r:embed="rId9"/>
          <a:stretch/>
        </p:blipFill>
        <p:spPr>
          <a:xfrm>
            <a:off x="-500040" y="-571680"/>
            <a:ext cx="3428640" cy="321444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10" descr="C:\Documents and Settings\Ольга\Рабочий стол\ugol28.gif"/>
          <p:cNvPicPr/>
          <p:nvPr/>
        </p:nvPicPr>
        <p:blipFill>
          <a:blip r:embed="rId10"/>
          <a:stretch/>
        </p:blipFill>
        <p:spPr>
          <a:xfrm>
            <a:off x="7572240" y="5286240"/>
            <a:ext cx="1571400" cy="1571400"/>
          </a:xfrm>
          <a:prstGeom prst="rect">
            <a:avLst/>
          </a:prstGeom>
          <a:ln w="9525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47B01F-924E-491F-A18D-BD3B7190398B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:\Documents and Settings\Ольга\Рабочий стол\rast3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4" descr="C:\Documents and Settings\Ольга\Рабочий стол\rast33.jpg"/>
          <p:cNvPicPr/>
          <p:nvPr/>
        </p:nvPicPr>
        <p:blipFill>
          <a:blip r:embed="rId3"/>
          <a:stretch/>
        </p:blipFill>
        <p:spPr>
          <a:xfrm>
            <a:off x="0" y="292896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52" name="Picture 4" descr="C:\Documents and Settings\Ольга\Рабочий стол\rast33.jpg"/>
          <p:cNvPicPr/>
          <p:nvPr/>
        </p:nvPicPr>
        <p:blipFill>
          <a:blip r:embed="rId4"/>
          <a:stretch/>
        </p:blipFill>
        <p:spPr>
          <a:xfrm>
            <a:off x="0" y="585792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153" name="Picture 5" descr="C:\Documents and Settings\Ольга\Рабочий стол\rast100.jpg"/>
          <p:cNvPicPr/>
          <p:nvPr/>
        </p:nvPicPr>
        <p:blipFill>
          <a:blip r:embed="rId5"/>
          <a:stretch/>
        </p:blipFill>
        <p:spPr>
          <a:xfrm>
            <a:off x="9288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6" descr="C:\Documents and Settings\Ольга\Рабочий стол\rast100.jpg"/>
          <p:cNvPicPr/>
          <p:nvPr/>
        </p:nvPicPr>
        <p:blipFill>
          <a:blip r:embed="rId6"/>
          <a:stretch/>
        </p:blipFill>
        <p:spPr>
          <a:xfrm>
            <a:off x="335772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7" descr="C:\Documents and Settings\Ольга\Рабочий стол\rast100.jpg"/>
          <p:cNvPicPr/>
          <p:nvPr/>
        </p:nvPicPr>
        <p:blipFill>
          <a:blip r:embed="rId7"/>
          <a:stretch/>
        </p:blipFill>
        <p:spPr>
          <a:xfrm>
            <a:off x="578628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8" descr="C:\Documents and Settings\Ольга\Рабочий стол\rast100.jpg"/>
          <p:cNvPicPr/>
          <p:nvPr/>
        </p:nvPicPr>
        <p:blipFill>
          <a:blip r:embed="rId8"/>
          <a:stretch/>
        </p:blipFill>
        <p:spPr>
          <a:xfrm>
            <a:off x="82152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157" name="Picture 9" descr="C:\Documents and Settings\Ольга\Рабочий стол\ugol28.gif"/>
          <p:cNvPicPr/>
          <p:nvPr/>
        </p:nvPicPr>
        <p:blipFill>
          <a:blip r:embed="rId9"/>
          <a:stretch/>
        </p:blipFill>
        <p:spPr>
          <a:xfrm>
            <a:off x="-500040" y="-571680"/>
            <a:ext cx="342864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8" name="Picture 10" descr="C:\Documents and Settings\Ольга\Рабочий стол\ugol28.gif"/>
          <p:cNvPicPr/>
          <p:nvPr/>
        </p:nvPicPr>
        <p:blipFill>
          <a:blip r:embed="rId10"/>
          <a:stretch/>
        </p:blipFill>
        <p:spPr>
          <a:xfrm>
            <a:off x="7572240" y="5286240"/>
            <a:ext cx="1571400" cy="1571400"/>
          </a:xfrm>
          <a:prstGeom prst="rect">
            <a:avLst/>
          </a:prstGeom>
          <a:ln w="9525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06362F-5B73-40F9-A56B-82B4DA4F131C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C:\Documents and Settings\Ольга\Рабочий стол\rast3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01" name="Picture 4" descr="C:\Documents and Settings\Ольга\Рабочий стол\rast33.jpg"/>
          <p:cNvPicPr/>
          <p:nvPr/>
        </p:nvPicPr>
        <p:blipFill>
          <a:blip r:embed="rId3"/>
          <a:stretch/>
        </p:blipFill>
        <p:spPr>
          <a:xfrm>
            <a:off x="0" y="292896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02" name="Picture 4" descr="C:\Documents and Settings\Ольга\Рабочий стол\rast33.jpg"/>
          <p:cNvPicPr/>
          <p:nvPr/>
        </p:nvPicPr>
        <p:blipFill>
          <a:blip r:embed="rId4"/>
          <a:stretch/>
        </p:blipFill>
        <p:spPr>
          <a:xfrm>
            <a:off x="0" y="585792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03" name="Picture 5" descr="C:\Documents and Settings\Ольга\Рабочий стол\rast100.jpg"/>
          <p:cNvPicPr/>
          <p:nvPr/>
        </p:nvPicPr>
        <p:blipFill>
          <a:blip r:embed="rId5"/>
          <a:stretch/>
        </p:blipFill>
        <p:spPr>
          <a:xfrm>
            <a:off x="9288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04" name="Picture 6" descr="C:\Documents and Settings\Ольга\Рабочий стол\rast100.jpg"/>
          <p:cNvPicPr/>
          <p:nvPr/>
        </p:nvPicPr>
        <p:blipFill>
          <a:blip r:embed="rId6"/>
          <a:stretch/>
        </p:blipFill>
        <p:spPr>
          <a:xfrm>
            <a:off x="335772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7" descr="C:\Documents and Settings\Ольга\Рабочий стол\rast100.jpg"/>
          <p:cNvPicPr/>
          <p:nvPr/>
        </p:nvPicPr>
        <p:blipFill>
          <a:blip r:embed="rId7"/>
          <a:stretch/>
        </p:blipFill>
        <p:spPr>
          <a:xfrm>
            <a:off x="578628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8" descr="C:\Documents and Settings\Ольга\Рабочий стол\rast100.jpg"/>
          <p:cNvPicPr/>
          <p:nvPr/>
        </p:nvPicPr>
        <p:blipFill>
          <a:blip r:embed="rId8"/>
          <a:stretch/>
        </p:blipFill>
        <p:spPr>
          <a:xfrm>
            <a:off x="82152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9" descr="C:\Documents and Settings\Ольга\Рабочий стол\ugol28.gif"/>
          <p:cNvPicPr/>
          <p:nvPr/>
        </p:nvPicPr>
        <p:blipFill>
          <a:blip r:embed="rId9"/>
          <a:stretch/>
        </p:blipFill>
        <p:spPr>
          <a:xfrm>
            <a:off x="-500040" y="-571680"/>
            <a:ext cx="3428640" cy="3214440"/>
          </a:xfrm>
          <a:prstGeom prst="rect">
            <a:avLst/>
          </a:prstGeom>
          <a:ln w="9525">
            <a:noFill/>
          </a:ln>
        </p:spPr>
      </p:pic>
      <p:pic>
        <p:nvPicPr>
          <p:cNvPr id="208" name="Picture 10" descr="C:\Documents and Settings\Ольга\Рабочий стол\ugol28.gif"/>
          <p:cNvPicPr/>
          <p:nvPr/>
        </p:nvPicPr>
        <p:blipFill>
          <a:blip r:embed="rId10"/>
          <a:stretch/>
        </p:blipFill>
        <p:spPr>
          <a:xfrm>
            <a:off x="7572240" y="5286240"/>
            <a:ext cx="1571400" cy="1571400"/>
          </a:xfrm>
          <a:prstGeom prst="rect">
            <a:avLst/>
          </a:prstGeom>
          <a:ln w="9525">
            <a:noFill/>
          </a:ln>
        </p:spPr>
      </p:pic>
      <p:pic>
        <p:nvPicPr>
          <p:cNvPr id="209" name="Picture 2" descr="C:\Documents and Settings\Ольга\Рабочий стол\rast100.jpg"/>
          <p:cNvPicPr/>
          <p:nvPr/>
        </p:nvPicPr>
        <p:blipFill>
          <a:blip r:embed="rId11"/>
          <a:stretch/>
        </p:blipFill>
        <p:spPr>
          <a:xfrm>
            <a:off x="3429000" y="0"/>
            <a:ext cx="2466720" cy="7619760"/>
          </a:xfrm>
          <a:prstGeom prst="rect">
            <a:avLst/>
          </a:prstGeom>
          <a:ln w="9525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14400" y="23320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914400" y="10000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20EDC3-196C-473C-88DB-15CC79340957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C:\Documents and Settings\Ольга\Рабочий стол\rast3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52" name="Picture 4" descr="C:\Documents and Settings\Ольга\Рабочий стол\rast33.jpg"/>
          <p:cNvPicPr/>
          <p:nvPr/>
        </p:nvPicPr>
        <p:blipFill>
          <a:blip r:embed="rId3"/>
          <a:stretch/>
        </p:blipFill>
        <p:spPr>
          <a:xfrm>
            <a:off x="0" y="292896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53" name="Picture 4" descr="C:\Documents and Settings\Ольга\Рабочий стол\rast33.jpg"/>
          <p:cNvPicPr/>
          <p:nvPr/>
        </p:nvPicPr>
        <p:blipFill>
          <a:blip r:embed="rId4"/>
          <a:stretch/>
        </p:blipFill>
        <p:spPr>
          <a:xfrm>
            <a:off x="0" y="5857920"/>
            <a:ext cx="9143640" cy="2960280"/>
          </a:xfrm>
          <a:prstGeom prst="rect">
            <a:avLst/>
          </a:prstGeom>
          <a:ln w="9525">
            <a:noFill/>
          </a:ln>
        </p:spPr>
      </p:pic>
      <p:pic>
        <p:nvPicPr>
          <p:cNvPr id="254" name="Picture 5" descr="C:\Documents and Settings\Ольга\Рабочий стол\rast100.jpg"/>
          <p:cNvPicPr/>
          <p:nvPr/>
        </p:nvPicPr>
        <p:blipFill>
          <a:blip r:embed="rId5"/>
          <a:stretch/>
        </p:blipFill>
        <p:spPr>
          <a:xfrm>
            <a:off x="9288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55" name="Picture 6" descr="C:\Documents and Settings\Ольга\Рабочий стол\rast100.jpg"/>
          <p:cNvPicPr/>
          <p:nvPr/>
        </p:nvPicPr>
        <p:blipFill>
          <a:blip r:embed="rId6"/>
          <a:stretch/>
        </p:blipFill>
        <p:spPr>
          <a:xfrm>
            <a:off x="335772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56" name="Picture 7" descr="C:\Documents and Settings\Ольга\Рабочий стол\rast100.jpg"/>
          <p:cNvPicPr/>
          <p:nvPr/>
        </p:nvPicPr>
        <p:blipFill>
          <a:blip r:embed="rId7"/>
          <a:stretch/>
        </p:blipFill>
        <p:spPr>
          <a:xfrm>
            <a:off x="578628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57" name="Picture 8" descr="C:\Documents and Settings\Ольга\Рабочий стол\rast100.jpg"/>
          <p:cNvPicPr/>
          <p:nvPr/>
        </p:nvPicPr>
        <p:blipFill>
          <a:blip r:embed="rId8"/>
          <a:stretch/>
        </p:blipFill>
        <p:spPr>
          <a:xfrm>
            <a:off x="8215200" y="0"/>
            <a:ext cx="2466720" cy="7619760"/>
          </a:xfrm>
          <a:prstGeom prst="rect">
            <a:avLst/>
          </a:prstGeom>
          <a:ln w="9525">
            <a:noFill/>
          </a:ln>
        </p:spPr>
      </p:pic>
      <p:pic>
        <p:nvPicPr>
          <p:cNvPr id="258" name="Picture 9" descr="C:\Documents and Settings\Ольга\Рабочий стол\ugol28.gif"/>
          <p:cNvPicPr/>
          <p:nvPr/>
        </p:nvPicPr>
        <p:blipFill>
          <a:blip r:embed="rId9"/>
          <a:stretch/>
        </p:blipFill>
        <p:spPr>
          <a:xfrm>
            <a:off x="-500040" y="-571680"/>
            <a:ext cx="3428640" cy="3214440"/>
          </a:xfrm>
          <a:prstGeom prst="rect">
            <a:avLst/>
          </a:prstGeom>
          <a:ln w="9525">
            <a:noFill/>
          </a:ln>
        </p:spPr>
      </p:pic>
      <p:pic>
        <p:nvPicPr>
          <p:cNvPr id="259" name="Picture 10" descr="C:\Documents and Settings\Ольга\Рабочий стол\ugol28.gif"/>
          <p:cNvPicPr/>
          <p:nvPr/>
        </p:nvPicPr>
        <p:blipFill>
          <a:blip r:embed="rId10"/>
          <a:stretch/>
        </p:blipFill>
        <p:spPr>
          <a:xfrm>
            <a:off x="7572240" y="5286240"/>
            <a:ext cx="1571400" cy="1571400"/>
          </a:xfrm>
          <a:prstGeom prst="rect">
            <a:avLst/>
          </a:prstGeom>
          <a:ln w="9525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58D498-8448-4966-8862-51DA8A5AE3F5}" type="slidenum">
              <a:rPr b="0" lang="ru-RU" sz="1200" spc="-1" strike="noStrike">
                <a:solidFill>
                  <a:srgbClr val="8b8b8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00080" y="1071720"/>
            <a:ext cx="8143560" cy="6143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Повторительно-обобщающий урок в 11 классе / 2 часа/</a:t>
            </a:r>
            <a:br>
              <a:rPr sz="4800"/>
            </a:br>
            <a:r>
              <a:rPr b="1" i="1" lang="ru-RU" sz="4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Фонетика. Орфоэпия.</a:t>
            </a:r>
            <a:br>
              <a:rPr sz="4800"/>
            </a:br>
            <a:r>
              <a:rPr b="1" i="1" lang="ru-RU" sz="4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Орфоэпические нормы современного русского языка </a:t>
            </a:r>
            <a:br>
              <a:rPr sz="1800"/>
            </a:b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1"/>
          <p:cNvSpPr/>
          <p:nvPr/>
        </p:nvSpPr>
        <p:spPr>
          <a:xfrm>
            <a:off x="1285920" y="1285920"/>
            <a:ext cx="328572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каком слове при произношении происходит оглушение согласного зву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1) раз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2) вход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3) сгр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4) влож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2"/>
          <p:cNvSpPr/>
          <p:nvPr/>
        </p:nvSpPr>
        <p:spPr>
          <a:xfrm>
            <a:off x="4643280" y="1000080"/>
            <a:ext cx="4500360" cy="535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том задании речь идет о звонком согласном звуке, т.к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глушить глухой звук невозмож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вонкие согласные оглушаются 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бсолютном конце слова или перед глухим согласным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лабой позиции в конце слов нет, значит, ищем стык звонкого и глухого согласных.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и в первом, ни в четвертом варианта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акого стыка нет. В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третьем случа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блюдаем озвончение глухого согласного — [зг]рести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тается второй вариант: буква «в» перед глухим [х] обозначает [ф]. Правильный ответ —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1071720" y="1097640"/>
            <a:ext cx="8071920" cy="520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СТИ РУССКОГО УДАРЕНИЯ И ЕГО РОЛЬ В РУССК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реди ударных орфоэпических норм существуют следующие вариан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Слово обладает единственно правильным значением (отк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ить, с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, кух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Слово предполагает 2 равноправных варианта постановки ударения (т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гус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кий, к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л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Слово наряду с современным ударением допускает устаревшую удар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– рак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Ударение связано с употреблением слова в профессиональной речи ( к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пас – комп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осужд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ный – ос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ден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1000080" y="1242360"/>
            <a:ext cx="7929360" cy="545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Ударение выполняет в языке смыслоразличительную функц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личает формы разных слов (н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у – нош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личает формы одного слова (сн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 – снег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1000080" y="885600"/>
            <a:ext cx="8143560" cy="545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зменение места ударения в сл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ичным является ударение в кратких формах прилагательных и страдательных причастий прошедше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А также в глаголах прошедше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этих случаях в женском роде ударение падает на окончание, а в мужском, среднем роде и во множественном числе на осн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чат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н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ат, н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ало, н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л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п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ял, п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яло, п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1143000" y="1099800"/>
            <a:ext cx="8000640" cy="545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современном русском языке среди кратких прилагательных активно проявляется тенденция  к постановке ударения в женском роде на основу, в результате чего появляются вариант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л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ный – вл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на- вл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57240" y="928800"/>
            <a:ext cx="728640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ренировочные упражнения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57200" y="1285920"/>
            <a:ext cx="8129160" cy="50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</a:rPr>
              <a:t>Словарно-орфоэпическ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карточку –справочник  «особенности русского ударения» и при затруднении орфоэпические словари, расставьте в словах ударение. Какие звуки обозначают выделенные бук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группа  (средний уровень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д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ватный, антит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, аф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, камбала, маркетинг, м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джм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т, мизерный, р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и, пустячный, феном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группа (низкий уровень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туя, факсимиле, форзац, украинцы, сосредоточение, пломбированный, дремота, облегчил, цыган, вклю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00160" y="714240"/>
            <a:ext cx="7714800" cy="12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ренировочные упражнения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2071800"/>
            <a:ext cx="8772120" cy="4285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берите к данным словам  омографы, расставьте ударение, составьте с полученными парами слов словосочетания, учитывая  лексическое зна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тлас, броня, пасти, замок, ледник, характерный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71760" y="642960"/>
            <a:ext cx="688608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ренировочные упражнения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071720" y="1571760"/>
            <a:ext cx="742932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Говорите правильно по-рус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групп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ставить с данными словами рассказ « А у нас сегодня гост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 групп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нкурс дикторов центрального телеви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04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Итоги урока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2071800"/>
            <a:ext cx="7343280" cy="35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Индивидуальное задание</a:t>
            </a: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</a:rPr>
              <a:t>Проблемн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*</a:t>
            </a:r>
            <a:r>
              <a:rPr b="1" i="1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Нужно ли изучать фонетику и орфоэп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окажите свою точку зрения в публицистическом стиле, опираясь на мнения ученых и пис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1143000" y="519120"/>
            <a:ext cx="7500600" cy="520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Произвол в произношении почти так же недопустим, как анархия в письме. Отклонения от литературного произношения почти так же мешают языковому общению, как и неграмотное пись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                                              </a:t>
            </a: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Р.И.Аван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1071720" y="4071960"/>
            <a:ext cx="7429320" cy="350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При помощи звуков речи, музыки слов, великий Пушкин достигает в своих сказках предельной выразительности: в его стихах много значат не только каждое слово, но и каждый звук, каждый гласный и согл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                                              </a:t>
            </a: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С.Я.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2800" spc="-1" strike="noStrike">
                <a:solidFill>
                  <a:schemeClr val="accent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28800" y="1643040"/>
            <a:ext cx="8000640" cy="592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1800" spc="-1" strike="noStrike" cap="all">
                <a:solidFill>
                  <a:srgbClr val="000000"/>
                </a:solidFill>
                <a:latin typeface="Century Gothic"/>
              </a:rPr>
              <a:t>*обобщить и систематизировать знания учащихся о фонетике и орфоэпии как разделах лингвистики, о системе гласных и согласных звуков русского языка, о способах их обозначения на письме, показать соотношение  звукового и буквенного (орфографического) облика слова; повторить основные правила произношения гласных и согласных звуков, нормы ударения в современном русском языке.</a:t>
            </a:r>
            <a:br>
              <a:rPr sz="1800"/>
            </a:br>
            <a:br>
              <a:rPr sz="1800"/>
            </a:br>
            <a:r>
              <a:rPr b="1" i="1" lang="ru-RU" sz="1800" spc="-1" strike="noStrike" cap="all">
                <a:solidFill>
                  <a:srgbClr val="000000"/>
                </a:solidFill>
                <a:latin typeface="Century Gothic"/>
              </a:rPr>
              <a:t>*совершенствовать умения находить в слове  основные звуковые процессы ,  производить фонетический разбор слова и транскрибировать слово; оценивать свою и чужую речь с точки зрения соблюдения орфоэпических норм современного русского языка; совершенствовать навыки работы с различными видами словарей и учить извлекать необходимую информацию из справочной литературы и современных  источников информации.</a:t>
            </a:r>
            <a:br>
              <a:rPr sz="1800"/>
            </a:br>
            <a:br>
              <a:rPr sz="1800"/>
            </a:br>
            <a:r>
              <a:rPr b="1" i="1" lang="ru-RU" sz="1800" spc="-1" strike="noStrike" cap="all">
                <a:solidFill>
                  <a:srgbClr val="000000"/>
                </a:solidFill>
                <a:latin typeface="Century Gothic"/>
              </a:rPr>
              <a:t>* воспитывать в детях чувство любви к русскому языку, чувство глубокой ответственности за чистоту и правильность русской речи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28840" y="928800"/>
            <a:ext cx="850068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 fontScale="67000"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5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Цели урока: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720" y="928800"/>
            <a:ext cx="771480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Дифференцированное домашнее   зад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28800" y="2071800"/>
            <a:ext cx="8000640" cy="392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9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амостоятельный  выбор 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Низкий уровен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*Ответить на вопросы  в учеб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. 10-11           , упр.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редний уров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*Составить текст призыва изучать фонетику и орфоэпию в виде рассуждения, приводя аргументы в формате ЕГЭ(100 сл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2"/>
          <p:cNvSpPr txBox="1"/>
          <p:nvPr/>
        </p:nvSpPr>
        <p:spPr>
          <a:xfrm>
            <a:off x="1714680" y="928800"/>
            <a:ext cx="7000560" cy="626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984807"/>
                </a:solidFill>
                <a:latin typeface="Arial"/>
              </a:rPr>
              <a:t>Сегодня на уроке</a:t>
            </a:r>
            <a:endParaRPr b="0" lang="en-US" sz="3600" spc="-1" strike="noStrike">
              <a:ln w="0">
                <a:noFill/>
              </a:ln>
              <a:solidFill>
                <a:srgbClr val="984807"/>
              </a:solidFill>
              <a:latin typeface="Arial"/>
            </a:endParaRPr>
          </a:p>
        </p:txBody>
      </p:sp>
      <p:sp>
        <p:nvSpPr>
          <p:cNvPr id="338" name="WordArt 3"/>
          <p:cNvSpPr txBox="1"/>
          <p:nvPr/>
        </p:nvSpPr>
        <p:spPr>
          <a:xfrm>
            <a:off x="1714680" y="2071800"/>
            <a:ext cx="5000400" cy="356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4947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e46c0a"/>
                </a:solidFill>
                <a:latin typeface="Arial"/>
              </a:rPr>
              <a:t>я научился...</a:t>
            </a:r>
            <a:endParaRPr b="0" lang="en-US" sz="3600" spc="-1" strike="noStrike">
              <a:ln w="0">
                <a:noFill/>
              </a:ln>
              <a:solidFill>
                <a:srgbClr val="e46c0a"/>
              </a:solidFill>
              <a:latin typeface="Arial"/>
            </a:endParaRPr>
          </a:p>
        </p:txBody>
      </p:sp>
      <p:sp>
        <p:nvSpPr>
          <p:cNvPr id="339" name="WordArt 4"/>
          <p:cNvSpPr txBox="1"/>
          <p:nvPr/>
        </p:nvSpPr>
        <p:spPr>
          <a:xfrm>
            <a:off x="2286000" y="3071880"/>
            <a:ext cx="4357440" cy="428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e46c0a"/>
                </a:solidFill>
                <a:latin typeface="Arial"/>
              </a:rPr>
              <a:t>я постарался...</a:t>
            </a:r>
            <a:endParaRPr b="0" lang="en-US" sz="3600" spc="-1" strike="noStrike">
              <a:ln w="0">
                <a:noFill/>
              </a:ln>
              <a:solidFill>
                <a:srgbClr val="e46c0a"/>
              </a:solidFill>
              <a:latin typeface="Arial"/>
            </a:endParaRPr>
          </a:p>
        </p:txBody>
      </p:sp>
      <p:sp>
        <p:nvSpPr>
          <p:cNvPr id="340" name="WordArt 5"/>
          <p:cNvSpPr txBox="1"/>
          <p:nvPr/>
        </p:nvSpPr>
        <p:spPr>
          <a:xfrm>
            <a:off x="2857680" y="3857760"/>
            <a:ext cx="5285880" cy="428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e46c0a"/>
                </a:solidFill>
                <a:latin typeface="Arial"/>
              </a:rPr>
              <a:t>мне понравилось...</a:t>
            </a:r>
            <a:endParaRPr b="0" lang="en-US" sz="3600" spc="-1" strike="noStrike">
              <a:ln w="0">
                <a:noFill/>
              </a:ln>
              <a:solidFill>
                <a:srgbClr val="e46c0a"/>
              </a:solidFill>
              <a:latin typeface="Arial"/>
            </a:endParaRPr>
          </a:p>
        </p:txBody>
      </p:sp>
      <p:sp>
        <p:nvSpPr>
          <p:cNvPr id="341" name="WordArt 6"/>
          <p:cNvSpPr txBox="1"/>
          <p:nvPr/>
        </p:nvSpPr>
        <p:spPr>
          <a:xfrm>
            <a:off x="3214800" y="4572000"/>
            <a:ext cx="4571640" cy="539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e46c0a"/>
                </a:solidFill>
                <a:latin typeface="Arial"/>
              </a:rPr>
              <a:t>мне было трудно...</a:t>
            </a:r>
            <a:endParaRPr b="0" lang="en-US" sz="3600" spc="-1" strike="noStrike">
              <a:ln w="0">
                <a:noFill/>
              </a:ln>
              <a:solidFill>
                <a:srgbClr val="e46c0a"/>
              </a:solidFill>
              <a:latin typeface="Arial"/>
            </a:endParaRPr>
          </a:p>
        </p:txBody>
      </p:sp>
      <p:sp>
        <p:nvSpPr>
          <p:cNvPr id="342" name="WordArt 7"/>
          <p:cNvSpPr txBox="1"/>
          <p:nvPr/>
        </p:nvSpPr>
        <p:spPr>
          <a:xfrm>
            <a:off x="3500280" y="5286240"/>
            <a:ext cx="4643280" cy="7138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b2b2b2">
                    <a:alpha val="50000"/>
                  </a:srgbClr>
                </a:solidFill>
                <a:latin typeface="Arial"/>
              </a:rPr>
              <a:t> </a:t>
            </a:r>
            <a:r>
              <a:rPr b="1" lang="ru-RU" sz="3600" spc="-1" strike="noStrike">
                <a:ln w="0">
                  <a:noFill/>
                </a:ln>
                <a:solidFill>
                  <a:srgbClr val="b2b2b2">
                    <a:alpha val="50000"/>
                  </a:srgbClr>
                </a:solidFill>
                <a:latin typeface="Arial"/>
              </a:rPr>
              <a:t>мне было интересно…</a:t>
            </a:r>
            <a:endParaRPr b="0" lang="en-US" sz="3600" spc="-1" strike="noStrike">
              <a:ln w="0">
                <a:noFill/>
              </a:ln>
              <a:solidFill>
                <a:srgbClr val="b2b2b2">
                  <a:alpha val="50000"/>
                </a:srgb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85920" y="1071720"/>
            <a:ext cx="785772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Информационные источник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28800" y="2286000"/>
            <a:ext cx="8786520" cy="421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Г.Нарушевич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Методика подготовки к ЕГЭ по русскому язы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.Т.Егорае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: материалы издательства «Экзаме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857160" y="891000"/>
            <a:ext cx="7786440" cy="648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 u="sng">
                <a:solidFill>
                  <a:srgbClr val="984807"/>
                </a:solidFill>
                <a:uFillTx/>
                <a:latin typeface="Times New Roman"/>
              </a:rPr>
              <a:t>          </a:t>
            </a:r>
            <a:r>
              <a:rPr b="1" i="1" lang="ru-RU" sz="2800" spc="-1" strike="noStrike" u="sng">
                <a:solidFill>
                  <a:srgbClr val="984807"/>
                </a:solidFill>
                <a:uFillTx/>
                <a:latin typeface="Times New Roman"/>
              </a:rPr>
              <a:t>Оборудование и учебные пособия к уро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Таблица «Гласные и согласные звуки русского язы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Задания демонстрационных вариантов ЕГЭ-20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У каждого учащегося на столе карточка-справочник « Особенности русского ударения и его роль в русском язык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Раздаточный материал для индивидуальной и группов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Орфоэпические и толковые слов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Магнитофон и звукозапись к конкурсу ди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e46c0a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Мультимедийная през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-1472760" y="-181080"/>
            <a:ext cx="1208952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ЭПИГРАФ К УРОК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Язык имеет свои краски, то есть звуки. Он ими воображению нашему может весьма часто рисовать или живописать предметы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Бестужев- Марлин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1000080" y="1171080"/>
            <a:ext cx="8143560" cy="545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1" lang="ru-RU" sz="4400" spc="-1" strike="noStrike">
                <a:solidFill>
                  <a:schemeClr val="accent2"/>
                </a:solidFill>
                <a:latin typeface="Times New Roman"/>
              </a:rPr>
              <a:t> </a:t>
            </a:r>
            <a:r>
              <a:rPr b="1" lang="ru-RU" sz="4400" spc="-1" strike="noStrike" u="sng">
                <a:solidFill>
                  <a:schemeClr val="accent2"/>
                </a:solidFill>
                <a:uFillTx/>
                <a:latin typeface="Times New Roman"/>
              </a:rPr>
              <a:t>ЭПИГРАФ К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e46c0a"/>
                </a:solidFill>
                <a:latin typeface="Times New Roman"/>
              </a:rPr>
              <a:t>…</a:t>
            </a:r>
            <a:r>
              <a:rPr b="1" i="1" lang="ru-RU" sz="4400" spc="-1" strike="noStrike">
                <a:solidFill>
                  <a:srgbClr val="e46c0a"/>
                </a:solidFill>
                <a:latin typeface="Times New Roman"/>
              </a:rPr>
              <a:t>Язык имеет свои краски, то есть звуки. Он ими воображению нашему может весьма часто рисовать или живописать предметы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4400" spc="-1" strike="noStrike">
                <a:solidFill>
                  <a:srgbClr val="e46c0a"/>
                </a:solidFill>
                <a:latin typeface="Times New Roman"/>
              </a:rPr>
              <a:t>                                                                     </a:t>
            </a:r>
            <a:r>
              <a:rPr b="1" i="1" lang="ru-RU" sz="4400" spc="-1" strike="noStrike">
                <a:solidFill>
                  <a:schemeClr val="accent2"/>
                </a:solidFill>
                <a:latin typeface="Times New Roman"/>
              </a:rPr>
              <a:t>Бестужев -Марлинск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928800" y="1092240"/>
            <a:ext cx="9143640" cy="392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e46c0a"/>
                </a:solidFill>
                <a:latin typeface="Times New Roman"/>
              </a:rPr>
              <a:t>ФОНЕТИЧЕСК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1214280" y="811800"/>
            <a:ext cx="7929360" cy="508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 Что является предметом изучения фонетики и орфоэп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В чем состоит отличие между буквами и зву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На какие группы делятся звуки речи? Чем они отличаются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Что называется сло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*Сколько звуков в русском язы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ираясь на таблицу «Гласные и согласные звуки русского языка», которая демонстрируется  в классе, ребята работаю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 доске вызывается уч-ся 1 группы, учащиеся этой группы задают ему подготовленный дома вопрос. Если отвечающий не дает верного ответа, то на поставленный вопрос отвечает тот, кто его зада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7714800" cy="192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огласные звуки</a:t>
            </a:r>
            <a:r>
              <a:rPr b="0" lang="ru-RU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Group 303"/>
          <p:cNvGraphicFramePr/>
          <p:nvPr/>
        </p:nvGraphicFramePr>
        <p:xfrm>
          <a:off x="928800" y="2357280"/>
          <a:ext cx="8214840" cy="5816160"/>
        </p:xfrm>
        <a:graphic>
          <a:graphicData uri="http://schemas.openxmlformats.org/drawingml/2006/table">
            <a:tbl>
              <a:tblPr/>
              <a:tblGrid>
                <a:gridCol w="1064880"/>
                <a:gridCol w="380160"/>
                <a:gridCol w="380160"/>
                <a:gridCol w="380160"/>
                <a:gridCol w="456120"/>
                <a:gridCol w="456120"/>
                <a:gridCol w="475200"/>
                <a:gridCol w="513360"/>
                <a:gridCol w="513360"/>
                <a:gridCol w="513360"/>
                <a:gridCol w="513360"/>
                <a:gridCol w="513360"/>
                <a:gridCol w="513360"/>
                <a:gridCol w="513360"/>
                <a:gridCol w="513360"/>
                <a:gridCol w="513360"/>
              </a:tblGrid>
              <a:tr h="90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вон-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лу-х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160">
                <a:tc gridSpan="16"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000066"/>
                          </a:solidFill>
                          <a:uFillTx/>
                          <a:latin typeface="Comic Sans MS"/>
                        </a:rPr>
                        <a:t>Легко запомнить: эти фразы содержа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64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Т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ё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К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,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Х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Ш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Щ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Ц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 –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Ф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!» - </a:t>
                      </a:r>
                      <a:r>
                        <a:rPr b="1" lang="ru-RU" sz="32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все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Comic Sans MS"/>
                        </a:rPr>
                        <a:t>глухие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согласны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5160">
                <a:tc gridSpan="16">
                  <a:txBody>
                    <a:bodyPr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«У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МН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я 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Г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Л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, 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Р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ЗБ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Ра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Й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Бо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Ж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и </a:t>
                      </a:r>
                      <a:r>
                        <a:rPr b="1" lang="ru-RU" sz="3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Д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Ла!» - </a:t>
                      </a:r>
                      <a:r>
                        <a:rPr b="1" lang="ru-RU" sz="32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все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3200" spc="-1" strike="noStrike" u="sng">
                          <a:solidFill>
                            <a:srgbClr val="660066"/>
                          </a:solidFill>
                          <a:uFillTx/>
                          <a:latin typeface="Comic Sans MS"/>
                        </a:rPr>
                        <a:t>звонк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ru-RU" sz="32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согласны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71760" y="642960"/>
            <a:ext cx="7114680" cy="1071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Обратите внимание!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71720" y="1928880"/>
            <a:ext cx="8071920" cy="4928760"/>
          </a:xfrm>
          <a:prstGeom prst="rect">
            <a:avLst/>
          </a:prstGeom>
          <a:solidFill>
            <a:srgbClr val="ffff99"/>
          </a:solidFill>
          <a:ln w="9360">
            <a:noFill/>
          </a:ln>
        </p:spPr>
        <p:txBody>
          <a:bodyPr numCol="1" spcCol="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еред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вонким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согласными </a:t>
            </a:r>
            <a:r>
              <a:rPr b="0" lang="ru-RU" sz="1800" spc="-1" strike="noStrike">
                <a:solidFill>
                  <a:schemeClr val="hlink"/>
                </a:solidFill>
                <a:latin typeface="Arial Black"/>
              </a:rPr>
              <a:t>глухие озвончаются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с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бить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з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бить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экзамен - э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замен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еред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глухим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согласными </a:t>
            </a:r>
            <a:r>
              <a:rPr b="0" lang="ru-RU" sz="1800" spc="-1" strike="noStrike">
                <a:solidFill>
                  <a:srgbClr val="006600"/>
                </a:solidFill>
                <a:latin typeface="Arial Black"/>
              </a:rPr>
              <a:t>звонкие оглушаются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в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сходы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]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сходы; по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д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ходить - по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ходить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вонкие согласные </a:t>
            </a:r>
            <a:r>
              <a:rPr b="0" lang="ru-RU" sz="1800" spc="-1" strike="noStrike">
                <a:solidFill>
                  <a:srgbClr val="006600"/>
                </a:solidFill>
                <a:latin typeface="Arial Black"/>
              </a:rPr>
              <a:t>оглушаются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Arial Black"/>
              </a:rPr>
              <a:t>в конце слов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вездеход — вездехо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],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рассказ — расск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]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47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entury Gothic"/>
              </a:rPr>
              <a:t>Помните это, когда будете выполнять следующие задания: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каком слове при произношении происходит озвончение согласного звука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каком слове при произношении происходит оглушение согласного звука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каком слове все согласные глухие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каком слове все согласные звонкие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каком слове произносится звук [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указан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]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71760" y="642960"/>
            <a:ext cx="711468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Обратите внимание!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71720" y="1857240"/>
            <a:ext cx="8071920" cy="5000400"/>
          </a:xfrm>
          <a:prstGeom prst="rect">
            <a:avLst/>
          </a:prstGeom>
          <a:solidFill>
            <a:srgbClr val="ffcc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уквы </a:t>
            </a:r>
            <a:r>
              <a:rPr b="0" lang="ru-RU" sz="1800" spc="-1" strike="noStrike">
                <a:solidFill>
                  <a:srgbClr val="000066"/>
                </a:solidFill>
                <a:latin typeface="Arial Black"/>
              </a:rPr>
              <a:t>Е, Ё, Ю, Я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передают звуки </a:t>
            </a:r>
            <a:r>
              <a:rPr b="0" lang="ru-RU" sz="1800" spc="-1" strike="noStrike">
                <a:solidFill>
                  <a:srgbClr val="000066"/>
                </a:solidFill>
                <a:latin typeface="Arial Black"/>
              </a:rPr>
              <a:t>[э], [о], [у],[а],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если употребляются после мягкого согласного (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см. предыдущий слайд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)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Два звука</a:t>
            </a:r>
            <a:r>
              <a:rPr b="1" i="1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эти буквы передают: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В начале слов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ест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—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ЙЭ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т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;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юноша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ЙУ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ш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После Ъ и Ь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: вьюга —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’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ЙУ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После гласного звука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приехал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[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’и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ЙЭ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хал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].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Учтите это, когда будете выполнять задания: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каком слове количество букв и звуков совпадает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каком слове букв больше, чем звуков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каком слове звуков больше, чем букв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каком слове (количество указано) звуков?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Не забывайте при этом, что</a:t>
            </a:r>
            <a:r>
              <a:rPr b="1" i="1" lang="ru-RU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Ъ и Ь звуков речи не обозначают!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"/>
          <p:cNvSpPr/>
          <p:nvPr/>
        </p:nvSpPr>
        <p:spPr>
          <a:xfrm>
            <a:off x="1357200" y="2643120"/>
            <a:ext cx="29998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каком слове звуков больше, чем бук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1) окрес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2) ябл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3) разъ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4) город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4357800" y="1571760"/>
            <a:ext cx="4214520" cy="546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Большее количество звуков в словах могут давать букв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, Ё, Ю, Я, если стоят в начале слова или после гласно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Такое слово одно — </a:t>
            </a:r>
            <a:r>
              <a:rPr b="0" i="1" lang="ru-RU" sz="2800" spc="-1" strike="noStrike">
                <a:solidFill>
                  <a:schemeClr val="accent2"/>
                </a:solidFill>
                <a:latin typeface="Times New Roman"/>
              </a:rPr>
              <a:t>яблочный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 — 9 звуков, 8 букв.</a:t>
            </a:r>
            <a:r>
              <a:rPr b="0" i="1" lang="ru-RU" sz="2800" spc="-1" strike="noStrike">
                <a:solidFill>
                  <a:schemeClr val="accent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В слове </a:t>
            </a:r>
            <a:r>
              <a:rPr b="0" i="1" lang="ru-RU" sz="2800" spc="-1" strike="noStrike">
                <a:solidFill>
                  <a:schemeClr val="accent2"/>
                </a:solidFill>
                <a:latin typeface="Times New Roman"/>
              </a:rPr>
              <a:t>разъезд</a:t>
            </a:r>
            <a:r>
              <a:rPr b="0" lang="ru-RU" sz="2800" spc="-1" strike="noStrike">
                <a:solidFill>
                  <a:schemeClr val="accent2"/>
                </a:solidFill>
                <a:latin typeface="Times New Roman"/>
              </a:rPr>
              <a:t> после Ъ буква Е также дает два звука, но звука не обозначает Ъ, поэтому в этом слове 7 букв и столько же звуков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авильный ответ —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43040" y="714240"/>
            <a:ext cx="835776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Фонетические задачи</a:t>
            </a:r>
            <a:br>
              <a:rPr sz="3200"/>
            </a:br>
            <a:r>
              <a:rPr b="1" lang="ru-RU" sz="2400" spc="-1" strike="noStrike" u="sng" cap="all">
                <a:solidFill>
                  <a:srgbClr val="000000"/>
                </a:solidFill>
                <a:uFillTx/>
                <a:latin typeface="Times New Roman"/>
              </a:rPr>
              <a:t>2 группа (</a:t>
            </a:r>
            <a:r>
              <a:rPr b="0" i="1" lang="ru-RU" sz="2000" spc="-1" strike="noStrike" cap="all">
                <a:solidFill>
                  <a:srgbClr val="000000"/>
                </a:solidFill>
                <a:latin typeface="Times New Roman"/>
              </a:rPr>
              <a:t>анализ примеров</a:t>
            </a:r>
            <a:r>
              <a:rPr b="1" lang="ru-RU" sz="2400" spc="-1" strike="noStrike" u="sng" cap="all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8b8b8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S102425414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S102425414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S102425414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S102425414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TS102425414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TS102425414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190A7039-EA11-4399-A65B-6A189471C654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S102425414</Template>
  <TotalTime>335</TotalTime>
  <Application>LibreOffice/7.4.7.2$Linux_X86_64 LibreOffice_project/40$Build-2</Application>
  <AppVersion>15.0000</AppVersion>
  <Words>1147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56:10Z</dcterms:created>
  <dc:creator>111</dc:creator>
  <dc:description/>
  <dc:language>en-US</dc:language>
  <cp:lastModifiedBy>Анна</cp:lastModifiedBy>
  <dcterms:modified xsi:type="dcterms:W3CDTF">2015-04-20T09:09:53Z</dcterms:modified>
  <cp:revision>39</cp:revision>
  <dc:subject/>
  <dc:title>Творческий отчет  учителя русского языка и литературы Науменко Людмилы Ивановны  2012-2013 уч.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  <property fmtid="{D5CDD505-2E9C-101B-9397-08002B2CF9AE}" pid="4" name="_TemplateID">
    <vt:lpwstr>TC024254149991</vt:lpwstr>
  </property>
</Properties>
</file>