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1E0-D442-4429-B3F2-4AD498544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B65-43D3-426C-B35D-AD03A62F1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DCC-88C5-4995-966C-5A643AEE34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FDE-08D4-408C-8493-AE884A42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F86-B921-44C8-8FAD-951A393A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1E1-5AC0-4F0A-A35F-E729AD41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93C-229E-449C-B789-9D01CF98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25E-942E-40C7-B3A6-BBEA82D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359-2FAA-4442-AE01-BFA4E3B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7AF-21B8-4ACA-9B8A-EFE2D8E5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89C-83C0-4F01-B970-F4CDB91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9D4-C159-443F-983E-734D116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9F1-78B0-47F1-A7CC-412D1B9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0C8-C6CF-4945-B798-12CFCA0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396-2695-40A0-9565-874505F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A3A4-C60C-41ED-B3BA-4AE686BDD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72000" y="4149360"/>
            <a:ext cx="2530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A. Arkhip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T. Lu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A. Jatzen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L. Sysoly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492360" y="333360"/>
            <a:ext cx="4427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660066"/>
                </a:solidFill>
                <a:latin typeface="Monotype Corsiva"/>
              </a:rPr>
              <a:t>Paris</a:t>
            </a:r>
            <a:endParaRPr b="0" lang="en-US" sz="18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500720" y="2781360"/>
            <a:ext cx="4497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Monotype Corsiva"/>
              </a:rPr>
              <a:t>Our Dream Holiday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0021"/>
                </a:solidFill>
                <a:latin typeface="Monotype Corsiva"/>
              </a:rPr>
              <a:t>Paris – city of D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Paris… This word must people from all the world think about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the Louv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The Eiffel Tower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the Cathedral of Notre-Dame de Paris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, about Edith Piaf, different sweets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romance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and dream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It is very exciting, so we decided to make a project about this wonderful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Our dream holydays arein PAR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0021"/>
                </a:solidFill>
                <a:latin typeface="Monotype Corsiva"/>
              </a:rPr>
              <a:t>The whe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The whether during our trip, as we think, will be sunny and warm, because 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we are going to go to Paris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in May, w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hen the chestnut trees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are 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blossom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ing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 in the parks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Monotype Corsiva"/>
              </a:rPr>
              <a:t>The 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France has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excellent national cuisine. French restaurants are known around the world.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S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mall outdoor cafes and huge luxurious restaurants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l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of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this is Par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Таня.jpg"/>
          <p:cNvPicPr/>
          <p:nvPr/>
        </p:nvPicPr>
        <p:blipFill>
          <a:blip r:embed="rId1"/>
          <a:stretch/>
        </p:blipFill>
        <p:spPr>
          <a:xfrm>
            <a:off x="3995640" y="2708280"/>
            <a:ext cx="4734000" cy="3551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 GO WITH…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Лариса.jpg"/>
          <p:cNvPicPr/>
          <p:nvPr/>
        </p:nvPicPr>
        <p:blipFill>
          <a:blip r:embed="rId2"/>
          <a:stretch/>
        </p:blipFill>
        <p:spPr>
          <a:xfrm>
            <a:off x="353880" y="420840"/>
            <a:ext cx="2468520" cy="3097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24000" y="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Larisa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Рисунок 5" descr="Сашка.jpg"/>
          <p:cNvPicPr/>
          <p:nvPr/>
        </p:nvPicPr>
        <p:blipFill>
          <a:blip r:embed="rId3"/>
          <a:stretch/>
        </p:blipFill>
        <p:spPr>
          <a:xfrm>
            <a:off x="2706840" y="1206360"/>
            <a:ext cx="2798640" cy="3730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3071880" y="49291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asha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429240" y="6488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anya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8:36:42Z</dcterms:created>
  <dc:creator>Архипова Александра</dc:creator>
  <dc:description/>
  <dc:language>en-US</dc:language>
  <cp:lastModifiedBy>Пользователь</cp:lastModifiedBy>
  <dcterms:modified xsi:type="dcterms:W3CDTF">2015-04-22T19:32:49Z</dcterms:modified>
  <cp:revision>14</cp:revision>
  <dc:subject/>
  <dc:title>Слайд 1</dc:title>
</cp:coreProperties>
</file>