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38C6-54E1-4969-9ED4-6B17FDD717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C81F-DF63-4907-8956-5242DAA5AA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9A33-C9DE-4AD8-A1B4-6ACE367DA2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2407-8B38-4F37-AE89-9FC1F5FC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C190-BFC6-4944-B4DE-361FD7C1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7620-306F-4779-8A38-C1105E02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5044-9689-4BE9-95CE-58CA746F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F90F-1191-4D23-A20B-5F446397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30C8-AB42-4D67-9C32-5D1A7319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E8CE-8D94-4FE4-B205-A178056D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73A9-13E6-4781-AF84-F8A79094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3ED9-F4C8-4EAF-B42F-D38AF902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5DE5-E6E4-4C78-9EBA-4C1DDB11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40FA-3DC5-4248-97F5-8EDBF91A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336E-E33F-4E59-900F-8290211D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972D-7B71-4EBD-ADEF-AEE8611CBA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372000" y="4149360"/>
            <a:ext cx="253044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Monotype Corsiva"/>
              </a:rPr>
              <a:t>A. Arkhip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Monotype Corsiva"/>
              </a:rPr>
              <a:t>T. Luk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Monotype Corsiva"/>
              </a:rPr>
              <a:t>A. Jatzen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Monotype Corsiva"/>
              </a:rPr>
              <a:t>L. Sysolya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3492360" y="333360"/>
            <a:ext cx="44276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660066"/>
                </a:solidFill>
                <a:latin typeface="Monotype Corsiva"/>
              </a:rPr>
              <a:t>Paris</a:t>
            </a:r>
            <a:endParaRPr b="0" lang="en-US" sz="18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4500720" y="2781360"/>
            <a:ext cx="44971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Monotype Corsiva"/>
              </a:rPr>
              <a:t>Our Dream Holidays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a50021"/>
                </a:solidFill>
                <a:latin typeface="Monotype Corsiva"/>
              </a:rPr>
              <a:t>Paris – city of Dre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  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Paris… This word must people from all the world think about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the Louv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,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The Eiffel Tower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,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the Cathedral of Notre-Dame de Paris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, about Edith Piaf, different sweets,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romance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 and dream.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 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It is very exciting, so we decided to make a project about this wonderful c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Our dream holydays arein PARI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a50021"/>
                </a:solidFill>
                <a:latin typeface="Monotype Corsiva"/>
              </a:rPr>
              <a:t>The whet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50021"/>
                </a:solidFill>
                <a:uFillTx/>
                <a:latin typeface="Monotype Corsiva"/>
              </a:rPr>
              <a:t>The whether during our trip, as we think, will be sunny and warm, because </a:t>
            </a:r>
            <a:r>
              <a:rPr b="0" lang="ru-RU" sz="3200" spc="-1" strike="noStrike" u="sng">
                <a:solidFill>
                  <a:srgbClr val="a50021"/>
                </a:solidFill>
                <a:uFillTx/>
                <a:latin typeface="Monotype Corsiva"/>
              </a:rPr>
              <a:t>we are going to go to Paris </a:t>
            </a:r>
            <a:r>
              <a:rPr b="0" lang="en-US" sz="3200" spc="-1" strike="noStrike" u="sng">
                <a:solidFill>
                  <a:srgbClr val="a50021"/>
                </a:solidFill>
                <a:uFillTx/>
                <a:latin typeface="Monotype Corsiva"/>
              </a:rPr>
              <a:t>in May, w</a:t>
            </a:r>
            <a:r>
              <a:rPr b="0" lang="ru-RU" sz="3200" spc="-1" strike="noStrike" u="sng">
                <a:solidFill>
                  <a:srgbClr val="a50021"/>
                </a:solidFill>
                <a:uFillTx/>
                <a:latin typeface="Monotype Corsiva"/>
              </a:rPr>
              <a:t>hen the chestnut trees </a:t>
            </a:r>
            <a:r>
              <a:rPr b="0" lang="en-US" sz="3200" spc="-1" strike="noStrike" u="sng">
                <a:solidFill>
                  <a:srgbClr val="a50021"/>
                </a:solidFill>
                <a:uFillTx/>
                <a:latin typeface="Monotype Corsiva"/>
              </a:rPr>
              <a:t>are </a:t>
            </a:r>
            <a:r>
              <a:rPr b="0" lang="ru-RU" sz="3200" spc="-1" strike="noStrike" u="sng">
                <a:solidFill>
                  <a:srgbClr val="a50021"/>
                </a:solidFill>
                <a:uFillTx/>
                <a:latin typeface="Monotype Corsiva"/>
              </a:rPr>
              <a:t>blossom</a:t>
            </a:r>
            <a:r>
              <a:rPr b="0" lang="en-US" sz="3200" spc="-1" strike="noStrike" u="sng">
                <a:solidFill>
                  <a:srgbClr val="a50021"/>
                </a:solidFill>
                <a:uFillTx/>
                <a:latin typeface="Monotype Corsiva"/>
              </a:rPr>
              <a:t>ing</a:t>
            </a:r>
            <a:r>
              <a:rPr b="0" lang="ru-RU" sz="3200" spc="-1" strike="noStrike" u="sng">
                <a:solidFill>
                  <a:srgbClr val="a50021"/>
                </a:solidFill>
                <a:uFillTx/>
                <a:latin typeface="Monotype Corsiva"/>
              </a:rPr>
              <a:t> in the parks</a:t>
            </a:r>
            <a:r>
              <a:rPr b="0" lang="en-US" sz="3200" spc="-1" strike="noStrike" u="sng">
                <a:solidFill>
                  <a:srgbClr val="a50021"/>
                </a:solidFill>
                <a:uFillTx/>
                <a:latin typeface="Monotype Corsiva"/>
              </a:rPr>
              <a:t>.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Monotype Corsiva"/>
              </a:rPr>
              <a:t>The foo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France has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excellent national cuisine. French restaurants are known around the world.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S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mall outdoor cafes and huge luxurious restaurants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 -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al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 of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 this is Pari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.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7" descr="Таня.jpg"/>
          <p:cNvPicPr/>
          <p:nvPr/>
        </p:nvPicPr>
        <p:blipFill>
          <a:blip r:embed="rId1"/>
          <a:stretch/>
        </p:blipFill>
        <p:spPr>
          <a:xfrm>
            <a:off x="3995640" y="2708280"/>
            <a:ext cx="4734000" cy="3551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15080" cy="43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 GO WITH…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Содержимое 3" descr="Лариса.jpg"/>
          <p:cNvPicPr/>
          <p:nvPr/>
        </p:nvPicPr>
        <p:blipFill>
          <a:blip r:embed="rId2"/>
          <a:stretch/>
        </p:blipFill>
        <p:spPr>
          <a:xfrm>
            <a:off x="353880" y="420840"/>
            <a:ext cx="2468520" cy="309708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324000" y="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Larisa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1" name="Рисунок 5" descr="Сашка.jpg"/>
          <p:cNvPicPr/>
          <p:nvPr/>
        </p:nvPicPr>
        <p:blipFill>
          <a:blip r:embed="rId3"/>
          <a:stretch/>
        </p:blipFill>
        <p:spPr>
          <a:xfrm>
            <a:off x="2706840" y="1206360"/>
            <a:ext cx="2798640" cy="3730680"/>
          </a:xfrm>
          <a:prstGeom prst="rect">
            <a:avLst/>
          </a:prstGeom>
          <a:ln w="0">
            <a:noFill/>
          </a:ln>
        </p:spPr>
      </p:pic>
      <p:sp>
        <p:nvSpPr>
          <p:cNvPr id="62" name="TextBox 6"/>
          <p:cNvSpPr/>
          <p:nvPr/>
        </p:nvSpPr>
        <p:spPr>
          <a:xfrm>
            <a:off x="3071880" y="49291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asha</a:t>
            </a:r>
            <a:r>
              <a:rPr b="0" lang="ru-R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6429240" y="648828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anya</a:t>
            </a:r>
            <a:r>
              <a:rPr b="0" lang="ru-R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08:36:42Z</dcterms:created>
  <dc:creator>Архипова Александра</dc:creator>
  <dc:description/>
  <dc:language>en-US</dc:language>
  <cp:lastModifiedBy>Пользователь</cp:lastModifiedBy>
  <dcterms:modified xsi:type="dcterms:W3CDTF">2015-04-22T19:32:49Z</dcterms:modified>
  <cp:revision>14</cp:revision>
  <dc:subject/>
  <dc:title>Слайд 1</dc:title>
</cp:coreProperties>
</file>