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462-50A8-4890-BAF5-21E64E0A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FDB-F167-4AA8-8F21-912BF5B4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852-75E3-449C-8460-CE209560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B10-F7FC-491A-9D04-A20AC435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23D-3F43-47E0-8FC2-0A8607C2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B0D-3B41-46CA-B304-69F9AA86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27B-6D0E-49F8-82DA-CB2F247E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A27-3EF9-4B7A-BBEF-E3F719C7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8DD-66C7-47CB-9EC1-7E40875E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5DC-DFE1-4DFB-AE9F-6B77540E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C27-1221-4B85-8C9E-0F7EC3A6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87F8-7809-4844-B1B3-E2FC97E2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4830-CEB4-4769-9C5A-70A28BC4FE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биологии в 8 класс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УМК Н.И.Сонин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ищевые продукты, питательные вещества и их превращения в организ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ип урок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рок изучения нового материала и комплексного применения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ител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юкина Лариса Александровна, учитель биоло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 от просту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2" descr=""/>
          <p:cNvPicPr/>
          <p:nvPr/>
        </p:nvPicPr>
        <p:blipFill>
          <a:blip r:embed="rId1"/>
          <a:stretch/>
        </p:blipFill>
        <p:spPr>
          <a:xfrm>
            <a:off x="450720" y="1500120"/>
            <a:ext cx="82425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читать состав продуктов перед покупк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комендовано покупать продукты с большим сроком годности и малопонятными химическими названия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ка – кола разъедает эпителий пищеварительной системы, вызывает гастрит, язву, рак желудка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рушает зуб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4500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люди используют кока –колу для очистки унитазов от ржавчины и известкового налё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ка тем временем ножик взяла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ожиком этим крошить начала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шку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у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ку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х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ушку и свеклу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!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рытые крышкой, в душном горшк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пели, кипели в крутом кипятке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шка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а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ка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х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ушка и свекла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!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уп овощной оказался не плох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786200" y="5929200"/>
            <a:ext cx="35006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С.Михал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щепление питательных веществ происходит под действием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мент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юны, желудочного сока, поджелудочного сока, кишечного с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072120" y="5403240"/>
            <a:ext cx="220032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щепляются до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минокисло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н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ных кисло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7071840" y="5286240"/>
            <a:ext cx="17002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цифрами обозначены пищевые продукты, а какими питательные веществ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2" descr=""/>
          <p:cNvPicPr/>
          <p:nvPr/>
        </p:nvPicPr>
        <p:blipFill>
          <a:blip r:embed="rId1"/>
          <a:stretch/>
        </p:blipFill>
        <p:spPr>
          <a:xfrm>
            <a:off x="450720" y="1487520"/>
            <a:ext cx="82425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тр. 171 – 174, вопросы 1-8 уст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пословиц и поговорок о питании (по желанию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ообщение на 2-3 минуты «Пост – вред или польза для подростка» (по желанию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52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Хозяйка однажды с базара пришла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Хозяйка с базара домой принесла: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ртошку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пусту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орковку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орох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етрушку и свеклу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х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643200" y="5786280"/>
            <a:ext cx="41292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С. Михал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евые продукты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тельные вещества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превращение в организм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21480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– изучение нового материала с элементами практической направлен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«Биология. Человек. 8 класс. Н. И. Сонин, М.Р. Сапин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юкина Лариса Александр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ищ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такое пит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ищевые продук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итательные веще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ищевар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тельные вещества различных продуктов,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основные функ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85920"/>
          <a:ext cx="8229600" cy="5421240"/>
        </p:xfrm>
        <a:graphic>
          <a:graphicData uri="http://schemas.openxmlformats.org/drawingml/2006/table">
            <a:tbl>
              <a:tblPr/>
              <a:tblGrid>
                <a:gridCol w="1685880"/>
                <a:gridCol w="1714680"/>
                <a:gridCol w="2771640"/>
                <a:gridCol w="2057400"/>
              </a:tblGrid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ы проду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ые питательные 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ая 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чни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 и молочные прод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ьций, витамины А, 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росту, укреплению костей, зубов, помогают работе мыш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сыр, творог, йогурты, мороже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, крупы, 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, витам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 энергии, укрепляют нервную сист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аронные и хлебобулочные изделия, ка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яйцо, ры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к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новляют и восстанавливают кожу, кости, кр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 животных, рыба, яй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укты, ов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, витамины, минеральные с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 энергии, клетчатки, регулируют обмен веществ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ают з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фрукты, ов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ценное питание включает в себя продукты как растительного, так и животного происхождения. Одни питательные вещества могут быть только в растительных продуктах (витамины, клетчатка), другие – в продуктах животного происхождения (незаменимые белки), поэтому растущий организм должен получать полноценное пит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овощи спор завели на столе: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лучше, вкусней и нужней на земле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шка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а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ка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х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ушка иль свекла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!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286160" y="5000400"/>
            <a:ext cx="39290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. Михал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 для увеличения энерг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аряда моз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2" descr=""/>
          <p:cNvPicPr/>
          <p:nvPr/>
        </p:nvPicPr>
        <p:blipFill>
          <a:blip r:embed="rId1"/>
          <a:stretch/>
        </p:blipFill>
        <p:spPr>
          <a:xfrm>
            <a:off x="450720" y="1463760"/>
            <a:ext cx="82425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 для улучшения з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б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яные семеч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10:52:10Z</dcterms:created>
  <dc:creator>user</dc:creator>
  <dc:description/>
  <dc:language>en-US</dc:language>
  <cp:lastModifiedBy>user</cp:lastModifiedBy>
  <dcterms:modified xsi:type="dcterms:W3CDTF">2015-04-22T11:21:20Z</dcterms:modified>
  <cp:revision>24</cp:revision>
  <dc:subject/>
  <dc:title>Хозяйка однажды с базара пришла, Хозяйка с базара домой принесла: Картошку, Капусту, Морковку, Горох, Петрушку и свеклу, Ох!</dc:title>
</cp:coreProperties>
</file>