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79E-A472-4953-8BFB-9D1D0E0E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475-7B50-4830-843A-57978EDD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37C-F4E8-4BB0-9BC3-A7500764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EB9-EA82-4F98-9F99-0E670A9B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900-9EF5-46AE-8C5D-E26B06C8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3CC-5B2C-469C-8E68-2242CCA5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FF4-63D1-44E6-AED9-D1C7A274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17B-4FB4-4085-AED6-003E33C3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549-E164-416B-B19D-091DD8EA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20B-3B75-45AF-B4F2-E914C11A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D40-3EB8-4D60-8865-86480894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A1C-2456-40CE-957E-5F388CA4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AEA4-FA20-4FF4-89FC-00D181777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биологии в 8 класс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УМК Н.И.Сонин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ищевые продукты, питательные вещества и их превращения в организ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п урок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рок изучения нового материала и комплексного применения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ит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юкина Лариса Александровна, учитель би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от просту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00120"/>
            <a:ext cx="82425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читать состав продуктов перед покупк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комендовано покупать продукты с большим сроком годности и малопонятными химическими названия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а – кола разъедает эпителий пищеварительной системы, вызывает гастрит, язву, рак желудка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рушает зуб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500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люди используют кока –колу для очистки унитазов от ржавчины и известкового налё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ка тем временем ножик взяла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ожиком этим крошить начала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шку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у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ку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ушку и свеклу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!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рытые крышкой, в душном горшк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ели, кипели в крутом кипятке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шка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ка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ушка и свекла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!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уп овощной оказался не плох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786200" y="5929200"/>
            <a:ext cx="35006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С.Михал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щепление питательных веществ происходит под действием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юны, желудочного сока, поджелудочного сока, кишечного с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072120" y="5403240"/>
            <a:ext cx="220032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щепляются до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минокисло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ных кисло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071840" y="5286240"/>
            <a:ext cx="17002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цифрами обозначены пищевые продукты, а какими питательные веществ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2" descr=""/>
          <p:cNvPicPr/>
          <p:nvPr/>
        </p:nvPicPr>
        <p:blipFill>
          <a:blip r:embed="rId1"/>
          <a:stretch/>
        </p:blipFill>
        <p:spPr>
          <a:xfrm>
            <a:off x="450720" y="1487520"/>
            <a:ext cx="82425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тр. 171 – 174, вопросы 1-8 ус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пословиц и поговорок о питании (по желанию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общение на 2-3 минуты «Пост – вред или польза для подростка» (по желанию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52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озяйка однажды с базара пришла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озяйка с базара домой принесла: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ртошку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пусту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орковку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орох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етрушку и свеклу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х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643200" y="5786280"/>
            <a:ext cx="41292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С. Михал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евые продукты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тельные вещества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превращение в организм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2148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– изучение нового материала с элементами практической направлен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«Биология. Человек. 8 класс. Н. И. Сонин, М.Р. Сапин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юкина Лариса Александр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ищ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такое пит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ищевые продук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итательные веще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ищевар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тельные вещества различных продуктов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основные функ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85920"/>
          <a:ext cx="8229600" cy="5421240"/>
        </p:xfrm>
        <a:graphic>
          <a:graphicData uri="http://schemas.openxmlformats.org/drawingml/2006/table">
            <a:tbl>
              <a:tblPr/>
              <a:tblGrid>
                <a:gridCol w="1685880"/>
                <a:gridCol w="1714680"/>
                <a:gridCol w="2771640"/>
                <a:gridCol w="2057400"/>
              </a:tblGrid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ы проду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питательные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ая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н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и молочные прод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ций, витамины А, 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росту, укреплению костей, зубов, помогают работе мыш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сыр, творог, йогурты, морож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, крупы, 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, витам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энергии, укрепляют нервную сист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аронные и хлебобулочные изделия, ка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яйцо, 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к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новляют и восстанавливают кожу, кости, кр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 животных, рыба, 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укты, 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, витамины, минеральные с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энергии, клетчатки, регулируют обмен веществ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ают з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фрукты, 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ценное питание включает в себя продукты как растительного, так и животного происхождения. Одни питательные вещества могут быть только в растительных продуктах (витамины, клетчатка), другие – в продуктах животного происхождения (незаменимые белки), поэтому растущий организм должен получать полноценное пит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вощи спор завели на столе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лучше, вкусней и нужней на земле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шк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к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ушка иль свекл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!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6160" y="5000400"/>
            <a:ext cx="39290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. Михал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для увеличения энерг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аряда моз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2" descr=""/>
          <p:cNvPicPr/>
          <p:nvPr/>
        </p:nvPicPr>
        <p:blipFill>
          <a:blip r:embed="rId1"/>
          <a:stretch/>
        </p:blipFill>
        <p:spPr>
          <a:xfrm>
            <a:off x="450720" y="1463760"/>
            <a:ext cx="82425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для улучшения з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яные семе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10:52:10Z</dcterms:created>
  <dc:creator>user</dc:creator>
  <dc:description/>
  <dc:language>en-US</dc:language>
  <cp:lastModifiedBy>user</cp:lastModifiedBy>
  <dcterms:modified xsi:type="dcterms:W3CDTF">2015-04-22T11:21:20Z</dcterms:modified>
  <cp:revision>24</cp:revision>
  <dc:subject/>
  <dc:title>Хозяйка однажды с базара пришла, Хозяйка с базара домой принесла: Картошку, Капусту, Морковку, Горох, Петрушку и свеклу, Ох!</dc:title>
</cp:coreProperties>
</file>