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4FB5-9A50-47D0-890E-6956D6399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E046-C46A-422F-B16A-0CEBE8A9C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C163-2336-4BA5-AC5A-6A84AE6A0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0BE8-311D-40D0-B9CE-DA44FF479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5FEA4-4C4E-4469-B528-E038B655C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FD5A2-560A-4ADA-9A0A-7F43303CF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60287-329A-41CD-B1F1-32C5B4CF2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00540-BB7F-4CA1-A94A-C63F0E79F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28FD5-4DC6-455D-8808-C99B42B80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B4C67-CEE7-4EFF-B1A2-7EA2A7140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1AE00-270A-405E-AB92-201D0456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90B9-AB2E-460B-A61C-0B236E5E4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D52D6-172D-404B-86C8-75B7E7DC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76F91-445E-4745-AB04-BEB98596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2C671-056E-43A7-A6FD-D868A3495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AD62D-19E9-4E97-A53E-9CDD26428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6B529-B59C-420F-8A66-C558AAB10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A122-68F0-4637-8AAA-9CBE0EF22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1EDA-B964-4AA2-82BA-CF517ED7D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BD5C-2CCD-44B3-B3F3-8C9AB6AAC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3842-D4DC-470D-AF9D-77BB3C2AD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4904-4E9D-4AB3-A962-8096351E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6602-3F7C-4920-AB3F-1DB391E0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5BF0-D38B-4A2F-B8EC-5A865C10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305C1-F298-4981-9BBF-F5F72AFDA0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earth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earth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5A389-E16B-4B5A-B4F0-E39FE3C971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676160" y="2666880"/>
            <a:ext cx="693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ru-RU" sz="8800" spc="-1" strike="noStrike">
                <a:solidFill>
                  <a:srgbClr val="ff3399"/>
                </a:solidFill>
                <a:latin typeface="Monotype Corsiva"/>
              </a:rPr>
              <a:t>«</a:t>
            </a:r>
            <a:r>
              <a:rPr b="0" i="1" lang="ru-RU" sz="9600" spc="-1" strike="noStrike">
                <a:solidFill>
                  <a:srgbClr val="ff3399"/>
                </a:solidFill>
                <a:latin typeface="Monotype Corsiva"/>
              </a:rPr>
              <a:t>По городам и странам»</a:t>
            </a:r>
            <a:r>
              <a:rPr b="0" i="1" lang="ru-RU" sz="9600" spc="-1" strike="noStrike">
                <a:solidFill>
                  <a:srgbClr val="ff3399"/>
                </a:solidFill>
                <a:latin typeface="Monotype Corsiva"/>
              </a:rPr>
              <a:t>	</a:t>
            </a:r>
            <a:endParaRPr b="0" i="1" lang="en-US" sz="9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828800" y="5699160"/>
            <a:ext cx="6934320" cy="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640" bIns="864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В какой стране эта пища является деликатесом?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685800" y="2363760"/>
          <a:ext cx="3809880" cy="368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363760"/>
                    <a:ext cx="3809880" cy="36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724280" y="27432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 Росси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 Америк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о Франци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 Германи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Times New Roman"/>
              </a:rPr>
              <a:t>Какая самая длинная река в США?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7772400" cy="47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SzPct val="10284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Monotype Corsiva"/>
              </a:rPr>
              <a:t>Миссисипи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SzPct val="10284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Monotype Corsiva"/>
              </a:rPr>
              <a:t>Нил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SzPct val="10284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Monotype Corsiva"/>
              </a:rPr>
              <a:t>Амазонка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d60093"/>
                </a:solidFill>
                <a:latin typeface="Times New Roman"/>
              </a:rPr>
              <a:t>В каком городе расположен Голливуд?</a:t>
            </a:r>
            <a:endParaRPr b="0" i="1" lang="en-US" sz="5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286000" y="2590920"/>
            <a:ext cx="7772400" cy="41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В Лондоне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В Берлине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В Лос - Анджелесе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6600"/>
                </a:solidFill>
                <a:latin typeface="Times New Roman"/>
              </a:rPr>
              <a:t>Как называется лондонская резиденция Елизаветы Второй?</a:t>
            </a: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 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Monotype Corsiva"/>
              </a:rPr>
              <a:t>Белый Дом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Monotype Corsiva"/>
              </a:rPr>
              <a:t>Зимний Дворец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Monotype Corsiva"/>
              </a:rPr>
              <a:t>Букингемский Дворец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4"/>
          <a:stretch/>
        </p:blipFill>
        <p:spPr>
          <a:xfrm>
            <a:off x="4703760" y="2147760"/>
            <a:ext cx="3697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cc6600"/>
                </a:solidFill>
                <a:latin typeface="Times New Roman"/>
              </a:rPr>
              <a:t>Как звучит второе название государства Россия?</a:t>
            </a:r>
            <a:endParaRPr b="0" i="1" lang="en-US" sz="7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286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В каком городе проходит известнейший теннисный турнир?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имблдо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ксфор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Чикаг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4267080" y="2971800"/>
          <a:ext cx="3886200" cy="373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67080" y="2971800"/>
                    <a:ext cx="388620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000099"/>
                </a:solidFill>
                <a:latin typeface="Times New Roman"/>
              </a:rPr>
              <a:t>У какой страны название совпадает с названием континента?</a:t>
            </a:r>
            <a:endParaRPr b="0" i="1" lang="en-US" sz="66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99"/>
                </a:solidFill>
                <a:latin typeface="Times New Roman"/>
              </a:rPr>
              <a:t>Назовите столицу Германии</a:t>
            </a:r>
            <a:endParaRPr b="0" i="1" lang="en-US" sz="4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676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ahoma"/>
              </a:rPr>
              <a:t>   </a:t>
            </a:r>
            <a:r>
              <a:rPr b="0" lang="en-US" sz="4400" spc="-1" strike="noStrike">
                <a:solidFill>
                  <a:srgbClr val="008000"/>
                </a:solidFill>
                <a:latin typeface="Tahoma"/>
              </a:rPr>
              <a:t>Эдинбург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ahoma"/>
              </a:rPr>
              <a:t>   </a:t>
            </a:r>
            <a:r>
              <a:rPr b="0" lang="en-US" sz="4400" spc="-1" strike="noStrike">
                <a:solidFill>
                  <a:srgbClr val="008000"/>
                </a:solidFill>
                <a:latin typeface="Tahoma"/>
              </a:rPr>
              <a:t>Берлин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008000"/>
                </a:solidFill>
                <a:latin typeface="Tahoma"/>
              </a:rPr>
              <a:t>Канберр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В какой стране находится эта башня? 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685800" y="2297160"/>
          <a:ext cx="3809880" cy="38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97160"/>
                    <a:ext cx="3809880" cy="38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647960" y="2286000"/>
            <a:ext cx="380988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о Франци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 Итали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 Германи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 Великобритани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28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Назовите самый большой город США</a:t>
            </a:r>
            <a:br>
              <a:rPr sz="4400"/>
            </a:br>
            <a:br>
              <a:rPr sz="4400"/>
            </a:br>
            <a:r>
              <a:rPr b="0" i="1" lang="ru-RU" sz="4400" spc="-1" strike="noStrike">
                <a:solidFill>
                  <a:srgbClr val="3333cc"/>
                </a:solidFill>
                <a:latin typeface="Times New Roman"/>
              </a:rPr>
              <a:t>Чикаго</a:t>
            </a:r>
            <a:br>
              <a:rPr sz="4400"/>
            </a:br>
            <a:r>
              <a:rPr b="0" i="1" lang="ru-RU" sz="4400" spc="-1" strike="noStrike">
                <a:solidFill>
                  <a:srgbClr val="3333cc"/>
                </a:solidFill>
                <a:latin typeface="Times New Roman"/>
              </a:rPr>
              <a:t>Нью-Йорк</a:t>
            </a:r>
            <a:br>
              <a:rPr sz="4400"/>
            </a:br>
            <a:r>
              <a:rPr b="0" i="1" lang="ru-RU" sz="4400" spc="-1" strike="noStrike">
                <a:solidFill>
                  <a:srgbClr val="3333cc"/>
                </a:solidFill>
                <a:latin typeface="Times New Roman"/>
              </a:rPr>
              <a:t>Вашингтон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93720" y="3123720"/>
            <a:ext cx="77551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>
                <a:solidFill>
                  <a:srgbClr val="000099"/>
                </a:solidFill>
                <a:latin typeface="Times New Roman"/>
              </a:rPr>
              <a:t>На какой реке находится Лондон?</a:t>
            </a:r>
            <a:endParaRPr b="0" i="1" lang="en-US" sz="88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686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008000"/>
                </a:solidFill>
                <a:latin typeface="Times New Roman"/>
              </a:rPr>
              <a:t>Сколько штатов в США?</a:t>
            </a:r>
            <a:br>
              <a:rPr sz="6600"/>
            </a:br>
            <a:r>
              <a:rPr b="0" i="1" lang="ru-RU" sz="6600" spc="-1" strike="noStrike">
                <a:solidFill>
                  <a:srgbClr val="008000"/>
                </a:solidFill>
                <a:latin typeface="Times New Roman"/>
              </a:rPr>
              <a:t>-48</a:t>
            </a:r>
            <a:br>
              <a:rPr sz="6600"/>
            </a:br>
            <a:r>
              <a:rPr b="0" i="1" lang="ru-RU" sz="6600" spc="-1" strike="noStrike">
                <a:solidFill>
                  <a:srgbClr val="008000"/>
                </a:solidFill>
                <a:latin typeface="Times New Roman"/>
              </a:rPr>
              <a:t>-50</a:t>
            </a:r>
            <a:br>
              <a:rPr sz="6600"/>
            </a:br>
            <a:r>
              <a:rPr b="0" i="1" lang="ru-RU" sz="6600" spc="-1" strike="noStrike">
                <a:solidFill>
                  <a:srgbClr val="008000"/>
                </a:solidFill>
                <a:latin typeface="Times New Roman"/>
              </a:rPr>
              <a:t>-5</a:t>
            </a:r>
            <a:r>
              <a:rPr b="0" i="1" lang="en-US" sz="6600" spc="-1" strike="noStrike">
                <a:solidFill>
                  <a:srgbClr val="008000"/>
                </a:solidFill>
                <a:latin typeface="Times New Roman"/>
              </a:rPr>
              <a:t>7</a:t>
            </a:r>
            <a:endParaRPr b="0" i="1" lang="en-US" sz="66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3333cc"/>
                </a:solidFill>
                <a:latin typeface="Times New Roman"/>
              </a:rPr>
              <a:t>На какой реке стоит город Москва?</a:t>
            </a:r>
            <a:endParaRPr b="0" i="1" lang="en-US" sz="7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6629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Какой город не является столицей?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ahoma"/>
              </a:rPr>
              <a:t>Лондо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ahoma"/>
              </a:rPr>
              <a:t>Вашингто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ahoma"/>
              </a:rPr>
              <a:t>Москв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ahoma"/>
              </a:rPr>
              <a:t>Ри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ahoma"/>
              </a:rPr>
              <a:t>Сидне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c6600"/>
                </a:solidFill>
                <a:latin typeface="Times New Roman"/>
              </a:rPr>
              <a:t>Что это за  вид спорта</a:t>
            </a:r>
            <a:r>
              <a:rPr b="0" i="1" lang="en-US" sz="4000" spc="-1" strike="noStrike">
                <a:solidFill>
                  <a:srgbClr val="cc6600"/>
                </a:solidFill>
                <a:latin typeface="Times New Roman"/>
              </a:rPr>
              <a:t>?</a:t>
            </a:r>
            <a:r>
              <a:rPr b="0" i="1" lang="ru-RU" sz="4000" spc="-1" strike="noStrike">
                <a:solidFill>
                  <a:srgbClr val="cc6600"/>
                </a:solidFill>
                <a:latin typeface="Times New Roman"/>
              </a:rPr>
              <a:t>В какой стране он наиболее популярен?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2666880" y="2133720"/>
          <a:ext cx="3810240" cy="40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133720"/>
                    <a:ext cx="3810240" cy="40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Какой город называют северной столицей России?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урманс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анкт-Петербур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ркутс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солье-Сибирско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14040"/>
            <a:ext cx="79070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ff"/>
                </a:solidFill>
                <a:latin typeface="Times New Roman"/>
              </a:rPr>
              <a:t>Которая из достопримечательностей находится в Париже?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772400" cy="32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288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66ff"/>
                </a:solidFill>
                <a:latin typeface="Sylfaen"/>
              </a:rPr>
              <a:t>Колонна Адмирала         Нельсон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Sylfaen"/>
              </a:rPr>
              <a:t> </a:t>
            </a:r>
            <a:r>
              <a:rPr b="0" lang="en-US" sz="4400" spc="-1" strike="noStrike">
                <a:solidFill>
                  <a:srgbClr val="3366ff"/>
                </a:solidFill>
                <a:latin typeface="Sylfaen"/>
              </a:rPr>
              <a:t>Эйфелева башня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Sylfaen"/>
              </a:rPr>
              <a:t> </a:t>
            </a:r>
            <a:r>
              <a:rPr b="0" lang="en-US" sz="4400" spc="-1" strike="noStrike">
                <a:solidFill>
                  <a:srgbClr val="3366ff"/>
                </a:solidFill>
                <a:latin typeface="Sylfaen"/>
              </a:rPr>
              <a:t>Статуя Свободы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1143000" y="1168560"/>
            <a:ext cx="624852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0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0066"/>
                </a:solidFill>
                <a:latin typeface="Times New Roman"/>
              </a:rPr>
              <a:t>Где расположен замок Спящей Красавицы?</a:t>
            </a:r>
            <a:endParaRPr b="0" i="1" lang="en-US" sz="7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В какой стране находится город Сидней?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Египт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Австрал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Канад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93720" y="455760"/>
            <a:ext cx="7755120" cy="59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990000"/>
                </a:solidFill>
                <a:latin typeface="Times New Roman"/>
              </a:rPr>
              <a:t>Назовите старейшую крепость в Лондоне</a:t>
            </a:r>
            <a:endParaRPr b="0" i="1" lang="en-US" sz="7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10:00:39Z</dcterms:created>
  <dc:creator>user</dc:creator>
  <dc:description/>
  <dc:language>en-US</dc:language>
  <cp:lastModifiedBy>user</cp:lastModifiedBy>
  <dcterms:modified xsi:type="dcterms:W3CDTF">2007-04-26T14:42:24Z</dcterms:modified>
  <cp:revision>4</cp:revision>
  <dc:subject/>
  <dc:title> «По городам и странам» </dc:title>
</cp:coreProperties>
</file>