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74E-9248-4D89-A811-3EE53B4D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9AA-0592-4072-8C61-27CD1005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D82-20C6-40A0-A209-ED53B4A5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0CB-EF62-4A58-B82A-4D5415A5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3E9-C826-4B9F-B86A-E69FF83C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CBCC-B291-4532-B5F6-701FD5E4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39A6-5172-4442-8B5A-FED3CB0D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537E-50C3-4700-9580-05C6B135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9284-1E8D-4922-AD66-AFB1FC1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1207-853C-4BD3-B59E-3FB9F866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E4C2-331B-432F-96C6-3C43909A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76D-0BC3-41CE-97CC-EFAC6351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78C0-0E26-4BB4-8878-71B88C16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5E63-B4C8-4B24-B611-C4BA7AF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0E9F-29ED-44F1-830A-55937230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4608-1B19-4C9A-BC1C-F48A87B4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8513-5084-4542-906A-516E73BD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47A-B3E1-47CE-89AC-61EBC659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E5C-7C2E-4E83-9B2D-EC3626AD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5C6-4F42-4107-AC38-81F4A98D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8B7-8C20-4421-94FB-708BC6CB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707-E6A5-43D0-97C8-B82068B1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EEC-F518-4B4B-B4DF-F0BD27B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EA4-0F10-4AF3-824D-DF9317D8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AC65-7BD0-4456-8271-8CE4E47D3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5976-709A-446D-B4CA-7841AD49F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76160" y="266688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8800" spc="-1" strike="noStrike">
                <a:solidFill>
                  <a:srgbClr val="ff3399"/>
                </a:solidFill>
                <a:latin typeface="Monotype Corsiva"/>
              </a:rPr>
              <a:t>«</a:t>
            </a:r>
            <a:r>
              <a:rPr b="0" i="1" lang="ru-RU" sz="9600" spc="-1" strike="noStrike">
                <a:solidFill>
                  <a:srgbClr val="ff3399"/>
                </a:solidFill>
                <a:latin typeface="Monotype Corsiva"/>
              </a:rPr>
              <a:t>По городам и странам»</a:t>
            </a:r>
            <a:r>
              <a:rPr b="0" i="1" lang="ru-RU" sz="9600" spc="-1" strike="noStrike">
                <a:solidFill>
                  <a:srgbClr val="ff3399"/>
                </a:solidFill>
                <a:latin typeface="Monotype Corsiva"/>
              </a:rPr>
              <a:t>	</a:t>
            </a:r>
            <a:endParaRPr b="0" i="1" lang="en-US" sz="9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5699160"/>
            <a:ext cx="6934320" cy="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640" bIns="86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В какой стране эта пища является деликатесом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85800" y="2363760"/>
          <a:ext cx="380988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3760"/>
                    <a:ext cx="380988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Росс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Амери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 Фран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Герм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Какая самая длинная река в США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Monotype Corsiva"/>
              </a:rPr>
              <a:t>Миссисип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Monotype Corsiva"/>
              </a:rPr>
              <a:t>Ни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Monotype Corsiva"/>
              </a:rPr>
              <a:t>Амазонка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d60093"/>
                </a:solidFill>
                <a:latin typeface="Times New Roman"/>
              </a:rPr>
              <a:t>В каком городе расположен Голливуд?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0" y="2590920"/>
            <a:ext cx="77724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 Лондон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 Берлин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 Лос - Анджелес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Как называется лондонская резиденция Елизаветы Второй?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Monotype Corsiva"/>
              </a:rPr>
              <a:t>Белый Д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Monotype Corsiva"/>
              </a:rPr>
              <a:t>Зимний Дворе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Monotype Corsiva"/>
              </a:rPr>
              <a:t>Букингемский Дворе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4703760" y="2147760"/>
            <a:ext cx="369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6600"/>
                </a:solidFill>
                <a:latin typeface="Times New Roman"/>
              </a:rPr>
              <a:t>Как звучит второе название государства Россия?</a:t>
            </a:r>
            <a:endParaRPr b="0" i="1" lang="en-US" sz="7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В каком городе проходит известнейший теннисный турнир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имблд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ксфор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ка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267080" y="2971800"/>
          <a:ext cx="3886200" cy="373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29718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99"/>
                </a:solidFill>
                <a:latin typeface="Times New Roman"/>
              </a:rPr>
              <a:t>У какой страны название совпадает с названием континента?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Times New Roman"/>
              </a:rPr>
              <a:t>Назовите столицу Германии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Эдинбур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Берлин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8000"/>
                </a:solidFill>
                <a:latin typeface="Tahoma"/>
              </a:rPr>
              <a:t>Канберр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В какой стране находится эта башня? 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2297160"/>
          <a:ext cx="380988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97160"/>
                    <a:ext cx="380988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 Фран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Итал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Герм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Великобрита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Назовите самый большой город США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3333cc"/>
                </a:solidFill>
                <a:latin typeface="Times New Roman"/>
              </a:rPr>
              <a:t>Чикаго</a:t>
            </a:r>
            <a:br>
              <a:rPr sz="4400"/>
            </a:br>
            <a:r>
              <a:rPr b="0" i="1" lang="ru-RU" sz="4400" spc="-1" strike="noStrike">
                <a:solidFill>
                  <a:srgbClr val="3333cc"/>
                </a:solidFill>
                <a:latin typeface="Times New Roman"/>
              </a:rPr>
              <a:t>Нью-Йорк</a:t>
            </a:r>
            <a:br>
              <a:rPr sz="4400"/>
            </a:br>
            <a:r>
              <a:rPr b="0" i="1" lang="ru-RU" sz="4400" spc="-1" strike="noStrike">
                <a:solidFill>
                  <a:srgbClr val="3333cc"/>
                </a:solidFill>
                <a:latin typeface="Times New Roman"/>
              </a:rPr>
              <a:t>Вашингтон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93720" y="3123720"/>
            <a:ext cx="775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99"/>
                </a:solidFill>
                <a:latin typeface="Times New Roman"/>
              </a:rPr>
              <a:t>На какой реке находится Лондон?</a:t>
            </a:r>
            <a:endParaRPr b="0" i="1" lang="en-US" sz="88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8000"/>
                </a:solidFill>
                <a:latin typeface="Times New Roman"/>
              </a:rPr>
              <a:t>Сколько штатов в США?</a:t>
            </a:r>
            <a:br>
              <a:rPr sz="6600"/>
            </a:br>
            <a:r>
              <a:rPr b="0" i="1" lang="ru-RU" sz="6600" spc="-1" strike="noStrike">
                <a:solidFill>
                  <a:srgbClr val="008000"/>
                </a:solidFill>
                <a:latin typeface="Times New Roman"/>
              </a:rPr>
              <a:t>-48</a:t>
            </a:r>
            <a:br>
              <a:rPr sz="6600"/>
            </a:br>
            <a:r>
              <a:rPr b="0" i="1" lang="ru-RU" sz="6600" spc="-1" strike="noStrike">
                <a:solidFill>
                  <a:srgbClr val="008000"/>
                </a:solidFill>
                <a:latin typeface="Times New Roman"/>
              </a:rPr>
              <a:t>-50</a:t>
            </a:r>
            <a:br>
              <a:rPr sz="6600"/>
            </a:br>
            <a:r>
              <a:rPr b="0" i="1" lang="ru-RU" sz="6600" spc="-1" strike="noStrike">
                <a:solidFill>
                  <a:srgbClr val="008000"/>
                </a:solidFill>
                <a:latin typeface="Times New Roman"/>
              </a:rPr>
              <a:t>-5</a:t>
            </a:r>
            <a:r>
              <a:rPr b="0" i="1" lang="en-US" sz="66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33cc"/>
                </a:solidFill>
                <a:latin typeface="Times New Roman"/>
              </a:rPr>
              <a:t>На какой реке стоит город Москва?</a:t>
            </a:r>
            <a:endParaRPr b="0" i="1" lang="en-US" sz="7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6629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Какой город не является столицей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Лонд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Вашингт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Ри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Сид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Что это за  вид спорта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?</a:t>
            </a:r>
            <a:r>
              <a:rPr b="0" i="1" lang="ru-RU" sz="4000" spc="-1" strike="noStrike">
                <a:solidFill>
                  <a:srgbClr val="cc6600"/>
                </a:solidFill>
                <a:latin typeface="Times New Roman"/>
              </a:rPr>
              <a:t>В какой стране он наиболее популярен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666880" y="2133720"/>
          <a:ext cx="3810240" cy="40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33720"/>
                    <a:ext cx="3810240" cy="40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Какой город называют северной столицей России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рманс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ркутс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олье-Сибирск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14040"/>
            <a:ext cx="7907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Times New Roman"/>
              </a:rPr>
              <a:t>Которая из достопримечательностей находится в Париже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Колонна Адмирала         Нельс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Эйфелева башн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Sylfaen"/>
              </a:rPr>
              <a:t>Статуя Свобод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143000" y="1168560"/>
            <a:ext cx="62485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0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imes New Roman"/>
              </a:rPr>
              <a:t>Где расположен замок Спящей Красавицы?</a:t>
            </a:r>
            <a:endParaRPr b="0" i="1" lang="en-US" sz="7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В какой стране находится город Сидней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Египт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Австрал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ана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93720" y="455760"/>
            <a:ext cx="7755120" cy="59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90000"/>
                </a:solidFill>
                <a:latin typeface="Times New Roman"/>
              </a:rPr>
              <a:t>Назовите старейшую крепость в Лондоне</a:t>
            </a:r>
            <a:endParaRPr b="0" i="1" lang="en-US" sz="7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0:00:39Z</dcterms:created>
  <dc:creator>user</dc:creator>
  <dc:description/>
  <dc:language>en-US</dc:language>
  <cp:lastModifiedBy>user</cp:lastModifiedBy>
  <dcterms:modified xsi:type="dcterms:W3CDTF">2007-04-26T14:42:24Z</dcterms:modified>
  <cp:revision>4</cp:revision>
  <dc:subject/>
  <dc:title> «По городам и странам» </dc:title>
</cp:coreProperties>
</file>