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B92-AADD-4517-86B9-2F1430DC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C45-F94D-421D-85E1-CB1770EA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793-1BBA-42E2-BECD-D831B634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9E3-123F-4A14-AEDA-C8EC884D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A920-B19C-4D9C-9995-4DC6184B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915B-ECDE-4036-AEF2-4EC78044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0055-022C-43E0-9237-F3FE3C61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0087-C619-42CC-9975-2350BEE2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3C56-48BF-443D-8DD1-1D2B98C3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2E18-D5C1-4021-9891-593BD289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EE28-2901-412F-A77A-79FD2E75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8AE-100F-44ED-B222-533C6834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9724-ACCF-4672-8B4A-BA033518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B876-71B4-402F-942B-45E75D02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5F1F-9EA3-44FC-AF12-BAFF9E7A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F706-9362-48E2-8799-BF39CBE1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9FE5-467B-4CBF-A45C-8ADCA37F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65C-42F0-4E6A-BB3A-11FC95DD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0A1-85D9-46D2-9C2B-2FB93A32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086-71F1-4168-A295-A92A2279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9CF8-584C-4587-8ABB-2002A302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CE0-1E81-45C2-A2AF-14644C6D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14F-E54C-4780-8AA4-5FE3DA44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EC3-6234-4BB4-801F-57A43818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2CBA-C752-4CD6-B0F6-098D8EDD35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475B-C100-40A4-946F-A1F69790E4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866000" cy="24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Пекарь  выполнил договор и передал праздничные  торты детям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8893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Орфоэпия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это раздел науки о языке, в котором содержатся правила произношения звуков и ударения в слов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042920" y="404640"/>
          <a:ext cx="6553080" cy="590364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59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Досуг, договор,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банты, ворота,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звонишь, километр,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начала, портфель,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илос, столяр,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углубить, цемент,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шоссе, щавель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9912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Сочетание ЧН, как правило, произносится как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[чн],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 а в следующих словах как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[шн]: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 скучно, конечно, нарочно, яичница, пустячный, прачечная, скворечник и в женских отчествах типа Никитична.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6:59:18Z</dcterms:created>
  <dc:creator>Владелец</dc:creator>
  <dc:description/>
  <dc:language>en-US</dc:language>
  <cp:lastModifiedBy>Владелец</cp:lastModifiedBy>
  <dcterms:modified xsi:type="dcterms:W3CDTF">2012-04-01T18:07:26Z</dcterms:modified>
  <cp:revision>2</cp:revision>
  <dc:subject/>
  <dc:title>Пекарь  выполнил договор и передал праздничные  торты детям.</dc:title>
</cp:coreProperties>
</file>