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8F1-E2BB-42C5-B42A-BF45245B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611-C043-468F-BD8E-564F9893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A38-6A4E-4679-91BA-75544535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AD8-8BBA-44A8-88D2-32A6AF2B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5843-949A-466F-B5BB-DD4614E4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21F3-D661-4646-A37E-ABF24CDF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8104-F9C6-485F-BA31-8693C754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342A-E243-4D87-BFB9-F3D47CB7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63DD-7B2A-4178-9E4C-6000682E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EDCB-4054-4E6E-9830-17192AAF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29AB-AB3F-4A62-9140-A8B25559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039-D0F3-49BE-915E-D3EFB1DF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DEAA-F766-43FC-8FC9-9F562E3E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9893-F937-4D7B-8B3B-4F62B227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5FD3-4BE9-4848-B987-43DAA0B2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9073-DF52-4AA2-B4C7-998E2F42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8AB9-8FC1-4556-AE5C-06E44C87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535-3531-4DFC-9ADA-AD13B128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04C-5612-4E51-AC4A-31D913C1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2EA-CFAE-4A90-B5D1-48ACCCDE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F0B-4A62-434F-8696-8A121A3B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A79-9FB4-4B18-B63D-6BB1047A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CD9-EDBC-4456-9E72-7CB25799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3D5-15B6-43CE-B396-F5DC3CA9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405F-F18E-440D-AB70-870B098A5E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035A-87E3-42B1-B6B1-D7BE0CC6D6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866000" cy="24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Пекарь  выполнил договор и передал праздничные  торты детям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Орфоэпия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это раздел науки о языке, в котором содержатся правила произношения звуков и ударения в слов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042920" y="404640"/>
          <a:ext cx="6553080" cy="590364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59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Досуг, договор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банты, ворота,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звонишь, километр,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начала, портфель,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илос, столяр,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углубить, цемент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шоссе, щавель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9912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очетание ЧН, как правило, произносится как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[чн],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 а в следующих словах как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[шн]: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 скучно, конечно, нарочно, яичница, пустячный, прачечная, скворечник и в женских отчествах типа Никитична.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6:59:18Z</dcterms:created>
  <dc:creator>Владелец</dc:creator>
  <dc:description/>
  <dc:language>en-US</dc:language>
  <cp:lastModifiedBy>Владелец</cp:lastModifiedBy>
  <dcterms:modified xsi:type="dcterms:W3CDTF">2012-04-01T18:07:26Z</dcterms:modified>
  <cp:revision>2</cp:revision>
  <dc:subject/>
  <dc:title>Пекарь  выполнил договор и передал праздничные  торты детям.</dc:title>
</cp:coreProperties>
</file>