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57.jpeg" ContentType="image/jpeg"/>
  <Override PartName="/ppt/media/image36.jpeg" ContentType="image/jpeg"/>
  <Override PartName="/ppt/media/image35.jpeg" ContentType="image/jpeg"/>
  <Override PartName="/ppt/media/image37.png" ContentType="image/png"/>
  <Override PartName="/ppt/media/image34.jpeg" ContentType="image/jpeg"/>
  <Override PartName="/ppt/media/image56.jpeg" ContentType="image/jpeg"/>
  <Override PartName="/ppt/media/image32.png" ContentType="image/png"/>
  <Override PartName="/ppt/media/image93.jpeg" ContentType="image/jpeg"/>
  <Override PartName="/ppt/media/image20.jpeg" ContentType="image/jpeg"/>
  <Override PartName="/ppt/media/image10.jpeg" ContentType="image/jpeg"/>
  <Override PartName="/ppt/media/image27.jpeg" ContentType="image/jpeg"/>
  <Override PartName="/ppt/media/image5.wmf" ContentType="image/x-wmf"/>
  <Override PartName="/ppt/media/image39.jpeg" ContentType="image/jpeg"/>
  <Override PartName="/ppt/media/image2.gif" ContentType="image/gif"/>
  <Override PartName="/ppt/media/image38.png" ContentType="image/png"/>
  <Override PartName="/ppt/media/image8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88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87.png" ContentType="image/png"/>
  <Override PartName="/ppt/media/image62.jpeg" ContentType="image/jpeg"/>
  <Override PartName="/ppt/media/image79.jpeg" ContentType="image/jpeg"/>
  <Override PartName="/ppt/media/image86.wmf" ContentType="image/x-wmf"/>
  <Override PartName="/ppt/media/image63.jpeg" ContentType="image/jpeg"/>
  <Override PartName="/ppt/media/image97.png" ContentType="image/pn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28.png" ContentType="image/png"/>
  <Override PartName="/ppt/media/image67.jpeg" ContentType="image/jpeg"/>
  <Override PartName="/ppt/media/image68.jpeg" ContentType="image/jpeg"/>
  <Override PartName="/ppt/media/image31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85.wmf" ContentType="image/x-wmf"/>
  <Override PartName="/ppt/media/image72.jpeg" ContentType="image/jpeg"/>
  <Override PartName="/ppt/media/image74.jpeg" ContentType="image/jpeg"/>
  <Override PartName="/ppt/media/image76.jpeg" ContentType="image/jpeg"/>
  <Override PartName="/ppt/media/image96.jpeg" ContentType="image/jpeg"/>
  <Override PartName="/ppt/media/image92.jpeg" ContentType="image/jpeg"/>
  <Override PartName="/ppt/media/image65.jpeg" ContentType="image/jpeg"/>
  <Override PartName="/ppt/media/image94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81.jpeg" ContentType="image/jpeg"/>
  <Override PartName="/ppt/media/image21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3.jpeg" ContentType="image/jpeg"/>
  <Override PartName="/ppt/media/image24.png" ContentType="image/png"/>
  <Override PartName="/ppt/media/image11.png" ContentType="image/png"/>
  <Override PartName="/ppt/media/image9.jpeg" ContentType="image/jpeg"/>
  <Override PartName="/ppt/media/image66.jpeg" ContentType="image/jpeg"/>
  <Override PartName="/ppt/media/image4.wmf" ContentType="image/x-wmf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0B6-E749-4AF2-BC45-8506B2AB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866-65CA-4F69-AE2E-078DB073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941-CDD0-4756-A66F-F05238BD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DE2-443F-4738-9931-4773124C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A4B7-3BC7-43E6-9BE1-3E9F6BBA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3DED-0BB8-4600-BC90-D7230834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354F-976C-4F16-A323-B0CDB388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62E8-A251-481A-B1EC-6908366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60FA-D190-41C5-A9D3-8A760F7A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593B-70AA-4D7C-8A76-DAADD2CA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5C74-654C-4FED-AE7C-7D76692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39D-60A2-4E8E-BE54-C95A1F29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F883-F169-43F9-8703-4B30F61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48E9-6276-40D4-94FF-AC1A20A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E8B3-A8DF-4231-B608-1EB10641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35C8-95CD-458E-941D-D5828ED2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CCC7-2825-48DB-9A5A-087AD41B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728-3F97-444B-A772-6454D795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54A-B2D8-4A9E-9341-9159050D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ED3-71BC-45C7-9F39-5EA0F45C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D18-D337-43A7-9955-FD18C4FA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611-AA9C-46BB-AAFB-E335E36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95C-B9D4-43A8-B7DB-C1B7C08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333-9E77-4BD9-BD1E-64EC9C85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F3CF-559D-4DC1-811A-6EBB13FDB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33B7-BE86-42A0-9D05-1335A63A3A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image" Target="../media/image93.jpeg"/><Relationship Id="rId8" Type="http://schemas.openxmlformats.org/officeDocument/2006/relationships/image" Target="../media/image94.jpeg"/><Relationship Id="rId9" Type="http://schemas.openxmlformats.org/officeDocument/2006/relationships/image" Target="../media/image95.jpeg"/><Relationship Id="rId10" Type="http://schemas.openxmlformats.org/officeDocument/2006/relationships/image" Target="../media/image9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6769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Истоки творческих способностей дет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их дарований на кончиках пальце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.А. Сухомлин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звитие мелкой моторики у дошкольников как средство подготовки  руки к письм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ДОУ црр - д/с №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лова Валент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дими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d007"/>
          <p:cNvPicPr/>
          <p:nvPr/>
        </p:nvPicPr>
        <p:blipFill>
          <a:blip r:embed="rId1"/>
          <a:stretch/>
        </p:blipFill>
        <p:spPr>
          <a:xfrm>
            <a:off x="7740720" y="4292640"/>
            <a:ext cx="123804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пластили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41351"/>
              <a:gd name="adj2" fmla="val -285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езание ножни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108000" y="260280"/>
            <a:ext cx="2519280" cy="2087640"/>
          </a:xfrm>
          <a:prstGeom prst="cloudCallout">
            <a:avLst>
              <a:gd name="adj1" fmla="val 43949"/>
              <a:gd name="adj2" fmla="val -4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бумагой. Складывание (оригами). Плетение. Аппликаци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ruki"/>
          <p:cNvPicPr/>
          <p:nvPr/>
        </p:nvPicPr>
        <p:blipFill>
          <a:blip r:embed="rId1"/>
          <a:stretch/>
        </p:blipFill>
        <p:spPr>
          <a:xfrm>
            <a:off x="468360" y="189000"/>
            <a:ext cx="215892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ьч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ковая гимнаст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альчиковые игры" - это инсценировка каких-либо рифмованных историй, сказок при помощи пальц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сти рук приобретают хорошую подвижность, гибкость, исчезает скованность движений, что в дальнейшем облегчит приобретение навыков пись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альчиковые игры" очень эмоциональны и увлекательны. В ходе "пальчиковых игр" дети, повторяя движения взрослых, активизируют моторику рук. Тем самым вырабатываются ловкость, умение управлять своими движениями, концентрировать внимание на одном виде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инамические упражнения для пальцев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(потешк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"Апельсин"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Мы делили апельсин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ельсин всего один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кот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еж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улитк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чиж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, а волку кожура!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Начинать с мизинца, загибать попеременно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Russian funny pictures and verses for children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«В гости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гости к пальчику большому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выставляются вверх большие пальцы обеих рук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ходили прямо к дому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Ладони вместе, одноименные пальцы соприкасаются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казательный и средний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оочередно называемые пальцы соединяются с больши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 обеих руках одновременно)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езымянный и последний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 мизинчик-малышок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альцы сжаты в кулак, вверх выставляются только мизинцы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тучался на порог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кулаки стучат друг о друга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месте пальчики - друзья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ритмичное сжимание пальцев в кулаки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руг без друга им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kn"/>
          <p:cNvPicPr/>
          <p:nvPr/>
        </p:nvPicPr>
        <p:blipFill>
          <a:blip r:embed="rId1"/>
          <a:stretch/>
        </p:blipFill>
        <p:spPr>
          <a:xfrm>
            <a:off x="7093080" y="4365720"/>
            <a:ext cx="1942920" cy="2376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"Засолка капусты"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капусту рубим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резкие движения прямыми кистями рук вниз и вверх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морковку трем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пальцы рук сжаты в кулаки, движение кулаков к себе и от себя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капусту солим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движение пальцев, имитирующее посыпание солью из щепотки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капусту жмем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интенсивное сжимание пальцев рук в кула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«Моя семь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пап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мам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я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т моя семь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гнуть пальцы в кулачок, затем по очереди разгибать их, начиная с большого пальца, а при словах «вот и вся моя семья» второй рукой охватить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Сл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оопарке стоит слон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ши, хобот, серый он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овой своей кивает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то в гости приглашает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донь на себя. Средний палец впущен. С одной стороны он зажат мизинцем и безымянным, а с другой — указательным и большим. Шевелить средним пальцем. Качаем всей кистью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IPCAY72F6RCALJZ7N0CAOG9KL7CATLV2M9CAX3QTQDCAE9U9LRCA22CFUTCANMGNHQCADWM501CA8L1UBDCA5ER7BECA877QQ0CA0HHE5ZCA1WLZ2HCA8YPVA3CAG47AAXCAL78PZ4CAXG4P32CAHIBNMD"/>
          <p:cNvPicPr/>
          <p:nvPr/>
        </p:nvPicPr>
        <p:blipFill>
          <a:blip r:embed="rId1"/>
          <a:stretch/>
        </p:blipFill>
        <p:spPr>
          <a:xfrm>
            <a:off x="6443640" y="333360"/>
            <a:ext cx="23050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о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А у кошки ушки на макушке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бы лучше слышать мышь в ее норушке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QCCA5RT51HCA7JBQF9CA7QUFE4CAIJ07VICA11JEQICA1AEKMCCA12O6B3CA8FK7TQCAARQGV8CAERGPDLCA3Q9UAYCAO2F957CA2S0BYMCAA0L8YQCAQ1Q17UCAL2FZMICAQV3TFGCA29FILGCA6K943I"/>
          <p:cNvPicPr/>
          <p:nvPr/>
        </p:nvPicPr>
        <p:blipFill>
          <a:blip r:embed="rId1"/>
          <a:stretch/>
        </p:blipFill>
        <p:spPr>
          <a:xfrm>
            <a:off x="6877080" y="189000"/>
            <a:ext cx="21304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Мы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еренький комок сиди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бумажкой все шуршит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согнуты в дуги и прижаты к среднему и безымянному пальца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untitled8"/>
          <p:cNvPicPr/>
          <p:nvPr/>
        </p:nvPicPr>
        <p:blipFill>
          <a:blip r:embed="rId1"/>
          <a:stretch/>
        </p:blipFill>
        <p:spPr>
          <a:xfrm>
            <a:off x="6516720" y="260280"/>
            <a:ext cx="21477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8760" y="1285560"/>
            <a:ext cx="8215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казать, что развитие мелкой моторики детей дошкольного возраста в играх, в упражнениях и разных видах продуктивной деятельности способствуют подготовке руки к письму. А так же углубление теоретических знаний и расширение практического инструментария в работе над интенсивным развитием мелкой моторики дошкольников и формировании графического навы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Петуш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етушок стоит весь яркий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ебешок он чистит лапкой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донь вверх указательный палец опирается на большой. Остальные пальцы растопырены в стороны и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untitled9"/>
          <p:cNvPicPr/>
          <p:nvPr/>
        </p:nvPicPr>
        <p:blipFill>
          <a:blip r:embed="rId1"/>
          <a:stretch/>
        </p:blipFill>
        <p:spPr>
          <a:xfrm>
            <a:off x="6804000" y="260280"/>
            <a:ext cx="21607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атические зад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Живо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рокоди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 и оттянуть назад (глаза). Средний и безымянный пальцы вытянуть вперед. Прямой большой палец прижать к ним снизу, образуя пасть крокоди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уроч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Соединить концы большого и указательного пальцев (клюв). На клюв веерообразно накладываются друг на дружку остальные пальцы - это гребеш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в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Большой палец и мизинец отведены в сторону (крылья совы), они могут двигаться при полете. Оставшиеся три пальца согнуты так, что подушечки прижаты к основанию пальцев (голов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ыш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, подушечки прижать к основанию пальцев (уши). Большой палец прижать к ладони, на него наложить средний и безымянный. Концы пальцев держать на весу, не прижимая к большому пальцу, - это мордочка мышки, которая при диалогах шевел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 (глаза). Безымянный и средний согнуть, прижать к середине ладони. Большой палец горизонтально приложить к ногтям среднего и безымянного пальца (ро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Лошад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Повернуть руку ладонью к себе, большой палец поднять вверх. На ребро этой ладони сверху положить согнутые четыре пальца другой руки (грива). Два больших пальца подняты вверх (уши). Лошадь может потряхивать гривой, шевелить ушами, открывать и закрывать ро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Улитка с усик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Положить правую руку на стол, поднять указательный палец и средний, и расставить их, левую руку положить сверх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Еж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Ладони соединить, прямые пальцы выставить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Средний и безымянный пальцы правой руки прижать к ладони большим пальцем, указательный и мизинец слегка согнуть поднять руку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5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инезиологические упражнения, развивающие межполушарное взаимодейств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Лягушка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ложить руки на стол. Одна рука сжата в кулак, ладонь другой лежит на плоскости стола. Одновременно и разнонаправлено менять положение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Замок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крестить руки ладонями друг к другу, сцепить пальцы в замок, развернуть руки к себе. Двигать пальцем, который укажет взрослый, точно и четко. Нежелательны движения соседних пальцев. Прикасаться к пальцу нельзя. В упражнении должны участвовать все пальцы на обеих ру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инезиологические физминут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Колеч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очередно и как можно быстрее перебирайте пальцы рук, соединяя в кольцо с большим пальцем последовательно указательный, средний и т.д. Проба выполняется в прямом и в обратном (от мизинца к указательному пальцу) порядке. В  начале упражнение выполняется каждой рукой отдельно, затем сразу двум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new_pa5"/>
          <p:cNvPicPr/>
          <p:nvPr/>
        </p:nvPicPr>
        <p:blipFill>
          <a:blip r:embed="rId1"/>
          <a:stretch/>
        </p:blipFill>
        <p:spPr>
          <a:xfrm>
            <a:off x="539640" y="41497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new_pa4"/>
          <p:cNvPicPr/>
          <p:nvPr/>
        </p:nvPicPr>
        <p:blipFill>
          <a:blip r:embed="rId2"/>
          <a:stretch/>
        </p:blipFill>
        <p:spPr>
          <a:xfrm>
            <a:off x="2411280" y="4149720"/>
            <a:ext cx="187344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new_pa4"/>
          <p:cNvPicPr/>
          <p:nvPr/>
        </p:nvPicPr>
        <p:blipFill>
          <a:blip r:embed="rId3"/>
          <a:stretch/>
        </p:blipFill>
        <p:spPr>
          <a:xfrm>
            <a:off x="4500720" y="414972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new_pa4"/>
          <p:cNvPicPr/>
          <p:nvPr/>
        </p:nvPicPr>
        <p:blipFill>
          <a:blip r:embed="rId4"/>
          <a:stretch/>
        </p:blipFill>
        <p:spPr>
          <a:xfrm>
            <a:off x="6443640" y="4149720"/>
            <a:ext cx="18003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28760" y="356760"/>
            <a:ext cx="82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Кулак-ребо-ладо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положения руки на плоскости стола, последовательно сменяют друг друга. Ладонь на плоскости, сжатая в кулак ладонь, ладонь ребром на плоскости стола, распрямленная ладонь на плоскости стола. Выполняется сначала правой рукой, потом -левой, затем -двумя руками вместе по 8-10 раз. Можно давать себе команды(кулак -ребро-ладо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new_pa7"/>
          <p:cNvPicPr/>
          <p:nvPr/>
        </p:nvPicPr>
        <p:blipFill>
          <a:blip r:embed="rId1"/>
          <a:stretch/>
        </p:blipFill>
        <p:spPr>
          <a:xfrm>
            <a:off x="857160" y="41432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new_pa8"/>
          <p:cNvPicPr/>
          <p:nvPr/>
        </p:nvPicPr>
        <p:blipFill>
          <a:blip r:embed="rId2"/>
          <a:stretch/>
        </p:blipFill>
        <p:spPr>
          <a:xfrm>
            <a:off x="3214800" y="4143240"/>
            <a:ext cx="23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new_pa9"/>
          <p:cNvPicPr/>
          <p:nvPr/>
        </p:nvPicPr>
        <p:blipFill>
          <a:blip r:embed="rId3"/>
          <a:stretch/>
        </p:blipFill>
        <p:spPr>
          <a:xfrm>
            <a:off x="5857920" y="414324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Лезги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вую руку сложите в кулак, большой палец отставьте в сторону. кулак разверните пальцами к себе. Правой рукой прямой ладонью в горизонтальном положении прикоснитесь к мизинцу левой. После этого одновременно смените положение правой и левой рук. Повторить 6-8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new_pa6"/>
          <p:cNvPicPr/>
          <p:nvPr/>
        </p:nvPicPr>
        <p:blipFill>
          <a:blip r:embed="rId1"/>
          <a:stretch/>
        </p:blipFill>
        <p:spPr>
          <a:xfrm>
            <a:off x="2700360" y="3933720"/>
            <a:ext cx="38876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Зме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рестите руки ладонями друг к другу, сцепите пальцы в замок. выверните руки к себе. Двигайте пальцем, который укажет ведущий. Палец должен двигаться точно и четко. Прикасаться к пальцу нельзя . Последовательно в упражнении должны участвовать все пальцы обеих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" descr="new_pa10"/>
          <p:cNvPicPr/>
          <p:nvPr/>
        </p:nvPicPr>
        <p:blipFill>
          <a:blip r:embed="rId1"/>
          <a:stretch/>
        </p:blipFill>
        <p:spPr>
          <a:xfrm>
            <a:off x="1187280" y="4221000"/>
            <a:ext cx="1872000" cy="1417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new_pa11"/>
          <p:cNvPicPr/>
          <p:nvPr/>
        </p:nvPicPr>
        <p:blipFill>
          <a:blip r:embed="rId2"/>
          <a:stretch/>
        </p:blipFill>
        <p:spPr>
          <a:xfrm>
            <a:off x="3851280" y="4221000"/>
            <a:ext cx="1873080" cy="1392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ew_pa12"/>
          <p:cNvPicPr/>
          <p:nvPr/>
        </p:nvPicPr>
        <p:blipFill>
          <a:blip r:embed="rId3"/>
          <a:stretch/>
        </p:blipFill>
        <p:spPr>
          <a:xfrm>
            <a:off x="6227640" y="4221000"/>
            <a:ext cx="1873440" cy="134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гры с круп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8" descr="untitled2"/>
          <p:cNvPicPr/>
          <p:nvPr/>
        </p:nvPicPr>
        <p:blipFill>
          <a:blip r:embed="rId1"/>
          <a:stretch/>
        </p:blipFill>
        <p:spPr>
          <a:xfrm>
            <a:off x="5508720" y="3789360"/>
            <a:ext cx="3384360" cy="2521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untitled1"/>
          <p:cNvPicPr/>
          <p:nvPr/>
        </p:nvPicPr>
        <p:blipFill>
          <a:blip r:embed="rId2"/>
          <a:stretch/>
        </p:blipFill>
        <p:spPr>
          <a:xfrm>
            <a:off x="5508720" y="1197000"/>
            <a:ext cx="3504960" cy="2457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чем ру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ыпаем круп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ждь, 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ормим пти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 по тарелоч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 игруш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Золуш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тгадай, какая крупа 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шоч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исуй домик, солнце и т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гры с бусинками,пуговицами, мелкими камешк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Picture 4" descr="untitled4"/>
          <p:cNvPicPr/>
          <p:nvPr/>
        </p:nvPicPr>
        <p:blipFill>
          <a:blip r:embed="rId1"/>
          <a:stretch/>
        </p:blipFill>
        <p:spPr>
          <a:xfrm>
            <a:off x="395280" y="1685880"/>
            <a:ext cx="3600360" cy="23907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низыв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говицы, бусы, рожки и макароны, сушки, картонные кружочки, листья деревьев, ягоды ряб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ины из пугов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кладывание букв, силуэ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тировка по заданному призна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почки из цветных скре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untitled3"/>
          <p:cNvPicPr/>
          <p:nvPr/>
        </p:nvPicPr>
        <p:blipFill>
          <a:blip r:embed="rId2"/>
          <a:stretch/>
        </p:blipFill>
        <p:spPr>
          <a:xfrm>
            <a:off x="395280" y="4076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14CA2GCEX1CAWO2B0WCADQ2319CABBB8R3CAPK1EBFCAI7NJ56CAFXHOFBCAXVNIGYCAJQ61VDCAJ3DOP3CATQ4NA1CA95LQA0CAS8X3G7CATSIXNCCA9BGC9ZCA5L11A2CAHYQL4GCAG4LZINCAHS9RGJ"/>
          <p:cNvPicPr/>
          <p:nvPr/>
        </p:nvPicPr>
        <p:blipFill>
          <a:blip r:embed="rId3"/>
          <a:stretch/>
        </p:blipFill>
        <p:spPr>
          <a:xfrm>
            <a:off x="7524720" y="551664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гры с пластилином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5" descr="P1030306"/>
          <p:cNvPicPr/>
          <p:nvPr/>
        </p:nvPicPr>
        <p:blipFill>
          <a:blip r:embed="rId1"/>
          <a:stretch/>
        </p:blipFill>
        <p:spPr>
          <a:xfrm>
            <a:off x="468360" y="1268280"/>
            <a:ext cx="3744720" cy="23767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тины из пласти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ъемные изд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щечки покрытые пластилин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ыкладывания на которых используются различные материалы: горох, фасоль, семена тыквы, арбуза, вишневые и сливовые косточки, различной величины пуговиц, палоч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untitled6"/>
          <p:cNvPicPr/>
          <p:nvPr/>
        </p:nvPicPr>
        <p:blipFill>
          <a:blip r:embed="rId2"/>
          <a:stretch/>
        </p:blipFill>
        <p:spPr>
          <a:xfrm>
            <a:off x="395280" y="386064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ть планирован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литературу по данной пробл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диагнос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эффективность работы и провести оценку её результатив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ырезывание ножниц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уэт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метрич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езание различных фигурок из старых открыток, журн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езание снежи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white_wildrose"/>
          <p:cNvPicPr/>
          <p:nvPr/>
        </p:nvPicPr>
        <p:blipFill>
          <a:blip r:embed="rId1"/>
          <a:stretch/>
        </p:blipFill>
        <p:spPr>
          <a:xfrm>
            <a:off x="900000" y="5300640"/>
            <a:ext cx="1440000" cy="1273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ask"/>
          <p:cNvPicPr/>
          <p:nvPr/>
        </p:nvPicPr>
        <p:blipFill>
          <a:blip r:embed="rId2"/>
          <a:stretch/>
        </p:blipFill>
        <p:spPr>
          <a:xfrm>
            <a:off x="2627280" y="530064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fretted_carousel"/>
          <p:cNvPicPr/>
          <p:nvPr/>
        </p:nvPicPr>
        <p:blipFill>
          <a:blip r:embed="rId3"/>
          <a:stretch/>
        </p:blipFill>
        <p:spPr>
          <a:xfrm>
            <a:off x="4284720" y="530064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slavonian"/>
          <p:cNvPicPr/>
          <p:nvPr/>
        </p:nvPicPr>
        <p:blipFill>
          <a:blip r:embed="rId4"/>
          <a:stretch/>
        </p:blipFill>
        <p:spPr>
          <a:xfrm>
            <a:off x="5940360" y="5300640"/>
            <a:ext cx="1241640" cy="1152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torch"/>
          <p:cNvPicPr/>
          <p:nvPr/>
        </p:nvPicPr>
        <p:blipFill>
          <a:blip r:embed="rId5"/>
          <a:stretch/>
        </p:blipFill>
        <p:spPr>
          <a:xfrm>
            <a:off x="7451640" y="5300640"/>
            <a:ext cx="116856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исование, раскраши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одка плоских фигур. Обводить можно все: дно стакана, перевернутое блюдце, собственную ладонь, плоскую игрушку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ование по опорным точка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исовывание второй половины рису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унок по образцу, не отрывая руки от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points_m_34"/>
          <p:cNvPicPr/>
          <p:nvPr/>
        </p:nvPicPr>
        <p:blipFill>
          <a:blip r:embed="rId1"/>
          <a:stretch/>
        </p:blipFill>
        <p:spPr>
          <a:xfrm>
            <a:off x="7451640" y="328464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img14"/>
          <p:cNvPicPr/>
          <p:nvPr/>
        </p:nvPicPr>
        <p:blipFill>
          <a:blip r:embed="rId2"/>
          <a:stretch/>
        </p:blipFill>
        <p:spPr>
          <a:xfrm>
            <a:off x="7451640" y="5516640"/>
            <a:ext cx="151308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орисуй вторую половину Рисунок с зайц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4" descr="Untitled-1"/>
          <p:cNvPicPr/>
          <p:nvPr/>
        </p:nvPicPr>
        <p:blipFill>
          <a:blip r:embed="rId1"/>
          <a:stretch/>
        </p:blipFill>
        <p:spPr>
          <a:xfrm>
            <a:off x="2195640" y="1600200"/>
            <a:ext cx="40464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скрашивание картинок в книжках – раскраска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4"/>
          <p:cNvPicPr/>
          <p:nvPr/>
        </p:nvPicPr>
        <p:blipFill>
          <a:blip r:embed="rId1"/>
          <a:stretch/>
        </p:blipFill>
        <p:spPr>
          <a:xfrm>
            <a:off x="539640" y="1484280"/>
            <a:ext cx="3733920" cy="489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1688"/>
          <p:cNvPicPr/>
          <p:nvPr/>
        </p:nvPicPr>
        <p:blipFill>
          <a:blip r:embed="rId2"/>
          <a:stretch/>
        </p:blipFill>
        <p:spPr>
          <a:xfrm>
            <a:off x="4859280" y="1484280"/>
            <a:ext cx="40100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обое внимание следует обращать 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сть посадки за стол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сть удержания пишущего предм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ие листа бумаги на сто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мение выполнять линии различной толщины и форм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ю на листе бума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бота с бумагой.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ригами. Плет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ю точных движений и памяти помогают плетение ковриков из бумажных полос, складывание корабликов, фигурок зверей из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KBCAHXY947CA32X7YLCAOYO8GICAG15VFWCA7KWZJZCAS1ZGSNCA6JRFW2CABZQOPHCARZSSQGCARO3Y7SCAFNBK7LCABEM0CLCA0ZEIG8CAHSV2ENCAZHRV7RCAZU4RYTCA4HILKLCAFP37U8CAGDGGTK"/>
          <p:cNvPicPr/>
          <p:nvPr/>
        </p:nvPicPr>
        <p:blipFill>
          <a:blip r:embed="rId1"/>
          <a:stretch/>
        </p:blipFill>
        <p:spPr>
          <a:xfrm>
            <a:off x="6227640" y="4508640"/>
            <a:ext cx="2270160" cy="1684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4QCAKI42V5CAL0WX40CABZIF2ACACLTIXICA1INF1YCAU710SBCAVC9KKUCA494TGOCAL78CS8CABQED0GCACQSB3OCAMX259ICABYFO66CAF0ACE8CAJBJ0H7CA5DW9DVCAJ4ZWTICAOVIHQOCAB2NSXZ"/>
          <p:cNvPicPr/>
          <p:nvPr/>
        </p:nvPicPr>
        <p:blipFill>
          <a:blip r:embed="rId2"/>
          <a:stretch/>
        </p:blipFill>
        <p:spPr>
          <a:xfrm>
            <a:off x="3132000" y="4508640"/>
            <a:ext cx="2737080" cy="165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FCCAZSF81YCA1UVONGCA9AR3YPCA1X3ZVQCABY2FUOCAZ7C783CATWO4AWCA24NSWXCAYLXW7JCACY52XNCA8C3KNYCA331110CA2EB7VCCAZO1N31CA6VULYZCA39IJ9ZCAADC790CA6511KJCA524X71"/>
          <p:cNvPicPr/>
          <p:nvPr/>
        </p:nvPicPr>
        <p:blipFill>
          <a:blip r:embed="rId3"/>
          <a:stretch/>
        </p:blipFill>
        <p:spPr>
          <a:xfrm>
            <a:off x="611280" y="450864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n_17_s"/>
          <p:cNvPicPr/>
          <p:nvPr/>
        </p:nvPicPr>
        <p:blipFill>
          <a:blip r:embed="rId4"/>
          <a:stretch/>
        </p:blipFill>
        <p:spPr>
          <a:xfrm>
            <a:off x="7236000" y="404640"/>
            <a:ext cx="158400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игурки из палоче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Час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ы я на руку наде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ремя изредка смотре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Оч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ки помогают нам книги чи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сать, рисовать, готовить, вязать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Парохо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оход большой плы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итан его ве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Тел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телевизора скучно, друз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долго смотреть телевизор нельз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5"/>
          <p:cNvGrpSpPr/>
          <p:nvPr/>
        </p:nvGrpSpPr>
        <p:grpSpPr>
          <a:xfrm>
            <a:off x="7020000" y="2204640"/>
            <a:ext cx="1650960" cy="937080"/>
            <a:chOff x="7020000" y="2204640"/>
            <a:chExt cx="1650960" cy="937080"/>
          </a:xfrm>
        </p:grpSpPr>
        <p:sp>
          <p:nvSpPr>
            <p:cNvPr id="330" name="Rectangle 6"/>
            <p:cNvSpPr/>
            <p:nvPr/>
          </p:nvSpPr>
          <p:spPr>
            <a:xfrm>
              <a:off x="7020000" y="268452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7"/>
            <p:cNvSpPr/>
            <p:nvPr/>
          </p:nvSpPr>
          <p:spPr>
            <a:xfrm>
              <a:off x="7505640" y="26812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 flipV="1">
              <a:off x="7032600" y="22172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9"/>
            <p:cNvSpPr/>
            <p:nvPr/>
          </p:nvSpPr>
          <p:spPr>
            <a:xfrm>
              <a:off x="7502400" y="22237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0"/>
            <p:cNvSpPr/>
            <p:nvPr/>
          </p:nvSpPr>
          <p:spPr>
            <a:xfrm flipV="1">
              <a:off x="7997760" y="22046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8461440" y="22111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12"/>
          <p:cNvGrpSpPr/>
          <p:nvPr/>
        </p:nvGrpSpPr>
        <p:grpSpPr>
          <a:xfrm>
            <a:off x="6732720" y="3715920"/>
            <a:ext cx="1612800" cy="819720"/>
            <a:chOff x="6732720" y="3715920"/>
            <a:chExt cx="1612800" cy="819720"/>
          </a:xfrm>
        </p:grpSpPr>
        <p:sp>
          <p:nvSpPr>
            <p:cNvPr id="337" name="Line 13"/>
            <p:cNvSpPr/>
            <p:nvPr/>
          </p:nvSpPr>
          <p:spPr>
            <a:xfrm>
              <a:off x="69613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4"/>
            <p:cNvSpPr/>
            <p:nvPr/>
          </p:nvSpPr>
          <p:spPr>
            <a:xfrm>
              <a:off x="736128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77551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 flipV="1">
              <a:off x="8123400" y="4338360"/>
              <a:ext cx="22212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7"/>
            <p:cNvSpPr/>
            <p:nvPr/>
          </p:nvSpPr>
          <p:spPr>
            <a:xfrm flipH="1" flipV="1">
              <a:off x="6732720" y="4313160"/>
              <a:ext cx="21600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"/>
            <p:cNvSpPr/>
            <p:nvPr/>
          </p:nvSpPr>
          <p:spPr>
            <a:xfrm>
              <a:off x="67579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715824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0"/>
            <p:cNvSpPr/>
            <p:nvPr/>
          </p:nvSpPr>
          <p:spPr>
            <a:xfrm>
              <a:off x="75517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1"/>
            <p:cNvSpPr/>
            <p:nvPr/>
          </p:nvSpPr>
          <p:spPr>
            <a:xfrm>
              <a:off x="7958160" y="431316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22"/>
            <p:cNvSpPr/>
            <p:nvPr/>
          </p:nvSpPr>
          <p:spPr>
            <a:xfrm>
              <a:off x="7338960" y="3921120"/>
              <a:ext cx="409320" cy="38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 flipV="1">
              <a:off x="7494480" y="373464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4"/>
            <p:cNvSpPr/>
            <p:nvPr/>
          </p:nvSpPr>
          <p:spPr>
            <a:xfrm flipV="1">
              <a:off x="7608960" y="371592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6804000" y="1268280"/>
            <a:ext cx="1409760" cy="679680"/>
            <a:chOff x="6804000" y="1268280"/>
            <a:chExt cx="1409760" cy="679680"/>
          </a:xfrm>
        </p:grpSpPr>
        <p:sp>
          <p:nvSpPr>
            <p:cNvPr id="350" name="Rectangle 26"/>
            <p:cNvSpPr/>
            <p:nvPr/>
          </p:nvSpPr>
          <p:spPr>
            <a:xfrm>
              <a:off x="7165800" y="1268280"/>
              <a:ext cx="679320" cy="679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"/>
            <p:cNvSpPr/>
            <p:nvPr/>
          </p:nvSpPr>
          <p:spPr>
            <a:xfrm>
              <a:off x="7864560" y="14842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8"/>
            <p:cNvSpPr/>
            <p:nvPr/>
          </p:nvSpPr>
          <p:spPr>
            <a:xfrm>
              <a:off x="7858080" y="171936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9"/>
            <p:cNvSpPr/>
            <p:nvPr/>
          </p:nvSpPr>
          <p:spPr>
            <a:xfrm>
              <a:off x="6810120" y="147780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30"/>
            <p:cNvSpPr/>
            <p:nvPr/>
          </p:nvSpPr>
          <p:spPr>
            <a:xfrm>
              <a:off x="6804000" y="17128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V="1">
              <a:off x="7470720" y="1363320"/>
              <a:ext cx="20952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32"/>
            <p:cNvSpPr/>
            <p:nvPr/>
          </p:nvSpPr>
          <p:spPr>
            <a:xfrm>
              <a:off x="7470720" y="1573200"/>
              <a:ext cx="20304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33"/>
          <p:cNvGrpSpPr/>
          <p:nvPr/>
        </p:nvGrpSpPr>
        <p:grpSpPr>
          <a:xfrm>
            <a:off x="7596360" y="5084280"/>
            <a:ext cx="501480" cy="1048320"/>
            <a:chOff x="7596360" y="5084280"/>
            <a:chExt cx="501480" cy="1048320"/>
          </a:xfrm>
        </p:grpSpPr>
        <p:sp>
          <p:nvSpPr>
            <p:cNvPr id="358" name="Rectangle 34"/>
            <p:cNvSpPr/>
            <p:nvPr/>
          </p:nvSpPr>
          <p:spPr>
            <a:xfrm>
              <a:off x="7612200" y="53704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5"/>
            <p:cNvSpPr/>
            <p:nvPr/>
          </p:nvSpPr>
          <p:spPr>
            <a:xfrm flipV="1">
              <a:off x="7856640" y="5084280"/>
              <a:ext cx="17784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6"/>
            <p:cNvSpPr/>
            <p:nvPr/>
          </p:nvSpPr>
          <p:spPr>
            <a:xfrm flipH="1" flipV="1">
              <a:off x="7684920" y="5128560"/>
              <a:ext cx="17748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7"/>
            <p:cNvSpPr/>
            <p:nvPr/>
          </p:nvSpPr>
          <p:spPr>
            <a:xfrm flipH="1">
              <a:off x="7596360" y="5815080"/>
              <a:ext cx="108000" cy="2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8"/>
            <p:cNvSpPr/>
            <p:nvPr/>
          </p:nvSpPr>
          <p:spPr>
            <a:xfrm>
              <a:off x="7964640" y="5821560"/>
              <a:ext cx="101520" cy="31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чётные палоч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ир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рафы в Африке живу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рафы в Африке ж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у меня жираф из палочек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палочек, из выручал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м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 я строю во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 нем крыша и антен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 нем дверь и есть окошко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живет в нем наша ко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4" descr="untitled99"/>
          <p:cNvPicPr/>
          <p:nvPr/>
        </p:nvPicPr>
        <p:blipFill>
          <a:blip r:embed="rId1"/>
          <a:stretch/>
        </p:blipFill>
        <p:spPr>
          <a:xfrm>
            <a:off x="6372360" y="1773360"/>
            <a:ext cx="1976400" cy="1942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untitled0"/>
          <p:cNvPicPr/>
          <p:nvPr/>
        </p:nvPicPr>
        <p:blipFill>
          <a:blip r:embed="rId2"/>
          <a:stretch/>
        </p:blipFill>
        <p:spPr>
          <a:xfrm>
            <a:off x="6372360" y="4076640"/>
            <a:ext cx="1993680" cy="2160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5ECAGGI02ZCA783T57CAGHP1L2CARXRWNKCAVOAXJPCAN7VXACCA0J7GDKCAF45K0OCA0KRI4TCAD7N9Q4CAANAAC5CA4F46ZLCAPYBOIHCA8B3ABLCACNLE57CAMRLGOYCAJWO75PCAWDP080CAIJ34YV"/>
          <p:cNvPicPr/>
          <p:nvPr/>
        </p:nvPicPr>
        <p:blipFill>
          <a:blip r:embed="rId3"/>
          <a:stretch/>
        </p:blipFill>
        <p:spPr>
          <a:xfrm>
            <a:off x="179280" y="189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афические упражнения. Штрихов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триховка - одно из важнейших упражнений. Овладевая механизмом письма, дети вырабатывают такую уверенность штриха, что когда они приступят к письму в тетрадях, у них это будет получаться как у человека, много пис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штрихов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триховать только в заданном направл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ыходить за контуры фигу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ть параллельность ли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ближать штрихи, расстояние между ними должно быть 0,5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ются на нелинованной бумаг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сслабляющие (самомассаж кистей и пальцев рук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сильно сжатыми четырьмя пальцами одной руки на основание большого пальца, середину ладони, основание пальцев другой руки. Затем положение рук меня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шестигранным карандашом с постепенным увеличением усил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движениями вверх-вни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боковых поверхностей сцепленных паль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, затем растирание каждого пальца вдоль, затем попер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ецкий орех положить между ладонями, делать круговые движения, постепенно увеличивая нажим и темп. Можно выполнять упражнение с двумя грецкими орехами, перекатывая один через другой, одной рукой, затем друг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незаточенным карандашом на болевые точки ладони, затем вращение карандаша вправо, вле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 кисти правой руки пальцами левой и наоборот, затем поочередное расти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5" descr="DSCN2927"/>
          <p:cNvPicPr/>
          <p:nvPr/>
        </p:nvPicPr>
        <p:blipFill>
          <a:blip r:embed="rId1"/>
          <a:stretch/>
        </p:blipFill>
        <p:spPr>
          <a:xfrm>
            <a:off x="2195640" y="2924280"/>
            <a:ext cx="4392360" cy="3287520"/>
          </a:xfrm>
          <a:prstGeom prst="rect">
            <a:avLst/>
          </a:prstGeom>
          <a:ln w="19080">
            <a:solidFill>
              <a:srgbClr val="66ccff"/>
            </a:solidFill>
            <a:miter/>
          </a:ln>
        </p:spPr>
      </p:pic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13880" y="142560"/>
            <a:ext cx="785844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ложе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3" name="Рисунок 3" descr="100_4192.JPG"/>
          <p:cNvPicPr/>
          <p:nvPr/>
        </p:nvPicPr>
        <p:blipFill>
          <a:blip r:embed="rId1"/>
          <a:stretch/>
        </p:blipFill>
        <p:spPr>
          <a:xfrm>
            <a:off x="95400" y="2857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100_4415.JPG"/>
          <p:cNvPicPr/>
          <p:nvPr/>
        </p:nvPicPr>
        <p:blipFill>
          <a:blip r:embed="rId2"/>
          <a:stretch/>
        </p:blipFill>
        <p:spPr>
          <a:xfrm>
            <a:off x="4357800" y="884160"/>
            <a:ext cx="4357440" cy="326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3" descr="100_4416.JPG"/>
          <p:cNvPicPr/>
          <p:nvPr/>
        </p:nvPicPr>
        <p:blipFill>
          <a:blip r:embed="rId1"/>
          <a:stretch/>
        </p:blipFill>
        <p:spPr>
          <a:xfrm>
            <a:off x="2428920" y="135000"/>
            <a:ext cx="4143240" cy="3106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100_4417.JPG"/>
          <p:cNvPicPr/>
          <p:nvPr/>
        </p:nvPicPr>
        <p:blipFill>
          <a:blip r:embed="rId2"/>
          <a:stretch/>
        </p:blipFill>
        <p:spPr>
          <a:xfrm>
            <a:off x="214200" y="32860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100_4418.JPG"/>
          <p:cNvPicPr/>
          <p:nvPr/>
        </p:nvPicPr>
        <p:blipFill>
          <a:blip r:embed="rId3"/>
          <a:stretch/>
        </p:blipFill>
        <p:spPr>
          <a:xfrm>
            <a:off x="4667400" y="3286080"/>
            <a:ext cx="42750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1" descr="100_4219.JPG"/>
          <p:cNvPicPr/>
          <p:nvPr/>
        </p:nvPicPr>
        <p:blipFill>
          <a:blip r:embed="rId1"/>
          <a:stretch/>
        </p:blipFill>
        <p:spPr>
          <a:xfrm>
            <a:off x="2214720" y="14292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2" descr="100_4195.JPG"/>
          <p:cNvPicPr/>
          <p:nvPr/>
        </p:nvPicPr>
        <p:blipFill>
          <a:blip r:embed="rId2"/>
          <a:stretch/>
        </p:blipFill>
        <p:spPr>
          <a:xfrm>
            <a:off x="190440" y="3429000"/>
            <a:ext cx="4370400" cy="32781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100_4196.JPG"/>
          <p:cNvPicPr/>
          <p:nvPr/>
        </p:nvPicPr>
        <p:blipFill>
          <a:blip r:embed="rId3"/>
          <a:stretch/>
        </p:blipFill>
        <p:spPr>
          <a:xfrm>
            <a:off x="4643280" y="3429000"/>
            <a:ext cx="4357800" cy="326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100_4220.JPG"/>
          <p:cNvPicPr/>
          <p:nvPr/>
        </p:nvPicPr>
        <p:blipFill>
          <a:blip r:embed="rId1"/>
          <a:stretch/>
        </p:blipFill>
        <p:spPr>
          <a:xfrm>
            <a:off x="142920" y="14292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2" descr="100_4197.JPG"/>
          <p:cNvPicPr/>
          <p:nvPr/>
        </p:nvPicPr>
        <p:blipFill>
          <a:blip r:embed="rId2"/>
          <a:stretch/>
        </p:blipFill>
        <p:spPr>
          <a:xfrm>
            <a:off x="3929040" y="3000240"/>
            <a:ext cx="4942080" cy="370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100_4223.JPG"/>
          <p:cNvPicPr/>
          <p:nvPr/>
        </p:nvPicPr>
        <p:blipFill>
          <a:blip r:embed="rId1"/>
          <a:stretch/>
        </p:blipFill>
        <p:spPr>
          <a:xfrm>
            <a:off x="2071800" y="142920"/>
            <a:ext cx="4667040" cy="33573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100_4199.JPG"/>
          <p:cNvPicPr/>
          <p:nvPr/>
        </p:nvPicPr>
        <p:blipFill>
          <a:blip r:embed="rId2"/>
          <a:stretch/>
        </p:blipFill>
        <p:spPr>
          <a:xfrm>
            <a:off x="214200" y="3571920"/>
            <a:ext cx="4156200" cy="3116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100_4200.JPG"/>
          <p:cNvPicPr/>
          <p:nvPr/>
        </p:nvPicPr>
        <p:blipFill>
          <a:blip r:embed="rId3"/>
          <a:stretch/>
        </p:blipFill>
        <p:spPr>
          <a:xfrm>
            <a:off x="4500720" y="3571920"/>
            <a:ext cx="41796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2" descr="100_4222.JPG"/>
          <p:cNvPicPr/>
          <p:nvPr/>
        </p:nvPicPr>
        <p:blipFill>
          <a:blip r:embed="rId1"/>
          <a:stretch/>
        </p:blipFill>
        <p:spPr>
          <a:xfrm>
            <a:off x="2286000" y="142920"/>
            <a:ext cx="4370400" cy="32781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100_4201.JPG"/>
          <p:cNvPicPr/>
          <p:nvPr/>
        </p:nvPicPr>
        <p:blipFill>
          <a:blip r:embed="rId2"/>
          <a:stretch/>
        </p:blipFill>
        <p:spPr>
          <a:xfrm>
            <a:off x="142920" y="342900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4" descr="100_4202.JPG"/>
          <p:cNvPicPr/>
          <p:nvPr/>
        </p:nvPicPr>
        <p:blipFill>
          <a:blip r:embed="rId3"/>
          <a:stretch/>
        </p:blipFill>
        <p:spPr>
          <a:xfrm>
            <a:off x="4572000" y="3429000"/>
            <a:ext cx="4394160" cy="3295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2" descr="100_4227.JPG"/>
          <p:cNvPicPr/>
          <p:nvPr/>
        </p:nvPicPr>
        <p:blipFill>
          <a:blip r:embed="rId1"/>
          <a:stretch/>
        </p:blipFill>
        <p:spPr>
          <a:xfrm>
            <a:off x="214200" y="214200"/>
            <a:ext cx="4157640" cy="47149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100_4203.JPG"/>
          <p:cNvPicPr/>
          <p:nvPr/>
        </p:nvPicPr>
        <p:blipFill>
          <a:blip r:embed="rId2"/>
          <a:stretch/>
        </p:blipFill>
        <p:spPr>
          <a:xfrm>
            <a:off x="3786120" y="2840040"/>
            <a:ext cx="515628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100_4205.JPG"/>
          <p:cNvPicPr/>
          <p:nvPr/>
        </p:nvPicPr>
        <p:blipFill>
          <a:blip r:embed="rId1"/>
          <a:stretch/>
        </p:blipFill>
        <p:spPr>
          <a:xfrm>
            <a:off x="4143240" y="2071800"/>
            <a:ext cx="4751640" cy="35640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2" descr="100_4224.JPG"/>
          <p:cNvPicPr/>
          <p:nvPr/>
        </p:nvPicPr>
        <p:blipFill>
          <a:blip r:embed="rId2"/>
          <a:stretch/>
        </p:blipFill>
        <p:spPr>
          <a:xfrm>
            <a:off x="142920" y="500040"/>
            <a:ext cx="420984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1" descr="100_4204.JPG"/>
          <p:cNvPicPr/>
          <p:nvPr/>
        </p:nvPicPr>
        <p:blipFill>
          <a:blip r:embed="rId1"/>
          <a:stretch/>
        </p:blipFill>
        <p:spPr>
          <a:xfrm>
            <a:off x="214200" y="14292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3" descr="100_4228.JPG"/>
          <p:cNvPicPr/>
          <p:nvPr/>
        </p:nvPicPr>
        <p:blipFill>
          <a:blip r:embed="rId2"/>
          <a:stretch/>
        </p:blipFill>
        <p:spPr>
          <a:xfrm>
            <a:off x="5143680" y="2286000"/>
            <a:ext cx="385272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1" descr="100_4206.JPG"/>
          <p:cNvPicPr/>
          <p:nvPr/>
        </p:nvPicPr>
        <p:blipFill>
          <a:blip r:embed="rId1"/>
          <a:stretch/>
        </p:blipFill>
        <p:spPr>
          <a:xfrm>
            <a:off x="142920" y="142920"/>
            <a:ext cx="4727520" cy="354492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2" descr="100_4207.JPG"/>
          <p:cNvPicPr/>
          <p:nvPr/>
        </p:nvPicPr>
        <p:blipFill>
          <a:blip r:embed="rId2"/>
          <a:stretch/>
        </p:blipFill>
        <p:spPr>
          <a:xfrm>
            <a:off x="4273560" y="1143000"/>
            <a:ext cx="4775040" cy="35812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3" descr="100_4210.JPG"/>
          <p:cNvPicPr/>
          <p:nvPr/>
        </p:nvPicPr>
        <p:blipFill>
          <a:blip r:embed="rId3"/>
          <a:stretch/>
        </p:blipFill>
        <p:spPr>
          <a:xfrm>
            <a:off x="523800" y="328608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ая мотори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точные и тонкие движения пальцев руки. От развития мелкой моторики напрямую зависит подготовленность руки к письму, работа речевых и мыслительных центров головного мозга. Поэтому при поступлении ребёнка в школу, недостаточное развитие мелкой моторики, трудности в овладении письмом могут привести к возникновению негативного отношения ребёнка к школе, снижению учебной мотивации. Очень важно в дошкольном возрасте как можно раньше создавать условия для накопления ребенком двигательного и практического опыта, развивать навыки ручной умелости, формировать механизмы, необходимые для будущего овладения пись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и педагоги, которые уделяют должное внимание упражнениям, играм, различным заданиям на развитие мелкой моторики и координации движения руки, решают сразу две задачи: во - первых, косвенным образом влияют на общее интеллектуальное развитие ребёнка: во - вторых, готовят к овладению навыком письма, что в будущем поможет избежать многих проблем школьного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100_4211.JPG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2" descr="100_4212.JPG"/>
          <p:cNvPicPr/>
          <p:nvPr/>
        </p:nvPicPr>
        <p:blipFill>
          <a:blip r:embed="rId2"/>
          <a:stretch/>
        </p:blipFill>
        <p:spPr>
          <a:xfrm>
            <a:off x="4500720" y="142920"/>
            <a:ext cx="4500360" cy="321480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100_4214.JPG"/>
          <p:cNvPicPr/>
          <p:nvPr/>
        </p:nvPicPr>
        <p:blipFill>
          <a:blip r:embed="rId3"/>
          <a:stretch/>
        </p:blipFill>
        <p:spPr>
          <a:xfrm>
            <a:off x="142920" y="3500280"/>
            <a:ext cx="4286160" cy="33577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" descr="100_4218.JPG"/>
          <p:cNvPicPr/>
          <p:nvPr/>
        </p:nvPicPr>
        <p:blipFill>
          <a:blip r:embed="rId4"/>
          <a:stretch/>
        </p:blipFill>
        <p:spPr>
          <a:xfrm>
            <a:off x="4500720" y="3500280"/>
            <a:ext cx="446544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100_4409.JPG"/>
          <p:cNvPicPr/>
          <p:nvPr/>
        </p:nvPicPr>
        <p:blipFill>
          <a:blip r:embed="rId1"/>
          <a:stretch/>
        </p:blipFill>
        <p:spPr>
          <a:xfrm>
            <a:off x="142920" y="142920"/>
            <a:ext cx="4798800" cy="35989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100_4412.JPG"/>
          <p:cNvPicPr/>
          <p:nvPr/>
        </p:nvPicPr>
        <p:blipFill>
          <a:blip r:embed="rId2"/>
          <a:stretch/>
        </p:blipFill>
        <p:spPr>
          <a:xfrm>
            <a:off x="3809880" y="2786040"/>
            <a:ext cx="522792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" descr="100_4413.JPG"/>
          <p:cNvPicPr/>
          <p:nvPr/>
        </p:nvPicPr>
        <p:blipFill>
          <a:blip r:embed="rId1"/>
          <a:stretch/>
        </p:blipFill>
        <p:spPr>
          <a:xfrm>
            <a:off x="142920" y="14292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2" descr="100_4414.JPG"/>
          <p:cNvPicPr/>
          <p:nvPr/>
        </p:nvPicPr>
        <p:blipFill>
          <a:blip r:embed="rId2"/>
          <a:stretch/>
        </p:blipFill>
        <p:spPr>
          <a:xfrm>
            <a:off x="3786120" y="2768760"/>
            <a:ext cx="5251680" cy="3938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100_4215.JPG"/>
          <p:cNvPicPr/>
          <p:nvPr/>
        </p:nvPicPr>
        <p:blipFill>
          <a:blip r:embed="rId1"/>
          <a:stretch/>
        </p:blipFill>
        <p:spPr>
          <a:xfrm>
            <a:off x="142920" y="142920"/>
            <a:ext cx="4667040" cy="3500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2" descr="100_4419.JPG"/>
          <p:cNvPicPr/>
          <p:nvPr/>
        </p:nvPicPr>
        <p:blipFill>
          <a:blip r:embed="rId2"/>
          <a:stretch/>
        </p:blipFill>
        <p:spPr>
          <a:xfrm>
            <a:off x="4000680" y="300024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100_4420.JPG"/>
          <p:cNvPicPr/>
          <p:nvPr/>
        </p:nvPicPr>
        <p:blipFill>
          <a:blip r:embed="rId1"/>
          <a:stretch/>
        </p:blipFill>
        <p:spPr>
          <a:xfrm>
            <a:off x="214200" y="142920"/>
            <a:ext cx="4799160" cy="35989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" descr="100_4421.JPG"/>
          <p:cNvPicPr/>
          <p:nvPr/>
        </p:nvPicPr>
        <p:blipFill>
          <a:blip r:embed="rId2"/>
          <a:stretch/>
        </p:blipFill>
        <p:spPr>
          <a:xfrm>
            <a:off x="4143240" y="3071880"/>
            <a:ext cx="4870440" cy="365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100_4423.JPG"/>
          <p:cNvPicPr/>
          <p:nvPr/>
        </p:nvPicPr>
        <p:blipFill>
          <a:blip r:embed="rId1"/>
          <a:stretch/>
        </p:blipFill>
        <p:spPr>
          <a:xfrm>
            <a:off x="142920" y="142920"/>
            <a:ext cx="4727520" cy="35449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2" descr="100_4425.JPG"/>
          <p:cNvPicPr/>
          <p:nvPr/>
        </p:nvPicPr>
        <p:blipFill>
          <a:blip r:embed="rId2"/>
          <a:stretch/>
        </p:blipFill>
        <p:spPr>
          <a:xfrm>
            <a:off x="4214880" y="3071880"/>
            <a:ext cx="479880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714240" y="2142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ультаты диагностики по подготовки руки к письму с сентября по декаб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18760" y="5147280"/>
            <a:ext cx="577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ря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ысокий уровень готовности руки к пись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ря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едний уровень готовности руки к пись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ря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изкий уровень готовности руки к пись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11"/>
          <p:cNvGraphicFramePr/>
          <p:nvPr/>
        </p:nvGraphicFramePr>
        <p:xfrm>
          <a:off x="857160" y="1214280"/>
          <a:ext cx="673092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214280"/>
                    <a:ext cx="673092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Object 3"/>
          <p:cNvGraphicFramePr/>
          <p:nvPr/>
        </p:nvGraphicFramePr>
        <p:xfrm>
          <a:off x="214200" y="142920"/>
          <a:ext cx="863604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2920"/>
                    <a:ext cx="863604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Box 5"/>
          <p:cNvSpPr/>
          <p:nvPr/>
        </p:nvSpPr>
        <p:spPr>
          <a:xfrm>
            <a:off x="285840" y="5073480"/>
            <a:ext cx="84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 диаграммы видно, что у детей повысился уровень готовности к письму, у них есть ещё некоторые трудности в выполнении графических движений, но не смотря на это почти все дети имеют высокий уровень готовности  руки к письм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428760" y="315720"/>
            <a:ext cx="8286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вод об эффективности проделанно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я проделанной работе по развитию мелкой моторики пальцев, навыки детей стали более совершёнными. Я увидела качественный скачёк в развитии детей. Дети научились хорошо владеть карандашом и ручкой. Появилось устойчивое сосредоточенное внимание, научились действовать по словесным инструкциям, обрели уверенность в своих действиях, у детей сформировались необходимые навыки по подготовки руки к письму. Всё это создаёт благоприятную базу для более успешного обучения в шко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7" descr="26195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430" name="Picture 10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431" name="Picture 11" descr="i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TNCA0LL1W6CAAH2IWTCANKZ11FCAA5QOWLCA4ID73ICAR0030FCABI083BCAZA92DOCAV4N5J0CA54LK0ACAWQDREXCADJE3PVCABAY41OCA384XKCCA4NY2U1CA7GDMRACA79TQSPCA7QWVBXCAM4D726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UMCAXGTPCZCA1CGYX7CADJDBSOCA6G9W6CCA72AEJGCAY1QE3XCAB0EWX8CAU20QKWCAH3SVEXCA25A2CXCAKSPI9PCAZMESO4CAOSQ0ZUCA4NQCLRCAN6MSERCA2E761TCARNJD2QCAA2OJ10CAJMV23B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435" name="Picture 15" descr="UGCABZAVEBCAJDW6OBCAX5J9AWCAS0HS3KCAAXLC6PCAYXF35YCA42H02ICA1CGCEUCAV9LW9MCA2P1S69CA75Y15OCA6I8CWNCAZL97DBCAAP0FIDCAZVQ704CAWH7WLZCA48KQO2CAGOF460CACAOVT3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7" descr="2HCADB7ZHKCAUL4YRACAWCKG7BCAG7PUVYCAHUI8JACAD6S287CABSVMSCCADX3JKBCAZM6XV6CAUMP7SLCAZPMPDLCADKVSM3CA634FJUCAELL370CAKYL8U1CAOGJ98JCA56DSLFCAW95N76CAVI4ZCU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JECAW6E0UOCAV2P7ACCALLL55LCA1XXBF2CA6ZKC3TCAYLW9GRCADC79I0CA53LVX5CAQYD6Q4CAHGDF38CA3XEHK1CAOZRZGLCAI28MC0CAE5K927CA080Z04CA5VXVCFCARM0453CAIH7YISCAWADUKL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9" descr="SRCAP7UTVXCAL0EMI6CAII21COCAXWWE6RCANLZ5TUCAIBD2IXCA3EK5CCCAFFV1GTCAHT0BXVCA0VN2KNCAUWCPO9CANYN9KPCAKAMSFWCAVJ5K0XCAHVT3B6CACSHHK3CA24ACG9CA6T5JBDCAZ1IN0I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работы с детьми дошкольного возраста позволит улучшить показатели зрительно-двигательной координации. Сделать работу по совершенствованию пальцевой моторики и зрительно двигательной координации регулярной, включив её в учебно-воспитательный проц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Прямоугольник 3" descr=""/>
          <p:cNvPicPr/>
          <p:nvPr/>
        </p:nvPicPr>
        <p:blipFill>
          <a:blip r:embed="rId1"/>
          <a:stretch/>
        </p:blipFill>
        <p:spPr>
          <a:xfrm>
            <a:off x="262080" y="1706400"/>
            <a:ext cx="8613720" cy="3084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18676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лан работы с деть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разработано  с использованием «Развиваем руку ребёнка, готовим её к рисованию и письму» п/р Беззубцевой Г.В., Андриевской Т.Н.,  - М.: Издательство «ГНОМ и Д», 2003.</a:t>
            </a:r>
            <a:br>
              <a:rPr sz="1600"/>
            </a:b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тя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Здравствуй карандаш”  стр. 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иси с упражнениями: проведи линии не отрывая руки от лис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и цыплёнку поймать бабоч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исуй как показа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дорож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тя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Дождик тише, дождик громче” стр. 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и прямые линии не отрывая руки от лис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 простую штрихов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и цыплятам собрать весь горошек. Обвед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и раскра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я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Строим забор” стр. 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путь коровки по точкам, раскрась, что коровы едя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и стрелочками, что собрала белочка в корзин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и путь мышки к лягуш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а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Рисуем забор” стр. 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адь с прописями и заданиями по обводке и письм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и 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5715000" y="3214800"/>
            <a:ext cx="2620800" cy="2539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56760" y="214200"/>
            <a:ext cx="8358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нва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Чудесный платочек” стр. 33 ( 500 узоро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роликов так, чтобы они были похожи друг на дру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врал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Магазин игрушек”  стр. 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 так, чтобы бычки не были одинаков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т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Дорожки” стр.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и закра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исуй дракончика и 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рел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Игра к кегли” стр.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точ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исуй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ческий дикт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,,Волшебные клубочки” стр. 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ческий дикт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исуй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5083200" y="3071880"/>
            <a:ext cx="306072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работы с родител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07136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ьское собрание на тему: ,,Подготовка руки к письм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ультация для родителей на тему : ,,Что такое мелкая моторика и как её развив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пка-передвижка: ,, Рекомендации по проведению пальчиковой гимнасти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ультация ,, приёмы развития мелкой мотори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в родительский уголок: ,, Первые шаги в освоении пись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тавка игр и атрибутов по развитию мелкой моторики рук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бретение новых атрибутов для подготовки руки к письму  у детей, с помощью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06:48:59Z</dcterms:created>
  <dc:creator>100-810-103</dc:creator>
  <dc:description/>
  <dc:language>en-US</dc:language>
  <cp:lastModifiedBy>sveta451</cp:lastModifiedBy>
  <dcterms:modified xsi:type="dcterms:W3CDTF">2015-04-22T08:41:37Z</dcterms:modified>
  <cp:revision>265</cp:revision>
  <dc:subject/>
  <dc:title>Слайд 1</dc:title>
</cp:coreProperties>
</file>