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A6297-A6D9-4EE8-A567-6030CF46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798FE-E8CF-42DC-A93F-04DC9659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A121F-E24C-427C-8DF5-D74150C6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0684E-AC39-4AA3-9687-8599AFFF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5D49-53BA-4B57-9D3E-09DF03C7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EE5B-08A5-4034-9654-C2AB10EC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3F6A-CFAE-4AEB-8E16-E3E7A22E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0A45-1114-4D20-8814-D80D1816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99EB-E869-465B-8D61-77B839CD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9A3F-B796-41A6-A610-5EC9F8E3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E162-28BB-4817-8D23-8E935A90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55F8-E699-49EE-B8AA-7379AF61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8694-7746-4C8A-8A4B-285CA935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1ED8-3DB3-49C1-9D7E-846B961E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4D6D-1047-4EB7-B7F0-6BA1634A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513D-69D3-45D2-9730-7D12E4C9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B2BD-7003-4167-ABE5-73898966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ECD5F-E72C-46DC-ACF3-C9E479D4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955F1-9ED8-4A19-B121-4726A27E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61D38-982C-4803-A787-9719DF73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305E-1D09-4A7E-A876-F781B957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E2222-F2A2-47AC-8C84-9E2BFB87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03276-9A44-45CA-AC6D-8F57E22D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FB45F-3566-463B-9E24-AE44D365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8517-AFF5-49CC-8677-C511129992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2C68-0CDC-4138-9F6E-6000AE6310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86600" y="476280"/>
            <a:ext cx="710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Скорость химической реа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Обратимость реа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773360"/>
            <a:ext cx="8185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Задание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гомогенной реакции А +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… при одновременном увеличении молярной концентрации исходных веществ в 3 раза скорость реакции возрастет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8520" y="3429000"/>
            <a:ext cx="14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3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6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9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4360" y="404640"/>
            <a:ext cx="76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Водные растворы. Растворимость. ТЭ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Реакции ионного об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2720" y="1459080"/>
            <a:ext cx="6167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1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лекулярном уравнении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g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умма коэффициентов ра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69080" y="2565360"/>
            <a:ext cx="6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7480" y="3763800"/>
            <a:ext cx="434268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ратком ионном уравнении реакц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Sr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умма коэффициентов ра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3440" y="5300640"/>
            <a:ext cx="6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4360" y="765000"/>
            <a:ext cx="768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05bd"/>
                </a:solidFill>
                <a:latin typeface="Monotype Corsiva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5084640"/>
            <a:ext cx="76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Monotype Corsiva"/>
              </a:rPr>
              <a:t>Хорошо потрудилис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67560" y="333360"/>
            <a:ext cx="710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Скорость химической реа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Обратимость реа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50760" y="1792440"/>
            <a:ext cx="6861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весие в гетерогенной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O +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Ca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местится влево п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6120" y="3860640"/>
            <a:ext cx="25995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авлен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авлен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жа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рев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4360" y="620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Водные растворы. Растворим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Теория электролитической диссоци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Реакции ионного об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3984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69480" y="2565360"/>
            <a:ext cx="2966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Задание 1.</a:t>
            </a: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льный электролит -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7200" y="3284640"/>
            <a:ext cx="161172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476280"/>
            <a:ext cx="76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Водные растворы. Растворимость. ТЭ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Реакции ионного об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557360"/>
            <a:ext cx="8317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Задание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водном растворе из каждых 100 молекул образуется 100 катионов водорода для 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8360" y="2637000"/>
            <a:ext cx="16149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о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зоти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зо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4221000"/>
            <a:ext cx="844560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уравнении диссоциации слабой кислот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сем возможным ступен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65800" y="5157720"/>
            <a:ext cx="7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404640"/>
            <a:ext cx="76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Водные растворы. Растворимость. ТЭ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Реакции ионного об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700280"/>
            <a:ext cx="844524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уравнении диссоциации слабой кислот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сем возможным ступен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6160" y="2637000"/>
            <a:ext cx="7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6160" y="4941720"/>
            <a:ext cx="7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149720"/>
            <a:ext cx="8445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</a:t>
            </a: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уравнении диссоциации слабой кислот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сем возможным ступен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476280"/>
            <a:ext cx="76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Водные растворы. Растворимость. ТЭ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Реакции ионного об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1844640"/>
            <a:ext cx="772488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диссоциации одной формульной единицы со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исло образующихся ионов ра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6520" y="2781360"/>
            <a:ext cx="6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4076640"/>
            <a:ext cx="772452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диссоциации одной формульной единицы со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исло образующихся ионов ра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7800" y="5157720"/>
            <a:ext cx="6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476280"/>
            <a:ext cx="76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Водные растворы. Растворимость. ТЭ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Реакции ионного об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628640"/>
            <a:ext cx="784836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ьшее количество ион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жно обнаружить в растворе, содержащем 0,1 м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76960" y="2421000"/>
            <a:ext cx="1456560" cy="16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H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3979800"/>
            <a:ext cx="4106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Задание 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я с выпадением осадка –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44600" y="4653000"/>
            <a:ext cx="26452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F +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aOH 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HCl 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4360" y="620640"/>
            <a:ext cx="76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Водные растворы. Растворимость. ТЭ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Реакции ионного об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819440"/>
            <a:ext cx="3830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Задание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я с выделением газа –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8840" y="2492280"/>
            <a:ext cx="2800800" cy="16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OH +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KOH 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H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HBr 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b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6400" y="4124160"/>
            <a:ext cx="7614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ое ионное уравн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чает взаимодейств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15160" y="4869000"/>
            <a:ext cx="2646720" cy="16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C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OH +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KH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4360" y="476280"/>
            <a:ext cx="76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Водные растворы. Растворимость. ТЭ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Monotype Corsiva"/>
              </a:rPr>
              <a:t>Реакции ионного об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628640"/>
            <a:ext cx="799308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онном уравнении реакции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2OH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о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жет отвечать реаге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7560" y="2421000"/>
            <a:ext cx="138312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933720"/>
            <a:ext cx="820728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Arial"/>
              </a:rPr>
              <a:t>Задание 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онное уравнение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2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ответствует реакция между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96920" y="4869000"/>
            <a:ext cx="2675520" cy="16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и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и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и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6:54:25Z</dcterms:created>
  <dc:creator>XTreme</dc:creator>
  <dc:description/>
  <dc:language>en-US</dc:language>
  <cp:lastModifiedBy>XTreme</cp:lastModifiedBy>
  <dcterms:modified xsi:type="dcterms:W3CDTF">2010-12-09T18:20:15Z</dcterms:modified>
  <cp:revision>45</cp:revision>
  <dc:subject/>
  <dc:title>Слайд 1</dc:title>
</cp:coreProperties>
</file>