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0540-BE90-4945-B0BA-4DCB7F94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AF13-FCAE-4A37-8397-533D9F48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222D-0C5F-45F7-BB4E-784156D6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E1A3-986B-40F4-8A07-410CD39B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CBA8-772F-4409-91E9-F6F96014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DD82-1322-48D1-AD6D-3C64DFB0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88F6-963E-4A14-9E25-3FAB2894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3445-0AC7-4FB0-80CD-EB9AD0A6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4AA2-D573-40F8-BBD4-0BA2FE99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926B-E0BE-4B09-B6A3-446FBD4A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979A-0A03-45DF-9867-57CEAC6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C56A-55C9-472C-AA2B-4B136F69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90A7-EEA4-4939-86D3-C6CEA0D6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4A43-E65C-44B8-98C7-A49FA3C8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1275-5192-472F-B05D-FD251CD9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11BD-C4EB-44AA-BD0F-83B9EB99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3AB1-67A5-4CCA-B74D-2C8F46E2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C6F9-3365-4AAD-883B-6C33BC6F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8D7E-9E8E-48D8-8FF5-F40D0242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E5A4-6ED0-43AF-8655-08BFD9B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4BC5-C479-4290-95F4-06B6168F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5555-E271-4CE7-8085-D36475AF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0AD8-E378-41C2-AC45-FB4E395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3ECF-7B95-4D19-BB0B-07AA480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4B1-9895-4899-ADBE-05915310CC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3A76-E6C7-4306-8F98-39A442BF3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86600" y="476280"/>
            <a:ext cx="71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Скорость химической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Обратимость реа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773360"/>
            <a:ext cx="8185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гомогенной реакции А +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… при одновременном увеличении молярной концентрации исходных веществ в 3 раза скорость реакции возрастет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8520" y="3429000"/>
            <a:ext cx="14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3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6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9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40464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2720" y="1459080"/>
            <a:ext cx="6167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лекулярном уравнении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мма коэффициентов ра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9080" y="2565360"/>
            <a:ext cx="6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7480" y="3763800"/>
            <a:ext cx="43426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атком ионном уравнении реак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Sr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мма коэффициентов ра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3440" y="5300640"/>
            <a:ext cx="6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765000"/>
            <a:ext cx="768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05bd"/>
                </a:solidFill>
                <a:latin typeface="Monotype Corsiva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084640"/>
            <a:ext cx="76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Monotype Corsiva"/>
              </a:rPr>
              <a:t>Хорошо потрудили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67560" y="333360"/>
            <a:ext cx="71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Скорость химической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Обратимость реа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50760" y="1792440"/>
            <a:ext cx="6861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весие в гетерогенной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O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естится влево п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6120" y="3860640"/>
            <a:ext cx="25995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ле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ле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а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е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620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Теория электролитической диссоци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398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9480" y="2565360"/>
            <a:ext cx="296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1.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ьный электролит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7200" y="3284640"/>
            <a:ext cx="16117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47628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557360"/>
            <a:ext cx="831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водном растворе из каждых 100 молекул образуется 100 катионов водорода для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8360" y="2637000"/>
            <a:ext cx="1614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оти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о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221000"/>
            <a:ext cx="844560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равнении диссоциации слабой кисл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 возможным ступен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5800" y="5157720"/>
            <a:ext cx="7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40464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700280"/>
            <a:ext cx="844524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равнении диссоциации слабой кисл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 возможным ступен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6160" y="2637000"/>
            <a:ext cx="7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6160" y="4941720"/>
            <a:ext cx="7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149720"/>
            <a:ext cx="8445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равнении диссоциации слабой кисл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 возможным ступен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7628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1844640"/>
            <a:ext cx="77248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иссоциации одной формульной единицы с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о образующихся ионов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6520" y="2781360"/>
            <a:ext cx="6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4076640"/>
            <a:ext cx="772452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иссоциации одной формульной единицы с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о образующихся ионов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7800" y="5157720"/>
            <a:ext cx="6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47628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628640"/>
            <a:ext cx="784836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е количество ион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но обнаружить в растворе, содержащем 0,1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76960" y="2421000"/>
            <a:ext cx="145656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979800"/>
            <a:ext cx="4106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я с выпадением осадка –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44600" y="4653000"/>
            <a:ext cx="26452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F +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aOH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HCl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62064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819440"/>
            <a:ext cx="3830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я с выделением газа –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8840" y="2492280"/>
            <a:ext cx="280080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KOH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HBr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b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6400" y="4124160"/>
            <a:ext cx="761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ое ионное уравн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ет взаимодейств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15160" y="4869000"/>
            <a:ext cx="264672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C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OH +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KH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47628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628640"/>
            <a:ext cx="79930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онном уравнении реакци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ет отвечать реаг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7560" y="2421000"/>
            <a:ext cx="13831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933720"/>
            <a:ext cx="82072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ное уравнение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2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ует реакция между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96920" y="4869000"/>
            <a:ext cx="267552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и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и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и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54:25Z</dcterms:created>
  <dc:creator>XTreme</dc:creator>
  <dc:description/>
  <dc:language>en-US</dc:language>
  <cp:lastModifiedBy>XTreme</cp:lastModifiedBy>
  <dcterms:modified xsi:type="dcterms:W3CDTF">2010-12-09T18:20:15Z</dcterms:modified>
  <cp:revision>45</cp:revision>
  <dc:subject/>
  <dc:title>Слайд 1</dc:title>
</cp:coreProperties>
</file>