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6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8D3-BF21-4C5F-9436-300EC7B8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E1D-F25B-4DB6-A9CF-BDF2B7DE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EF4-6D93-4F3A-9207-A581F5BC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689-B26F-46CC-BBD8-65728DA7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9EF-5DDA-4638-91C2-C4316E43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906-6DF7-48CB-8D32-4A6CC4DB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1DC-39DB-4C70-A5B1-C84F8FC0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F41-AAE6-4852-8DAF-C89F2F3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FCF-A5E7-4B69-A4CD-652431B2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676-7A8B-40F5-B8A4-D8F316B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5BC-9D3F-4931-912B-71EE9F50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729-489A-48FD-8DFE-706D65C0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3EC3-35C0-4AE6-8084-858789C5E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6959880" y="1525680"/>
            <a:ext cx="2239200" cy="2149560"/>
            <a:chOff x="6959880" y="1525680"/>
            <a:chExt cx="2239200" cy="2149560"/>
          </a:xfrm>
        </p:grpSpPr>
        <p:sp>
          <p:nvSpPr>
            <p:cNvPr id="42" name="AutoShape 6"/>
            <p:cNvSpPr/>
            <p:nvPr/>
          </p:nvSpPr>
          <p:spPr>
            <a:xfrm rot="1050000">
              <a:off x="7215120" y="1857240"/>
              <a:ext cx="1728720" cy="1486080"/>
            </a:xfrm>
            <a:custGeom>
              <a:avLst/>
              <a:gdLst>
                <a:gd name="textAreaLeft" fmla="*/ 712440 w 1728720"/>
                <a:gd name="textAreaRight" fmla="*/ 1016280 w 172872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7"/>
            <p:cNvSpPr/>
            <p:nvPr/>
          </p:nvSpPr>
          <p:spPr>
            <a:xfrm rot="19807200">
              <a:off x="7215120" y="1857240"/>
              <a:ext cx="1728720" cy="1486080"/>
            </a:xfrm>
            <a:custGeom>
              <a:avLst/>
              <a:gdLst>
                <a:gd name="textAreaLeft" fmla="*/ 712440 w 1728720"/>
                <a:gd name="textAreaRight" fmla="*/ 1016280 w 172872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4078800" y="-243000"/>
            <a:ext cx="1929600" cy="1971720"/>
            <a:chOff x="4078800" y="-243000"/>
            <a:chExt cx="1929600" cy="1971720"/>
          </a:xfrm>
        </p:grpSpPr>
        <p:sp>
          <p:nvSpPr>
            <p:cNvPr id="45" name="AutoShape 6"/>
            <p:cNvSpPr/>
            <p:nvPr/>
          </p:nvSpPr>
          <p:spPr>
            <a:xfrm rot="1050000">
              <a:off x="4357800" y="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 rot="19807200">
              <a:off x="4357800" y="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5"/>
          <p:cNvGrpSpPr/>
          <p:nvPr/>
        </p:nvGrpSpPr>
        <p:grpSpPr>
          <a:xfrm>
            <a:off x="476640" y="161640"/>
            <a:ext cx="1929600" cy="1971720"/>
            <a:chOff x="476640" y="161640"/>
            <a:chExt cx="1929600" cy="1971720"/>
          </a:xfrm>
        </p:grpSpPr>
        <p:sp>
          <p:nvSpPr>
            <p:cNvPr id="48" name="AutoShape 6"/>
            <p:cNvSpPr/>
            <p:nvPr/>
          </p:nvSpPr>
          <p:spPr>
            <a:xfrm rot="1050000">
              <a:off x="755640" y="40464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 rot="19807200">
              <a:off x="755640" y="40428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589680" y="2325960"/>
            <a:ext cx="2749680" cy="2692080"/>
            <a:chOff x="589680" y="2325960"/>
            <a:chExt cx="2749680" cy="2692080"/>
          </a:xfrm>
        </p:grpSpPr>
        <p:sp>
          <p:nvSpPr>
            <p:cNvPr id="51" name="AutoShape 6"/>
            <p:cNvSpPr/>
            <p:nvPr/>
          </p:nvSpPr>
          <p:spPr>
            <a:xfrm rot="1050000">
              <a:off x="928800" y="2714760"/>
              <a:ext cx="2071440" cy="1914480"/>
            </a:xfrm>
            <a:custGeom>
              <a:avLst/>
              <a:gdLst>
                <a:gd name="textAreaLeft" fmla="*/ 853560 w 2071440"/>
                <a:gd name="textAreaRight" fmla="*/ 1217880 w 2071440"/>
                <a:gd name="textAreaTop" fmla="*/ 788760 h 1914480"/>
                <a:gd name="textAreaBottom" fmla="*/ 1125720 h 19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 rot="19807200">
              <a:off x="928800" y="2714760"/>
              <a:ext cx="2071440" cy="1914480"/>
            </a:xfrm>
            <a:custGeom>
              <a:avLst/>
              <a:gdLst>
                <a:gd name="textAreaLeft" fmla="*/ 853560 w 2071440"/>
                <a:gd name="textAreaRight" fmla="*/ 1217880 w 2071440"/>
                <a:gd name="textAreaTop" fmla="*/ 788760 h 1914480"/>
                <a:gd name="textAreaBottom" fmla="*/ 1125720 h 19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WordArt 6"/>
          <p:cNvGrpSpPr/>
          <p:nvPr/>
        </p:nvGrpSpPr>
        <p:grpSpPr>
          <a:xfrm>
            <a:off x="603360" y="1547640"/>
            <a:ext cx="7974000" cy="4572000"/>
            <a:chOff x="603360" y="1547640"/>
            <a:chExt cx="7974000" cy="4572000"/>
          </a:xfrm>
        </p:grpSpPr>
        <p:pic>
          <p:nvPicPr>
            <p:cNvPr id="54" name="WordArt 6" descr=""/>
            <p:cNvPicPr/>
            <p:nvPr/>
          </p:nvPicPr>
          <p:blipFill>
            <a:blip r:embed="rId10"/>
            <a:stretch/>
          </p:blipFill>
          <p:spPr>
            <a:xfrm>
              <a:off x="603360" y="1547640"/>
              <a:ext cx="797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11280" y="1557360"/>
              <a:ext cx="7961400" cy="45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e70303"/>
                  </a:solidFill>
                  <a:latin typeface="Georgia"/>
                </a:rPr>
                <a:t>«Сложение и вычитани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e70303"/>
                  </a:solidFill>
                  <a:latin typeface="Georgia"/>
                </a:rPr>
                <a:t>положительных и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e70303"/>
                  </a:solidFill>
                  <a:latin typeface="Georgia"/>
                </a:rPr>
                <a:t>отрицательных  чисел»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79640" y="4292640"/>
            <a:ext cx="5214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Балан В.М.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Comic Sans MS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Comic Sans MS"/>
              </a:rPr>
              <a:t>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Comic Sans MS"/>
              </a:rPr>
              <a:t>МОУ «Парканская оош№2 им. Д.И.Мищен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6489000" y="4221000"/>
            <a:ext cx="2681280" cy="2702160"/>
            <a:chOff x="6489000" y="4221000"/>
            <a:chExt cx="2681280" cy="2702160"/>
          </a:xfrm>
        </p:grpSpPr>
        <p:sp>
          <p:nvSpPr>
            <p:cNvPr id="59" name="AutoShape 6"/>
            <p:cNvSpPr/>
            <p:nvPr/>
          </p:nvSpPr>
          <p:spPr>
            <a:xfrm rot="1050000">
              <a:off x="6857640" y="4572000"/>
              <a:ext cx="1943280" cy="2000160"/>
            </a:xfrm>
            <a:custGeom>
              <a:avLst/>
              <a:gdLst>
                <a:gd name="textAreaLeft" fmla="*/ 800640 w 1943280"/>
                <a:gd name="textAreaRight" fmla="*/ 1142640 w 1943280"/>
                <a:gd name="textAreaTop" fmla="*/ 824040 h 2000160"/>
                <a:gd name="textAreaBottom" fmla="*/ 1176120 h 20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 rot="19807200">
              <a:off x="6858000" y="4572000"/>
              <a:ext cx="1943280" cy="2000160"/>
            </a:xfrm>
            <a:custGeom>
              <a:avLst/>
              <a:gdLst>
                <a:gd name="textAreaLeft" fmla="*/ 800640 w 1943280"/>
                <a:gd name="textAreaRight" fmla="*/ 1142640 w 1943280"/>
                <a:gd name="textAreaTop" fmla="*/ 824040 h 2000160"/>
                <a:gd name="textAreaBottom" fmla="*/ 1176120 h 20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5"/>
          <p:cNvGrpSpPr/>
          <p:nvPr/>
        </p:nvGrpSpPr>
        <p:grpSpPr>
          <a:xfrm>
            <a:off x="-324720" y="4322160"/>
            <a:ext cx="2721600" cy="2642400"/>
            <a:chOff x="-324720" y="4322160"/>
            <a:chExt cx="2721600" cy="2642400"/>
          </a:xfrm>
        </p:grpSpPr>
        <p:sp>
          <p:nvSpPr>
            <p:cNvPr id="62" name="AutoShape 6"/>
            <p:cNvSpPr/>
            <p:nvPr/>
          </p:nvSpPr>
          <p:spPr>
            <a:xfrm rot="1050000">
              <a:off x="0" y="4714560"/>
              <a:ext cx="2071800" cy="1857240"/>
            </a:xfrm>
            <a:custGeom>
              <a:avLst/>
              <a:gdLst>
                <a:gd name="textAreaLeft" fmla="*/ 853560 w 2071800"/>
                <a:gd name="textAreaRight" fmla="*/ 1218240 w 2071800"/>
                <a:gd name="textAreaTop" fmla="*/ 765360 h 1857240"/>
                <a:gd name="textAreaBottom" fmla="*/ 109188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7"/>
            <p:cNvSpPr/>
            <p:nvPr/>
          </p:nvSpPr>
          <p:spPr>
            <a:xfrm rot="19807200">
              <a:off x="0" y="4714560"/>
              <a:ext cx="2071800" cy="1857240"/>
            </a:xfrm>
            <a:custGeom>
              <a:avLst/>
              <a:gdLst>
                <a:gd name="textAreaLeft" fmla="*/ 853560 w 2071800"/>
                <a:gd name="textAreaRight" fmla="*/ 1218240 w 2071800"/>
                <a:gd name="textAreaTop" fmla="*/ 765360 h 1857240"/>
                <a:gd name="textAreaBottom" fmla="*/ 109188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Прямоугольник 22"/>
          <p:cNvSpPr/>
          <p:nvPr/>
        </p:nvSpPr>
        <p:spPr>
          <a:xfrm>
            <a:off x="2124000" y="90792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Arial"/>
              </a:rPr>
              <a:t>Урок-путешествие</a:t>
            </a: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2071800" y="214200"/>
            <a:ext cx="6769080" cy="1009800"/>
          </a:xfrm>
          <a:prstGeom prst="wedgeRoundRectCallout">
            <a:avLst>
              <a:gd name="adj1" fmla="val -35486"/>
              <a:gd name="adj2" fmla="val 57407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 rot="640800">
            <a:off x="2163240" y="1855800"/>
            <a:ext cx="3967200" cy="1366920"/>
          </a:xfrm>
          <a:prstGeom prst="wedgeRoundRectCallout">
            <a:avLst>
              <a:gd name="adj1" fmla="val 39833"/>
              <a:gd name="adj2" fmla="val 63009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2 – 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2214720" y="3500280"/>
            <a:ext cx="1500120" cy="1428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3286080" y="5214960"/>
            <a:ext cx="1500120" cy="13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7120" y="2714760"/>
            <a:ext cx="1500120" cy="1500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642960" y="5214960"/>
            <a:ext cx="1428840" cy="1428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49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2071800" y="214200"/>
            <a:ext cx="6769080" cy="1009800"/>
          </a:xfrm>
          <a:prstGeom prst="wedgeRoundRectCallout">
            <a:avLst>
              <a:gd name="adj1" fmla="val -35486"/>
              <a:gd name="adj2" fmla="val 57407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 rot="640800">
            <a:off x="2163240" y="1855800"/>
            <a:ext cx="3967200" cy="1366920"/>
          </a:xfrm>
          <a:prstGeom prst="wedgeRoundRectCallout">
            <a:avLst>
              <a:gd name="adj1" fmla="val 39833"/>
              <a:gd name="adj2" fmla="val 63009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13 –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214720" y="3500280"/>
            <a:ext cx="1500120" cy="1428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,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286080" y="5214960"/>
            <a:ext cx="1500120" cy="13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357120" y="2714760"/>
            <a:ext cx="1500120" cy="1500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642960" y="5214960"/>
            <a:ext cx="1428840" cy="1428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54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5"/>
          <p:cNvSpPr/>
          <p:nvPr/>
        </p:nvSpPr>
        <p:spPr>
          <a:xfrm>
            <a:off x="2071800" y="142920"/>
            <a:ext cx="6769080" cy="1009440"/>
          </a:xfrm>
          <a:prstGeom prst="wedgeRoundRectCallout">
            <a:avLst>
              <a:gd name="adj1" fmla="val -34740"/>
              <a:gd name="adj2" fmla="val 60393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rot="640800">
            <a:off x="2234880" y="1927080"/>
            <a:ext cx="3967200" cy="1366920"/>
          </a:xfrm>
          <a:prstGeom prst="wedgeRoundRectCallout">
            <a:avLst>
              <a:gd name="adj1" fmla="val 39833"/>
              <a:gd name="adj2" fmla="val 63009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9- (- 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2143080" y="3643200"/>
            <a:ext cx="121464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3357720" y="4857840"/>
            <a:ext cx="1271520" cy="13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428760" y="4500720"/>
            <a:ext cx="1357200" cy="1428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57120" y="1928880"/>
            <a:ext cx="1357560" cy="13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59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7115"/>
              <a:gd name="adj2" fmla="val 63379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 rot="640800">
            <a:off x="2234880" y="1927080"/>
            <a:ext cx="3967200" cy="1366920"/>
          </a:xfrm>
          <a:prstGeom prst="wedgeRoundRectCallout">
            <a:avLst>
              <a:gd name="adj1" fmla="val 39087"/>
              <a:gd name="adj2" fmla="val 63421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7 – (-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714240" y="2928960"/>
            <a:ext cx="141444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2428920" y="4143240"/>
            <a:ext cx="1414440" cy="1428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285840" y="5072040"/>
            <a:ext cx="1357200" cy="1285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4214880" y="4929120"/>
            <a:ext cx="1428840" cy="1428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64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9046"/>
              <a:gd name="adj2" fmla="val 62384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rot="640800">
            <a:off x="2163240" y="1927080"/>
            <a:ext cx="3967200" cy="1366920"/>
          </a:xfrm>
          <a:prstGeom prst="wedgeRoundRectCallout">
            <a:avLst>
              <a:gd name="adj1" fmla="val 38898"/>
              <a:gd name="adj2" fmla="val 60527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35 + (-9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4429080" y="4643280"/>
            <a:ext cx="1428840" cy="1214640"/>
          </a:xfrm>
          <a:prstGeom prst="ellipse">
            <a:avLst/>
          </a:prstGeom>
          <a:solidFill>
            <a:srgbClr val="e7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6858000" y="1785960"/>
            <a:ext cx="1357200" cy="13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1857240" y="4071960"/>
            <a:ext cx="1285920" cy="13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357120" y="1857240"/>
            <a:ext cx="1357560" cy="150048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69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5930"/>
              <a:gd name="adj2" fmla="val 60393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 rot="640800">
            <a:off x="2163240" y="1927080"/>
            <a:ext cx="3967200" cy="1366920"/>
          </a:xfrm>
          <a:prstGeom prst="wedgeRoundRectCallout">
            <a:avLst>
              <a:gd name="adj1" fmla="val 40189"/>
              <a:gd name="adj2" fmla="val 60569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1,6 +(-4,4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6000840" y="5286240"/>
            <a:ext cx="1285920" cy="128592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7358040" y="3643200"/>
            <a:ext cx="1414440" cy="1214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1214280" y="5072040"/>
            <a:ext cx="141480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3143160" y="3571920"/>
            <a:ext cx="1271520" cy="128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74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5"/>
          <p:cNvSpPr/>
          <p:nvPr/>
        </p:nvSpPr>
        <p:spPr>
          <a:xfrm>
            <a:off x="2071800" y="214200"/>
            <a:ext cx="6769080" cy="1009800"/>
          </a:xfrm>
          <a:prstGeom prst="wedgeRoundRectCallout">
            <a:avLst>
              <a:gd name="adj1" fmla="val -35486"/>
              <a:gd name="adj2" fmla="val 57407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 rot="640800">
            <a:off x="2157480" y="1911240"/>
            <a:ext cx="4568760" cy="1366920"/>
          </a:xfrm>
          <a:prstGeom prst="wedgeRoundRectCallout">
            <a:avLst>
              <a:gd name="adj1" fmla="val 38324"/>
              <a:gd name="adj2" fmla="val 73430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2,5 +(– 3,6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2214720" y="3500280"/>
            <a:ext cx="1500120" cy="1428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3286080" y="5214960"/>
            <a:ext cx="1500120" cy="13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357120" y="2714760"/>
            <a:ext cx="1500120" cy="1500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642960" y="5214960"/>
            <a:ext cx="1428840" cy="1428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6,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79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9046"/>
              <a:gd name="adj2" fmla="val 62384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 rot="640800">
            <a:off x="2163240" y="1927080"/>
            <a:ext cx="3967200" cy="1366920"/>
          </a:xfrm>
          <a:prstGeom prst="wedgeRoundRectCallout">
            <a:avLst>
              <a:gd name="adj1" fmla="val 38898"/>
              <a:gd name="adj2" fmla="val 60527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-17 + 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4429080" y="4643280"/>
            <a:ext cx="1428840" cy="1214640"/>
          </a:xfrm>
          <a:prstGeom prst="ellipse">
            <a:avLst/>
          </a:prstGeom>
          <a:solidFill>
            <a:srgbClr val="e7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6858000" y="1785960"/>
            <a:ext cx="1357200" cy="13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1857240" y="4071960"/>
            <a:ext cx="1285920" cy="13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"/>
          <p:cNvSpPr/>
          <p:nvPr/>
        </p:nvSpPr>
        <p:spPr>
          <a:xfrm>
            <a:off x="357120" y="1857240"/>
            <a:ext cx="1357560" cy="150048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+3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847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Владелец\Мои документы\Мои рисунки\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151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ланета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«Историческа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Содержимое 3" descr="numbers.jpg"/>
          <p:cNvPicPr/>
          <p:nvPr/>
        </p:nvPicPr>
        <p:blipFill>
          <a:blip r:embed="rId1"/>
          <a:stretch/>
        </p:blipFill>
        <p:spPr>
          <a:xfrm>
            <a:off x="3071880" y="4357800"/>
            <a:ext cx="4021200" cy="2279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428760" y="831240"/>
            <a:ext cx="80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трицательные числа появились значительно позже натуральных чисел и обыкновенных дробей. Первые сведения об отрицательных числах встречаются у китайских математиков во II в. до н. э. Положительные числа тогда толковались как имущество, а отрицательные – как долг, недостача. Но ни египтяне, ни вавилоняне, ни древние греки отрицательных чисел не з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Девиз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0303"/>
                </a:solidFill>
                <a:latin typeface="Comic Sans MS"/>
              </a:rPr>
              <a:t>«Дорогу осилит идущ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0303"/>
                </a:solidFill>
                <a:latin typeface="Comic Sans MS"/>
              </a:rPr>
              <a:t>а</a:t>
            </a:r>
            <a:r>
              <a:rPr b="1" i="1" lang="en-US" sz="3600" spc="-1" strike="noStrike">
                <a:solidFill>
                  <a:srgbClr val="e70303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e70303"/>
                </a:solidFill>
                <a:latin typeface="Comic Sans MS"/>
              </a:rPr>
              <a:t>математику мыслящ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6462000" y="178920"/>
            <a:ext cx="2721240" cy="2642400"/>
            <a:chOff x="6462000" y="178920"/>
            <a:chExt cx="2721240" cy="2642400"/>
          </a:xfrm>
        </p:grpSpPr>
        <p:sp>
          <p:nvSpPr>
            <p:cNvPr id="68" name="AutoShape 6"/>
            <p:cNvSpPr/>
            <p:nvPr/>
          </p:nvSpPr>
          <p:spPr>
            <a:xfrm rot="1050000">
              <a:off x="6786720" y="571320"/>
              <a:ext cx="2071440" cy="1857240"/>
            </a:xfrm>
            <a:custGeom>
              <a:avLst/>
              <a:gdLst>
                <a:gd name="textAreaLeft" fmla="*/ 853560 w 2071440"/>
                <a:gd name="textAreaRight" fmla="*/ 1217880 w 2071440"/>
                <a:gd name="textAreaTop" fmla="*/ 765360 h 1857240"/>
                <a:gd name="textAreaBottom" fmla="*/ 109188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rot="19807200">
              <a:off x="6786720" y="571320"/>
              <a:ext cx="2071440" cy="1857240"/>
            </a:xfrm>
            <a:custGeom>
              <a:avLst/>
              <a:gdLst>
                <a:gd name="textAreaLeft" fmla="*/ 853560 w 2071440"/>
                <a:gd name="textAreaRight" fmla="*/ 1217880 w 2071440"/>
                <a:gd name="textAreaTop" fmla="*/ 765360 h 1857240"/>
                <a:gd name="textAreaBottom" fmla="*/ 109188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4" descr="Chattarpur_Temple.jpg"/>
          <p:cNvPicPr/>
          <p:nvPr/>
        </p:nvPicPr>
        <p:blipFill>
          <a:blip r:embed="rId1"/>
          <a:stretch/>
        </p:blipFill>
        <p:spPr>
          <a:xfrm>
            <a:off x="1357200" y="1928880"/>
            <a:ext cx="6851880" cy="4753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79280" y="0"/>
            <a:ext cx="8715600" cy="18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ишь в VII в. индийские математики начали широко использовать отрицательные числа, но относились к ним с некоторым недовер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00720" y="549360"/>
            <a:ext cx="42861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В Европе отрицательными числами начали пользоваться уже у Леонардо Фибоначчи с XII–XIII вв., но до XVI в., как и в древности, они понимались как долги, большинство ученых считали их “ложными”, в отличие от положительных чисел – “истинных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3" descr="fibonacci.jpg"/>
          <p:cNvPicPr/>
          <p:nvPr/>
        </p:nvPicPr>
        <p:blipFill>
          <a:blip r:embed="rId1"/>
          <a:stretch/>
        </p:blipFill>
        <p:spPr>
          <a:xfrm>
            <a:off x="642960" y="1143000"/>
            <a:ext cx="3774960" cy="449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bbe0e3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5072040"/>
            <a:ext cx="32860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Рене Декарт</a:t>
            </a:r>
            <a:br>
              <a:rPr sz="3800"/>
            </a:br>
            <a:r>
              <a:rPr b="0" lang="ru-RU" sz="38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(1596-1650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одержимое 3" descr="dekart.jpg"/>
          <p:cNvPicPr/>
          <p:nvPr/>
        </p:nvPicPr>
        <p:blipFill>
          <a:blip r:embed="rId1"/>
          <a:stretch/>
        </p:blipFill>
        <p:spPr>
          <a:xfrm>
            <a:off x="285840" y="642960"/>
            <a:ext cx="3429000" cy="42354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3929040" y="642960"/>
            <a:ext cx="521496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Отрицательные числа довольно долго не получали признания. Признанию отрицательных чисел способствовали работы французского математика, физика и философа Рене Декарта. Он предложил геометрическое истолкование положительных и отрицательных чисел – ввел координатную прям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6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Складывать и вычитать отрицательные числа научились древнекитайские ученые еще до нашей э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Содержимое 3" descr="Сцена из Древнего Китая.jpg"/>
          <p:cNvPicPr/>
          <p:nvPr/>
        </p:nvPicPr>
        <p:blipFill>
          <a:blip r:embed="rId1"/>
          <a:stretch/>
        </p:blipFill>
        <p:spPr>
          <a:xfrm>
            <a:off x="2143080" y="2286000"/>
            <a:ext cx="4429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79280" y="2781360"/>
          <a:ext cx="8715600" cy="3581280"/>
        </p:xfrm>
        <a:graphic>
          <a:graphicData uri="http://schemas.openxmlformats.org/drawingml/2006/table">
            <a:tbl>
              <a:tblPr/>
              <a:tblGrid>
                <a:gridCol w="439920"/>
                <a:gridCol w="2346120"/>
                <a:gridCol w="59295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Брахмагуп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b =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– a) + (– b) = –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(– b) = a –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(– a)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+ (– a) = –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+ a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(– a) 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–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двух имуществ есть имущест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2003"/>
                          </a:solidFill>
                          <a:latin typeface="Times New Roman"/>
                          <a:ea typeface="Times New Roman"/>
                        </a:rPr>
                        <a:t>Су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 двух долгов есть дол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имущества и долга равна их раз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имущества и равного долга равна нул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уля и долга есть дол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нуля и имущества есть имущест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, вычитаемый из нуля, становится  имуществ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ущество, вычитаемое из нуля, становится долг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5"/>
          <p:cNvSpPr/>
          <p:nvPr/>
        </p:nvSpPr>
        <p:spPr>
          <a:xfrm>
            <a:off x="324000" y="0"/>
            <a:ext cx="8572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mic Sans MS"/>
              </a:rPr>
              <a:t>Индийские математики представляли себе положительные числа как, “имущества”, а отрицательные числа как “долги”. Вот как индийский математик Брахмагупта излагал правила сложения и вычитания: “Сумма двух имуществ есть имущество”, “сумма двух долгов есть долг”, “сумма имущества и долга равна их разности” и т.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одержимое 3" descr="Михаил Штифель.gif"/>
          <p:cNvPicPr/>
          <p:nvPr/>
        </p:nvPicPr>
        <p:blipFill>
          <a:blip r:embed="rId1"/>
          <a:stretch/>
        </p:blipFill>
        <p:spPr>
          <a:xfrm>
            <a:off x="214200" y="1071720"/>
            <a:ext cx="4145040" cy="5010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4429080" y="1214280"/>
            <a:ext cx="45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й математи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Штиф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 в 1544 году новое определение отрицательных чисел, как чисел, «меньших, чем ничто», то есть меньших ну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Штифель писал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уль находится между истинными и абсурдными числ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:\Documents and Settings\Владелец\Мои документы\Мои рисунки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303"/>
                </a:solidFill>
                <a:latin typeface="Comic Sans MS"/>
              </a:rPr>
              <a:t>Планета «</a:t>
            </a:r>
            <a:r>
              <a:rPr b="1" lang="ru-RU" sz="4400" spc="-1" strike="noStrike">
                <a:solidFill>
                  <a:srgbClr val="e70303"/>
                </a:solidFill>
                <a:latin typeface="Comic Sans MS"/>
              </a:rPr>
              <a:t>Спортивная</a:t>
            </a:r>
            <a:r>
              <a:rPr b="0" lang="ru-RU" sz="4400" spc="-1" strike="noStrike">
                <a:solidFill>
                  <a:srgbClr val="e70303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e70303"/>
                </a:solidFill>
                <a:latin typeface="Comic Sans MS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79280" y="1125000"/>
            <a:ext cx="360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аз – на цыпочки подн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до всем, друзья, разм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2 – нагнулись до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И не раз, раза 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3 – руками помах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ши рученьки у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 4 – руки в б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Дружно делаем подск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5 – присели раза д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6 – за парты нам п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MC900235179[1]"/>
          <p:cNvPicPr/>
          <p:nvPr/>
        </p:nvPicPr>
        <p:blipFill>
          <a:blip r:embed="rId2"/>
          <a:stretch/>
        </p:blipFill>
        <p:spPr>
          <a:xfrm>
            <a:off x="5292720" y="2133720"/>
            <a:ext cx="3390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Documents and Settings\Владелец\Мои документы\Мои рисунки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Планета </a:t>
            </a:r>
            <a:br>
              <a:rPr sz="4800"/>
            </a:b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«Кроссвордн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19" descr="положительн.JPG"/>
          <p:cNvPicPr/>
          <p:nvPr/>
        </p:nvPicPr>
        <p:blipFill>
          <a:blip r:embed="rId1"/>
          <a:stretch/>
        </p:blipFill>
        <p:spPr>
          <a:xfrm>
            <a:off x="1219320" y="68580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3048120" y="2286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россвор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858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нак математическ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5"/>
          <p:cNvSpPr/>
          <p:nvPr/>
        </p:nvSpPr>
        <p:spPr>
          <a:xfrm>
            <a:off x="609480" y="54100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Число, показывающее положение точки на пря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люс 96"/>
          <p:cNvSpPr/>
          <p:nvPr/>
        </p:nvSpPr>
        <p:spPr>
          <a:xfrm>
            <a:off x="8153280" y="685800"/>
            <a:ext cx="457200" cy="457200"/>
          </a:xfrm>
          <a:custGeom>
            <a:avLst/>
            <a:gdLst>
              <a:gd name="textAreaLeft" fmla="*/ 60480 w 457200"/>
              <a:gd name="textAreaRight" fmla="*/ 396720 w 457200"/>
              <a:gd name="textAreaTop" fmla="*/ 174960 h 457200"/>
              <a:gd name="textAreaBottom" fmla="*/ 282240 h 457200"/>
            </a:gdLst>
            <a:ahLst/>
            <a:rect l="textAreaLeft" t="textAreaTop" r="textAreaRight" b="textAreaBottom"/>
            <a:pathLst>
              <a:path w="457200" h="457200">
                <a:moveTo>
                  <a:pt x="60602" y="174833"/>
                </a:moveTo>
                <a:lnTo>
                  <a:pt x="174833" y="174833"/>
                </a:lnTo>
                <a:lnTo>
                  <a:pt x="174833" y="60602"/>
                </a:lnTo>
                <a:lnTo>
                  <a:pt x="282367" y="60602"/>
                </a:lnTo>
                <a:lnTo>
                  <a:pt x="282367" y="174833"/>
                </a:lnTo>
                <a:lnTo>
                  <a:pt x="396598" y="174833"/>
                </a:lnTo>
                <a:lnTo>
                  <a:pt x="396598" y="282367"/>
                </a:lnTo>
                <a:lnTo>
                  <a:pt x="282367" y="282367"/>
                </a:lnTo>
                <a:lnTo>
                  <a:pt x="282367" y="396598"/>
                </a:lnTo>
                <a:lnTo>
                  <a:pt x="174833" y="396598"/>
                </a:lnTo>
                <a:lnTo>
                  <a:pt x="174833" y="282367"/>
                </a:lnTo>
                <a:lnTo>
                  <a:pt x="60602" y="28236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6"/>
          <p:cNvSpPr/>
          <p:nvPr/>
        </p:nvSpPr>
        <p:spPr>
          <a:xfrm>
            <a:off x="5181480" y="762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7"/>
          <p:cNvSpPr/>
          <p:nvPr/>
        </p:nvSpPr>
        <p:spPr>
          <a:xfrm>
            <a:off x="5486400" y="762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8"/>
          <p:cNvSpPr/>
          <p:nvPr/>
        </p:nvSpPr>
        <p:spPr>
          <a:xfrm>
            <a:off x="5791320" y="762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9"/>
          <p:cNvSpPr/>
          <p:nvPr/>
        </p:nvSpPr>
        <p:spPr>
          <a:xfrm>
            <a:off x="6172200" y="762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0"/>
          <p:cNvSpPr/>
          <p:nvPr/>
        </p:nvSpPr>
        <p:spPr>
          <a:xfrm>
            <a:off x="44956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7"/>
          <p:cNvSpPr/>
          <p:nvPr/>
        </p:nvSpPr>
        <p:spPr>
          <a:xfrm>
            <a:off x="51814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0"/>
          <p:cNvSpPr/>
          <p:nvPr/>
        </p:nvSpPr>
        <p:spPr>
          <a:xfrm>
            <a:off x="548640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1"/>
          <p:cNvSpPr/>
          <p:nvPr/>
        </p:nvSpPr>
        <p:spPr>
          <a:xfrm>
            <a:off x="480060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2"/>
          <p:cNvSpPr/>
          <p:nvPr/>
        </p:nvSpPr>
        <p:spPr>
          <a:xfrm>
            <a:off x="518148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3"/>
          <p:cNvSpPr/>
          <p:nvPr/>
        </p:nvSpPr>
        <p:spPr>
          <a:xfrm>
            <a:off x="220968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4"/>
          <p:cNvSpPr/>
          <p:nvPr/>
        </p:nvSpPr>
        <p:spPr>
          <a:xfrm>
            <a:off x="35053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5"/>
          <p:cNvSpPr/>
          <p:nvPr/>
        </p:nvSpPr>
        <p:spPr>
          <a:xfrm>
            <a:off x="41911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6"/>
          <p:cNvSpPr/>
          <p:nvPr/>
        </p:nvSpPr>
        <p:spPr>
          <a:xfrm>
            <a:off x="48006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7"/>
          <p:cNvSpPr/>
          <p:nvPr/>
        </p:nvSpPr>
        <p:spPr>
          <a:xfrm>
            <a:off x="4191120" y="3352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2"/>
          <p:cNvSpPr/>
          <p:nvPr/>
        </p:nvSpPr>
        <p:spPr>
          <a:xfrm>
            <a:off x="44956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13"/>
          <p:cNvSpPr/>
          <p:nvPr/>
        </p:nvSpPr>
        <p:spPr>
          <a:xfrm>
            <a:off x="41911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4"/>
          <p:cNvSpPr/>
          <p:nvPr/>
        </p:nvSpPr>
        <p:spPr>
          <a:xfrm>
            <a:off x="5791320" y="1066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15"/>
          <p:cNvSpPr/>
          <p:nvPr/>
        </p:nvSpPr>
        <p:spPr>
          <a:xfrm>
            <a:off x="6477120" y="1066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16"/>
          <p:cNvSpPr/>
          <p:nvPr/>
        </p:nvSpPr>
        <p:spPr>
          <a:xfrm>
            <a:off x="67816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17"/>
          <p:cNvSpPr/>
          <p:nvPr/>
        </p:nvSpPr>
        <p:spPr>
          <a:xfrm>
            <a:off x="74674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8"/>
          <p:cNvSpPr/>
          <p:nvPr/>
        </p:nvSpPr>
        <p:spPr>
          <a:xfrm>
            <a:off x="617220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20"/>
          <p:cNvSpPr/>
          <p:nvPr/>
        </p:nvSpPr>
        <p:spPr>
          <a:xfrm>
            <a:off x="7162920" y="1066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Группа 138"/>
          <p:cNvGrpSpPr/>
          <p:nvPr/>
        </p:nvGrpSpPr>
        <p:grpSpPr>
          <a:xfrm>
            <a:off x="1600200" y="5791320"/>
            <a:ext cx="3277080" cy="902160"/>
            <a:chOff x="1600200" y="5791320"/>
            <a:chExt cx="3277080" cy="902160"/>
          </a:xfrm>
        </p:grpSpPr>
        <p:cxnSp>
          <p:nvCxnSpPr>
            <p:cNvPr id="201" name="Прямая со стрелкой 122"/>
            <p:cNvCxnSpPr/>
            <p:nvPr/>
          </p:nvCxnSpPr>
          <p:spPr>
            <a:xfrm>
              <a:off x="1600200" y="6172200"/>
              <a:ext cx="327744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02" name="Прямая соединительная линия 124"/>
            <p:cNvSpPr/>
            <p:nvPr/>
          </p:nvSpPr>
          <p:spPr>
            <a:xfrm flipH="1">
              <a:off x="274320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125"/>
            <p:cNvSpPr/>
            <p:nvPr/>
          </p:nvSpPr>
          <p:spPr>
            <a:xfrm flipH="1">
              <a:off x="312408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126"/>
            <p:cNvSpPr/>
            <p:nvPr/>
          </p:nvSpPr>
          <p:spPr>
            <a:xfrm flipH="1">
              <a:off x="350532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127"/>
            <p:cNvSpPr/>
            <p:nvPr/>
          </p:nvSpPr>
          <p:spPr>
            <a:xfrm flipH="1">
              <a:off x="388620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28"/>
            <p:cNvSpPr/>
            <p:nvPr/>
          </p:nvSpPr>
          <p:spPr>
            <a:xfrm flipH="1">
              <a:off x="236196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129"/>
            <p:cNvSpPr/>
            <p:nvPr/>
          </p:nvSpPr>
          <p:spPr>
            <a:xfrm flipH="1">
              <a:off x="1981080" y="60958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Овал 133"/>
            <p:cNvSpPr/>
            <p:nvPr/>
          </p:nvSpPr>
          <p:spPr>
            <a:xfrm>
              <a:off x="3429000" y="6095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34"/>
            <p:cNvSpPr/>
            <p:nvPr/>
          </p:nvSpPr>
          <p:spPr>
            <a:xfrm>
              <a:off x="3353040" y="6325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35"/>
            <p:cNvSpPr/>
            <p:nvPr/>
          </p:nvSpPr>
          <p:spPr>
            <a:xfrm>
              <a:off x="3429000" y="57913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36"/>
            <p:cNvSpPr/>
            <p:nvPr/>
          </p:nvSpPr>
          <p:spPr>
            <a:xfrm>
              <a:off x="2590920" y="57913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39"/>
          <p:cNvSpPr/>
          <p:nvPr/>
        </p:nvSpPr>
        <p:spPr>
          <a:xfrm>
            <a:off x="380880" y="54864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азовите одним словом следующие числа: - 1; - 0,3; -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40"/>
          <p:cNvSpPr/>
          <p:nvPr/>
        </p:nvSpPr>
        <p:spPr>
          <a:xfrm>
            <a:off x="28195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41"/>
          <p:cNvSpPr/>
          <p:nvPr/>
        </p:nvSpPr>
        <p:spPr>
          <a:xfrm>
            <a:off x="44956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42"/>
          <p:cNvSpPr/>
          <p:nvPr/>
        </p:nvSpPr>
        <p:spPr>
          <a:xfrm>
            <a:off x="41148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3"/>
          <p:cNvSpPr/>
          <p:nvPr/>
        </p:nvSpPr>
        <p:spPr>
          <a:xfrm>
            <a:off x="31240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44"/>
          <p:cNvSpPr/>
          <p:nvPr/>
        </p:nvSpPr>
        <p:spPr>
          <a:xfrm>
            <a:off x="35053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45"/>
          <p:cNvSpPr/>
          <p:nvPr/>
        </p:nvSpPr>
        <p:spPr>
          <a:xfrm>
            <a:off x="38098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46"/>
          <p:cNvSpPr/>
          <p:nvPr/>
        </p:nvSpPr>
        <p:spPr>
          <a:xfrm>
            <a:off x="4800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47"/>
          <p:cNvSpPr/>
          <p:nvPr/>
        </p:nvSpPr>
        <p:spPr>
          <a:xfrm>
            <a:off x="51814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8"/>
          <p:cNvSpPr/>
          <p:nvPr/>
        </p:nvSpPr>
        <p:spPr>
          <a:xfrm>
            <a:off x="54864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9"/>
          <p:cNvSpPr/>
          <p:nvPr/>
        </p:nvSpPr>
        <p:spPr>
          <a:xfrm>
            <a:off x="61722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50"/>
          <p:cNvSpPr/>
          <p:nvPr/>
        </p:nvSpPr>
        <p:spPr>
          <a:xfrm>
            <a:off x="57913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51"/>
          <p:cNvSpPr/>
          <p:nvPr/>
        </p:nvSpPr>
        <p:spPr>
          <a:xfrm>
            <a:off x="64771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2"/>
          <p:cNvSpPr/>
          <p:nvPr/>
        </p:nvSpPr>
        <p:spPr>
          <a:xfrm>
            <a:off x="579132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5"/>
          <p:cNvSpPr/>
          <p:nvPr/>
        </p:nvSpPr>
        <p:spPr>
          <a:xfrm>
            <a:off x="243828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6"/>
          <p:cNvSpPr/>
          <p:nvPr/>
        </p:nvSpPr>
        <p:spPr>
          <a:xfrm>
            <a:off x="609588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57"/>
          <p:cNvSpPr/>
          <p:nvPr/>
        </p:nvSpPr>
        <p:spPr>
          <a:xfrm>
            <a:off x="647712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8"/>
          <p:cNvSpPr/>
          <p:nvPr/>
        </p:nvSpPr>
        <p:spPr>
          <a:xfrm>
            <a:off x="548640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59"/>
          <p:cNvSpPr/>
          <p:nvPr/>
        </p:nvSpPr>
        <p:spPr>
          <a:xfrm>
            <a:off x="0" y="54100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Природный объект, взятый за начало отсчета при определении высоты или глубины  какого-либо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60" descr="Закат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2438280"/>
            <a:ext cx="3733920" cy="274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61"/>
          <p:cNvSpPr/>
          <p:nvPr/>
        </p:nvSpPr>
        <p:spPr>
          <a:xfrm>
            <a:off x="304920" y="57913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Два числа, которые отличаются друг от друга только знаком называю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2"/>
          <p:cNvSpPr/>
          <p:nvPr/>
        </p:nvSpPr>
        <p:spPr>
          <a:xfrm>
            <a:off x="69343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 и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64"/>
          <p:cNvSpPr/>
          <p:nvPr/>
        </p:nvSpPr>
        <p:spPr>
          <a:xfrm>
            <a:off x="152388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5"/>
          <p:cNvSpPr/>
          <p:nvPr/>
        </p:nvSpPr>
        <p:spPr>
          <a:xfrm>
            <a:off x="18288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7"/>
          <p:cNvSpPr/>
          <p:nvPr/>
        </p:nvSpPr>
        <p:spPr>
          <a:xfrm>
            <a:off x="251460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8"/>
          <p:cNvSpPr/>
          <p:nvPr/>
        </p:nvSpPr>
        <p:spPr>
          <a:xfrm>
            <a:off x="281952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1"/>
          <p:cNvSpPr/>
          <p:nvPr/>
        </p:nvSpPr>
        <p:spPr>
          <a:xfrm>
            <a:off x="320040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72"/>
          <p:cNvSpPr/>
          <p:nvPr/>
        </p:nvSpPr>
        <p:spPr>
          <a:xfrm>
            <a:off x="380988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73"/>
          <p:cNvSpPr/>
          <p:nvPr/>
        </p:nvSpPr>
        <p:spPr>
          <a:xfrm>
            <a:off x="449568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4"/>
          <p:cNvSpPr/>
          <p:nvPr/>
        </p:nvSpPr>
        <p:spPr>
          <a:xfrm>
            <a:off x="54864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75"/>
          <p:cNvSpPr/>
          <p:nvPr/>
        </p:nvSpPr>
        <p:spPr>
          <a:xfrm>
            <a:off x="51055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76"/>
          <p:cNvSpPr/>
          <p:nvPr/>
        </p:nvSpPr>
        <p:spPr>
          <a:xfrm>
            <a:off x="57913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7"/>
          <p:cNvSpPr/>
          <p:nvPr/>
        </p:nvSpPr>
        <p:spPr>
          <a:xfrm>
            <a:off x="6172200" y="2057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78"/>
          <p:cNvSpPr/>
          <p:nvPr/>
        </p:nvSpPr>
        <p:spPr>
          <a:xfrm>
            <a:off x="228600" y="5791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Какой знак нужно использовать, чтобы записать число, противоположное числ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9"/>
          <p:cNvSpPr/>
          <p:nvPr/>
        </p:nvSpPr>
        <p:spPr>
          <a:xfrm>
            <a:off x="48006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0"/>
          <p:cNvSpPr/>
          <p:nvPr/>
        </p:nvSpPr>
        <p:spPr>
          <a:xfrm>
            <a:off x="54864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1"/>
          <p:cNvSpPr/>
          <p:nvPr/>
        </p:nvSpPr>
        <p:spPr>
          <a:xfrm>
            <a:off x="5105520" y="2362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82"/>
          <p:cNvSpPr/>
          <p:nvPr/>
        </p:nvSpPr>
        <p:spPr>
          <a:xfrm>
            <a:off x="5791320" y="2362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83"/>
          <p:cNvSpPr/>
          <p:nvPr/>
        </p:nvSpPr>
        <p:spPr>
          <a:xfrm>
            <a:off x="6172200" y="236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84"/>
          <p:cNvSpPr/>
          <p:nvPr/>
        </p:nvSpPr>
        <p:spPr>
          <a:xfrm>
            <a:off x="6705720" y="2514600"/>
            <a:ext cx="91440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85"/>
          <p:cNvSpPr/>
          <p:nvPr/>
        </p:nvSpPr>
        <p:spPr>
          <a:xfrm>
            <a:off x="380880" y="6019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 сколько единиц переместилась точка Р (4) по координатной прямой, если она попала в точку К(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95"/>
          <p:cNvSpPr/>
          <p:nvPr/>
        </p:nvSpPr>
        <p:spPr>
          <a:xfrm>
            <a:off x="28195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96"/>
          <p:cNvSpPr/>
          <p:nvPr/>
        </p:nvSpPr>
        <p:spPr>
          <a:xfrm>
            <a:off x="281952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200"/>
          <p:cNvSpPr/>
          <p:nvPr/>
        </p:nvSpPr>
        <p:spPr>
          <a:xfrm>
            <a:off x="2895480" y="365760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Группа 214"/>
          <p:cNvGrpSpPr/>
          <p:nvPr/>
        </p:nvGrpSpPr>
        <p:grpSpPr>
          <a:xfrm>
            <a:off x="304560" y="3352680"/>
            <a:ext cx="3276720" cy="534960"/>
            <a:chOff x="304560" y="3352680"/>
            <a:chExt cx="3276720" cy="534960"/>
          </a:xfrm>
        </p:grpSpPr>
        <p:cxnSp>
          <p:nvCxnSpPr>
            <p:cNvPr id="257" name="Прямая со стрелкой 187"/>
            <p:cNvCxnSpPr/>
            <p:nvPr/>
          </p:nvCxnSpPr>
          <p:spPr>
            <a:xfrm>
              <a:off x="304560" y="3733560"/>
              <a:ext cx="327708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58" name="Прямая соединительная линия 188"/>
            <p:cNvSpPr/>
            <p:nvPr/>
          </p:nvSpPr>
          <p:spPr>
            <a:xfrm flipH="1">
              <a:off x="144792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89"/>
            <p:cNvSpPr/>
            <p:nvPr/>
          </p:nvSpPr>
          <p:spPr>
            <a:xfrm flipH="1">
              <a:off x="182880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90"/>
            <p:cNvSpPr/>
            <p:nvPr/>
          </p:nvSpPr>
          <p:spPr>
            <a:xfrm flipH="1">
              <a:off x="220968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91"/>
            <p:cNvSpPr/>
            <p:nvPr/>
          </p:nvSpPr>
          <p:spPr>
            <a:xfrm flipH="1">
              <a:off x="2589120" y="365904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92"/>
            <p:cNvSpPr/>
            <p:nvPr/>
          </p:nvSpPr>
          <p:spPr>
            <a:xfrm flipH="1">
              <a:off x="106668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93"/>
            <p:cNvSpPr/>
            <p:nvPr/>
          </p:nvSpPr>
          <p:spPr>
            <a:xfrm flipH="1">
              <a:off x="68580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97"/>
            <p:cNvSpPr/>
            <p:nvPr/>
          </p:nvSpPr>
          <p:spPr>
            <a:xfrm>
              <a:off x="129528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98"/>
            <p:cNvSpPr/>
            <p:nvPr/>
          </p:nvSpPr>
          <p:spPr>
            <a:xfrm flipH="1">
              <a:off x="297180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201"/>
            <p:cNvSpPr/>
            <p:nvPr/>
          </p:nvSpPr>
          <p:spPr>
            <a:xfrm flipH="1">
              <a:off x="685800" y="36576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02"/>
          <p:cNvSpPr/>
          <p:nvPr/>
        </p:nvSpPr>
        <p:spPr>
          <a:xfrm>
            <a:off x="3808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3"/>
          <p:cNvSpPr/>
          <p:nvPr/>
        </p:nvSpPr>
        <p:spPr>
          <a:xfrm>
            <a:off x="533520" y="396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5"/>
          <p:cNvSpPr/>
          <p:nvPr/>
        </p:nvSpPr>
        <p:spPr>
          <a:xfrm>
            <a:off x="480060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16"/>
          <p:cNvSpPr/>
          <p:nvPr/>
        </p:nvSpPr>
        <p:spPr>
          <a:xfrm>
            <a:off x="4114800" y="2666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17"/>
          <p:cNvSpPr/>
          <p:nvPr/>
        </p:nvSpPr>
        <p:spPr>
          <a:xfrm>
            <a:off x="44956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18"/>
          <p:cNvSpPr/>
          <p:nvPr/>
        </p:nvSpPr>
        <p:spPr>
          <a:xfrm>
            <a:off x="5105520" y="2666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19"/>
          <p:cNvSpPr/>
          <p:nvPr/>
        </p:nvSpPr>
        <p:spPr>
          <a:xfrm>
            <a:off x="548640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20"/>
          <p:cNvSpPr/>
          <p:nvPr/>
        </p:nvSpPr>
        <p:spPr>
          <a:xfrm>
            <a:off x="2590920" y="6248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овите координату точки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Группа 221"/>
          <p:cNvGrpSpPr/>
          <p:nvPr/>
        </p:nvGrpSpPr>
        <p:grpSpPr>
          <a:xfrm>
            <a:off x="228600" y="4343400"/>
            <a:ext cx="3581640" cy="901800"/>
            <a:chOff x="228600" y="4343400"/>
            <a:chExt cx="3581640" cy="901800"/>
          </a:xfrm>
        </p:grpSpPr>
        <p:cxnSp>
          <p:nvCxnSpPr>
            <p:cNvPr id="276" name="Прямая со стрелкой 222"/>
            <p:cNvCxnSpPr/>
            <p:nvPr/>
          </p:nvCxnSpPr>
          <p:spPr>
            <a:xfrm>
              <a:off x="228600" y="4800600"/>
              <a:ext cx="358200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77" name="Прямая соединительная линия 223"/>
            <p:cNvSpPr/>
            <p:nvPr/>
          </p:nvSpPr>
          <p:spPr>
            <a:xfrm flipH="1">
              <a:off x="129528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224"/>
            <p:cNvSpPr/>
            <p:nvPr/>
          </p:nvSpPr>
          <p:spPr>
            <a:xfrm flipH="1">
              <a:off x="160020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225"/>
            <p:cNvSpPr/>
            <p:nvPr/>
          </p:nvSpPr>
          <p:spPr>
            <a:xfrm flipH="1">
              <a:off x="190476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226"/>
            <p:cNvSpPr/>
            <p:nvPr/>
          </p:nvSpPr>
          <p:spPr>
            <a:xfrm flipH="1">
              <a:off x="2209680" y="472428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227"/>
            <p:cNvSpPr/>
            <p:nvPr/>
          </p:nvSpPr>
          <p:spPr>
            <a:xfrm flipH="1">
              <a:off x="990360" y="4724280"/>
              <a:ext cx="144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Прямая соединительная линия 228"/>
            <p:cNvSpPr/>
            <p:nvPr/>
          </p:nvSpPr>
          <p:spPr>
            <a:xfrm flipH="1">
              <a:off x="68580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29"/>
            <p:cNvSpPr/>
            <p:nvPr/>
          </p:nvSpPr>
          <p:spPr>
            <a:xfrm>
              <a:off x="2971800" y="4876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231"/>
            <p:cNvSpPr/>
            <p:nvPr/>
          </p:nvSpPr>
          <p:spPr>
            <a:xfrm flipH="1">
              <a:off x="380880" y="472428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232"/>
            <p:cNvSpPr/>
            <p:nvPr/>
          </p:nvSpPr>
          <p:spPr>
            <a:xfrm>
              <a:off x="838080" y="4343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285"/>
            <p:cNvSpPr/>
            <p:nvPr/>
          </p:nvSpPr>
          <p:spPr>
            <a:xfrm flipH="1">
              <a:off x="2514600" y="472428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289"/>
            <p:cNvSpPr/>
            <p:nvPr/>
          </p:nvSpPr>
          <p:spPr>
            <a:xfrm flipH="1">
              <a:off x="3124080" y="4724280"/>
              <a:ext cx="28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290"/>
            <p:cNvSpPr/>
            <p:nvPr/>
          </p:nvSpPr>
          <p:spPr>
            <a:xfrm flipH="1">
              <a:off x="2819520" y="472428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Box 233"/>
          <p:cNvSpPr/>
          <p:nvPr/>
        </p:nvSpPr>
        <p:spPr>
          <a:xfrm>
            <a:off x="4800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34"/>
          <p:cNvSpPr/>
          <p:nvPr/>
        </p:nvSpPr>
        <p:spPr>
          <a:xfrm>
            <a:off x="51055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35"/>
          <p:cNvSpPr/>
          <p:nvPr/>
        </p:nvSpPr>
        <p:spPr>
          <a:xfrm>
            <a:off x="54864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36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7"/>
          <p:cNvSpPr/>
          <p:nvPr/>
        </p:nvSpPr>
        <p:spPr>
          <a:xfrm>
            <a:off x="457200" y="5562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Расстояние (в единичных отрезках) от начала координат до точки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264"/>
          <p:cNvGrpSpPr/>
          <p:nvPr/>
        </p:nvGrpSpPr>
        <p:grpSpPr>
          <a:xfrm>
            <a:off x="380880" y="2286000"/>
            <a:ext cx="3277080" cy="978480"/>
            <a:chOff x="380880" y="2286000"/>
            <a:chExt cx="3277080" cy="978480"/>
          </a:xfrm>
        </p:grpSpPr>
        <p:cxnSp>
          <p:nvCxnSpPr>
            <p:cNvPr id="295" name="Прямая со стрелкой 265"/>
            <p:cNvCxnSpPr/>
            <p:nvPr/>
          </p:nvCxnSpPr>
          <p:spPr>
            <a:xfrm>
              <a:off x="380880" y="2819520"/>
              <a:ext cx="327744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96" name="Прямая соединительная линия 266"/>
            <p:cNvSpPr/>
            <p:nvPr/>
          </p:nvSpPr>
          <p:spPr>
            <a:xfrm flipH="1">
              <a:off x="152388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267"/>
            <p:cNvSpPr/>
            <p:nvPr/>
          </p:nvSpPr>
          <p:spPr>
            <a:xfrm flipH="1">
              <a:off x="190476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268"/>
            <p:cNvSpPr/>
            <p:nvPr/>
          </p:nvSpPr>
          <p:spPr>
            <a:xfrm flipH="1">
              <a:off x="228600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269"/>
            <p:cNvSpPr/>
            <p:nvPr/>
          </p:nvSpPr>
          <p:spPr>
            <a:xfrm flipH="1">
              <a:off x="2665440" y="2744640"/>
              <a:ext cx="288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Прямая соединительная линия 270"/>
            <p:cNvSpPr/>
            <p:nvPr/>
          </p:nvSpPr>
          <p:spPr>
            <a:xfrm flipH="1">
              <a:off x="114264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Прямая соединительная линия 271"/>
            <p:cNvSpPr/>
            <p:nvPr/>
          </p:nvSpPr>
          <p:spPr>
            <a:xfrm flipH="1">
              <a:off x="76176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72"/>
            <p:cNvSpPr/>
            <p:nvPr/>
          </p:nvSpPr>
          <p:spPr>
            <a:xfrm>
              <a:off x="2971800" y="289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ая соединительная линия 273"/>
            <p:cNvSpPr/>
            <p:nvPr/>
          </p:nvSpPr>
          <p:spPr>
            <a:xfrm flipH="1">
              <a:off x="304812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Прямая соединительная линия 274"/>
            <p:cNvSpPr/>
            <p:nvPr/>
          </p:nvSpPr>
          <p:spPr>
            <a:xfrm flipH="1">
              <a:off x="761760" y="2743200"/>
              <a:ext cx="1440" cy="228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75"/>
            <p:cNvSpPr/>
            <p:nvPr/>
          </p:nvSpPr>
          <p:spPr>
            <a:xfrm>
              <a:off x="1066680" y="22860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Левая фигурная скобка 278"/>
          <p:cNvSpPr/>
          <p:nvPr/>
        </p:nvSpPr>
        <p:spPr>
          <a:xfrm rot="16200000">
            <a:off x="1981080" y="20566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 h 1905120"/>
              <a:gd name="textAreaBottom" fmla="*/ 189936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6"/>
                </a:cubicBezTo>
                <a:lnTo>
                  <a:pt x="10800" y="10584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8"/>
                  <a:pt x="10800" y="11016"/>
                </a:cubicBezTo>
                <a:lnTo>
                  <a:pt x="10800" y="21384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79"/>
          <p:cNvSpPr/>
          <p:nvPr/>
        </p:nvSpPr>
        <p:spPr>
          <a:xfrm>
            <a:off x="449568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80"/>
          <p:cNvSpPr/>
          <p:nvPr/>
        </p:nvSpPr>
        <p:spPr>
          <a:xfrm>
            <a:off x="380988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81"/>
          <p:cNvSpPr/>
          <p:nvPr/>
        </p:nvSpPr>
        <p:spPr>
          <a:xfrm>
            <a:off x="5105520" y="3352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82"/>
          <p:cNvSpPr/>
          <p:nvPr/>
        </p:nvSpPr>
        <p:spPr>
          <a:xfrm>
            <a:off x="480060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83"/>
          <p:cNvSpPr/>
          <p:nvPr/>
        </p:nvSpPr>
        <p:spPr>
          <a:xfrm>
            <a:off x="548640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38"/>
          <p:cNvSpPr/>
          <p:nvPr/>
        </p:nvSpPr>
        <p:spPr>
          <a:xfrm>
            <a:off x="1447920" y="53341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Поставьте знак в сравнении чисел: 2 и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53"/>
          <p:cNvSpPr/>
          <p:nvPr/>
        </p:nvSpPr>
        <p:spPr>
          <a:xfrm>
            <a:off x="419112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54"/>
          <p:cNvSpPr/>
          <p:nvPr/>
        </p:nvSpPr>
        <p:spPr>
          <a:xfrm>
            <a:off x="48006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63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66"/>
          <p:cNvSpPr/>
          <p:nvPr/>
        </p:nvSpPr>
        <p:spPr>
          <a:xfrm>
            <a:off x="5486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69"/>
          <p:cNvSpPr/>
          <p:nvPr/>
        </p:nvSpPr>
        <p:spPr>
          <a:xfrm>
            <a:off x="57913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70"/>
          <p:cNvSpPr/>
          <p:nvPr/>
        </p:nvSpPr>
        <p:spPr>
          <a:xfrm>
            <a:off x="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Назовите модуль числ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-1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6"/>
          <p:cNvSpPr/>
          <p:nvPr/>
        </p:nvSpPr>
        <p:spPr>
          <a:xfrm>
            <a:off x="449568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94"/>
          <p:cNvSpPr/>
          <p:nvPr/>
        </p:nvSpPr>
        <p:spPr>
          <a:xfrm>
            <a:off x="4800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97"/>
          <p:cNvSpPr/>
          <p:nvPr/>
        </p:nvSpPr>
        <p:spPr>
          <a:xfrm>
            <a:off x="51055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99"/>
          <p:cNvSpPr/>
          <p:nvPr/>
        </p:nvSpPr>
        <p:spPr>
          <a:xfrm>
            <a:off x="380880" y="5181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Натуральные числа, противоположные им числа и ноль называю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04"/>
          <p:cNvSpPr/>
          <p:nvPr/>
        </p:nvSpPr>
        <p:spPr>
          <a:xfrm>
            <a:off x="480060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05"/>
          <p:cNvSpPr/>
          <p:nvPr/>
        </p:nvSpPr>
        <p:spPr>
          <a:xfrm>
            <a:off x="411480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06"/>
          <p:cNvSpPr/>
          <p:nvPr/>
        </p:nvSpPr>
        <p:spPr>
          <a:xfrm>
            <a:off x="44956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07"/>
          <p:cNvSpPr/>
          <p:nvPr/>
        </p:nvSpPr>
        <p:spPr>
          <a:xfrm>
            <a:off x="51055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08"/>
          <p:cNvSpPr/>
          <p:nvPr/>
        </p:nvSpPr>
        <p:spPr>
          <a:xfrm>
            <a:off x="548640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9"/>
          <p:cNvSpPr/>
          <p:nvPr/>
        </p:nvSpPr>
        <p:spPr>
          <a:xfrm>
            <a:off x="380880" y="5181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Определите насколько изменились показания термометра за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10"/>
          <p:cNvSpPr/>
          <p:nvPr/>
        </p:nvSpPr>
        <p:spPr>
          <a:xfrm>
            <a:off x="54864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11"/>
          <p:cNvSpPr/>
          <p:nvPr/>
        </p:nvSpPr>
        <p:spPr>
          <a:xfrm>
            <a:off x="51055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12"/>
          <p:cNvSpPr/>
          <p:nvPr/>
        </p:nvSpPr>
        <p:spPr>
          <a:xfrm>
            <a:off x="4800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13"/>
          <p:cNvSpPr/>
          <p:nvPr/>
        </p:nvSpPr>
        <p:spPr>
          <a:xfrm>
            <a:off x="57913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14"/>
          <p:cNvSpPr/>
          <p:nvPr/>
        </p:nvSpPr>
        <p:spPr>
          <a:xfrm>
            <a:off x="609588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21"/>
          <p:cNvSpPr/>
          <p:nvPr/>
        </p:nvSpPr>
        <p:spPr>
          <a:xfrm>
            <a:off x="64771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Группа 284"/>
          <p:cNvGrpSpPr/>
          <p:nvPr/>
        </p:nvGrpSpPr>
        <p:grpSpPr>
          <a:xfrm>
            <a:off x="1066680" y="2438280"/>
            <a:ext cx="1371600" cy="1981440"/>
            <a:chOff x="1066680" y="2438280"/>
            <a:chExt cx="1371600" cy="1981440"/>
          </a:xfrm>
        </p:grpSpPr>
        <p:grpSp>
          <p:nvGrpSpPr>
            <p:cNvPr id="336" name="Группа 254"/>
            <p:cNvGrpSpPr/>
            <p:nvPr/>
          </p:nvGrpSpPr>
          <p:grpSpPr>
            <a:xfrm>
              <a:off x="1066680" y="2438280"/>
              <a:ext cx="609480" cy="1981440"/>
              <a:chOff x="1066680" y="2438280"/>
              <a:chExt cx="609480" cy="1981440"/>
            </a:xfrm>
          </p:grpSpPr>
          <p:sp>
            <p:nvSpPr>
              <p:cNvPr id="337" name="Скругленный прямоугольник 229"/>
              <p:cNvSpPr/>
              <p:nvPr/>
            </p:nvSpPr>
            <p:spPr>
              <a:xfrm>
                <a:off x="1447560" y="2438280"/>
                <a:ext cx="228600" cy="198144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1981440"/>
                  <a:gd name="textAreaBottom" fmla="*/ 1970280 h 1981440"/>
                </a:gdLst>
                <a:ahLst/>
                <a:rect l="textAreaLeft" t="textAreaTop" r="textAreaRight" b="textAreaBottom"/>
                <a:pathLst>
                  <a:path w="21600" h="186962">
                    <a:moveTo>
                      <a:pt x="3600" y="0"/>
                    </a:moveTo>
                    <a:arcTo wR="3600" hR="3600" stAng="16200000" swAng="-5400000"/>
                    <a:lnTo>
                      <a:pt x="0" y="183362"/>
                    </a:lnTo>
                    <a:arcTo wR="3600" hR="3600" stAng="10800000" swAng="-5400000"/>
                    <a:lnTo>
                      <a:pt x="18000" y="1869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Прямая соединительная линия 238"/>
              <p:cNvSpPr/>
              <p:nvPr/>
            </p:nvSpPr>
            <p:spPr>
              <a:xfrm>
                <a:off x="1447560" y="403884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Прямая соединительная линия 240"/>
              <p:cNvSpPr/>
              <p:nvPr/>
            </p:nvSpPr>
            <p:spPr>
              <a:xfrm>
                <a:off x="1447560" y="373392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Прямая соединительная линия 242"/>
              <p:cNvSpPr/>
              <p:nvPr/>
            </p:nvSpPr>
            <p:spPr>
              <a:xfrm flipV="1">
                <a:off x="1446840" y="342900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Прямая соединительная линия 244"/>
              <p:cNvSpPr/>
              <p:nvPr/>
            </p:nvSpPr>
            <p:spPr>
              <a:xfrm>
                <a:off x="1447560" y="312408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Прямая соединительная линия 246"/>
              <p:cNvSpPr/>
              <p:nvPr/>
            </p:nvSpPr>
            <p:spPr>
              <a:xfrm>
                <a:off x="1447560" y="281916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248"/>
              <p:cNvSpPr/>
              <p:nvPr/>
            </p:nvSpPr>
            <p:spPr>
              <a:xfrm>
                <a:off x="1066680" y="29718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Прямоугольник 249"/>
              <p:cNvSpPr/>
              <p:nvPr/>
            </p:nvSpPr>
            <p:spPr>
              <a:xfrm>
                <a:off x="1447560" y="3124080"/>
                <a:ext cx="228600" cy="30456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Прямоугольник 250"/>
              <p:cNvSpPr/>
              <p:nvPr/>
            </p:nvSpPr>
            <p:spPr>
              <a:xfrm>
                <a:off x="1447560" y="3429000"/>
                <a:ext cx="228600" cy="30456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Прямоугольник 251"/>
              <p:cNvSpPr/>
              <p:nvPr/>
            </p:nvSpPr>
            <p:spPr>
              <a:xfrm>
                <a:off x="1447560" y="3733920"/>
                <a:ext cx="228600" cy="30456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Прямоугольник 252"/>
              <p:cNvSpPr/>
              <p:nvPr/>
            </p:nvSpPr>
            <p:spPr>
              <a:xfrm>
                <a:off x="1447560" y="4038840"/>
                <a:ext cx="228600" cy="38088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Прямоугольник 253"/>
              <p:cNvSpPr/>
              <p:nvPr/>
            </p:nvSpPr>
            <p:spPr>
              <a:xfrm>
                <a:off x="1447560" y="2819160"/>
                <a:ext cx="228600" cy="30456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Группа 277"/>
            <p:cNvGrpSpPr/>
            <p:nvPr/>
          </p:nvGrpSpPr>
          <p:grpSpPr>
            <a:xfrm>
              <a:off x="1828800" y="2438280"/>
              <a:ext cx="609480" cy="1981440"/>
              <a:chOff x="1828800" y="2438280"/>
              <a:chExt cx="609480" cy="1981440"/>
            </a:xfrm>
          </p:grpSpPr>
          <p:sp>
            <p:nvSpPr>
              <p:cNvPr id="350" name="Скругленный прямоугольник 256"/>
              <p:cNvSpPr/>
              <p:nvPr/>
            </p:nvSpPr>
            <p:spPr>
              <a:xfrm>
                <a:off x="2209680" y="2438280"/>
                <a:ext cx="228600" cy="198144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1981440"/>
                  <a:gd name="textAreaBottom" fmla="*/ 1970280 h 1981440"/>
                </a:gdLst>
                <a:ahLst/>
                <a:rect l="textAreaLeft" t="textAreaTop" r="textAreaRight" b="textAreaBottom"/>
                <a:pathLst>
                  <a:path w="21600" h="186962">
                    <a:moveTo>
                      <a:pt x="3600" y="0"/>
                    </a:moveTo>
                    <a:arcTo wR="3600" hR="3600" stAng="16200000" swAng="-5400000"/>
                    <a:lnTo>
                      <a:pt x="0" y="183362"/>
                    </a:lnTo>
                    <a:arcTo wR="3600" hR="3600" stAng="10800000" swAng="-5400000"/>
                    <a:lnTo>
                      <a:pt x="18000" y="1869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Прямая соединительная линия 257"/>
              <p:cNvSpPr/>
              <p:nvPr/>
            </p:nvSpPr>
            <p:spPr>
              <a:xfrm>
                <a:off x="2209680" y="403884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Прямая соединительная линия 258"/>
              <p:cNvSpPr/>
              <p:nvPr/>
            </p:nvSpPr>
            <p:spPr>
              <a:xfrm>
                <a:off x="2209680" y="373392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Прямая соединительная линия 259"/>
              <p:cNvSpPr/>
              <p:nvPr/>
            </p:nvSpPr>
            <p:spPr>
              <a:xfrm flipV="1">
                <a:off x="2208960" y="342900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Прямая соединительная линия 260"/>
              <p:cNvSpPr/>
              <p:nvPr/>
            </p:nvSpPr>
            <p:spPr>
              <a:xfrm>
                <a:off x="2209680" y="312408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Прямая соединительная линия 261"/>
              <p:cNvSpPr/>
              <p:nvPr/>
            </p:nvSpPr>
            <p:spPr>
              <a:xfrm>
                <a:off x="2209680" y="281916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262"/>
              <p:cNvSpPr/>
              <p:nvPr/>
            </p:nvSpPr>
            <p:spPr>
              <a:xfrm>
                <a:off x="1828800" y="2971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Прямоугольник 275"/>
              <p:cNvSpPr/>
              <p:nvPr/>
            </p:nvSpPr>
            <p:spPr>
              <a:xfrm>
                <a:off x="2209680" y="4038840"/>
                <a:ext cx="228600" cy="380880"/>
              </a:xfrm>
              <a:prstGeom prst="rect">
                <a:avLst/>
              </a:prstGeom>
              <a:solidFill>
                <a:srgbClr val="737373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2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6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44444E-006 L -0.25 -4.44444E-006 E">
                                      <p:cBhvr>
                                        <p:cTn id="12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8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0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2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0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0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Documents and Settings\Владелец\Мои документы\Мои рисунки\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303"/>
                </a:solidFill>
                <a:latin typeface="Arial"/>
              </a:rPr>
              <a:t>Планета </a:t>
            </a:r>
            <a:r>
              <a:rPr b="1" lang="ru-RU" sz="5400" spc="-1" strike="noStrike">
                <a:solidFill>
                  <a:srgbClr val="e70303"/>
                </a:solidFill>
                <a:latin typeface="Arial"/>
              </a:rPr>
              <a:t>«Мудрец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e9ed"/>
                </a:solidFill>
                <a:latin typeface="Comic Sans MS"/>
              </a:rPr>
              <a:t>ЭКИПАЖ</a:t>
            </a:r>
            <a:r>
              <a:rPr b="1" lang="ru-RU" sz="4400" spc="-1" strike="noStrike">
                <a:solidFill>
                  <a:srgbClr val="37e9ed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командир  экип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пило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второй пило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бортинжене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инженер-исследоват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космонавт-исследоват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303"/>
                </a:solidFill>
                <a:latin typeface="Comic Sans MS"/>
              </a:rPr>
              <a:t>врач-исследов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100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Дублёр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командира  экипа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пилот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второго пилот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бортинженер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инженера-исследовател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космонавта-исследовател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e703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0303"/>
                </a:solidFill>
                <a:latin typeface="Comic Sans MS"/>
              </a:rPr>
              <a:t>врача-исследоват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5"/>
          <p:cNvSpPr/>
          <p:nvPr/>
        </p:nvSpPr>
        <p:spPr>
          <a:xfrm>
            <a:off x="1071720" y="142920"/>
            <a:ext cx="7678440" cy="1079280"/>
          </a:xfrm>
          <a:prstGeom prst="wedgeRoundRectCallout">
            <a:avLst>
              <a:gd name="adj1" fmla="val 21324"/>
              <a:gd name="adj2" fmla="val 50555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Задание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545400" y="1814400"/>
            <a:ext cx="82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Даны  чис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Используя  каждое 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по  одному  разу,  составьте  три  ве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240000" y="1773360"/>
            <a:ext cx="5904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Times New Roman"/>
              </a:rPr>
              <a:t>-1; -2; -3; -4; -5; -6; -7; -8; -9; 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2"/>
          <p:cNvGrpSpPr/>
          <p:nvPr/>
        </p:nvGrpSpPr>
        <p:grpSpPr>
          <a:xfrm>
            <a:off x="1835280" y="3789360"/>
            <a:ext cx="3214440" cy="812880"/>
            <a:chOff x="1835280" y="3789360"/>
            <a:chExt cx="3214440" cy="812880"/>
          </a:xfrm>
        </p:grpSpPr>
        <p:sp>
          <p:nvSpPr>
            <p:cNvPr id="364" name="AutoShape 9"/>
            <p:cNvSpPr/>
            <p:nvPr/>
          </p:nvSpPr>
          <p:spPr>
            <a:xfrm>
              <a:off x="1835280" y="3789360"/>
              <a:ext cx="321444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1"/>
            <p:cNvSpPr/>
            <p:nvPr/>
          </p:nvSpPr>
          <p:spPr>
            <a:xfrm>
              <a:off x="1892520" y="3967200"/>
              <a:ext cx="30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-1 + (-4) = -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1835280" y="4797360"/>
            <a:ext cx="3214440" cy="812880"/>
            <a:chOff x="1835280" y="4797360"/>
            <a:chExt cx="3214440" cy="812880"/>
          </a:xfrm>
        </p:grpSpPr>
        <p:sp>
          <p:nvSpPr>
            <p:cNvPr id="367" name="AutoShape 14"/>
            <p:cNvSpPr/>
            <p:nvPr/>
          </p:nvSpPr>
          <p:spPr>
            <a:xfrm>
              <a:off x="1835280" y="4797360"/>
              <a:ext cx="321444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5"/>
            <p:cNvSpPr/>
            <p:nvPr/>
          </p:nvSpPr>
          <p:spPr>
            <a:xfrm>
              <a:off x="1892520" y="4975200"/>
              <a:ext cx="30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-2 + (-6) = -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1835280" y="5805360"/>
            <a:ext cx="3214440" cy="812880"/>
            <a:chOff x="1835280" y="5805360"/>
            <a:chExt cx="3214440" cy="812880"/>
          </a:xfrm>
        </p:grpSpPr>
        <p:sp>
          <p:nvSpPr>
            <p:cNvPr id="370" name="AutoShape 17"/>
            <p:cNvSpPr/>
            <p:nvPr/>
          </p:nvSpPr>
          <p:spPr>
            <a:xfrm>
              <a:off x="1835280" y="5805360"/>
              <a:ext cx="3214440" cy="81288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8"/>
            <p:cNvSpPr/>
            <p:nvPr/>
          </p:nvSpPr>
          <p:spPr>
            <a:xfrm>
              <a:off x="1892520" y="5983200"/>
              <a:ext cx="30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-3 + (-7) = 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950"/>
                            </p:stCondLst>
                            <p:childTnLst>
                              <p:par>
                                <p:cTn id="16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1950"/>
                            </p:stCondLst>
                            <p:childTnLst>
                              <p:par>
                                <p:cTn id="16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3400"/>
                            </p:stCondLst>
                            <p:childTnLst>
                              <p:par>
                                <p:cTn id="16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400"/>
                            </p:stCondLst>
                            <p:childTnLst>
                              <p:par>
                                <p:cTn id="16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2357280" y="1773360"/>
            <a:ext cx="6572520" cy="16556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) 3,9 * 7,4 * ( - 9,3) = - 12,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2)-6,1 * (-2,3) * 3,8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"/>
          <p:cNvSpPr/>
          <p:nvPr/>
        </p:nvSpPr>
        <p:spPr>
          <a:xfrm>
            <a:off x="1285920" y="333360"/>
            <a:ext cx="7678800" cy="1079640"/>
          </a:xfrm>
          <a:prstGeom prst="wedgeRoundRectCallout">
            <a:avLst>
              <a:gd name="adj1" fmla="val 13995"/>
              <a:gd name="adj2" fmla="val 51481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Задание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142920" y="18144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d3d7"/>
                </a:solidFill>
                <a:latin typeface="Georgia"/>
              </a:rPr>
              <a:t>Замените* зна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6"/>
          <p:cNvGrpSpPr/>
          <p:nvPr/>
        </p:nvGrpSpPr>
        <p:grpSpPr>
          <a:xfrm>
            <a:off x="1571760" y="5357880"/>
            <a:ext cx="6143040" cy="1134720"/>
            <a:chOff x="1571760" y="5357880"/>
            <a:chExt cx="6143040" cy="1134720"/>
          </a:xfrm>
        </p:grpSpPr>
        <p:sp>
          <p:nvSpPr>
            <p:cNvPr id="376" name="AutoShape 17"/>
            <p:cNvSpPr/>
            <p:nvPr/>
          </p:nvSpPr>
          <p:spPr>
            <a:xfrm>
              <a:off x="1571760" y="5357880"/>
              <a:ext cx="6143040" cy="11347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8"/>
            <p:cNvSpPr/>
            <p:nvPr/>
          </p:nvSpPr>
          <p:spPr>
            <a:xfrm>
              <a:off x="1680840" y="5605920"/>
              <a:ext cx="589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66"/>
                  </a:solidFill>
                  <a:latin typeface="Arial"/>
                  <a:ea typeface="Arial"/>
                </a:rPr>
                <a:t>3,9- 7,4+ (- 9,3)=-12,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6"/>
          <p:cNvGrpSpPr/>
          <p:nvPr/>
        </p:nvGrpSpPr>
        <p:grpSpPr>
          <a:xfrm>
            <a:off x="1785960" y="3857760"/>
            <a:ext cx="5785920" cy="1139400"/>
            <a:chOff x="1785960" y="3857760"/>
            <a:chExt cx="5785920" cy="1139400"/>
          </a:xfrm>
        </p:grpSpPr>
        <p:sp>
          <p:nvSpPr>
            <p:cNvPr id="379" name="AutoShape 17"/>
            <p:cNvSpPr/>
            <p:nvPr/>
          </p:nvSpPr>
          <p:spPr>
            <a:xfrm>
              <a:off x="1785960" y="3857760"/>
              <a:ext cx="5785920" cy="113940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8"/>
            <p:cNvSpPr/>
            <p:nvPr/>
          </p:nvSpPr>
          <p:spPr>
            <a:xfrm>
              <a:off x="1888920" y="4106880"/>
              <a:ext cx="555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66"/>
                  </a:solidFill>
                  <a:latin typeface="Arial"/>
                  <a:ea typeface="Arial"/>
                </a:rPr>
                <a:t>-6,1- (-2,3)+3,8= 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1250"/>
                            </p:stCondLst>
                            <p:childTnLst>
                              <p:par>
                                <p:cTn id="16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240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йти значение алгебраической 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. (-18)+ 48 – 34- (- 18)+ 35 -2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. 30,5- 12,4 + (-7,5) – 30,5+19,9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. (-45,56) +66, 53 –(-13,47) +45,5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4. 87-54+43- (-55)+39 – 8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/>
          <p:cNvSpPr/>
          <p:nvPr/>
        </p:nvSpPr>
        <p:spPr>
          <a:xfrm>
            <a:off x="1116000" y="0"/>
            <a:ext cx="7678800" cy="1079640"/>
          </a:xfrm>
          <a:prstGeom prst="wedgeRoundRectCallout">
            <a:avLst>
              <a:gd name="adj1" fmla="val 13995"/>
              <a:gd name="adj2" fmla="val 51481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Задание №</a:t>
            </a:r>
            <a:r>
              <a:rPr b="1" i="1" lang="en-US" sz="4400" spc="-1" strike="noStrike">
                <a:solidFill>
                  <a:srgbClr val="e70303"/>
                </a:solidFill>
                <a:latin typeface="Georgi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7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8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9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4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7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8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9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2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3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7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8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9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70303"/>
                </a:solidFill>
                <a:latin typeface="Arial"/>
              </a:rPr>
              <a:t>Сравните чис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-58    и 1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62,2  и -62,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-8,58 и -8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-1\2   и -0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5+ (-17) = -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–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30,5 – 12,6 = 43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15, 73 – 20,5= 4,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4600" y="32760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Найдите ошибки в вычисл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0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5+ (-17) = </a:t>
            </a: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–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30,5 – 12,6 = </a:t>
            </a: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-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43,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15, 73 – 20,5= </a:t>
            </a:r>
            <a:r>
              <a:rPr b="1" lang="ru-RU" sz="4800" spc="-1" strike="noStrike">
                <a:solidFill>
                  <a:srgbClr val="e70303"/>
                </a:solidFill>
                <a:latin typeface="Arial"/>
              </a:rPr>
              <a:t>-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4,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06360" y="255960"/>
            <a:ext cx="694584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Найдите ошибки в вычисл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cc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6"/>
          <p:cNvSpPr/>
          <p:nvPr/>
        </p:nvSpPr>
        <p:spPr>
          <a:xfrm>
            <a:off x="1285920" y="404640"/>
            <a:ext cx="7534080" cy="1024200"/>
          </a:xfrm>
          <a:prstGeom prst="wedgeRoundRectCallout">
            <a:avLst>
              <a:gd name="adj1" fmla="val -30629"/>
              <a:gd name="adj2" fmla="val 48231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Заполните 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1908000" y="2133720"/>
            <a:ext cx="416412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4 +   …   = -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1908000" y="2924280"/>
            <a:ext cx="416412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,8 +   …   = -8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1908000" y="3716280"/>
            <a:ext cx="4164120" cy="625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,13 +   …   = -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1908000" y="4508640"/>
            <a:ext cx="416412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,8 +   …   = -4,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7451640" y="5516640"/>
            <a:ext cx="9144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Times New Roman"/>
              </a:rPr>
              <a:t>(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7451640" y="5516640"/>
            <a:ext cx="9144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Times New Roman"/>
              </a:rPr>
              <a:t>(-3,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7451640" y="5516640"/>
            <a:ext cx="115272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Times New Roman"/>
              </a:rPr>
              <a:t>(-14,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7451640" y="5516640"/>
            <a:ext cx="115272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0303"/>
                </a:solidFill>
                <a:latin typeface="Times New Roman"/>
              </a:rPr>
              <a:t>(-0,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8"/>
          <p:cNvSpPr/>
          <p:nvPr/>
        </p:nvSpPr>
        <p:spPr>
          <a:xfrm>
            <a:off x="7286760" y="5429160"/>
            <a:ext cx="1500120" cy="765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0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766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C -0.00677 -0.05417 -0.01354 -0.10811 -0.0158 -0.17176 C -0.01805 -0.23542 -0.00712 -0.31227 -0.01319 -0.38241 C -0.01927 -0.45255 -0.02587 -0.53982 -0.0526 -0.59283 C -0.07934 -0.64584 -0.11389 -0.69445 -0.17378 -0.7 C -0.23368 -0.70556 -0.36701 -0.66135 -0.41198 -0.62616 C -0.45694 -0.59098 -0.43733 -0.51713 -0.44392 -0.48843 E">
                                      <p:cBhvr>
                                        <p:cTn id="1769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77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C 0.00035 -0.11135 0.000699999999999999 -0.22269 -0.02101 -0.26135 C -0.04271 -0.3 -0.09531 -0.27709 -0.13021 -0.23149 C -0.1651 -0.18588 -0.18698 -0.03982 -0.23021 0.01226 C -0.27344 0.06435 -0.35399 0.14375 -0.38941 0.08078 C -0.42483 0.01782 -0.43142 -0.27246 -0.44253 -0.36551 E">
                                      <p:cBhvr>
                                        <p:cTn id="1774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5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776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C -0.09705 0.00509 -0.45434 0.03726 -0.58195 0.03078 C -0.70955 0.0243 -0.84601 -0.02338 -0.76615 -0.03936 C -0.68629 -0.05533 -0.20851 -0.03843 -0.10261 -0.06505 C 0.0033 -0.09167 -0.07587 -0.16713 -0.13073 -0.19885 C -0.18559 -0.23056 -0.36927 -0.24329 -0.43195 -0.2551 E">
                                      <p:cBhvr>
                                        <p:cTn id="1779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0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781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C 0.00816 -0.21574 0.02674 -0.44167 -0.00382 -0.56829 C -0.03438 -0.69491 -0.10764 -0.73334 -0.18333 -0.76042 C -0.25903 -0.7875 -0.36806 -0.79121 -0.45833 -0.73079 C -0.54861 -0.67037 -0.72465 -0.49653 -0.72535 -0.39746 C -0.72604 -0.29838 -0.51701 -0.19028 -0.46233 -0.13588 E">
                                      <p:cBhvr>
                                        <p:cTn id="1784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Есть, науки хоро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Для развития душ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Их и сами все вы знаете, конеч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Для развития ума предназначена он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Матема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7e9ed"/>
                </a:solidFill>
                <a:latin typeface="Arial"/>
              </a:rPr>
              <a:t>Это было, это будет, это веч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7e9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5532840" y="321480"/>
            <a:ext cx="2721960" cy="2642760"/>
            <a:chOff x="5532840" y="321480"/>
            <a:chExt cx="2721960" cy="2642760"/>
          </a:xfrm>
        </p:grpSpPr>
        <p:sp>
          <p:nvSpPr>
            <p:cNvPr id="403" name="AutoShape 6"/>
            <p:cNvSpPr/>
            <p:nvPr/>
          </p:nvSpPr>
          <p:spPr>
            <a:xfrm rot="1050000">
              <a:off x="5857560" y="713880"/>
              <a:ext cx="2071800" cy="1857600"/>
            </a:xfrm>
            <a:custGeom>
              <a:avLst/>
              <a:gdLst>
                <a:gd name="textAreaLeft" fmla="*/ 853560 w 2071800"/>
                <a:gd name="textAreaRight" fmla="*/ 1218240 w 2071800"/>
                <a:gd name="textAreaTop" fmla="*/ 765360 h 1857600"/>
                <a:gd name="textAreaBottom" fmla="*/ 109224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 rot="19807200">
              <a:off x="5857560" y="713880"/>
              <a:ext cx="2071800" cy="1857600"/>
            </a:xfrm>
            <a:custGeom>
              <a:avLst/>
              <a:gdLst>
                <a:gd name="textAreaLeft" fmla="*/ 853560 w 2071800"/>
                <a:gd name="textAreaRight" fmla="*/ 1218240 w 2071800"/>
                <a:gd name="textAreaTop" fmla="*/ 765360 h 1857600"/>
                <a:gd name="textAreaBottom" fmla="*/ 109224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6"/>
          <p:cNvSpPr txBox="1"/>
          <p:nvPr/>
        </p:nvSpPr>
        <p:spPr>
          <a:xfrm rot="20890200">
            <a:off x="692280" y="1618920"/>
            <a:ext cx="7961040" cy="41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e7030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e7030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0303"/>
                </a:solidFill>
                <a:latin typeface="Comic Sans MS"/>
              </a:rPr>
              <a:t>Зачисление в члены </a:t>
            </a:r>
            <a:br>
              <a:rPr sz="4000"/>
            </a:br>
            <a:r>
              <a:rPr b="1" lang="ru-RU" sz="4000" spc="-1" strike="noStrike">
                <a:solidFill>
                  <a:srgbClr val="e70303"/>
                </a:solidFill>
                <a:latin typeface="Comic Sans MS"/>
              </a:rPr>
              <a:t>экипажа кораб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643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e9ed"/>
                </a:solidFill>
                <a:latin typeface="Comic Sans MS"/>
              </a:rPr>
              <a:t>-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Как называют число, показывающее поло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жение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 точки на прямой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Какие числа назы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ваются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 противоположными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Как сложить два отрицательных числа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Каким числом явля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ется 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число ноль: + или -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Что мы называем 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модулем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 числа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Любое отрицате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льное 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число меньше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7e9e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- Как сложить 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два числа с</a:t>
            </a:r>
            <a:r>
              <a:rPr b="1" lang="ru-RU" sz="2200" spc="-1" strike="noStrike">
                <a:solidFill>
                  <a:srgbClr val="37e9ed"/>
                </a:solidFill>
                <a:latin typeface="Comic Sans MS"/>
              </a:rPr>
              <a:t> разными 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знаками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50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Каким числом можно выразить уменьшение любой величин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Из двух отрицательных чисел меньше то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Как из одного числа вычесть другое?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Нуль больше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Чему равна сумма противоположных чисе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Как найти длину отрезка на координатной прям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- Как изменится число, если к нему прибавить нул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Comic Sans MS"/>
              </a:rPr>
              <a:t>Планета «Сказо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3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Arial"/>
              </a:rPr>
              <a:t> </a:t>
            </a:r>
            <a:r>
              <a:rPr b="1" lang="ru-RU" sz="2500" spc="-1" strike="noStrike">
                <a:solidFill>
                  <a:srgbClr val="ffc000"/>
                </a:solidFill>
                <a:latin typeface="Comic Sans MS"/>
              </a:rPr>
              <a:t>"На этой планете бесконечное множество жителей разного возраста - от младенца до старожила, они живут в двух кратерах. Каждый житель имеет свой дом, свое место, свою семью. У каждого жителя одного кратера есть брат или сестра - близнец в другом кратере и на двоих один папа. Только у одного жителя нет двойника - у короля. Он живет в своем дворце, который расположен между этими двумя кратерами и следит, чтобы все законы этой планеты строго выполнялись. Жители этой планеты очень разные, они четко знают свое место, могут соперничать между собой, переходить с одного места на другое и при этом не изменятся..."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9643"/>
              <a:gd name="adj2" fmla="val 60393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 rot="640800">
            <a:off x="1877760" y="1712880"/>
            <a:ext cx="3967200" cy="1366920"/>
          </a:xfrm>
          <a:prstGeom prst="wedgeRoundRectCallout">
            <a:avLst>
              <a:gd name="adj1" fmla="val 45842"/>
              <a:gd name="adj2" fmla="val 64208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22 + 3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851280" y="5013360"/>
            <a:ext cx="164952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1042920" y="5000760"/>
            <a:ext cx="1457280" cy="15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5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142920" y="2143080"/>
            <a:ext cx="1500120" cy="1500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340000" y="3573360"/>
            <a:ext cx="1589040" cy="1355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29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35930"/>
              <a:gd name="adj2" fmla="val 69351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 rot="640800">
            <a:off x="1784160" y="1768320"/>
            <a:ext cx="3966840" cy="1366920"/>
          </a:xfrm>
          <a:prstGeom prst="wedgeRoundRectCallout">
            <a:avLst>
              <a:gd name="adj1" fmla="val 32375"/>
              <a:gd name="adj2" fmla="val 52388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3,7 + 2,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4143240" y="4857840"/>
            <a:ext cx="1500480" cy="1500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9"/>
          <p:cNvSpPr/>
          <p:nvPr/>
        </p:nvSpPr>
        <p:spPr>
          <a:xfrm>
            <a:off x="1857240" y="5214960"/>
            <a:ext cx="1428840" cy="13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6,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2428920" y="3643200"/>
            <a:ext cx="1357200" cy="1357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357120" y="4071960"/>
            <a:ext cx="1428840" cy="1428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0,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34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5"/>
          <p:cNvSpPr/>
          <p:nvPr/>
        </p:nvSpPr>
        <p:spPr>
          <a:xfrm>
            <a:off x="1928880" y="0"/>
            <a:ext cx="6769080" cy="1009800"/>
          </a:xfrm>
          <a:prstGeom prst="wedgeRoundRectCallout">
            <a:avLst>
              <a:gd name="adj1" fmla="val -39046"/>
              <a:gd name="adj2" fmla="val 61388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 rot="640800">
            <a:off x="1730160" y="1771200"/>
            <a:ext cx="4591080" cy="1366920"/>
          </a:xfrm>
          <a:prstGeom prst="wedgeRoundRectCallout">
            <a:avLst>
              <a:gd name="adj1" fmla="val 40625"/>
              <a:gd name="adj2" fmla="val 62476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,5  + (- 6,3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5000760" y="5000760"/>
            <a:ext cx="1557360" cy="141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7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285840" y="3786120"/>
            <a:ext cx="1285920" cy="135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2286000" y="3286080"/>
            <a:ext cx="1428840" cy="1271520"/>
          </a:xfrm>
          <a:prstGeom prst="ellipse">
            <a:avLst/>
          </a:prstGeom>
          <a:solidFill>
            <a:srgbClr val="e7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500200" y="5000760"/>
            <a:ext cx="1357560" cy="1285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4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39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5"/>
          <p:cNvSpPr/>
          <p:nvPr/>
        </p:nvSpPr>
        <p:spPr>
          <a:xfrm>
            <a:off x="2050920" y="115920"/>
            <a:ext cx="6769080" cy="1009440"/>
          </a:xfrm>
          <a:prstGeom prst="wedgeRoundRectCallout">
            <a:avLst>
              <a:gd name="adj1" fmla="val -41722"/>
              <a:gd name="adj2" fmla="val 58402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70303"/>
                </a:solidFill>
                <a:latin typeface="Georgia"/>
              </a:rPr>
              <a:t>Вычисл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640800">
            <a:off x="2163240" y="1927080"/>
            <a:ext cx="3967200" cy="1366920"/>
          </a:xfrm>
          <a:prstGeom prst="wedgeRoundRectCallout">
            <a:avLst>
              <a:gd name="adj1" fmla="val 41870"/>
              <a:gd name="adj2" fmla="val 62643"/>
              <a:gd name="adj3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,2 + (-8,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2786040" y="3429000"/>
            <a:ext cx="1428840" cy="1428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6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9"/>
          <p:cNvSpPr/>
          <p:nvPr/>
        </p:nvSpPr>
        <p:spPr>
          <a:xfrm>
            <a:off x="1042920" y="4929120"/>
            <a:ext cx="1671840" cy="157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8,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428760" y="3071880"/>
            <a:ext cx="1428480" cy="1414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-16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4500720" y="5072040"/>
            <a:ext cx="1500120" cy="13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0.01574 0.02378 0.03171 0.05121 0.04931 C 0.07864 0.0669 0.12343 0.08634 0.16441 0.10532 C 0.20538 0.12431 0.24861 0.15162 0.29739 0.16319 C 0.34618 0.17477 0.41198 0.20185 0.45781 0.17546 C 0.50364 0.14907 0.55173 0.07292 0.57239 0.00532 C 0.59305 -0.06227 0.58472 -0.1662 0.58159 -0.22963 C 0.57847 -0.29306 0.57847 -0.35185 0.55399 -0.37546 C 0.52951 -0.39907 0.46475 -0.39051 0.4342 -0.37176 C 0.40364 -0.35301 0.38246 -0.3 0.371 -0.26296 C 0.35955 -0.22593 0.36267 -0.1875 0.3658 -0.14907 E">
                                      <p:cBhvr>
                                        <p:cTn id="44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3:24:22Z</dcterms:created>
  <dc:creator>Customer</dc:creator>
  <dc:description/>
  <dc:language>en-US</dc:language>
  <cp:lastModifiedBy>Admin</cp:lastModifiedBy>
  <dcterms:modified xsi:type="dcterms:W3CDTF">2015-04-22T11:50:39Z</dcterms:modified>
  <cp:revision>97</cp:revision>
  <dc:subject/>
  <dc:title>Слайд 1</dc:title>
</cp:coreProperties>
</file>