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7873-7FCD-4E1E-8D53-551833C6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BA8F-7734-468E-B2AF-65095F2C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DF76-1515-459C-95D0-93F22FE0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E64F-428C-4075-99FB-1D785BBF4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27FF-94BD-4DF1-B715-7243B55F3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6129-E3DB-4312-980C-50CA84F8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97E9-7969-4CBD-A49B-11D025DE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3B61-0DE6-494D-8FBC-892137D8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5638-065C-4B07-8451-565C6116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D297-6C36-41F1-819A-8D61D7C1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7D14-D06B-471E-A0E2-C59631FA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6455-A1F8-4411-96E4-0B8DC827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69D1-D075-42B0-9229-AC1BB341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C58C-3D44-41B4-9BFE-C85A90CD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3939-C0EB-4647-9B9D-FE96FDF6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B9F9-9534-4123-81B4-2B5FF593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DE91-B813-419B-BFC0-D547D9C99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EDFB-9FDD-4DE1-949B-3DD0E60A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8EE2-16D2-4EA9-8138-871EC932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7F9D-F069-4DBB-9964-F956088C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7D75-59DD-4EB8-98E8-76C52089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B773-BBB3-4D98-AC24-47824EE2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DF76-ACFD-4DB1-A40C-A74653F4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52EA-296B-4E84-8409-F6072E87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5C61-796B-4113-A0EC-CD3E56D13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5ACD-5F91-459E-903A-8D22F41F0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340000" y="304920"/>
            <a:ext cx="446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40472"/>
                </a:solidFill>
                <a:latin typeface="Monotype Corsiva"/>
              </a:rPr>
              <a:t>А л к а д и е н 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9000" y="1143000"/>
            <a:ext cx="70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0472"/>
                </a:solidFill>
                <a:latin typeface="Times New Roman"/>
              </a:rPr>
              <a:t>Упражнения на закрепление пройденного матери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1905120"/>
            <a:ext cx="7254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кажите верное суждение: А) алкадиены – углеводороды, молекулы которых содержат две двойные связи; Б) сопряженные диены – это диены, в молекулах которых две двойные связи разделены одной одинарной связь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5880" y="3505320"/>
            <a:ext cx="3155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ерно только 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ерно только 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ерны оба суж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а суждения невер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74840" y="1676520"/>
            <a:ext cx="39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Укажите сопряженный алкадие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4280" y="2133720"/>
            <a:ext cx="221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нтадиен-1,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нтадиен-1,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тадиен-1,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тадиен-1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388620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Укажите алкан, при дегидрировании которого образуется бутадиен-1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4724280"/>
            <a:ext cx="2116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тан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-метилбут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нт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п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15960" y="533520"/>
            <a:ext cx="446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40472"/>
                </a:solidFill>
                <a:latin typeface="Monotype Corsiva"/>
              </a:rPr>
              <a:t>А л к а д и е н 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43000" y="914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22240" y="8524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175248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Укажите алкан, при дегидрировании которого образуется изопре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2438280"/>
            <a:ext cx="2116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п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-метилбут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нт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тан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95520" y="4267080"/>
            <a:ext cx="607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В ходе реакции Лебедева бутадиен-1,3 получают и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4876920"/>
            <a:ext cx="1598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та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иле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ано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тена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92280" y="609480"/>
            <a:ext cx="446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40472"/>
                </a:solidFill>
                <a:latin typeface="Monotype Corsiva"/>
              </a:rPr>
              <a:t>А л к а д и е н 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46280" y="7761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1828800"/>
            <a:ext cx="763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При получении бутадиена-1,3 из бутана было получено 100 г водорода. Определите объем (н.у.) полученного бутадиена-1,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14440" y="2666880"/>
            <a:ext cx="134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20 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96 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72 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60 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27160" y="4267080"/>
            <a:ext cx="801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. Определите массу бромной воды с массовой долей брома 0,08, которая обесцветится при пропускании 4,48 л (н.у.) бутадиена-1,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5160" y="5029200"/>
            <a:ext cx="118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0 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0 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0 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60 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15960" y="457200"/>
            <a:ext cx="446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40472"/>
                </a:solidFill>
                <a:latin typeface="Monotype Corsiva"/>
              </a:rPr>
              <a:t>А л к а д и е н 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213372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. Установите соответствие между тривиальным названием и систематическим названием алкадиено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129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05120" y="3505320"/>
          <a:ext cx="6095880" cy="22525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74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ивиальное 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стематическое 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хлоропр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изопр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) дивини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тадиен-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хлорбутадиен-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метилбутадиен-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2415960" y="457200"/>
            <a:ext cx="446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40472"/>
                </a:solidFill>
                <a:latin typeface="Monotype Corsiva"/>
              </a:rPr>
              <a:t>А л к а д и е н 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95280" y="2057400"/>
            <a:ext cx="731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9. Алкадиен прореагировал с избытком бромной воды. Массовая доля брома в образовавшемся соединении равна 0,796. Определите молярную массу (г/моль) исходного диена. Ответ дайте в виде целого числ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40000" y="457200"/>
            <a:ext cx="446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40472"/>
                </a:solidFill>
                <a:latin typeface="Monotype Corsiva"/>
              </a:rPr>
              <a:t>А л к а д и е н 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4343400"/>
            <a:ext cx="7239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. Относительная плотность паров органического соединения по водороду равна 48. При сжигании 2,4 г этого вещества образовалось 3,92 л углекислого газа (н.у.) и 2,7 г воды. Выведите молекулярную формулу веществ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12:13:31Z</dcterms:created>
  <dc:creator>химия</dc:creator>
  <dc:description/>
  <dc:language>en-US</dc:language>
  <cp:lastModifiedBy>химия</cp:lastModifiedBy>
  <dcterms:modified xsi:type="dcterms:W3CDTF">2010-12-16T13:03:36Z</dcterms:modified>
  <cp:revision>15</cp:revision>
  <dc:subject/>
  <dc:title>Презентация PowerPoint</dc:title>
</cp:coreProperties>
</file>