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3CE-F026-4C11-A8D3-F7D918BA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893-F841-46F2-A5DB-8858410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906-0C30-4ACE-A6B1-80899B26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B57-E8ED-44EE-8B1D-A44A8061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7BE7-49DF-4853-95EB-57673D8E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05C-6974-4888-B1B3-BB93730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3AA-9E3A-4FB5-A37A-1EAA04B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9411-EFA9-4B8C-B0CE-B451A47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E7E5-77AE-444F-A18C-E6D402D9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469-21E3-49BB-A9A9-6B85A991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4193-7603-4C2D-8ED9-93F7EB1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B6C-FB66-4E36-8214-D97FA53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E43F-D467-472E-AFB9-5956AA8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7317-B46E-4D99-846F-2CC25BA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924-7DBF-4996-A108-1DF6F8D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B8F-8CF8-4133-973C-777CA260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EA46-0B00-49B7-BA87-E2315C8F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4D8-AF82-4B3B-8830-F1E2B31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9B6-92D2-4BAA-A661-6AB5CCD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109-A50C-4D11-8E43-BB06E2FF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D59-4196-466B-B1E8-82D7402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B1C-A8E6-4E37-8A11-D063B0D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238-765E-4B8C-BFE3-9D19298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B02-1EA4-4C66-8AB7-B4FDF45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FEA-0E51-4155-A8C5-3AB20D1A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77EF-7FEC-4CF8-8054-BDF2B522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40000" y="30492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9000" y="1143000"/>
            <a:ext cx="70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0472"/>
                </a:solidFill>
                <a:latin typeface="Times New Roman"/>
              </a:rPr>
              <a:t>Упражнения на закрепление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905120"/>
            <a:ext cx="725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жите верное суждение: А) алкадиены – углеводороды, молекулы которых содержат две двойные связи; Б) сопряженные диены – это диены, в молекулах которых две двойные связи разделены одной одинарной связь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5880" y="3505320"/>
            <a:ext cx="315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о только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о только 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рны оба 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а суждения невер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4840" y="1676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кажите сопряженный алкади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133720"/>
            <a:ext cx="221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диен-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диен-1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диен-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8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кажите алкан, при дегидрировании которого образуется бутадиен-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24280"/>
            <a:ext cx="211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5960" y="53352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914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2240" y="85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7524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Укажите алкан, при дегидрировании которого образуется изоп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438280"/>
            <a:ext cx="211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95520" y="42670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В ходе реакции Лебедева бутадиен-1,3 получают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876920"/>
            <a:ext cx="159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н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ена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2280" y="60948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6280" y="776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828800"/>
            <a:ext cx="763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При получении бутадиена-1,3 из бутана было получено 100 г водорода. Определите объем (н.у.) полученного бутадиена-1,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440" y="2666880"/>
            <a:ext cx="13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0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6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2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0 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7160" y="426708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Определите массу бромной воды с массовой долей брома 0,08, которая обесцветится при пропускании 4,48 л (н.у.) бутадиена-1,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5160" y="5029200"/>
            <a:ext cx="11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0 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596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33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Установите соответствие между тривиальным названием и систематическим названием алкадиен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29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5120" y="3505320"/>
          <a:ext cx="6095880" cy="2252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виальн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хлороп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изопр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) диви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хлор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метилбутадиен-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1596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205740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Алкадиен прореагировал с избытком бромной воды. Массовая доля брома в образовавшемся соединении равна 0,796. Определите молярную массу (г/моль) исходного диена. Ответ дайте в виде целого чис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457200"/>
            <a:ext cx="44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40472"/>
                </a:solidFill>
                <a:latin typeface="Monotype Corsiva"/>
              </a:rPr>
              <a:t>А л к а д и е н 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43400"/>
            <a:ext cx="723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Относительная плотность паров органического соединения по водороду равна 48. При сжигании 2,4 г этого вещества образовалось 3,92 л углекислого газа (н.у.) и 2,7 г воды. Выведите молекулярную формулу ве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2:13:31Z</dcterms:created>
  <dc:creator>химия</dc:creator>
  <dc:description/>
  <dc:language>en-US</dc:language>
  <cp:lastModifiedBy>химия</cp:lastModifiedBy>
  <dcterms:modified xsi:type="dcterms:W3CDTF">2010-12-16T13:03:36Z</dcterms:modified>
  <cp:revision>15</cp:revision>
  <dc:subject/>
  <dc:title>Презентация PowerPoint</dc:title>
</cp:coreProperties>
</file>