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76E-7B48-4D72-93B6-ACD2A496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B9A-8E58-4C25-972C-6924375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84D-8C10-40AA-B3AC-38CF541C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FB0-7186-4CF8-905D-7B93FD72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2297-944A-4040-858A-EACFF38B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517D-FD1C-4CA3-A24C-CC9EF70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CF2-BD51-4EC5-80F8-23C08B55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EA75-00E9-48A1-AD87-73FE566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8556-00CE-4375-9054-0A69A46E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FA64-0B38-4D64-8101-29B5336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5C24-E90C-4C30-8CB3-9B4BAF8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92F-017A-44C8-9BBF-02B4E10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8CE5-9C5C-48F0-BD98-5EDE900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311E-0816-4651-B725-A9845E72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D01-426A-4528-BD09-D20F781B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B5F3-D40B-45D0-A3F0-7D5CC5CA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D58D-DB5D-41EE-BA22-8D99686D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244-66F5-4D60-8D29-1532CACE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825-AA7F-47E4-BA12-3A2A688E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B99-BD7F-4E5E-8631-97F2E663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33B-B37D-4620-A2CB-A311BDB4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732-5EF9-4A94-B569-B9A0BBA0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2F6-BC76-431C-A564-CBC31A16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8E3-ED51-4587-8E11-DB67633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894A-DEF1-4D38-8595-4ECE678FB7B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AE2-9218-49B6-B851-A57AA8AA493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611280" y="1700280"/>
            <a:ext cx="78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инар для педагог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Составление генеалогического древа как один из способов ознакомления дошкольников с родословной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37720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новидности изображения генеалогического др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рб семь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8" descr="IMG_9700"/>
          <p:cNvPicPr/>
          <p:nvPr/>
        </p:nvPicPr>
        <p:blipFill>
          <a:blip r:embed="rId1"/>
          <a:stretch/>
        </p:blipFill>
        <p:spPr>
          <a:xfrm rot="483000">
            <a:off x="4211640" y="1773360"/>
            <a:ext cx="4535640" cy="32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3" descr="IMG"/>
          <p:cNvPicPr/>
          <p:nvPr/>
        </p:nvPicPr>
        <p:blipFill>
          <a:blip r:embed="rId1"/>
          <a:stretch/>
        </p:blipFill>
        <p:spPr>
          <a:xfrm>
            <a:off x="395280" y="1341360"/>
            <a:ext cx="2476440" cy="365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IMG_9645"/>
          <p:cNvPicPr/>
          <p:nvPr/>
        </p:nvPicPr>
        <p:blipFill>
          <a:blip r:embed="rId2"/>
          <a:stretch/>
        </p:blipFill>
        <p:spPr>
          <a:xfrm>
            <a:off x="4427640" y="1413000"/>
            <a:ext cx="3816360" cy="25398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2050920" y="476280"/>
            <a:ext cx="44006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енеалогическое др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6" name="Picture 6" descr="IMG_9647"/>
          <p:cNvPicPr/>
          <p:nvPr/>
        </p:nvPicPr>
        <p:blipFill>
          <a:blip r:embed="rId3"/>
          <a:stretch/>
        </p:blipFill>
        <p:spPr>
          <a:xfrm>
            <a:off x="2916360" y="4076640"/>
            <a:ext cx="374472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IMG_9650"/>
          <p:cNvPicPr/>
          <p:nvPr/>
        </p:nvPicPr>
        <p:blipFill>
          <a:blip r:embed="rId1"/>
          <a:stretch/>
        </p:blipFill>
        <p:spPr>
          <a:xfrm>
            <a:off x="179280" y="236520"/>
            <a:ext cx="3641760" cy="2424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IMG_9656"/>
          <p:cNvPicPr/>
          <p:nvPr/>
        </p:nvPicPr>
        <p:blipFill>
          <a:blip r:embed="rId2"/>
          <a:stretch/>
        </p:blipFill>
        <p:spPr>
          <a:xfrm>
            <a:off x="4356000" y="260280"/>
            <a:ext cx="3527640" cy="2347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IMG_9713"/>
          <p:cNvPicPr/>
          <p:nvPr/>
        </p:nvPicPr>
        <p:blipFill>
          <a:blip r:embed="rId3"/>
          <a:stretch/>
        </p:blipFill>
        <p:spPr>
          <a:xfrm>
            <a:off x="1835280" y="3021120"/>
            <a:ext cx="4970160" cy="3308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609800" y="373392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Коллаж «Профессии в моей семь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1" descr="IMG_9658"/>
          <p:cNvPicPr/>
          <p:nvPr/>
        </p:nvPicPr>
        <p:blipFill>
          <a:blip r:embed="rId1"/>
          <a:stretch/>
        </p:blipFill>
        <p:spPr>
          <a:xfrm rot="20983200">
            <a:off x="355320" y="1410840"/>
            <a:ext cx="3419280" cy="2274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IMG_9657"/>
          <p:cNvPicPr/>
          <p:nvPr/>
        </p:nvPicPr>
        <p:blipFill>
          <a:blip r:embed="rId2"/>
          <a:stretch/>
        </p:blipFill>
        <p:spPr>
          <a:xfrm rot="787800">
            <a:off x="4787640" y="1342800"/>
            <a:ext cx="3456000" cy="2300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IMG_9673"/>
          <p:cNvPicPr/>
          <p:nvPr/>
        </p:nvPicPr>
        <p:blipFill>
          <a:blip r:embed="rId3"/>
          <a:stretch/>
        </p:blipFill>
        <p:spPr>
          <a:xfrm>
            <a:off x="4500720" y="4076640"/>
            <a:ext cx="3419280" cy="2274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IMG_9682"/>
          <p:cNvPicPr/>
          <p:nvPr/>
        </p:nvPicPr>
        <p:blipFill>
          <a:blip r:embed="rId4"/>
          <a:stretch/>
        </p:blipFill>
        <p:spPr>
          <a:xfrm>
            <a:off x="755640" y="4076640"/>
            <a:ext cx="3456000" cy="23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IMG_9686"/>
          <p:cNvPicPr/>
          <p:nvPr/>
        </p:nvPicPr>
        <p:blipFill>
          <a:blip r:embed="rId1"/>
          <a:stretch/>
        </p:blipFill>
        <p:spPr>
          <a:xfrm>
            <a:off x="611280" y="115920"/>
            <a:ext cx="69357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mic Sans MS"/>
              </a:rPr>
              <a:t>ТЕМАТИЧЕСКАЯ ФОТОВЫСТАВ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IMG_9702"/>
          <p:cNvPicPr/>
          <p:nvPr/>
        </p:nvPicPr>
        <p:blipFill>
          <a:blip r:embed="rId1"/>
          <a:stretch/>
        </p:blipFill>
        <p:spPr>
          <a:xfrm>
            <a:off x="1403280" y="1700280"/>
            <a:ext cx="698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Фотоверниса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IMG_9689"/>
          <p:cNvPicPr/>
          <p:nvPr/>
        </p:nvPicPr>
        <p:blipFill>
          <a:blip r:embed="rId1"/>
          <a:stretch/>
        </p:blipFill>
        <p:spPr>
          <a:xfrm>
            <a:off x="826920" y="1192320"/>
            <a:ext cx="705816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Диафильм «Мой ребёно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IMG_9708"/>
          <p:cNvPicPr/>
          <p:nvPr/>
        </p:nvPicPr>
        <p:blipFill>
          <a:blip r:embed="rId1"/>
          <a:stretch/>
        </p:blipFill>
        <p:spPr>
          <a:xfrm>
            <a:off x="1784520" y="1828800"/>
            <a:ext cx="6243480" cy="41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нкетирова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кеты для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ала привязанности ребёнка к членам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мья глазами ребё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исунок семь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116000" y="1650960"/>
            <a:ext cx="7188120" cy="42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103280" y="3357360"/>
            <a:ext cx="50403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мья всегда будет основой общест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Оноре де Бальза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мья – это общество в миниатюре, от целостности которого зависит безопасность всего большого человеческого общест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Феликс Адле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539640" y="549360"/>
            <a:ext cx="820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ский сад и семь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социум для ребе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5400" y="167760"/>
            <a:ext cx="6311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11280" y="1273320"/>
            <a:ext cx="7993080" cy="399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правильно организовать взаимодействие семьи и детского сада, формировать педагогическую компетентность родителей в вопросах  воспитания детей, то можно добиться   повышения эффективности воспитательно-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1763640" y="2276640"/>
            <a:ext cx="6408720" cy="21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а «Ассоциац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9898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постройк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цвет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музык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геометрическая фигур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название фильма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семья – это настроение, то он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стория семьи, её изучени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– это по сути, изучение родословной, знание своих корней, изучение уклада жизни семьи, взаимоотношений в сем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–это величайшая социокультурная ценность. В её позитивном развитии, сохранении и укреплении заинтересованы и общество и государ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Семья для ребенка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– это источник психологической защиты и эмоциональной поддержки, знакомство с окружающей действительностью начинается со знакомства со всем тем, чем живет сем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Семейные отношения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– любовь близких, определенные обязанности привязанность к дому, соблюдение традиций – питают более широкие и    высшие сферы жизни человека – чувство Родины, патриотиз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а «Радуга» Т.Н. Дорон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работы по теме «Семья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ть детям представление о том, что такое семья. Интересоваться тем, какие обязанности есть у ребёнка по дому (убирать игрушки, помогать накрывать на стол и т.п.) Учить детей знать и называть своих ближних родственников. Дать представления о родственных отношениях. Знакомить с семейными традициями. Начинаем составлять семейный альбом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Comic Sans MS"/>
              </a:rPr>
              <a:t>/средняя группа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умений называть свое имя, фамилию, имена членов семьи. Создание игровых, проблемных ситуаций, способствующих расширению знаний о семье. Создание условий для развития представлений о своем внешнем облике, гендерных представл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умения говорить о себе в первом лиц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/младшая группа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ировать интерес к своей родословной, вместе с ребёнком изображать генеалогическое древо (начинать с дедушек и бабушек), составлять герб семьи; рассматривать фотографии родственников, помочь ребёнку увидеть внешнее сходство с др. родственниками. Знакомить с профессиональным трудом взрослых, подчёркивать его значимость для других. Привлекать детей к посильному участию в подготовке различных семейных праздн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                                            </a:t>
            </a: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/старшая группа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поминать детям даты их рождения. Дети должны знать своё отчество, домашний адрес, имена и отчества своих родителей, интересы родственников. Продолжать вместе с детьми рассматривать семейные фотоальбомы, рассказывать о родственниках, их судьбах и т.д. Закреплять желание изображать генеалогическое древо, гербы семьи, группы, д/с. Расширять гендерные представления. Продолжать развивать интерес к профессиям людей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ru-RU" sz="2800" spc="-1" strike="noStrike">
                <a:solidFill>
                  <a:srgbClr val="3333ff"/>
                </a:solidFill>
                <a:latin typeface="Comic Sans MS"/>
              </a:rPr>
              <a:t>/подготовительная группа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omic Sans MS"/>
              </a:rPr>
              <a:t>Формы и методы изучения раздела о семь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Наглядные виды деятельности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Родословная и фольклор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кончи послов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956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мья в куче – не страшны и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тучи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рошо в гостях, а дома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лучше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й дом – моя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крепость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во деревце, таково 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яблочко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в батюшка, таковы у него и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детки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гда семья вместе, и сердце на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месте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что и клад, коли в семье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лад)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м вести – не бородой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тряст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4956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во на дому – таково и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самом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а изба не углами, красн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</a:t>
            </a: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пирогами</a:t>
            </a: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)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родной семье и каша…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гуще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гласную семью и горе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не бере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мье любовь да совет, так и…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нужды нет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жная семья и землю превращает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в золото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и не в тягость, а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Comic Sans MS"/>
              </a:rPr>
              <a:t>(в радость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21:30Z</dcterms:created>
  <dc:creator>user</dc:creator>
  <dc:description/>
  <dc:language>en-US</dc:language>
  <cp:lastModifiedBy>админ</cp:lastModifiedBy>
  <dcterms:modified xsi:type="dcterms:W3CDTF">2015-04-22T04:43:37Z</dcterms:modified>
  <cp:revision>29</cp:revision>
  <dc:subject/>
  <dc:title>Слайд 1</dc:title>
</cp:coreProperties>
</file>