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5E6-1E51-42B1-B6E2-AE64FDD5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A78-C88A-4D0A-AF57-6D182F76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E752-E555-42CF-A64F-2EEF4143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0DB-0B3D-4B5B-86F8-743EABDF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CBDA-DB10-403F-BD96-21372EA8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402C-5426-4E6C-AD08-63C0019A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FFBB-A5C2-4717-900C-1FAF0610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9859-4BBE-4CA9-94FF-3F02749F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B468-1FFC-4A78-804D-D2F2AE35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3745-043D-4F11-809E-2E21F75C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9B86-E683-47F8-B26B-BBB7B63F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651-C2D4-41E8-8270-54687E11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D630-E02C-4CD9-8744-FF010B92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577E-E6C1-438F-B653-B13221AB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8995-4457-47FF-91F3-A97B0A3E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3D6F-C54B-4FE1-93F1-B69B8259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36F3-366C-455E-A868-FA639E2E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55E7-AE10-4CC2-8BAF-FF686176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FBCB-3A19-45BE-9D52-B35ADA5A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0896-8A47-4672-8876-08434CC7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BD0B-AA22-4F69-B740-022C3D8E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FCEA-CA76-4EDC-AA84-67E36870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9488-01F4-43DC-9C82-A8DFB000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A42-8281-4A82-9836-234C87D2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0197-F8E3-490D-9309-DA4304D9846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D43C-61D0-40DC-95B1-0A1936D96F9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7"/>
          <p:cNvSpPr txBox="1"/>
          <p:nvPr/>
        </p:nvSpPr>
        <p:spPr>
          <a:xfrm>
            <a:off x="611280" y="1700280"/>
            <a:ext cx="7848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минар для педагогов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«Составление генеалогического древа как один из способов ознакомления дошкольников с родословной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37720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новидности изображения генеалогического дре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ерб семь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8" descr="IMG_9700"/>
          <p:cNvPicPr/>
          <p:nvPr/>
        </p:nvPicPr>
        <p:blipFill>
          <a:blip r:embed="rId1"/>
          <a:stretch/>
        </p:blipFill>
        <p:spPr>
          <a:xfrm rot="483000">
            <a:off x="4211640" y="1773360"/>
            <a:ext cx="4535640" cy="325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3" descr="IMG"/>
          <p:cNvPicPr/>
          <p:nvPr/>
        </p:nvPicPr>
        <p:blipFill>
          <a:blip r:embed="rId1"/>
          <a:stretch/>
        </p:blipFill>
        <p:spPr>
          <a:xfrm>
            <a:off x="395280" y="1341360"/>
            <a:ext cx="2476440" cy="3657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IMG_9645"/>
          <p:cNvPicPr/>
          <p:nvPr/>
        </p:nvPicPr>
        <p:blipFill>
          <a:blip r:embed="rId2"/>
          <a:stretch/>
        </p:blipFill>
        <p:spPr>
          <a:xfrm>
            <a:off x="4427640" y="1413000"/>
            <a:ext cx="3816360" cy="2539800"/>
          </a:xfrm>
          <a:prstGeom prst="rect">
            <a:avLst/>
          </a:prstGeom>
          <a:ln w="0">
            <a:noFill/>
          </a:ln>
        </p:spPr>
      </p:pic>
      <p:sp>
        <p:nvSpPr>
          <p:cNvPr id="175" name="WordArt 4"/>
          <p:cNvSpPr txBox="1"/>
          <p:nvPr/>
        </p:nvSpPr>
        <p:spPr>
          <a:xfrm>
            <a:off x="2050920" y="476280"/>
            <a:ext cx="440064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генеалогическое дре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6" name="Picture 6" descr="IMG_9647"/>
          <p:cNvPicPr/>
          <p:nvPr/>
        </p:nvPicPr>
        <p:blipFill>
          <a:blip r:embed="rId3"/>
          <a:stretch/>
        </p:blipFill>
        <p:spPr>
          <a:xfrm>
            <a:off x="2916360" y="4076640"/>
            <a:ext cx="3744720" cy="24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9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5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9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7" descr="IMG_9650"/>
          <p:cNvPicPr/>
          <p:nvPr/>
        </p:nvPicPr>
        <p:blipFill>
          <a:blip r:embed="rId1"/>
          <a:stretch/>
        </p:blipFill>
        <p:spPr>
          <a:xfrm>
            <a:off x="179280" y="236520"/>
            <a:ext cx="3641760" cy="2424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IMG_9656"/>
          <p:cNvPicPr/>
          <p:nvPr/>
        </p:nvPicPr>
        <p:blipFill>
          <a:blip r:embed="rId2"/>
          <a:stretch/>
        </p:blipFill>
        <p:spPr>
          <a:xfrm>
            <a:off x="4356000" y="260280"/>
            <a:ext cx="3527640" cy="2347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IMG_9713"/>
          <p:cNvPicPr/>
          <p:nvPr/>
        </p:nvPicPr>
        <p:blipFill>
          <a:blip r:embed="rId3"/>
          <a:stretch/>
        </p:blipFill>
        <p:spPr>
          <a:xfrm>
            <a:off x="1835280" y="3021120"/>
            <a:ext cx="4970160" cy="33084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4609800" y="373392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omic Sans MS"/>
              </a:rPr>
              <a:t>Коллаж «Профессии в моей семье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11" descr="IMG_9658"/>
          <p:cNvPicPr/>
          <p:nvPr/>
        </p:nvPicPr>
        <p:blipFill>
          <a:blip r:embed="rId1"/>
          <a:stretch/>
        </p:blipFill>
        <p:spPr>
          <a:xfrm rot="20983200">
            <a:off x="355320" y="1410840"/>
            <a:ext cx="3419280" cy="2274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IMG_9657"/>
          <p:cNvPicPr/>
          <p:nvPr/>
        </p:nvPicPr>
        <p:blipFill>
          <a:blip r:embed="rId2"/>
          <a:stretch/>
        </p:blipFill>
        <p:spPr>
          <a:xfrm rot="787800">
            <a:off x="4787640" y="1342800"/>
            <a:ext cx="3456000" cy="2300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IMG_9673"/>
          <p:cNvPicPr/>
          <p:nvPr/>
        </p:nvPicPr>
        <p:blipFill>
          <a:blip r:embed="rId3"/>
          <a:stretch/>
        </p:blipFill>
        <p:spPr>
          <a:xfrm>
            <a:off x="4500720" y="4076640"/>
            <a:ext cx="3419280" cy="2274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IMG_9682"/>
          <p:cNvPicPr/>
          <p:nvPr/>
        </p:nvPicPr>
        <p:blipFill>
          <a:blip r:embed="rId4"/>
          <a:stretch/>
        </p:blipFill>
        <p:spPr>
          <a:xfrm>
            <a:off x="755640" y="4076640"/>
            <a:ext cx="3456000" cy="23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4" descr="IMG_9686"/>
          <p:cNvPicPr/>
          <p:nvPr/>
        </p:nvPicPr>
        <p:blipFill>
          <a:blip r:embed="rId1"/>
          <a:stretch/>
        </p:blipFill>
        <p:spPr>
          <a:xfrm>
            <a:off x="611280" y="115920"/>
            <a:ext cx="69357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Comic Sans MS"/>
              </a:rPr>
              <a:t>ТЕМАТИЧЕСКАЯ ФОТОВЫСТАВ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10" descr="IMG_9702"/>
          <p:cNvPicPr/>
          <p:nvPr/>
        </p:nvPicPr>
        <p:blipFill>
          <a:blip r:embed="rId1"/>
          <a:stretch/>
        </p:blipFill>
        <p:spPr>
          <a:xfrm>
            <a:off x="1403280" y="1700280"/>
            <a:ext cx="6983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Фотоверниса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4" descr="IMG_9689"/>
          <p:cNvPicPr/>
          <p:nvPr/>
        </p:nvPicPr>
        <p:blipFill>
          <a:blip r:embed="rId1"/>
          <a:stretch/>
        </p:blipFill>
        <p:spPr>
          <a:xfrm>
            <a:off x="826920" y="1192320"/>
            <a:ext cx="705816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87060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omic Sans MS"/>
              </a:rPr>
              <a:t>Диафильм «Мой ребёнок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IMG_9708"/>
          <p:cNvPicPr/>
          <p:nvPr/>
        </p:nvPicPr>
        <p:blipFill>
          <a:blip r:embed="rId1"/>
          <a:stretch/>
        </p:blipFill>
        <p:spPr>
          <a:xfrm>
            <a:off x="1784520" y="1828800"/>
            <a:ext cx="6243480" cy="41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нкетировани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нкеты для родител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Шкала привязанности ребёнка к членам семь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Семья глазами ребёнк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Рисунок семь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116000" y="1650960"/>
            <a:ext cx="7188120" cy="42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103280" y="3357360"/>
            <a:ext cx="504036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емья всегда будет основой общест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Оноре де Бальза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емья – это общество в миниатюре, от целостности которого зависит безопасность всего большого человеческого общест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Феликс Адлер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539640" y="549360"/>
            <a:ext cx="8209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ский сад и семья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ый социум для ребен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85400" y="167760"/>
            <a:ext cx="63118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11280" y="1273320"/>
            <a:ext cx="7993080" cy="3993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сли правильно организовать взаимодействие семьи и детского сада, формировать педагогическую компетентность родителей в вопросах  воспитания детей, то можно добиться   повышения эффективности воспитательно-образовательного процес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1763640" y="2276640"/>
            <a:ext cx="6408720" cy="21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гра «Ассоциаци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9898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семья – это постройка, то она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семья – это цвет, то она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семья – это музыка, то она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семья – это геометрическая фигура, то она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семья – это название фильма, то она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семья – это настроение, то она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стория семьи, её изучение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– это по сути, изучение родословной, знание своих корней, изучение уклада жизни семьи, взаимоотношений в семь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емья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–это величайшая социокультурная ценность. В её позитивном развитии, сохранении и укреплении заинтересованы и общество и государств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Семья для ребенка </a:t>
            </a:r>
            <a:r>
              <a:rPr b="0" lang="ru-RU" sz="2400" spc="-1" strike="noStrike">
                <a:solidFill>
                  <a:srgbClr val="0070c0"/>
                </a:solidFill>
                <a:latin typeface="Comic Sans MS"/>
              </a:rPr>
              <a:t>– это источник психологической защиты и эмоциональной поддержки, знакомство с окружающей действительностью начинается со знакомства со всем тем, чем живет семь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Семейные отношения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– любовь близких, определенные обязанности привязанность к дому, соблюдение традиций – питают более широкие и    высшие сферы жизни человека – чувство Родины, патриотиз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грамма «Радуга» Т.Н. Доронов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держание работы по теме «Семья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ть детям представление о том, что такое семья. Интересоваться тем, какие обязанности есть у ребёнка по дому (убирать игрушки, помогать накрывать на стол и т.п.) Учить детей знать и называть своих ближних родственников. Дать представления о родственных отношениях. Знакомить с семейными традициями. Начинаем составлять семейный альбом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70c0"/>
                </a:solidFill>
                <a:latin typeface="Comic Sans MS"/>
              </a:rPr>
              <a:t>/средняя группа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рмирование умений называть свое имя, фамилию, имена членов семьи. Создание игровых, проблемных ситуаций, способствующих расширению знаний о семье. Создание условий для развития представлений о своем внешнем облике, гендерных представле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рмирование умения говорить о себе в первом лиц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                                                           </a:t>
            </a: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/младшая группа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Формировать интерес к своей родословной, вместе с ребёнком изображать генеалогическое древо (начинать с дедушек и бабушек), составлять герб семьи; рассматривать фотографии родственников, помочь ребёнку увидеть внешнее сходство с др. родственниками. Знакомить с профессиональным трудом взрослых, подчёркивать его значимость для других. Привлекать детей к посильному участию в подготовке различных семейных праздни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                                             </a:t>
            </a:r>
            <a:r>
              <a:rPr b="0" lang="ru-RU" sz="2800" spc="-1" strike="noStrike">
                <a:solidFill>
                  <a:srgbClr val="3333ff"/>
                </a:solidFill>
                <a:latin typeface="Comic Sans MS"/>
              </a:rPr>
              <a:t>/старшая группа/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поминать детям даты их рождения. Дети должны знать своё отчество, домашний адрес, имена и отчества своих родителей, интересы родственников. Продолжать вместе с детьми рассматривать семейные фотоальбомы, рассказывать о родственниках, их судьбах и т.д. Закреплять желание изображать генеалогическое древо, гербы семьи, группы, д/с. Расширять гендерные представления. Продолжать развивать интерес к профессиям людей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ru-RU" sz="2800" spc="-1" strike="noStrike">
                <a:solidFill>
                  <a:srgbClr val="3333ff"/>
                </a:solidFill>
                <a:latin typeface="Comic Sans MS"/>
              </a:rPr>
              <a:t>/подготовительная группа/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Comic Sans MS"/>
              </a:rPr>
              <a:t>Формы и методы изучения раздела о семье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«Наглядные виды деятельности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Родословная и фольклор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акончи пословиц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956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емья в куче – не страшны и…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omic Sans MS"/>
              </a:rPr>
              <a:t>                                                 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(тучи)</a:t>
            </a: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орошо в гостях, а дома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(лучше)</a:t>
            </a: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й дом – моя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(крепость)</a:t>
            </a: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ово деревце, таково и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mic Sans MS"/>
              </a:rPr>
              <a:t>                                            </a:t>
            </a: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(яблочко)</a:t>
            </a: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ов батюшка, таковы у него и…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(детки)</a:t>
            </a: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гда семья вместе, и сердце на…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месте)</a:t>
            </a: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 что и клад, коли в семье…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(лад)</a:t>
            </a: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ом вести – не бородой…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(трясти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4956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ово на дому – таково и…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(самому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асна изба не углами, красн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Comic Sans MS"/>
              </a:rPr>
              <a:t>                                   </a:t>
            </a:r>
            <a:r>
              <a:rPr b="0" i="1" lang="en-US" sz="1800" spc="-1" strike="noStrike">
                <a:solidFill>
                  <a:srgbClr val="c00000"/>
                </a:solidFill>
                <a:latin typeface="Comic Sans MS"/>
              </a:rPr>
              <a:t>(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пирогами</a:t>
            </a:r>
            <a:r>
              <a:rPr b="0" i="1" lang="en-US" sz="1800" spc="-1" strike="noStrike">
                <a:solidFill>
                  <a:srgbClr val="c00000"/>
                </a:solidFill>
                <a:latin typeface="Comic Sans MS"/>
              </a:rPr>
              <a:t>)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родной семье и каша…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гуще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гласную семью и горе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mic Sans MS"/>
              </a:rPr>
              <a:t>                                      </a:t>
            </a: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(не берет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семье любовь да совет, так и…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(нужды нет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ружная семья и землю превращает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(</a:t>
            </a:r>
            <a:r>
              <a:rPr b="0" i="1" lang="en-US" sz="1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в золото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ти не в тягость, а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(в радость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9:21:30Z</dcterms:created>
  <dc:creator>user</dc:creator>
  <dc:description/>
  <dc:language>en-US</dc:language>
  <cp:lastModifiedBy>админ</cp:lastModifiedBy>
  <dcterms:modified xsi:type="dcterms:W3CDTF">2015-04-22T04:43:37Z</dcterms:modified>
  <cp:revision>29</cp:revision>
  <dc:subject/>
  <dc:title>Слайд 1</dc:title>
</cp:coreProperties>
</file>