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56B-0A04-47B7-881B-5E252F2C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769-82B0-41B4-A737-96DAA37E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A70-8EC0-4C59-9054-A4E3AEC5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EE7-F5F4-4DC3-A833-9230E84D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ECD3-D259-40EF-BE13-DBDE3445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0E8F-BE1C-4010-8902-2AB832F8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A5AD-25C5-46D2-893D-4604C717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460D-5CC4-4B69-905A-18E4FC5A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5EE4-C4EB-481A-A03D-B8FD34B1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2D4D-DF19-405A-887E-6775BD09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6649-D32E-449A-93A2-4E476208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BEF-2646-4102-A9BD-40120BA3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D5A7-669F-4118-BF8A-067026A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A330-F5A8-4B43-98D8-A43C4C9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0B04-1CFF-48D9-A761-EF09D2FB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D798-13EA-4C22-810B-035A7520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9C8B-CA79-4199-B8F9-F256939E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2AE-68A3-4327-BF22-2368701B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259-B880-41B5-8078-DCF7764A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CF4-F72B-4422-AC05-DE3B8240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EEA-21D1-4F62-834A-53B418C4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990-31C4-4FFC-B241-3039B830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ABD-8FC8-4CBF-BA5E-9F92B268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142-4983-44F5-93CB-2E4BFC2F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31E3-8DB1-4CDE-91E2-D12C91DA1D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2987-0C9B-460A-82FD-A41660ACBB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8360" y="83664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мейное воспитание в современных услов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радчина Мария Ром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оциальный педаг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ДЕМОГРАФИЧЕСКИЙ ПАРАМЕТР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Структура семь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468360" y="1413000"/>
          <a:ext cx="84247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8424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ФУНКЦИИ СЕМЬ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 ПРОЦЕССЕ СОЦИАЛИЗАЦИИ РЕБЕНКА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Физическое и эмоциональн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Умственное развитие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Овладение ребенком социальными нор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Фундаментальные ценностные ори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Социально-психологическая поддержка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28"/>
          <p:cNvGrpSpPr/>
          <p:nvPr/>
        </p:nvGrpSpPr>
        <p:grpSpPr>
          <a:xfrm>
            <a:off x="108000" y="115920"/>
            <a:ext cx="8784360" cy="6334560"/>
            <a:chOff x="108000" y="115920"/>
            <a:chExt cx="8784360" cy="6334560"/>
          </a:xfrm>
        </p:grpSpPr>
        <p:cxnSp>
          <p:nvCxnSpPr>
            <p:cNvPr id="128" name="_s3076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4672080" y="1445040"/>
              <a:ext cx="792360" cy="1299960"/>
            </a:xfrm>
            <a:prstGeom prst="bentConnector3">
              <a:avLst>
                <a:gd name="adj1" fmla="val 16272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1" name="_s3077"/>
            <p:cNvCxnSpPr>
              <a:stCxn id="132" idx="0"/>
              <a:endCxn id="133" idx="3"/>
            </p:cNvCxnSpPr>
            <p:nvPr/>
          </p:nvCxnSpPr>
          <p:spPr>
            <a:xfrm flipV="1" rot="16200000">
              <a:off x="2966040" y="4389840"/>
              <a:ext cx="792360" cy="160920"/>
            </a:xfrm>
            <a:prstGeom prst="bentConnector3">
              <a:avLst>
                <a:gd name="adj1" fmla="val 16227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4" name="_s3078"/>
            <p:cNvCxnSpPr>
              <a:stCxn id="135" idx="0"/>
              <a:endCxn id="130" idx="3"/>
            </p:cNvCxnSpPr>
            <p:nvPr/>
          </p:nvCxnSpPr>
          <p:spPr>
            <a:xfrm flipV="1" rot="16200000">
              <a:off x="5811840" y="305280"/>
              <a:ext cx="792360" cy="3579480"/>
            </a:xfrm>
            <a:prstGeom prst="bentConnector3">
              <a:avLst>
                <a:gd name="adj1" fmla="val 16272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6" name="_s3079"/>
            <p:cNvCxnSpPr>
              <a:stCxn id="133" idx="0"/>
              <a:endCxn id="130" idx="3"/>
            </p:cNvCxnSpPr>
            <p:nvPr/>
          </p:nvCxnSpPr>
          <p:spPr>
            <a:xfrm flipH="1" flipV="1" rot="5400000">
              <a:off x="3534840" y="1606680"/>
              <a:ext cx="792360" cy="976680"/>
            </a:xfrm>
            <a:prstGeom prst="bentConnector3">
              <a:avLst>
                <a:gd name="adj1" fmla="val 16272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7" name="_s3080"/>
            <p:cNvCxnSpPr>
              <a:stCxn id="138" idx="0"/>
              <a:endCxn id="130" idx="3"/>
            </p:cNvCxnSpPr>
            <p:nvPr/>
          </p:nvCxnSpPr>
          <p:spPr>
            <a:xfrm flipH="1" flipV="1" rot="5400000">
              <a:off x="2395800" y="468000"/>
              <a:ext cx="792360" cy="3254040"/>
            </a:xfrm>
            <a:prstGeom prst="bentConnector3">
              <a:avLst>
                <a:gd name="adj1" fmla="val 16272"/>
              </a:avLst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130" name="_s3081"/>
            <p:cNvSpPr/>
            <p:nvPr/>
          </p:nvSpPr>
          <p:spPr>
            <a:xfrm>
              <a:off x="3524400" y="11592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Социаль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информацион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помощ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3082"/>
            <p:cNvSpPr/>
            <p:nvPr/>
          </p:nvSpPr>
          <p:spPr>
            <a:xfrm>
              <a:off x="108000" y="249120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Консульта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ция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Беседа</a:t>
              </a:r>
              <a:r>
                <a:rPr b="0" lang="ru-RU" sz="26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3083"/>
            <p:cNvSpPr/>
            <p:nvPr/>
          </p:nvSpPr>
          <p:spPr>
            <a:xfrm>
              <a:off x="2385360" y="249120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Социаль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ный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патронаж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3084"/>
            <p:cNvSpPr/>
            <p:nvPr/>
          </p:nvSpPr>
          <p:spPr>
            <a:xfrm>
              <a:off x="6940440" y="249120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Тестиро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вани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Анкети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рование</a:t>
              </a:r>
              <a:r>
                <a:rPr b="1" lang="ru-RU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3085"/>
            <p:cNvSpPr/>
            <p:nvPr/>
          </p:nvSpPr>
          <p:spPr>
            <a:xfrm>
              <a:off x="2385360" y="486684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66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33"/>
                  </a:solidFill>
                  <a:latin typeface="Arial"/>
                </a:rPr>
                <a:t>Постановка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33"/>
                  </a:solidFill>
                  <a:latin typeface="Arial"/>
                </a:rPr>
                <a:t>и снятие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33"/>
                  </a:solidFill>
                  <a:latin typeface="Arial"/>
                </a:rPr>
                <a:t>с учет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086"/>
            <p:cNvSpPr/>
            <p:nvPr/>
          </p:nvSpPr>
          <p:spPr>
            <a:xfrm>
              <a:off x="4663080" y="249120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Опека и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попечи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тельство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дагогизация родителе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0" name="Organization Chart 6"/>
          <p:cNvGrpSpPr/>
          <p:nvPr/>
        </p:nvGrpSpPr>
        <p:grpSpPr>
          <a:xfrm>
            <a:off x="395280" y="1125360"/>
            <a:ext cx="8424000" cy="3094560"/>
            <a:chOff x="395280" y="1125360"/>
            <a:chExt cx="8424000" cy="3094560"/>
          </a:xfrm>
        </p:grpSpPr>
        <p:cxnSp>
          <p:nvCxnSpPr>
            <p:cNvPr id="141" name="_s4100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781600" y="1196640"/>
              <a:ext cx="601920" cy="2951640"/>
            </a:xfrm>
            <a:prstGeom prst="bentConnector3">
              <a:avLst>
                <a:gd name="adj1" fmla="val 12986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44" name="_s4101"/>
            <p:cNvCxnSpPr>
              <a:stCxn id="145" idx="0"/>
              <a:endCxn id="143" idx="2"/>
            </p:cNvCxnSpPr>
            <p:nvPr/>
          </p:nvCxnSpPr>
          <p:spPr>
            <a:xfrm flipV="1">
              <a:off x="4606920" y="2371680"/>
              <a:ext cx="3240" cy="60192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46" name="_s410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2832120" y="1198080"/>
              <a:ext cx="601920" cy="2949120"/>
            </a:xfrm>
            <a:prstGeom prst="bentConnector3">
              <a:avLst>
                <a:gd name="adj1" fmla="val 12986"/>
              </a:avLst>
            </a:prstGeom>
            <a:ln w="9360">
              <a:solidFill>
                <a:srgbClr val="5f5f5f"/>
              </a:solidFill>
              <a:miter/>
            </a:ln>
          </p:spPr>
        </p:cxnSp>
        <p:sp>
          <p:nvSpPr>
            <p:cNvPr id="143" name="_s4103"/>
            <p:cNvSpPr/>
            <p:nvPr/>
          </p:nvSpPr>
          <p:spPr>
            <a:xfrm>
              <a:off x="3343680" y="1125360"/>
              <a:ext cx="2527200" cy="1237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Arial"/>
                </a:rPr>
                <a:t>Всеобуч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Arial"/>
                </a:rPr>
                <a:t>родителе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104"/>
            <p:cNvSpPr/>
            <p:nvPr/>
          </p:nvSpPr>
          <p:spPr>
            <a:xfrm>
              <a:off x="395280" y="2982240"/>
              <a:ext cx="2527200" cy="1237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Лектории дл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родителе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99"/>
                  </a:solidFill>
                  <a:latin typeface="Arial"/>
                </a:rPr>
                <a:t>(школа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4105"/>
            <p:cNvSpPr/>
            <p:nvPr/>
          </p:nvSpPr>
          <p:spPr>
            <a:xfrm>
              <a:off x="3343680" y="2982240"/>
              <a:ext cx="2527200" cy="1237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Лектор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Ассоциац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народно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педагогик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4106"/>
            <p:cNvSpPr/>
            <p:nvPr/>
          </p:nvSpPr>
          <p:spPr>
            <a:xfrm>
              <a:off x="6292080" y="2982240"/>
              <a:ext cx="2527200" cy="1237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99"/>
                  </a:solidFill>
                  <a:latin typeface="Arial"/>
                </a:rPr>
                <a:t>Участ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99"/>
                  </a:solidFill>
                  <a:latin typeface="Arial"/>
                </a:rPr>
                <a:t>родителе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99"/>
                  </a:solidFill>
                  <a:latin typeface="Arial"/>
                </a:rPr>
                <a:t>в чиряевских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99"/>
                  </a:solidFill>
                  <a:latin typeface="Arial"/>
                </a:rPr>
                <a:t>чтения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479736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33"/>
                </a:solidFill>
                <a:latin typeface="Arial"/>
              </a:rPr>
              <a:t>Лектории для родителей в школе проводятся 1 раз в четверти по возрастным особенностям (младший подростковый возраст, старший подростковый возра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Diagram 5"/>
          <p:cNvGrpSpPr/>
          <p:nvPr/>
        </p:nvGrpSpPr>
        <p:grpSpPr>
          <a:xfrm>
            <a:off x="269280" y="277200"/>
            <a:ext cx="8614080" cy="6346800"/>
            <a:chOff x="269280" y="277200"/>
            <a:chExt cx="8614080" cy="6346800"/>
          </a:xfrm>
        </p:grpSpPr>
        <p:sp>
          <p:nvSpPr>
            <p:cNvPr id="150" name="_s5124"/>
            <p:cNvSpPr/>
            <p:nvPr/>
          </p:nvSpPr>
          <p:spPr>
            <a:xfrm flipH="1" flipV="1">
              <a:off x="2855880" y="2543760"/>
              <a:ext cx="862920" cy="5144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5125"/>
            <p:cNvSpPr/>
            <p:nvPr/>
          </p:nvSpPr>
          <p:spPr>
            <a:xfrm>
              <a:off x="902880" y="1209240"/>
              <a:ext cx="2196000" cy="1647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ЭТНОПЕДАГОГ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ЭТНОПСИХОЛОГ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5126"/>
            <p:cNvSpPr/>
            <p:nvPr/>
          </p:nvSpPr>
          <p:spPr>
            <a:xfrm flipH="1">
              <a:off x="2432160" y="3752640"/>
              <a:ext cx="1073160" cy="1868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5127"/>
            <p:cNvSpPr/>
            <p:nvPr/>
          </p:nvSpPr>
          <p:spPr>
            <a:xfrm>
              <a:off x="269280" y="3301200"/>
              <a:ext cx="2195280" cy="16477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ДУХОВ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НРАВСТВЕНН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5128"/>
            <p:cNvSpPr/>
            <p:nvPr/>
          </p:nvSpPr>
          <p:spPr>
            <a:xfrm flipH="1">
              <a:off x="3621960" y="4311000"/>
              <a:ext cx="474840" cy="74520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5129"/>
            <p:cNvSpPr/>
            <p:nvPr/>
          </p:nvSpPr>
          <p:spPr>
            <a:xfrm>
              <a:off x="2054160" y="4976280"/>
              <a:ext cx="2195280" cy="16477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ОБОБЩ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ОПЫ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СЕМЕЙ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5130"/>
            <p:cNvSpPr/>
            <p:nvPr/>
          </p:nvSpPr>
          <p:spPr>
            <a:xfrm>
              <a:off x="5048640" y="4311000"/>
              <a:ext cx="477720" cy="74520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5131"/>
            <p:cNvSpPr/>
            <p:nvPr/>
          </p:nvSpPr>
          <p:spPr>
            <a:xfrm>
              <a:off x="4909320" y="4973400"/>
              <a:ext cx="2195280" cy="1648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ПОЛОВ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5132"/>
            <p:cNvSpPr/>
            <p:nvPr/>
          </p:nvSpPr>
          <p:spPr>
            <a:xfrm>
              <a:off x="5640480" y="3755520"/>
              <a:ext cx="1073160" cy="1814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5133"/>
            <p:cNvSpPr/>
            <p:nvPr/>
          </p:nvSpPr>
          <p:spPr>
            <a:xfrm>
              <a:off x="6687360" y="3296520"/>
              <a:ext cx="2196000" cy="1647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ПСИХОЛОГ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134"/>
            <p:cNvSpPr/>
            <p:nvPr/>
          </p:nvSpPr>
          <p:spPr>
            <a:xfrm flipV="1">
              <a:off x="5429880" y="2543760"/>
              <a:ext cx="860040" cy="5144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5135"/>
            <p:cNvSpPr/>
            <p:nvPr/>
          </p:nvSpPr>
          <p:spPr>
            <a:xfrm>
              <a:off x="6050880" y="1206360"/>
              <a:ext cx="2195280" cy="1648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ПРАВОВ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5136"/>
            <p:cNvSpPr/>
            <p:nvPr/>
          </p:nvSpPr>
          <p:spPr>
            <a:xfrm flipV="1">
              <a:off x="4572720" y="1922040"/>
              <a:ext cx="0" cy="8276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5137"/>
            <p:cNvSpPr/>
            <p:nvPr/>
          </p:nvSpPr>
          <p:spPr>
            <a:xfrm>
              <a:off x="3477240" y="277200"/>
              <a:ext cx="2195280" cy="16477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ПАТРИОТИ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5138"/>
            <p:cNvSpPr/>
            <p:nvPr/>
          </p:nvSpPr>
          <p:spPr>
            <a:xfrm>
              <a:off x="3477240" y="2750400"/>
              <a:ext cx="2195280" cy="16477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ОБЩ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ТЕМАТИК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ЛЕКТОРИЕ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Diagram 2"/>
          <p:cNvGrpSpPr/>
          <p:nvPr/>
        </p:nvGrpSpPr>
        <p:grpSpPr>
          <a:xfrm>
            <a:off x="1314000" y="165240"/>
            <a:ext cx="6519600" cy="6274080"/>
            <a:chOff x="1314000" y="165240"/>
            <a:chExt cx="6519600" cy="6274080"/>
          </a:xfrm>
        </p:grpSpPr>
        <p:sp>
          <p:nvSpPr>
            <p:cNvPr id="166" name="_s6148"/>
            <p:cNvSpPr/>
            <p:nvPr/>
          </p:nvSpPr>
          <p:spPr>
            <a:xfrm flipV="1">
              <a:off x="4571280" y="948240"/>
              <a:ext cx="0" cy="19933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6149"/>
            <p:cNvSpPr/>
            <p:nvPr/>
          </p:nvSpPr>
          <p:spPr>
            <a:xfrm>
              <a:off x="4166280" y="165240"/>
              <a:ext cx="811440" cy="784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ВР и Д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«Тускул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50"/>
            <p:cNvSpPr/>
            <p:nvPr/>
          </p:nvSpPr>
          <p:spPr>
            <a:xfrm flipV="1">
              <a:off x="4735440" y="1153440"/>
              <a:ext cx="838080" cy="18208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6151"/>
            <p:cNvSpPr/>
            <p:nvPr/>
          </p:nvSpPr>
          <p:spPr>
            <a:xfrm>
              <a:off x="5333040" y="405000"/>
              <a:ext cx="811440" cy="784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ПК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52"/>
            <p:cNvSpPr/>
            <p:nvPr/>
          </p:nvSpPr>
          <p:spPr>
            <a:xfrm flipV="1">
              <a:off x="4871520" y="1734840"/>
              <a:ext cx="1531080" cy="13330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6153"/>
            <p:cNvSpPr/>
            <p:nvPr/>
          </p:nvSpPr>
          <p:spPr>
            <a:xfrm>
              <a:off x="6298560" y="1081800"/>
              <a:ext cx="811440" cy="784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ент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охраны, опе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печитель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54"/>
            <p:cNvSpPr/>
            <p:nvPr/>
          </p:nvSpPr>
          <p:spPr>
            <a:xfrm flipV="1">
              <a:off x="4956480" y="2593080"/>
              <a:ext cx="1959120" cy="6156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6155"/>
            <p:cNvSpPr/>
            <p:nvPr/>
          </p:nvSpPr>
          <p:spPr>
            <a:xfrm>
              <a:off x="6896160" y="2080080"/>
              <a:ext cx="811440" cy="784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ент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семь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56"/>
            <p:cNvSpPr/>
            <p:nvPr/>
          </p:nvSpPr>
          <p:spPr>
            <a:xfrm>
              <a:off x="4974120" y="3369240"/>
              <a:ext cx="2049480" cy="2084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6157"/>
            <p:cNvSpPr/>
            <p:nvPr/>
          </p:nvSpPr>
          <p:spPr>
            <a:xfrm>
              <a:off x="7021800" y="3227400"/>
              <a:ext cx="811800" cy="784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УОВД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Д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КД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6158"/>
            <p:cNvSpPr/>
            <p:nvPr/>
          </p:nvSpPr>
          <p:spPr>
            <a:xfrm>
              <a:off x="4923000" y="3522960"/>
              <a:ext cx="1784160" cy="996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59"/>
            <p:cNvSpPr/>
            <p:nvPr/>
          </p:nvSpPr>
          <p:spPr>
            <a:xfrm>
              <a:off x="6653880" y="4324680"/>
              <a:ext cx="811440" cy="784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рокура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60"/>
            <p:cNvSpPr/>
            <p:nvPr/>
          </p:nvSpPr>
          <p:spPr>
            <a:xfrm>
              <a:off x="4811400" y="3644280"/>
              <a:ext cx="1211400" cy="16120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6161"/>
            <p:cNvSpPr/>
            <p:nvPr/>
          </p:nvSpPr>
          <p:spPr>
            <a:xfrm>
              <a:off x="5856480" y="5183280"/>
              <a:ext cx="811800" cy="7844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Библиоте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62"/>
            <p:cNvSpPr/>
            <p:nvPr/>
          </p:nvSpPr>
          <p:spPr>
            <a:xfrm>
              <a:off x="4659480" y="3711240"/>
              <a:ext cx="427680" cy="19486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63"/>
            <p:cNvSpPr/>
            <p:nvPr/>
          </p:nvSpPr>
          <p:spPr>
            <a:xfrm>
              <a:off x="4767120" y="5653440"/>
              <a:ext cx="811440" cy="7844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ДЮС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6164"/>
            <p:cNvSpPr/>
            <p:nvPr/>
          </p:nvSpPr>
          <p:spPr>
            <a:xfrm flipH="1">
              <a:off x="4063680" y="3713040"/>
              <a:ext cx="427680" cy="19486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5"/>
            <p:cNvSpPr/>
            <p:nvPr/>
          </p:nvSpPr>
          <p:spPr>
            <a:xfrm>
              <a:off x="3573360" y="5654880"/>
              <a:ext cx="811800" cy="7844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ВЭ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6166"/>
            <p:cNvSpPr/>
            <p:nvPr/>
          </p:nvSpPr>
          <p:spPr>
            <a:xfrm flipH="1">
              <a:off x="3125880" y="3647880"/>
              <a:ext cx="1210680" cy="16117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2482920" y="5186520"/>
              <a:ext cx="811440" cy="7844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У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6168"/>
            <p:cNvSpPr/>
            <p:nvPr/>
          </p:nvSpPr>
          <p:spPr>
            <a:xfrm flipH="1">
              <a:off x="2440080" y="3528000"/>
              <a:ext cx="1783800" cy="996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9"/>
            <p:cNvSpPr/>
            <p:nvPr/>
          </p:nvSpPr>
          <p:spPr>
            <a:xfrm>
              <a:off x="1683720" y="4330440"/>
              <a:ext cx="811440" cy="7844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ент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техническ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твор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6170"/>
            <p:cNvSpPr/>
            <p:nvPr/>
          </p:nvSpPr>
          <p:spPr>
            <a:xfrm flipH="1">
              <a:off x="2121480" y="3374640"/>
              <a:ext cx="2049480" cy="2084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71"/>
            <p:cNvSpPr/>
            <p:nvPr/>
          </p:nvSpPr>
          <p:spPr>
            <a:xfrm>
              <a:off x="1314000" y="3232800"/>
              <a:ext cx="811440" cy="7844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Обще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организ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72"/>
            <p:cNvSpPr/>
            <p:nvPr/>
          </p:nvSpPr>
          <p:spPr>
            <a:xfrm flipH="1" flipV="1">
              <a:off x="2228040" y="2598120"/>
              <a:ext cx="1959120" cy="6152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6173"/>
            <p:cNvSpPr/>
            <p:nvPr/>
          </p:nvSpPr>
          <p:spPr>
            <a:xfrm>
              <a:off x="1437840" y="2085480"/>
              <a:ext cx="811440" cy="78444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Школ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улус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ент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74"/>
            <p:cNvSpPr/>
            <p:nvPr/>
          </p:nvSpPr>
          <p:spPr>
            <a:xfrm flipH="1" flipV="1">
              <a:off x="2738520" y="1739880"/>
              <a:ext cx="1531080" cy="13316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6175"/>
            <p:cNvSpPr/>
            <p:nvPr/>
          </p:nvSpPr>
          <p:spPr>
            <a:xfrm>
              <a:off x="2033640" y="1085400"/>
              <a:ext cx="811440" cy="78444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Т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«Хоту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Булуу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6176"/>
            <p:cNvSpPr/>
            <p:nvPr/>
          </p:nvSpPr>
          <p:spPr>
            <a:xfrm flipH="1" flipV="1">
              <a:off x="3566520" y="1157040"/>
              <a:ext cx="838080" cy="18187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6177"/>
            <p:cNvSpPr/>
            <p:nvPr/>
          </p:nvSpPr>
          <p:spPr>
            <a:xfrm>
              <a:off x="2997360" y="406440"/>
              <a:ext cx="811440" cy="78444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ДШ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6178"/>
            <p:cNvSpPr/>
            <p:nvPr/>
          </p:nvSpPr>
          <p:spPr>
            <a:xfrm>
              <a:off x="4166280" y="2941920"/>
              <a:ext cx="811440" cy="78444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ВЗАИМОДЕЙСТВИЕ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С СОЦИАЛЬНЫМИ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ИНСТИТУТАМИ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СЕЛ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06616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МЬ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это источник удовлетворения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ви и интереса, необходим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ля поддержания личности среди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ратких и временных контактов с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нешним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Garamond"/>
              </a:rPr>
              <a:t>ЦЕЛЬ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оздание психологического комф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езопасности детей в школе, сем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икрорай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Garamond"/>
              </a:rPr>
              <a:t>ЗАДАЧИ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Оказание помощи, содействия в жизненном самоопределении учащих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Социально-информационная ( психолого- педагогическая) помощь, направленная на обеспечении детей и их семей информацией по вопросам социальной защиты в цело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оциально-бытовая помощь, содействующая улучшению бытовых условий детей проживающих в семьях группы риска, оказавшихся в ТЖ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ЗАИМОДЕЙСТВИЕ ПЕДАГОГИЧЕСКОЙ И СОЦИАЛЬНОЙ СРЕД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2" name="Diagram 5"/>
          <p:cNvGrpSpPr/>
          <p:nvPr/>
        </p:nvGrpSpPr>
        <p:grpSpPr>
          <a:xfrm>
            <a:off x="1206360" y="1776240"/>
            <a:ext cx="6731280" cy="4178520"/>
            <a:chOff x="1206360" y="1776240"/>
            <a:chExt cx="6731280" cy="4178520"/>
          </a:xfrm>
        </p:grpSpPr>
        <p:sp>
          <p:nvSpPr>
            <p:cNvPr id="93" name="_s1028"/>
            <p:cNvSpPr/>
            <p:nvPr/>
          </p:nvSpPr>
          <p:spPr>
            <a:xfrm>
              <a:off x="3722760" y="2369880"/>
              <a:ext cx="1700280" cy="17002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29"/>
            <p:cNvSpPr/>
            <p:nvPr/>
          </p:nvSpPr>
          <p:spPr>
            <a:xfrm>
              <a:off x="3722760" y="1776240"/>
              <a:ext cx="17002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ШКО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0"/>
            <p:cNvSpPr/>
            <p:nvPr/>
          </p:nvSpPr>
          <p:spPr>
            <a:xfrm>
              <a:off x="4368960" y="3016080"/>
              <a:ext cx="1699920" cy="170028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1"/>
            <p:cNvSpPr/>
            <p:nvPr/>
          </p:nvSpPr>
          <p:spPr>
            <a:xfrm>
              <a:off x="6237360" y="3654360"/>
              <a:ext cx="1700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СЕМЬ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2"/>
            <p:cNvSpPr/>
            <p:nvPr/>
          </p:nvSpPr>
          <p:spPr>
            <a:xfrm>
              <a:off x="3722760" y="3662280"/>
              <a:ext cx="1700280" cy="17002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3"/>
            <p:cNvSpPr/>
            <p:nvPr/>
          </p:nvSpPr>
          <p:spPr>
            <a:xfrm>
              <a:off x="3722760" y="5530680"/>
              <a:ext cx="17002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МИКРОРАЙ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4"/>
            <p:cNvSpPr/>
            <p:nvPr/>
          </p:nvSpPr>
          <p:spPr>
            <a:xfrm>
              <a:off x="3076560" y="3016080"/>
              <a:ext cx="1700280" cy="170028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5"/>
            <p:cNvSpPr/>
            <p:nvPr/>
          </p:nvSpPr>
          <p:spPr>
            <a:xfrm>
              <a:off x="1206360" y="3654360"/>
              <a:ext cx="1700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СОЦИА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ИНСТИТУТ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С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СОЦИАЛЬНО-ОРГАНИЗОВАННАЯ СИСТЕМА</a:t>
            </a:r>
            <a:r>
              <a:rPr b="1" lang="ru-RU" sz="39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СОЦИАЛИЗАЦИИ РЕБЕНК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СЕМЬЯ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 – это персональная среда жизни 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и развития человека, качество 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которого определяется рядом 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конкретных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пара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Organization Chart 5"/>
          <p:cNvGrpSpPr/>
          <p:nvPr/>
        </p:nvGrpSpPr>
        <p:grpSpPr>
          <a:xfrm>
            <a:off x="457200" y="268200"/>
            <a:ext cx="8685360" cy="6336720"/>
            <a:chOff x="457200" y="268200"/>
            <a:chExt cx="8685360" cy="6336720"/>
          </a:xfrm>
        </p:grpSpPr>
        <p:cxnSp>
          <p:nvCxnSpPr>
            <p:cNvPr id="104" name="_s2052"/>
            <p:cNvCxnSpPr>
              <a:stCxn id="105" idx="2"/>
              <a:endCxn id="106" idx="3"/>
            </p:cNvCxnSpPr>
            <p:nvPr/>
          </p:nvCxnSpPr>
          <p:spPr>
            <a:xfrm rot="10800000">
              <a:off x="3012840" y="1172520"/>
              <a:ext cx="918360" cy="503028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07" name="_s2053"/>
            <p:cNvCxnSpPr>
              <a:stCxn id="108" idx="2"/>
              <a:endCxn id="106" idx="3"/>
            </p:cNvCxnSpPr>
            <p:nvPr/>
          </p:nvCxnSpPr>
          <p:spPr>
            <a:xfrm rot="10800000">
              <a:off x="3012840" y="1172520"/>
              <a:ext cx="918360" cy="366876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09" name="_s2054"/>
            <p:cNvCxnSpPr>
              <a:stCxn id="110" idx="2"/>
              <a:endCxn id="106" idx="3"/>
            </p:cNvCxnSpPr>
            <p:nvPr/>
          </p:nvCxnSpPr>
          <p:spPr>
            <a:xfrm rot="10800000">
              <a:off x="3012840" y="1172520"/>
              <a:ext cx="918360" cy="231444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11" name="_s2055"/>
            <p:cNvCxnSpPr>
              <a:stCxn id="112" idx="2"/>
              <a:endCxn id="106" idx="3"/>
            </p:cNvCxnSpPr>
            <p:nvPr/>
          </p:nvCxnSpPr>
          <p:spPr>
            <a:xfrm rot="10800000">
              <a:off x="3012840" y="1172520"/>
              <a:ext cx="918360" cy="95292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106" name="_s2056"/>
            <p:cNvSpPr/>
            <p:nvPr/>
          </p:nvSpPr>
          <p:spPr>
            <a:xfrm>
              <a:off x="457200" y="268200"/>
              <a:ext cx="5211360" cy="905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0000"/>
                  </a:solidFill>
                  <a:latin typeface="Arial"/>
                </a:rPr>
                <a:t>Параметры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0000"/>
                  </a:solidFill>
                  <a:latin typeface="Arial"/>
                </a:rPr>
                <a:t>социализации ребенк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057"/>
            <p:cNvSpPr/>
            <p:nvPr/>
          </p:nvSpPr>
          <p:spPr>
            <a:xfrm>
              <a:off x="3931200" y="1626120"/>
              <a:ext cx="5211360" cy="905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33"/>
                  </a:solidFill>
                  <a:latin typeface="Arial"/>
                </a:rPr>
                <a:t>Социально-культур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058"/>
            <p:cNvSpPr/>
            <p:nvPr/>
          </p:nvSpPr>
          <p:spPr>
            <a:xfrm>
              <a:off x="3931200" y="2984040"/>
              <a:ext cx="5211360" cy="905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33"/>
                  </a:solidFill>
                  <a:latin typeface="Arial"/>
                </a:rPr>
                <a:t>Социально-экономическ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059"/>
            <p:cNvSpPr/>
            <p:nvPr/>
          </p:nvSpPr>
          <p:spPr>
            <a:xfrm>
              <a:off x="3931200" y="4341960"/>
              <a:ext cx="5211360" cy="905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33"/>
                  </a:solidFill>
                  <a:latin typeface="Arial"/>
                </a:rPr>
                <a:t>Технико-гигиенически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60"/>
            <p:cNvSpPr/>
            <p:nvPr/>
          </p:nvSpPr>
          <p:spPr>
            <a:xfrm>
              <a:off x="3931200" y="5699880"/>
              <a:ext cx="5211360" cy="905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33"/>
                  </a:solidFill>
                  <a:latin typeface="Arial"/>
                </a:rPr>
                <a:t>Демографически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ОЦИАЛЬНО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-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КУЛЬТУРНЫЙ ПАРАМЕТР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бразовательный уровень семь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666720" y="1600200"/>
          <a:ext cx="835200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1600200"/>
                    <a:ext cx="835200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ОЦИАЛЬНО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-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ЭКОНОМИЧЕСКИЙ ПАРАМЕТР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нятость семь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900000" y="1844640"/>
          <a:ext cx="798516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798516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ТЕХНИКО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-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ГИГИЕНИЧЕСКИЙ ПАРАМЕТР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Условия проживания семь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71600" y="1835280"/>
          <a:ext cx="8393040" cy="40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835280"/>
                    <a:ext cx="8393040" cy="40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3:00:04Z</dcterms:created>
  <dc:creator>Владелец</dc:creator>
  <dc:description/>
  <dc:language>en-US</dc:language>
  <cp:lastModifiedBy>Мария</cp:lastModifiedBy>
  <dcterms:modified xsi:type="dcterms:W3CDTF">2015-03-24T07:26:03Z</dcterms:modified>
  <cp:revision>24</cp:revision>
  <dc:subject/>
  <dc:title>Слайд 1</dc:title>
</cp:coreProperties>
</file>