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1240" y="4585680"/>
            <a:ext cx="860112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1240" y="4585680"/>
            <a:ext cx="419724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8720" y="4585680"/>
            <a:ext cx="419724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276948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9680" y="2101680"/>
            <a:ext cx="276948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6948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1240" y="4585680"/>
            <a:ext cx="276948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9680" y="4585680"/>
            <a:ext cx="276948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7760" y="4585680"/>
            <a:ext cx="276948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112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112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1240" y="4585680"/>
            <a:ext cx="419724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112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48720" y="4585680"/>
            <a:ext cx="419724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1240" y="4585680"/>
            <a:ext cx="860112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1240" y="4585680"/>
            <a:ext cx="860112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1240" y="4585680"/>
            <a:ext cx="419724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48720" y="4585680"/>
            <a:ext cx="419724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276948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9680" y="2101680"/>
            <a:ext cx="276948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6948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1240" y="4585680"/>
            <a:ext cx="276948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49680" y="4585680"/>
            <a:ext cx="276948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57760" y="4585680"/>
            <a:ext cx="276948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112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1240" y="4585680"/>
            <a:ext cx="419724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8720" y="4585680"/>
            <a:ext cx="419724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1240" y="4585680"/>
            <a:ext cx="860112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599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9000" y="2223720"/>
            <a:ext cx="8469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41240" y="2101680"/>
            <a:ext cx="860112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festival.1september.ru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60720" y="179280"/>
            <a:ext cx="6480000" cy="1440000"/>
          </a:xfrm>
          <a:prstGeom prst="roundRect">
            <a:avLst>
              <a:gd name="adj" fmla="val 106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cap="sq" w="36000">
            <a:solidFill>
              <a:srgbClr val="230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080" bIns="18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botina Elena Konstantinov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BOU ASOSH №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”b”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160720" y="2146320"/>
            <a:ext cx="6521400" cy="5054760"/>
          </a:xfrm>
          <a:prstGeom prst="rect">
            <a:avLst/>
          </a:prstGeom>
          <a:ln w="0">
            <a:noFill/>
          </a:ln>
        </p:spPr>
      </p:pic>
      <p:sp>
        <p:nvSpPr>
          <p:cNvPr id="83" name="">
            <a:hlinkClick r:id="" action="ppaction://hlinkshowjump?jump=previousslide"/>
          </p:cNvPr>
          <p:cNvSpPr/>
          <p:nvPr/>
        </p:nvSpPr>
        <p:spPr>
          <a:xfrm rot="10620000">
            <a:off x="538200" y="7016400"/>
            <a:ext cx="72072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0" y="10800"/>
                </a:lnTo>
                <a:lnTo>
                  <a:pt x="0" y="0"/>
                </a:lnTo>
                <a:lnTo>
                  <a:pt x="21600" y="10800"/>
                </a:lnTo>
                <a:lnTo>
                  <a:pt x="0" y="21600"/>
                </a:lnTo>
                <a:lnTo>
                  <a:pt x="0" y="10800"/>
                </a:lnTo>
                <a:lnTo>
                  <a:pt x="0" y="10800"/>
                </a:lnTo>
                <a:lnTo>
                  <a:pt x="0" y="108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cap="sq"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8999640" y="7020000"/>
            <a:ext cx="72072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0" y="10800"/>
                </a:lnTo>
                <a:lnTo>
                  <a:pt x="0" y="0"/>
                </a:lnTo>
                <a:lnTo>
                  <a:pt x="21600" y="10800"/>
                </a:lnTo>
                <a:lnTo>
                  <a:pt x="0" y="21600"/>
                </a:lnTo>
                <a:lnTo>
                  <a:pt x="0" y="10800"/>
                </a:lnTo>
                <a:lnTo>
                  <a:pt x="0" y="10800"/>
                </a:lnTo>
                <a:lnTo>
                  <a:pt x="0" y="108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cap="sq"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63640" y="287280"/>
            <a:ext cx="8640720" cy="6551640"/>
          </a:xfrm>
          <a:prstGeom prst="roundRect">
            <a:avLst>
              <a:gd name="adj" fmla="val 56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cap="sq" w="36000">
            <a:solidFill>
              <a:srgbClr val="230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уемая литератур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Занина Е.Л.  95 устных тем по английском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зыку. - М.:Айрис-пресс,200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. Выборова Г.Е. 70 устных тем по английском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зыку.- М.:АСТ-пресс,200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тернет-ресурс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http://www.native-english.r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festival.1september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http://images.yandex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 rot="10620000">
            <a:off x="561960" y="7014960"/>
            <a:ext cx="72072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0" y="10800"/>
                </a:lnTo>
                <a:lnTo>
                  <a:pt x="0" y="0"/>
                </a:lnTo>
                <a:lnTo>
                  <a:pt x="21600" y="10800"/>
                </a:lnTo>
                <a:lnTo>
                  <a:pt x="0" y="21600"/>
                </a:lnTo>
                <a:lnTo>
                  <a:pt x="0" y="10800"/>
                </a:lnTo>
                <a:lnTo>
                  <a:pt x="0" y="10800"/>
                </a:lnTo>
                <a:lnTo>
                  <a:pt x="0" y="108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cap="sq"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8999640" y="7020000"/>
            <a:ext cx="72072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0" y="10800"/>
                </a:lnTo>
                <a:lnTo>
                  <a:pt x="0" y="0"/>
                </a:lnTo>
                <a:lnTo>
                  <a:pt x="21600" y="10800"/>
                </a:lnTo>
                <a:lnTo>
                  <a:pt x="0" y="21600"/>
                </a:lnTo>
                <a:lnTo>
                  <a:pt x="0" y="10800"/>
                </a:lnTo>
                <a:lnTo>
                  <a:pt x="0" y="10800"/>
                </a:lnTo>
                <a:lnTo>
                  <a:pt x="0" y="108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cap="sq"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9640" y="119160"/>
            <a:ext cx="8999640" cy="1681200"/>
          </a:xfrm>
          <a:prstGeom prst="roundRect">
            <a:avLst>
              <a:gd name="adj" fmla="val 93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cap="sq" w="36000">
            <a:solidFill>
              <a:srgbClr val="230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65520" bIns="18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Protect our nature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199280" y="2519280"/>
            <a:ext cx="2700360" cy="4500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60360" y="2160720"/>
            <a:ext cx="6840720" cy="5219640"/>
          </a:xfrm>
          <a:prstGeom prst="roundRect">
            <a:avLst>
              <a:gd name="adj" fmla="val 28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cap="sq" w="36000">
            <a:solidFill>
              <a:srgbClr val="230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2840" bIns="18000" anchor="ctr" anchorCtr="1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od is a beauty of our Ear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gives us oxygen, wood. In it t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 birds and various animal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ods are protected by the law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some people cut down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ghtlessl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cut-down trees vanish in v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lways instead of the cut-down tre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ew are p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of it the woods remains less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 rot="10620000">
            <a:off x="546120" y="7016400"/>
            <a:ext cx="72072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0" y="10800"/>
                </a:lnTo>
                <a:lnTo>
                  <a:pt x="0" y="0"/>
                </a:lnTo>
                <a:lnTo>
                  <a:pt x="21600" y="10800"/>
                </a:lnTo>
                <a:lnTo>
                  <a:pt x="0" y="21600"/>
                </a:lnTo>
                <a:lnTo>
                  <a:pt x="0" y="10800"/>
                </a:lnTo>
                <a:lnTo>
                  <a:pt x="0" y="10800"/>
                </a:lnTo>
                <a:lnTo>
                  <a:pt x="0" y="108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cap="sq"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8999640" y="7020000"/>
            <a:ext cx="72072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0" y="10800"/>
                </a:lnTo>
                <a:lnTo>
                  <a:pt x="0" y="0"/>
                </a:lnTo>
                <a:lnTo>
                  <a:pt x="21600" y="10800"/>
                </a:lnTo>
                <a:lnTo>
                  <a:pt x="0" y="21600"/>
                </a:lnTo>
                <a:lnTo>
                  <a:pt x="0" y="10800"/>
                </a:lnTo>
                <a:lnTo>
                  <a:pt x="0" y="10800"/>
                </a:lnTo>
                <a:lnTo>
                  <a:pt x="0" y="108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cap="sq"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79280" y="360360"/>
            <a:ext cx="6840720" cy="4500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519280" y="2319480"/>
            <a:ext cx="7315200" cy="4879800"/>
          </a:xfrm>
          <a:prstGeom prst="rect">
            <a:avLst/>
          </a:prstGeom>
          <a:ln w="0">
            <a:noFill/>
          </a:ln>
        </p:spPr>
      </p:pic>
      <p:sp>
        <p:nvSpPr>
          <p:cNvPr id="92" name="">
            <a:hlinkClick r:id="" action="ppaction://hlinkshowjump?jump=previousslide"/>
          </p:cNvPr>
          <p:cNvSpPr/>
          <p:nvPr/>
        </p:nvSpPr>
        <p:spPr>
          <a:xfrm rot="10620000">
            <a:off x="546120" y="7016400"/>
            <a:ext cx="72072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0" y="10800"/>
                </a:lnTo>
                <a:lnTo>
                  <a:pt x="0" y="0"/>
                </a:lnTo>
                <a:lnTo>
                  <a:pt x="21600" y="10800"/>
                </a:lnTo>
                <a:lnTo>
                  <a:pt x="0" y="21600"/>
                </a:lnTo>
                <a:lnTo>
                  <a:pt x="0" y="10800"/>
                </a:lnTo>
                <a:lnTo>
                  <a:pt x="0" y="10800"/>
                </a:lnTo>
                <a:lnTo>
                  <a:pt x="0" y="108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cap="sq"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8999640" y="7020000"/>
            <a:ext cx="72072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0" y="10800"/>
                </a:lnTo>
                <a:lnTo>
                  <a:pt x="0" y="0"/>
                </a:lnTo>
                <a:lnTo>
                  <a:pt x="21600" y="10800"/>
                </a:lnTo>
                <a:lnTo>
                  <a:pt x="0" y="21600"/>
                </a:lnTo>
                <a:lnTo>
                  <a:pt x="0" y="10800"/>
                </a:lnTo>
                <a:lnTo>
                  <a:pt x="0" y="10800"/>
                </a:lnTo>
                <a:lnTo>
                  <a:pt x="0" y="108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cap="sq"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740720" y="2395440"/>
            <a:ext cx="2160360" cy="40845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39640" y="360360"/>
            <a:ext cx="9180720" cy="1260360"/>
          </a:xfrm>
          <a:prstGeom prst="roundRect">
            <a:avLst>
              <a:gd name="adj" fmla="val 125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cap="sq" w="36000">
            <a:solidFill>
              <a:srgbClr val="230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2840" bIns="18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es! It's very dangerous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1779480"/>
            <a:ext cx="7143840" cy="5600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cap="sq" w="36000">
            <a:solidFill>
              <a:srgbClr val="230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2840" bIns="18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ing visited the wood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sometimes leave fires li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of it often there are fi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hole forests 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rned with imprudence of peop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llion plants peris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ng them there are a lot of rar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where not me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more.When the wood burns down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imals should leave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of these eternal transitions anim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times per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y, of course manage to get out of fi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previousslide"/>
          </p:cNvPr>
          <p:cNvSpPr/>
          <p:nvPr/>
        </p:nvSpPr>
        <p:spPr>
          <a:xfrm rot="10620000">
            <a:off x="546120" y="7016400"/>
            <a:ext cx="72072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0" y="10800"/>
                </a:lnTo>
                <a:lnTo>
                  <a:pt x="0" y="0"/>
                </a:lnTo>
                <a:lnTo>
                  <a:pt x="21600" y="10800"/>
                </a:lnTo>
                <a:lnTo>
                  <a:pt x="0" y="21600"/>
                </a:lnTo>
                <a:lnTo>
                  <a:pt x="0" y="10800"/>
                </a:lnTo>
                <a:lnTo>
                  <a:pt x="0" y="10800"/>
                </a:lnTo>
                <a:lnTo>
                  <a:pt x="0" y="108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cap="sq"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8999640" y="7020000"/>
            <a:ext cx="72072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0" y="10800"/>
                </a:lnTo>
                <a:lnTo>
                  <a:pt x="0" y="0"/>
                </a:lnTo>
                <a:lnTo>
                  <a:pt x="21600" y="10800"/>
                </a:lnTo>
                <a:lnTo>
                  <a:pt x="0" y="21600"/>
                </a:lnTo>
                <a:lnTo>
                  <a:pt x="0" y="10800"/>
                </a:lnTo>
                <a:lnTo>
                  <a:pt x="0" y="10800"/>
                </a:lnTo>
                <a:lnTo>
                  <a:pt x="0" y="108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cap="sq"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60360" y="1800360"/>
            <a:ext cx="5400720" cy="3958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80000" y="1979640"/>
            <a:ext cx="5219640" cy="4140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720720" y="3600360"/>
            <a:ext cx="6840720" cy="3780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60360" y="179280"/>
            <a:ext cx="9539280" cy="1440000"/>
          </a:xfrm>
          <a:prstGeom prst="roundRect">
            <a:avLst>
              <a:gd name="adj" fmla="val 106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cap="sq" w="36000">
            <a:solidFill>
              <a:srgbClr val="230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2840" bIns="18000" anchor="ctr" anchorCtr="1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 invest huge money in funds on protec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the wo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many plants and animals are wiped already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 rot="10620000">
            <a:off x="554040" y="7014960"/>
            <a:ext cx="72072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0" y="10800"/>
                </a:lnTo>
                <a:lnTo>
                  <a:pt x="0" y="0"/>
                </a:lnTo>
                <a:lnTo>
                  <a:pt x="21600" y="10800"/>
                </a:lnTo>
                <a:lnTo>
                  <a:pt x="0" y="21600"/>
                </a:lnTo>
                <a:lnTo>
                  <a:pt x="0" y="10800"/>
                </a:lnTo>
                <a:lnTo>
                  <a:pt x="0" y="10800"/>
                </a:lnTo>
                <a:lnTo>
                  <a:pt x="0" y="108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cap="sq"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8999640" y="7020000"/>
            <a:ext cx="72072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0" y="10800"/>
                </a:lnTo>
                <a:lnTo>
                  <a:pt x="0" y="0"/>
                </a:lnTo>
                <a:lnTo>
                  <a:pt x="21600" y="10800"/>
                </a:lnTo>
                <a:lnTo>
                  <a:pt x="0" y="21600"/>
                </a:lnTo>
                <a:lnTo>
                  <a:pt x="0" y="10800"/>
                </a:lnTo>
                <a:lnTo>
                  <a:pt x="0" y="10800"/>
                </a:lnTo>
                <a:lnTo>
                  <a:pt x="0" y="108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cap="sq"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dur="indefinite" fill="hold">
                      <p:stCondLst>
                        <p:cond delay="0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47640" y="2735280"/>
            <a:ext cx="4319640" cy="4608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39640" y="179280"/>
            <a:ext cx="9360000" cy="2340000"/>
          </a:xfrm>
          <a:prstGeom prst="roundRect">
            <a:avLst>
              <a:gd name="adj" fmla="val 65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cap="sq" w="36000">
            <a:solidFill>
              <a:srgbClr val="230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2840" bIns="18000" anchor="ctr" anchorCtr="1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cientists with alarm speak about complex proble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conservation from economic activity of the person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rn about danger of death of all l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a planet Earth and call for active f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the person against the thoughtless re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the natur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16720" y="2735280"/>
            <a:ext cx="4248000" cy="4645080"/>
          </a:xfrm>
          <a:custGeom>
            <a:avLst/>
            <a:gdLst>
              <a:gd name="textAreaLeft" fmla="*/ 360 w 4248000"/>
              <a:gd name="textAreaRight" fmla="*/ 4247640 w 4248000"/>
              <a:gd name="textAreaTop" fmla="*/ 360 h 4645080"/>
              <a:gd name="textAreaBottom" fmla="*/ 4644720 h 4645080"/>
            </a:gdLst>
            <a:ahLst/>
            <a:rect l="textAreaLeft" t="textAreaTop" r="textAreaRight" b="textAreaBottom"/>
            <a:pathLst>
              <a:path w="21600" h="23619">
                <a:moveTo>
                  <a:pt x="7" y="0"/>
                </a:moveTo>
                <a:arcTo wR="7" hR="7" stAng="16200000" swAng="-5400000"/>
                <a:lnTo>
                  <a:pt x="0" y="23612"/>
                </a:lnTo>
                <a:arcTo wR="7" hR="7" stAng="10800000" swAng="-5400000"/>
                <a:lnTo>
                  <a:pt x="21593" y="23619"/>
                </a:lnTo>
                <a:arcTo wR="7" hR="7" stAng="5400000" swAng="-5400000"/>
                <a:lnTo>
                  <a:pt x="21600" y="7"/>
                </a:lnTo>
                <a:arcTo wR="7" hR="7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cap="sq" w="36000">
            <a:solidFill>
              <a:srgbClr val="230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2840" bIns="18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have to reme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st important th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 is our father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– mother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w – national wealth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 – our  ho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previousslide"/>
          </p:cNvPr>
          <p:cNvSpPr/>
          <p:nvPr/>
        </p:nvSpPr>
        <p:spPr>
          <a:xfrm rot="10620000">
            <a:off x="546120" y="7016400"/>
            <a:ext cx="72072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0" y="10800"/>
                </a:lnTo>
                <a:lnTo>
                  <a:pt x="0" y="0"/>
                </a:lnTo>
                <a:lnTo>
                  <a:pt x="21600" y="10800"/>
                </a:lnTo>
                <a:lnTo>
                  <a:pt x="0" y="21600"/>
                </a:lnTo>
                <a:lnTo>
                  <a:pt x="0" y="10800"/>
                </a:lnTo>
                <a:lnTo>
                  <a:pt x="0" y="10800"/>
                </a:lnTo>
                <a:lnTo>
                  <a:pt x="0" y="108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cap="sq"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8999640" y="7020000"/>
            <a:ext cx="72072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0" y="10800"/>
                </a:lnTo>
                <a:lnTo>
                  <a:pt x="0" y="0"/>
                </a:lnTo>
                <a:lnTo>
                  <a:pt x="21600" y="10800"/>
                </a:lnTo>
                <a:lnTo>
                  <a:pt x="0" y="21600"/>
                </a:lnTo>
                <a:lnTo>
                  <a:pt x="0" y="10800"/>
                </a:lnTo>
                <a:lnTo>
                  <a:pt x="0" y="10800"/>
                </a:lnTo>
                <a:lnTo>
                  <a:pt x="0" y="108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cap="sq"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5940360" cy="4286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859280" y="179280"/>
            <a:ext cx="5040360" cy="4319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959280" y="2519280"/>
            <a:ext cx="5940360" cy="4859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79280" y="3780000"/>
            <a:ext cx="5940360" cy="3600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9280" y="2862360"/>
            <a:ext cx="9720360" cy="917640"/>
          </a:xfrm>
          <a:prstGeom prst="roundRect">
            <a:avLst>
              <a:gd name="adj" fmla="val 171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cap="sq" w="36000">
            <a:solidFill>
              <a:srgbClr val="230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2840" bIns="18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' s save our forests, animals, birds and all natur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 rot="10620000">
            <a:off x="554040" y="7014960"/>
            <a:ext cx="72072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0" y="10800"/>
                </a:lnTo>
                <a:lnTo>
                  <a:pt x="0" y="0"/>
                </a:lnTo>
                <a:lnTo>
                  <a:pt x="21600" y="10800"/>
                </a:lnTo>
                <a:lnTo>
                  <a:pt x="0" y="21600"/>
                </a:lnTo>
                <a:lnTo>
                  <a:pt x="0" y="10800"/>
                </a:lnTo>
                <a:lnTo>
                  <a:pt x="0" y="10800"/>
                </a:lnTo>
                <a:lnTo>
                  <a:pt x="0" y="108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cap="sq"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8999640" y="7020000"/>
            <a:ext cx="72072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0" y="10800"/>
                </a:lnTo>
                <a:lnTo>
                  <a:pt x="0" y="0"/>
                </a:lnTo>
                <a:lnTo>
                  <a:pt x="21600" y="10800"/>
                </a:lnTo>
                <a:lnTo>
                  <a:pt x="0" y="21600"/>
                </a:lnTo>
                <a:lnTo>
                  <a:pt x="0" y="10800"/>
                </a:lnTo>
                <a:lnTo>
                  <a:pt x="0" y="10800"/>
                </a:lnTo>
                <a:lnTo>
                  <a:pt x="0" y="108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cap="sq"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0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9640" y="2340000"/>
            <a:ext cx="3240360" cy="2519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940360" y="5040360"/>
            <a:ext cx="3419640" cy="2271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959280" y="5040360"/>
            <a:ext cx="1703160" cy="2271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39640" y="5040360"/>
            <a:ext cx="3240360" cy="2271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39640" y="179280"/>
            <a:ext cx="9360000" cy="1979640"/>
          </a:xfrm>
          <a:prstGeom prst="roundRect">
            <a:avLst>
              <a:gd name="adj" fmla="val 79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cap="sq" w="36000">
            <a:solidFill>
              <a:srgbClr val="230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2840" bIns="18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are owners of our nature, and it is the sun storero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all treasures of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is necessary to fish, to birds air is necessar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animals - the wood, steppes, mountains, and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ure is necessary to the pers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40360" y="3060720"/>
            <a:ext cx="5580000" cy="1260360"/>
          </a:xfrm>
          <a:prstGeom prst="roundRect">
            <a:avLst>
              <a:gd name="adj" fmla="val 125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cap="sq" w="36000">
            <a:solidFill>
              <a:srgbClr val="230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2840" bIns="18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o protect it - our main go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's it protec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previousslide"/>
          </p:cNvPr>
          <p:cNvSpPr/>
          <p:nvPr/>
        </p:nvSpPr>
        <p:spPr>
          <a:xfrm rot="10620000">
            <a:off x="554040" y="7014960"/>
            <a:ext cx="72072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0" y="10800"/>
                </a:lnTo>
                <a:lnTo>
                  <a:pt x="0" y="0"/>
                </a:lnTo>
                <a:lnTo>
                  <a:pt x="21600" y="10800"/>
                </a:lnTo>
                <a:lnTo>
                  <a:pt x="0" y="21600"/>
                </a:lnTo>
                <a:lnTo>
                  <a:pt x="0" y="10800"/>
                </a:lnTo>
                <a:lnTo>
                  <a:pt x="0" y="10800"/>
                </a:lnTo>
                <a:lnTo>
                  <a:pt x="0" y="108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cap="sq"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" action="ppaction://hlinkshowjump?jump=nextslide"/>
          </p:cNvPr>
          <p:cNvSpPr/>
          <p:nvPr/>
        </p:nvSpPr>
        <p:spPr>
          <a:xfrm>
            <a:off x="8999640" y="7020000"/>
            <a:ext cx="72072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0" y="10800"/>
                </a:lnTo>
                <a:lnTo>
                  <a:pt x="0" y="0"/>
                </a:lnTo>
                <a:lnTo>
                  <a:pt x="21600" y="10800"/>
                </a:lnTo>
                <a:lnTo>
                  <a:pt x="0" y="21600"/>
                </a:lnTo>
                <a:lnTo>
                  <a:pt x="0" y="10800"/>
                </a:lnTo>
                <a:lnTo>
                  <a:pt x="0" y="10800"/>
                </a:lnTo>
                <a:lnTo>
                  <a:pt x="0" y="108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cap="sq"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871640" y="900000"/>
            <a:ext cx="6840720" cy="2700360"/>
          </a:xfrm>
          <a:prstGeom prst="roundRect">
            <a:avLst>
              <a:gd name="adj" fmla="val 56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cap="sq" w="36000">
            <a:solidFill>
              <a:srgbClr val="230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81360" bIns="18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previousslide"/>
          </p:cNvPr>
          <p:cNvSpPr/>
          <p:nvPr/>
        </p:nvSpPr>
        <p:spPr>
          <a:xfrm rot="10620000">
            <a:off x="561960" y="7014960"/>
            <a:ext cx="72072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0" y="10800"/>
                </a:lnTo>
                <a:lnTo>
                  <a:pt x="0" y="0"/>
                </a:lnTo>
                <a:lnTo>
                  <a:pt x="21600" y="10800"/>
                </a:lnTo>
                <a:lnTo>
                  <a:pt x="0" y="21600"/>
                </a:lnTo>
                <a:lnTo>
                  <a:pt x="0" y="10800"/>
                </a:lnTo>
                <a:lnTo>
                  <a:pt x="0" y="10800"/>
                </a:lnTo>
                <a:lnTo>
                  <a:pt x="0" y="108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cap="sq"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8999640" y="7020000"/>
            <a:ext cx="72072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0" y="10800"/>
                </a:lnTo>
                <a:lnTo>
                  <a:pt x="0" y="0"/>
                </a:lnTo>
                <a:lnTo>
                  <a:pt x="21600" y="10800"/>
                </a:lnTo>
                <a:lnTo>
                  <a:pt x="0" y="21600"/>
                </a:lnTo>
                <a:lnTo>
                  <a:pt x="0" y="10800"/>
                </a:lnTo>
                <a:lnTo>
                  <a:pt x="0" y="10800"/>
                </a:lnTo>
                <a:lnTo>
                  <a:pt x="0" y="108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cap="sq"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384720" y="4103640"/>
            <a:ext cx="3527280" cy="316224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ipe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0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13:15:40Z</dcterms:created>
  <dc:creator>2121 </dc:creator>
  <dc:description>Предложение пути развития и альтернатив, рекомендации по использованию той или другой стратегии</dc:description>
  <dc:language>en-US</dc:language>
  <cp:lastModifiedBy>Глушкова Н.В.</cp:lastModifiedBy>
  <dcterms:modified xsi:type="dcterms:W3CDTF">2013-04-22T11:15:00Z</dcterms:modified>
  <cp:revision>16</cp:revision>
  <dc:subject/>
  <dc:title>Предложение стратегии</dc:title>
</cp:coreProperties>
</file>