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7617-063D-4903-9357-50543022B6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CCE2-23C3-46D2-AA4B-1C76FEFF54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C0F-2E1C-4A4E-A83F-CA22BB7C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176-A1CF-46FD-B74D-3CA66CB8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9EF-6042-48D3-B27B-4B288E14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C7E-67FE-4FCE-A16E-8A12DC6D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638C-D8D3-4DE2-AD53-C79984B7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E14F-CEEF-4DCE-9C3B-9C649402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9086-2C31-4D7F-8756-FD768A97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EC46-9784-4486-B210-2DE8D836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2F08-81DB-422E-858B-4984517C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BB35-B1EC-47CB-AE06-252A5A87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2D8E-C27A-40FA-8FBA-4EB59326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A5F-B627-4269-87B2-93FBBF24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A77D-FD12-41A8-8591-3C303056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BA97-ADF4-4B60-8853-33B91415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DE92-CDE1-4DAD-8327-C1E0B25C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088A-2885-4D72-B6A3-6377E29B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82FC-BDCB-4DE6-94FD-A2639260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C32D-D14D-481C-A374-AA25E530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BF56-6F73-426E-9F9B-A8EEFB80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0C70-948E-40F2-B7FA-7758E677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A66C-BCD0-4570-A7C8-A7FD2208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242A-D487-4589-818A-44883A05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0B1-2A48-4675-95BA-7DF220DD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F430-FA86-490F-9A9A-294E595A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49C8-7ADB-4C02-8515-20B5E7C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8203-1646-4A8F-B52F-38883F31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10DD-EB0F-488E-BEB9-B432FF50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A5E7-3A81-4729-B941-C962CBB9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DE18-9B7E-4F90-A15E-1F979D9B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63FC-1D04-4B6C-87E5-EA4A770A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0CC3-59AC-401B-B419-AF4E87F6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B171-A48B-4CC6-A1B9-4CC68244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220D-EC58-40E0-98A0-7D4524D3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1E0-B0F7-4E5D-9496-F0FFD1F2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258C-15B2-4AE8-A0D1-2F2021B2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6713-14BB-4E78-98CC-C9C53B55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B6AE-1F9E-4073-BAC4-B4372754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56695-4056-4EA6-B66A-211941C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8740-23B0-416D-95BA-7D72DB77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8FD4-BA1A-4598-9DE4-6CA7094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C729-DB1D-4E42-809E-C56D8162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5422F-AF34-455F-AA12-EF03F106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23933-8899-417D-8C99-A42514C8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8F06-1B5E-44CB-89B7-16041EB2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BC3-2BA3-4F63-8A63-D98AB73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55BB-FA1C-4A49-8E37-CBF2D9A8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FF1E5-BFF7-4A99-B9F8-F69C7B9B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5176-4905-4277-8146-72F6F274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FE934-0002-4D01-B53F-4B37C67A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0F6C4-AC8D-4489-AF58-77591678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B5497-313F-4175-B381-F9388E0C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ABCA9-60A3-4DDE-8379-714A577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402A-AFE5-4278-A5E1-BB9ADD3D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9538-84BC-42DA-ACD5-4FB14183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0DC1-B650-4F00-B4B8-4C3BB42E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45F-7CA0-43CA-AD42-F55BDE07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8D17-B358-4442-8900-D2770FBB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D68-C764-4A48-8E55-06ECA468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A71-C4C2-4F32-B074-81851570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3FA-80D9-4319-BFAB-B06B1636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3CF5-91B9-4BAA-BAEE-E9B66BE67CAE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B85A-F993-40E1-B3D7-BE23D4E7F08E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BB15-D331-49C0-BCB8-B9F31CAEDFBD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D98E-B293-4938-96CD-EFCC0FF6417C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FC84-17E1-40D0-B390-6BB6021B6B97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5"/>
          <p:cNvSpPr/>
          <p:nvPr/>
        </p:nvSpPr>
        <p:spPr>
          <a:xfrm>
            <a:off x="1785960" y="1285920"/>
            <a:ext cx="62863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82971"/>
                </a:solidFill>
                <a:latin typeface="Times New Roman"/>
                <a:ea typeface="Times New Roman"/>
              </a:rPr>
              <a:t>Урок-обобщение по тем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82971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i="1" lang="ru-RU" sz="4000" spc="-1" strike="noStrike">
                <a:solidFill>
                  <a:srgbClr val="382971"/>
                </a:solidFill>
                <a:latin typeface="Times New Roman"/>
                <a:ea typeface="Times New Roman"/>
              </a:rPr>
              <a:t>«Химическая связь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5" name="Picture 2" descr="F:\ХИМИЯ\Рисунки по химии\строение атома.jpg"/>
          <p:cNvPicPr/>
          <p:nvPr/>
        </p:nvPicPr>
        <p:blipFill>
          <a:blip r:embed="rId1"/>
          <a:stretch/>
        </p:blipFill>
        <p:spPr>
          <a:xfrm>
            <a:off x="6848640" y="5143680"/>
            <a:ext cx="22953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1643040" y="642960"/>
            <a:ext cx="64818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4800" spc="-1" strike="noStrike">
                <a:solidFill>
                  <a:srgbClr val="005c5a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c5a"/>
                </a:solidFill>
                <a:latin typeface="Monotype Corsiva"/>
              </a:rPr>
              <a:t>Хорошо потрудились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9" name="Picture 7" descr="TIGER01"/>
          <p:cNvPicPr/>
          <p:nvPr/>
        </p:nvPicPr>
        <p:blipFill>
          <a:blip r:embed="rId1"/>
          <a:stretch/>
        </p:blipFill>
        <p:spPr>
          <a:xfrm>
            <a:off x="2700360" y="229536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4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2"/>
          <p:cNvSpPr/>
          <p:nvPr/>
        </p:nvSpPr>
        <p:spPr>
          <a:xfrm>
            <a:off x="1071720" y="714240"/>
            <a:ext cx="778644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 1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томная или ковалентная химическая связь возникает в результате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взаимного притяжения разноименно заряженных ионов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образования общих электронных пар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обобществления электронов внешнего энергетического уровня  многих атом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071720" y="3786120"/>
            <a:ext cx="778644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 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пары атомов химических элементов, между атомами которых может образоваться ковалентная связь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 Fe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F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S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и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F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Ca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O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д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O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O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Na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F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2"/>
          <p:cNvSpPr/>
          <p:nvPr/>
        </p:nvSpPr>
        <p:spPr>
          <a:xfrm>
            <a:off x="1071720" y="714240"/>
            <a:ext cx="7786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соединения с двойной ковалентной связью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О=О                       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−C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Н−С≡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                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−O−O−H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1000080" y="3214800"/>
            <a:ext cx="778680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формулы соединений с ковалентной неполярной связью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Cl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ж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О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з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NaCl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1143000" y="48578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з предложенного списка выберите также соединения с ковалентной полярной связью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1051920" y="542916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соединения с ионной связью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1071720" y="714240"/>
            <a:ext cx="7786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5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оставьте схемы образования молекул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фтороводорода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F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б) метана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1071720" y="2357280"/>
            <a:ext cx="77864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6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символ химического соединения с наибольшей электроотрицательностью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О               б) В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)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1071720" y="4357800"/>
            <a:ext cx="77864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7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Расположите предложенные элементы в порядке увеличения их электроотрицательност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,  O,  P,  C,  F,  Al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1071720" y="642960"/>
            <a:ext cx="778644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8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зобразите электронные формулы соединений элементов с порядковыми номерам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19 и 35                                  б) 7 и 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16 и  8                                    г) 11 и 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214280" y="3286080"/>
            <a:ext cx="77868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9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схемы, отражающие образование отрицательно заряженных ионов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+ 2e →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 2e →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+ 1e →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 1e →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опишите правую часть схем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2"/>
          <p:cNvSpPr/>
          <p:nvPr/>
        </p:nvSpPr>
        <p:spPr>
          <a:xfrm>
            <a:off x="1143000" y="357120"/>
            <a:ext cx="778680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 10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опишите левую часть схемы образования данных ионов из атомов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…  →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…  →  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…  →  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…  →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1214280" y="2357280"/>
            <a:ext cx="728676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электронную схему иона хлор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18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Э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e, 8e, 8e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б)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Э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e, 8e, 8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Э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e, 8e, 7e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г)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Э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e, 8e, 8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357200" y="4572000"/>
            <a:ext cx="7286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электронную формулу иона кальци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б)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4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г) 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4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2"/>
          <p:cNvSpPr/>
          <p:nvPr/>
        </p:nvSpPr>
        <p:spPr>
          <a:xfrm>
            <a:off x="1357200" y="428760"/>
            <a:ext cx="728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чина усиления неметаллических свойств химических элементов в пределах одного периода таблицы Д.И.Менделеева с возрастанием атомного номер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увеличение числа электронов на внешнем энергетическом уровн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увеличение числа энергетических уров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увеличение радиусов атом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уменьшение радиусов атомо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285920" y="371484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чина усиления металлических свойств химических элементов в главных подгруппах таблицы Д.И.Менделеева с возрастанием атомного номер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увеличение числа энергетических уров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увеличение числа электронов на внешнем энергетическом уровн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уменьшение радиусов атомо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увеличение радиусов атом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1143000" y="285840"/>
            <a:ext cx="764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он данного химического элемента отличается от атома того же элемент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числом протон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числом электрон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числом нейтроно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числом электронов и числом нейтрон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) ничем не отличаетс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1143000" y="2643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айдите черты сходства у иона и атома одного и того же химического элемен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1214280" y="3500280"/>
            <a:ext cx="76438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*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аны вещества: кальций, кислород и водород. Напишите формулы и названия веществ, образованных соответствующими химическими элементами посредством следующих видов химической связ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металлическ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ковалентной поляр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ковалентной неполяр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ион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апишите схемы образования веществ с ионной и ковалентной полярной химическими связ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214280" y="928800"/>
            <a:ext cx="764388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числите массовые доли элементов в следующих соединениях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g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4280" y="2714760"/>
            <a:ext cx="764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оставьте простейшую формулу соединения, в котором массовые доли элементов приближенно равн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углерода – 25,4 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одорода – 3,17 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кислорода – 33,86 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хлора – 37,57 %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1351800" y="5143680"/>
            <a:ext cx="392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Cl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OH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34:03Z</dcterms:created>
  <dc:creator>Катерина</dc:creator>
  <dc:description/>
  <dc:language>en-US</dc:language>
  <cp:lastModifiedBy>Катерина</cp:lastModifiedBy>
  <dcterms:modified xsi:type="dcterms:W3CDTF">2010-10-27T19:29:04Z</dcterms:modified>
  <cp:revision>36</cp:revision>
  <dc:subject/>
  <dc:title>Слайд 1</dc:title>
</cp:coreProperties>
</file>