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5EB5-BF80-4B0F-8321-83A1E2BBF4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F7BC-3DD6-4FA9-8DFB-556672C09C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F64-87CC-441F-920F-6A65E591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B36-2B3F-4DF0-B125-33D5B17C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5DD-1B0D-4241-98BD-54FDBFE9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0DE-43A1-41F9-B32B-7DB591DA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A30B-B261-4441-80C6-C556A89D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7631-5CE0-4522-8700-6183D137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1ACF-DA9B-46E7-B68E-32C08A1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78E-0420-450A-9C6A-8374294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C8C6-E77B-449C-BDF4-DE0E650E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A3CE-A619-47DD-BA5E-2857488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C9CE-D1AB-4812-A314-C098F14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CC8-024E-4E3C-B123-B6AEB4E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BF9-A3A1-4E70-9B4C-2B1BA66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C42C-132F-4EB9-BFE1-7CE35CC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B7C-F34E-42C4-9ED5-CE5B11C2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4DD-E4A8-4A3D-88EF-3BD8B5A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1F47-BA17-4A95-8414-5BCCE03C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5D19-71EA-4902-835D-174024A4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81B5-58FB-46E5-89FF-82D26CA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3396-1220-4CEE-9283-5C5DE050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6C33-6152-4D60-8DFC-6D8E905D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C01A-C3C5-4903-9686-DFC61B5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28B-B8E7-4BAD-8218-07A7B73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A75D-9314-4CF7-B1A8-7F865E8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8DEA-0FB3-4AF3-BFD3-6FEB9CD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7B45-432F-401D-AE4F-9C5A58F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F043-DD64-4411-BEEE-4299031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BE6D-38EB-409D-B1A2-E2562BB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F9ED-E729-494F-B53F-5CC95658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E906-C02B-4BA2-A31D-8705C239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27E3-D439-4912-9BB9-D1F71714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7044-48F2-44B6-9C1C-132573A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1E43-F348-4DC9-AB5E-7A30BC0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EC8-0AE6-45F1-98A1-54476A2A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7E8E-40B6-4602-8979-2C46F63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0B33-9B46-4A60-8544-2B17450D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AA09-4C19-4836-8DEA-95CE2AD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52B0-CDEC-4D3F-9E33-51D2552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6FBB-1A61-4F46-AB08-C1190EB6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57D7-B51C-462E-A1FD-8736AF46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BFAD-40F0-4FE2-B237-907072C3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5BB6-4F41-4E03-B594-EB51C639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8C25-A558-4C64-8979-CCACA251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BFA6E-9B2F-4F09-8CE8-D5893AA3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75A-02F1-4F28-A765-AC4692A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BA70-3E98-4F6D-8D09-468E15E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7512-C97F-4220-AC40-9D6B0ECF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AF38-234A-47CE-BB18-E4DF2D3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D9AD-E604-4D1C-92AB-562CADE7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4FB5-8820-4A99-A536-F21471DE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1320-1F33-4ADB-94BE-B11E0CD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0AD4-F852-47D6-B711-6BF4CFD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8F1F-7D89-4700-911C-1EC5FE9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3ADE-218C-441B-A571-3F8D8E2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93E6-6BF1-446A-B682-4F56B298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F7B-DD96-4A1E-8DCD-EFA5C9C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503D-20B4-4221-B60B-D99487A9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B9-4BA8-4C3E-BE93-EE3F59F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F7D-7053-4705-B00F-5B644EB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18C-22F9-4EF3-981C-2AE258B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0D12-B288-4A94-8165-85E5B742599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FFF-0553-433D-8E2F-8CA2819DC47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A95-4CD6-4364-84CC-273DEB9ED05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4BC-EBF4-4508-ADB0-A923BECCF748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F1F8-82F5-4F38-BC30-EAF0B290350B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5"/>
          <p:cNvSpPr/>
          <p:nvPr/>
        </p:nvSpPr>
        <p:spPr>
          <a:xfrm>
            <a:off x="1785960" y="1285920"/>
            <a:ext cx="62863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Урок-обобщение по тем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i="1" lang="ru-RU" sz="4000" spc="-1" strike="noStrike">
                <a:solidFill>
                  <a:srgbClr val="382971"/>
                </a:solidFill>
                <a:latin typeface="Times New Roman"/>
                <a:ea typeface="Times New Roman"/>
              </a:rPr>
              <a:t>«Химическая связь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2" descr="F:\ХИМИЯ\Рисунки по химии\строение атома.jpg"/>
          <p:cNvPicPr/>
          <p:nvPr/>
        </p:nvPicPr>
        <p:blipFill>
          <a:blip r:embed="rId1"/>
          <a:stretch/>
        </p:blipFill>
        <p:spPr>
          <a:xfrm>
            <a:off x="6848640" y="5143680"/>
            <a:ext cx="22953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643040" y="642960"/>
            <a:ext cx="6481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800" spc="-1" strike="noStrike">
                <a:solidFill>
                  <a:srgbClr val="005c5a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c5a"/>
                </a:solidFill>
                <a:latin typeface="Monotype Corsiva"/>
              </a:rPr>
              <a:t>Хорошо потрудились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9" name="Picture 7" descr="TIGER01"/>
          <p:cNvPicPr/>
          <p:nvPr/>
        </p:nvPicPr>
        <p:blipFill>
          <a:blip r:embed="rId1"/>
          <a:stretch/>
        </p:blipFill>
        <p:spPr>
          <a:xfrm>
            <a:off x="2700360" y="229536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4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"/>
          <p:cNvSpPr/>
          <p:nvPr/>
        </p:nvSpPr>
        <p:spPr>
          <a:xfrm>
            <a:off x="1071720" y="714240"/>
            <a:ext cx="778644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1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томная или ковалентная химическая связь возникает в результате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взаимного притяжения разноименно заряженных ионов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образования общих электронных пар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обобществления электронов внешнего энергетического уровня  многих атом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071720" y="3786120"/>
            <a:ext cx="778644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пары атомов химических элементов, между атомами которых может образоваться ковалентная связь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 Fe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F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F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Ca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O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д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O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O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a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1071720" y="714240"/>
            <a:ext cx="7786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оединения с двойной ковалентной связ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О=О                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−C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Н−С≡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−O−O−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1000080" y="3214800"/>
            <a:ext cx="778680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формулы соединений с ковалентной неполярной связ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Cl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ж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О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з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NaCl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1143000" y="4857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з предложенного списка выберите также соединения с ковалентной полярной связь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1051920" y="542916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соединения с ионной связью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071720" y="714240"/>
            <a:ext cx="7786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ставьте схемы образования молекул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фтороводорода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F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б) метана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1071720" y="2357280"/>
            <a:ext cx="7786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6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имвол химического соединения с наибольшей электроотрицательностью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О               б) В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071720" y="4357800"/>
            <a:ext cx="7786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7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Расположите предложенные элементы в порядке увеличения их электроотрицательност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,  O,  P,  C,  F,  Al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1071720" y="642960"/>
            <a:ext cx="778644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8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зобразите электронные формулы соединений элементов с порядковыми номерам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19 и 35                                  б) 7 и 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16 и  8                                    г) 11 и 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214280" y="3286080"/>
            <a:ext cx="7786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9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схемы, отражающие образование отрицательно заряженных ионов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2e →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2e →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1e →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– 1e →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пишите правую часть схем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/>
          <p:cNvSpPr/>
          <p:nvPr/>
        </p:nvSpPr>
        <p:spPr>
          <a:xfrm>
            <a:off x="1143000" y="357120"/>
            <a:ext cx="778680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 1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пишите левую часть схемы образования данных ионов из атомов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 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 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г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…  →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1214280" y="2357280"/>
            <a:ext cx="72867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электронную схему иона хло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8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б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7e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г)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Э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e, 8e, 8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357200" y="4572000"/>
            <a:ext cx="7286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берите электронную формулу иона кальци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б)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г) 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"/>
          <p:cNvSpPr/>
          <p:nvPr/>
        </p:nvSpPr>
        <p:spPr>
          <a:xfrm>
            <a:off x="1357200" y="42876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чина усиления неметаллических свойств химических элементов в пределах одного периода таблицы Д.И.Менделеева с возрастанием атомного номе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увеличение числа электронов на внешнем энергетическом уров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увеличение числа энергетических уров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увеличение радиусов атом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уменьшение радиусов атом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285920" y="37148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чина усиления металлических свойств химических элементов в главных подгруппах таблицы Д.И.Менделеева с возрастанием атомного номе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увеличение числа энергетических уров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увеличение числа электронов на внешнем энергетическом уровн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уменьшение радиусов атом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увеличение радиусов атом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1143000" y="28584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Ион данного химического элемента отличается от атома того же элемент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числом прот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числом электр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числом нейтронов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числом электронов и числом нейтрон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) ничем не отличаетс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1143000" y="2643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айдите черты сходства у иона и атома одного и того же химического элемен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214280" y="3500280"/>
            <a:ext cx="7643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*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аны вещества: кальций, кислород и водород. Напишите формулы и названия веществ, образованных соответствующими химическими элементами посредством следующих видов химической связ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металлическ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ковалентной поляр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) ковалентной неполяр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г) ион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апишите схемы образования веществ с ионной и ковалентной полярной химическими связ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214280" y="928800"/>
            <a:ext cx="764388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ычислите массовые доли элементов в следующих соединениях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g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4280" y="2714760"/>
            <a:ext cx="764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ставьте простейшую формулу соединения, в котором массовые доли элементов приближенно равн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глерода – 25,4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одорода – 3,17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кислорода – 33,86 %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хлора – 37,57 %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351800" y="5143680"/>
            <a:ext cx="392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Cl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34:03Z</dcterms:created>
  <dc:creator>Катерина</dc:creator>
  <dc:description/>
  <dc:language>en-US</dc:language>
  <cp:lastModifiedBy>Катерина</cp:lastModifiedBy>
  <dcterms:modified xsi:type="dcterms:W3CDTF">2010-10-27T19:29:04Z</dcterms:modified>
  <cp:revision>36</cp:revision>
  <dc:subject/>
  <dc:title>Слайд 1</dc:title>
</cp:coreProperties>
</file>