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9372D-384D-477C-A794-077634C474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6347B-A8CD-4E07-9A5B-AB43676094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2BF2A-349A-4CD6-AF7C-A73F94DF2E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FCF7D-A6EF-43E9-AB4D-7E6A354A12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F67-1D75-4804-B469-9A66F0F1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738-9415-4711-BC6B-EE2B76D4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B72-D612-4C30-9FD8-A688C7EC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E0C-A8D2-49E9-9864-5059C28E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245-270B-4532-B25F-35276B71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A42-695D-4ADC-A352-22DBF06B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FF8-24DA-4E4E-B8E2-D8F0B7E7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D0F-6B37-4E50-B674-A90ADA29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180-1CB1-4F2F-BC78-12B12D87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0F2-57B1-48D0-B7E1-B5F0CA6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5EF-6A8F-4950-BA1C-E78EB355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F34-8331-4622-94EB-3302BE1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547440-E979-41BF-AB11-55050A618F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600" y="1464840"/>
            <a:ext cx="8568000" cy="131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Методическая разработка уро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2720" y="2609640"/>
            <a:ext cx="7050240" cy="1928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Arial"/>
              </a:rPr>
              <a:t>по теме: </a:t>
            </a:r>
            <a:r>
              <a:rPr b="0" i="1" lang="ru-RU" sz="3600" spc="-1" strike="noStrike">
                <a:solidFill>
                  <a:srgbClr val="00b050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00b050"/>
                </a:solidFill>
                <a:latin typeface="Arial"/>
              </a:rPr>
              <a:t>Дружб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7520" y="5207040"/>
            <a:ext cx="646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092240" y="4788000"/>
            <a:ext cx="5627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460840" y="5556240"/>
            <a:ext cx="403236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МБОУ «ООШ с Энмеле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Севостьяновой Н.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3768840"/>
            <a:ext cx="9526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(модуль «Основы духовно-нравстве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народов России»,  урок 1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Законы дружб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547640"/>
            <a:ext cx="906768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Помогай другу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Умей с другом разделить рад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бманывай своего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станови друга, если он делает что-то плох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Умей принять помощ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Не помогай ни в чём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Не обманывай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Не предавай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Будь жад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тносись к другу как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24000"/>
            <a:ext cx="9067680" cy="12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Законы дружб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547640"/>
            <a:ext cx="906768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Помогай другу в бе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Умей с другом разделить рад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станови друга, если он делает что-то плох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Умей принять помощ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Не обманывай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Не предавай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тносись к другу как к себ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149480" y="1716120"/>
            <a:ext cx="6553080" cy="5503680"/>
          </a:xfrm>
          <a:prstGeom prst="rect">
            <a:avLst/>
          </a:prstGeom>
          <a:ln w="0">
            <a:noFill/>
          </a:ln>
        </p:spPr>
      </p:pic>
      <p:sp>
        <p:nvSpPr>
          <p:cNvPr id="87" name="Овальная выноска 4"/>
          <p:cNvSpPr/>
          <p:nvPr/>
        </p:nvSpPr>
        <p:spPr>
          <a:xfrm>
            <a:off x="4802040" y="0"/>
            <a:ext cx="5278680" cy="2430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7030a0"/>
                </a:solidFill>
                <a:latin typeface="Monotype Corsiva"/>
              </a:rPr>
              <a:t>Ребята, давайте жить дружно!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Барбарики - дружба.mp3" descr=""/>
          <p:cNvPicPr/>
          <p:nvPr/>
        </p:nvPicPr>
        <p:blipFill>
          <a:blip r:embed="rId3"/>
          <a:stretch/>
        </p:blipFill>
        <p:spPr>
          <a:xfrm>
            <a:off x="9744120" y="7223040"/>
            <a:ext cx="336600" cy="33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3910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826920"/>
            <a:ext cx="906768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авайте улыбнёмс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уг дру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1440000" y="2031840"/>
            <a:ext cx="6840360" cy="509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50760" y="3606480"/>
            <a:ext cx="6380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ы духовно-нравственной культуры народов Росс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1182600" y="4422600"/>
            <a:ext cx="55008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тема 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Дружб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82560" y="1433160"/>
            <a:ext cx="878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Что такое дружба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Каждый знае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Может быть и спрашивать смешно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Ну а всё же, что обознача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Это слово? Значит что оно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755280"/>
            <a:ext cx="90676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Papyrus"/>
              </a:rPr>
              <a:t>Дружб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Это близкие отнош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основанные 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взаимном доверии, привязанности, общност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интересов.( С.И.Ожег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«Друг – это тот, кто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«Друг – это то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кто никогда не преда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325600" y="1136520"/>
            <a:ext cx="52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Друг – это тот, кто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896760" y="2136600"/>
            <a:ext cx="2428920" cy="32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Друг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Приятель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Товарищ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736720" y="2124000"/>
            <a:ext cx="65008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т, кто связан с кем-то друж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3311640" y="2987640"/>
            <a:ext cx="63579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лизкий, знакомый, с которым состоят в дружеских отнош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182760" y="4422600"/>
            <a:ext cx="66438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еловек, близкий по общности, взглядов, деятельности, услови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4"/>
          <p:cNvSpPr/>
          <p:nvPr/>
        </p:nvSpPr>
        <p:spPr>
          <a:xfrm>
            <a:off x="611280" y="779400"/>
            <a:ext cx="4929120" cy="59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то ищет друга без недостатко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еловек без друз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т друга ищ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то любит лг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 тот друг, кто мёдом маж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овых друзей нажива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Старый друг –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руга иметь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руг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 имей сто рубл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111640" y="971640"/>
            <a:ext cx="432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тот останется без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024360" y="2050920"/>
            <a:ext cx="3311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найдёшь - бере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3384720" y="2627280"/>
            <a:ext cx="4357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того нельзя в друзья брать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5040360" y="3132000"/>
            <a:ext cx="4071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тот, кто правду скажет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4254480" y="3708360"/>
            <a:ext cx="3929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старых не забыв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2952720" y="4211640"/>
            <a:ext cx="5940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лучше новых двух.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2879640" y="4788000"/>
            <a:ext cx="494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ебя не жале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1944720" y="5364000"/>
            <a:ext cx="6811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 деньги не купи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3745080" y="5867280"/>
            <a:ext cx="4152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имей сто друзей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3600360" y="1476360"/>
            <a:ext cx="5688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сокол без крыль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Чебур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376360" y="2274840"/>
            <a:ext cx="56880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user</cp:lastModifiedBy>
  <dcterms:modified xsi:type="dcterms:W3CDTF">2014-04-10T21:12:58Z</dcterms:modified>
  <cp:revision>26</cp:revision>
  <dc:subject/>
  <dc:title>Слайд 1</dc:title>
</cp:coreProperties>
</file>