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8FF1-8753-4E45-A54E-27B62DB16D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B793A-F863-4B27-A0C7-ECD02D138E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A4824-F2CC-42CD-8866-E9779E938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EE43-63B5-4CA4-B6DD-01C48C1D8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DC7-FE5F-49CD-AA4A-F01631A0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7C1-93BE-421B-9C37-97D8CE1D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476-F6F3-43B0-9788-03F07067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6EE-01D6-460A-B8AA-D09A692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34B-9678-4B65-8B62-3B1A8DE9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CE8-7C24-4F6E-82A0-A316044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ACC-BD1F-43F4-B23C-98DFE3D2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02E-7E6D-44BF-830E-9401127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E4B-C506-440B-9ADC-6C8B2AAC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185-1325-4712-BA82-B78ABF4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CDA-A28F-4803-B54C-87B9EFB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758-91EB-49AB-8825-A46DDCB1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879189-A0AC-4821-A1D1-55912BA415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1464840"/>
            <a:ext cx="8568000" cy="1311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етодическая разработка уро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2720" y="2609640"/>
            <a:ext cx="7050240" cy="1928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</a:rPr>
              <a:t>по теме: </a:t>
            </a:r>
            <a:r>
              <a:rPr b="0" i="1" lang="ru-RU" sz="3600" spc="-1" strike="noStrike">
                <a:solidFill>
                  <a:srgbClr val="00b050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b050"/>
                </a:solidFill>
                <a:latin typeface="Arial"/>
              </a:rPr>
              <a:t>Дружб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7520" y="5207040"/>
            <a:ext cx="646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92240" y="4788000"/>
            <a:ext cx="562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460840" y="5556240"/>
            <a:ext cx="403236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МБОУ «ООШ с Энмеле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Севостьяновой Н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3768840"/>
            <a:ext cx="9526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(модуль «Основы духовно-нравств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1008072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Arial"/>
              </a:rPr>
              <a:t>народов России»,  урок 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Законы друж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547640"/>
            <a:ext cx="90676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Помогай другу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Умей с другом разделить рад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бманывай свое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станови друга, если он делает что-то плох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Умей принять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помогай ни в чём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обманывай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Не предавай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Будь жад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тносись к другу как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24000"/>
            <a:ext cx="9067680" cy="12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Законы дружб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547640"/>
            <a:ext cx="906768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Помогай другу в бе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Умей с другом разделить рад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станови друга, если он делает что-то плох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Умей принять помощ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Не обманывай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Не предавай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тносись к другу как к себ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149480" y="1716120"/>
            <a:ext cx="6553080" cy="5503680"/>
          </a:xfrm>
          <a:prstGeom prst="rect">
            <a:avLst/>
          </a:prstGeom>
          <a:ln w="0">
            <a:noFill/>
          </a:ln>
        </p:spPr>
      </p:pic>
      <p:sp>
        <p:nvSpPr>
          <p:cNvPr id="87" name="Овальная выноска 4"/>
          <p:cNvSpPr/>
          <p:nvPr/>
        </p:nvSpPr>
        <p:spPr>
          <a:xfrm>
            <a:off x="4802040" y="0"/>
            <a:ext cx="5278680" cy="2430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7030a0"/>
                </a:solidFill>
                <a:latin typeface="Monotype Corsiva"/>
              </a:rPr>
              <a:t>Ребята, давайте жить дружно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Барбарики - дружба.mp3" descr=""/>
          <p:cNvPicPr/>
          <p:nvPr/>
        </p:nvPicPr>
        <p:blipFill>
          <a:blip r:embed="rId3"/>
          <a:stretch/>
        </p:blipFill>
        <p:spPr>
          <a:xfrm>
            <a:off x="9744120" y="7223040"/>
            <a:ext cx="336600" cy="33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391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826920"/>
            <a:ext cx="906768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авайте улыбнёмс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уг дру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1440000" y="2031840"/>
            <a:ext cx="6840360" cy="509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50760" y="3606480"/>
            <a:ext cx="6380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ы духовно-нравственной культуры народов Ро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182600" y="4422600"/>
            <a:ext cx="5500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тема 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Дружб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82560" y="143316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Что такое дружба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Каждый знае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Может быть и спрашивать смешно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Ну а всё же, что обознача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Calibri"/>
              </a:rPr>
              <a:t>Это слово? Значит что оно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755280"/>
            <a:ext cx="90676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Papyrus"/>
              </a:rPr>
              <a:t>Дружб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2195640"/>
            <a:ext cx="9067680" cy="455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Это близкие отнош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основанные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взаимном доверии, привязанности, общност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интересов.( С.И.Ожег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</a:rPr>
              <a:t>«Друг – это тот, кто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«Друг – это то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кто никогда не преда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325600" y="1136520"/>
            <a:ext cx="52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руг – это тот, кто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896760" y="2136600"/>
            <a:ext cx="242892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Друг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Приятель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Товарищ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736720" y="2124000"/>
            <a:ext cx="6500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т, кто связан с кем-то друж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3311640" y="2987640"/>
            <a:ext cx="63579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лизкий, знакомый, с которым состоят в дружеских отнош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182760" y="4422600"/>
            <a:ext cx="6643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еловек, близкий по общности, взглядов, деятельности, услови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611280" y="779400"/>
            <a:ext cx="4929120" cy="59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то ищет друга без недостатко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еловек без друз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т друга ищ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то любит лг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тот друг, кто мёдом маж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овых друзей нажива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Старый друг –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руга иметь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руг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е имей сто рубл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111640" y="971640"/>
            <a:ext cx="432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тот останется без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024360" y="2050920"/>
            <a:ext cx="3311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найдёшь - бере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384720" y="2627280"/>
            <a:ext cx="4357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ого нельзя в друзья брать</a:t>
            </a: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040360" y="3132000"/>
            <a:ext cx="4071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тот, кто правду скажет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254480" y="3708360"/>
            <a:ext cx="3929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старых не забыв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952720" y="4211640"/>
            <a:ext cx="5940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лучше новых двух.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2879640" y="4788000"/>
            <a:ext cx="494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ебя не жале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1944720" y="5364000"/>
            <a:ext cx="6811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деньги не куп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3745080" y="5867280"/>
            <a:ext cx="4152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имей сто друзей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600360" y="1476360"/>
            <a:ext cx="5688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сокол без крыл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Чебур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376360" y="2274840"/>
            <a:ext cx="5688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user</cp:lastModifiedBy>
  <dcterms:modified xsi:type="dcterms:W3CDTF">2014-04-10T21:12:58Z</dcterms:modified>
  <cp:revision>26</cp:revision>
  <dc:subject/>
  <dc:title>Слайд 1</dc:title>
</cp:coreProperties>
</file>