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FDBE-8816-4732-AE70-456D8029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B70-CE2E-4268-9759-AFF965F1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9B5-4E5C-4AF9-94AE-240409DB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1556-59A9-4425-80FE-CEBFE3F8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DFC5-EEAD-402D-98A8-080E7F3E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4E6D-16A9-4C7C-9511-8C3C1B8B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1BD3-8241-4BB6-9B3B-24493877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D70C-6188-4EE2-BA12-FC0AB741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174D-34E7-4DA9-9ACB-F972B7A7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C840-52E1-44DA-B7F2-E2535EE9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2BDA-9D95-4F71-AF78-8094BE28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A93-5079-469A-827B-FC487E88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E703-9891-471C-A992-978CCECA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9947-4A14-44B7-855C-1E8A4984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BB82-D21B-4A2F-AFC9-FC06D41A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B231-AFEF-4A45-9875-C75F6C09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7D71-13B0-47FD-815B-B6341DD0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2D7-98E7-4A42-B3DE-AF95BFCF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1D4-B46B-4D5D-9553-545AD7F7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D11E-03D4-43D3-84B1-721B79F3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7D99-1223-41FF-B577-F985769D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8BD8-81D9-4E60-ACE9-28AE455B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206-0A33-4470-A9FE-047A2AC3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B6C-8B14-44B7-BC8B-5648C928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4FDF-56EF-41D4-B45E-65964DA986C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42D0-9A35-4543-951F-7CE28AED45A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hyperlink" Target="http://vk.com/photo43059366_361624927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hyperlink" Target="http://vk.com/photo43059366_361624780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hyperlink" Target="http://vk.com/photo43059366_361624575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Муниципальное образовательное учреждение средняя общеобразовательная школа № 4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азвание работ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«Мой прапрадедушка-Герой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Автор работ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Усольцева Александра, ученица 1 «А»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Мурманская обл., г. Апатит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ро рыболовецкие колхозы Мурманской области...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762120"/>
            <a:ext cx="4038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0-50-е годы - время восстановления и создания новых рыболовецких колхозов на Мурманском побережь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ктически на голом месте были восстановлены выжженные войной рыболовецкие хозяйства «Энергия» - до войны «Тармо» (по-фински «Энергия») и «Титовка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8320" y="12193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левом берегу реки Териберки был построен рыболовецкий колхоз «Мурманец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семей рыбаков-колхозников, для переселенцев в становищах Дальние Зеленцы, Териберка, Белокаменка возводились индивидуальные брусчатые дом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ро рыболовецкие колхозы Мурманской области..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рождение колхоза «Энергия» оказалось удачным проект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селенцы, прибывшие из приморских районов Архангельской и сельских районов Вологодской областей, мужественно перенесли трудности адаптации на новом мест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езло рыболовецкому колхозу и с первым председателем, потомственным рыбаком из Кандалакшских поморов - Мостовиковым Яковом Андрианович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ловек вдумчивый, хозяйственный, прошедший испытания колхозного строительства и Великую Отечественную войну, по-крестьянски сметливый и хитрый, он сумел сплотить колхозников в главном - стремлении быстрее вернуть к жизни порушенное хозяйств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22 апреля по 9 мая стартует Народная патриотическая акция «Георгиевская ленточка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трибут акции представляет собой символическую ленту, в которой использован традиционный биколор «Георгиевской ленты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14475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 хорошо известен каждому и использовался при создании одной из главных наград ВОВ — «Ордена Славы»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Георгиевская ленточка» не является ее точной копией, но призвана ассоциироваться с этим символом доблести и мужества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-152280"/>
            <a:ext cx="761976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война коснулась твоей семь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ты знаешь, какой ценой досталась нам Побед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ты гордишься своей историей, своей страной, своей семь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ты помниш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832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делай «Георгиевскую ленточку» символом своей памяти — прикрепи ее на левый лацкан одежды, повяжи на руку, на сумку или на антенну автомоби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2120" y="-152280"/>
            <a:ext cx="7619760" cy="2124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029200" y="4191120"/>
            <a:ext cx="3581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 войне я знаю очень мал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наю, что тяжело было нашим солдатам и много людей погибло на полях сраж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 нас в семье воевал мой прапрадедуш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н - Герой войны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стовиков Яков Андрианович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ды жизни (5 ноября 1907 – 10 сентября 198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сто рождения – город Кандалакша, Мурманская обла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шел две войны (Советско-финскую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Великую Отечественную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2124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267080" y="236232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 время ВОВ воевал и на полуострове Рыбачьем и подо Ржевом и Ор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йну закончил в Кенигсберг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нулся с фронта живым, но с многочисленными ране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21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86200" y="2397240"/>
            <a:ext cx="502920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0773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Есть несколько записей на сайте Министерства обороны Российской Федерации.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95280" y="2028960"/>
            <a:ext cx="66294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да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За боевые заслуг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2401920" cy="4496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62120" y="0"/>
            <a:ext cx="7619760" cy="2124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3276720"/>
            <a:ext cx="4343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де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асной Звез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3948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62120" y="0"/>
            <a:ext cx="7619760" cy="212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34290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ден Отечественной войны II степен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033800" cy="4038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62120" y="0"/>
            <a:ext cx="7619760" cy="2124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04920" y="3429000"/>
            <a:ext cx="4190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ден Отечественной войны I степен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033800" cy="4114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62120" y="0"/>
            <a:ext cx="7619760" cy="2124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3505320"/>
            <a:ext cx="4114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6:45:38Z</dcterms:created>
  <dc:creator>админ</dc:creator>
  <dc:description/>
  <dc:language>en-US</dc:language>
  <cp:lastModifiedBy>админ</cp:lastModifiedBy>
  <dcterms:modified xsi:type="dcterms:W3CDTF">2015-04-21T21:16:1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