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746-DAC5-4496-8D20-89996D3D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719-C8AE-4EE0-B283-998CEB4D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989-A363-4256-830A-E72F8962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EE0-2042-4D48-9A77-8FBACD91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BF8-6587-4954-B6F0-299D3EAB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E58C-AEA2-4CA6-853D-E297ACF5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0DDC-B8C6-457A-A622-0E48D5DF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473C-651F-4D69-9E9E-7012DE84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3992-F341-418C-A153-DD70F0C0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245-86B6-4970-BA3F-F7A6668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3E7B-38B5-41BF-91F7-97C2FF8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198-CF38-4144-B534-98999944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4675-B4C0-44A9-B4D5-72E27F9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A9C9-A17C-4937-B5EE-62B502F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5CB4-9DE2-4378-B3C8-570C523E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31D6-3910-49BD-AA70-110F98E8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4976-44C5-4C65-9E6B-41C9B264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878-158A-47E4-AE66-5ED6B86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55A-6DE3-4595-A045-85D45FA8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077-A656-4524-849D-0FF0A0CA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3AD-C823-4469-8A4A-5703C5DD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01E-190D-436F-B3C2-1B9E511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727-7B60-40EB-BB6A-7BD62DCB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10C-D84C-473C-A0CB-FC1D3CF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76E0-AE07-4C7C-BBBA-358D38E6FF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C45C-178F-4AF3-82EE-6974EA950B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hyperlink" Target="http://vk.com/photo43059366_361624927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hyperlink" Target="http://vk.com/photo43059366_361624780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hyperlink" Target="http://vk.com/photo43059366_361624575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Муниципальное образовательное учреждение средняя общеобразовательная школа № 4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звание рабо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«Мой прапрадедушка-Герой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втор рабо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Усольцева Александра, ученица 1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урманская обл., г. Апати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о рыболовецкие колхозы Мурманской области..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762120"/>
            <a:ext cx="4038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0-50-е годы - время восстановления и создания новых рыболовецких колхозов на Мурманском побереж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ктически на голом месте были восстановлены выжженные войной рыболовецкие хозяйства «Энергия» - до войны «Тармо» (по-фински «Энергия») и «Титовк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левом берегу реки Териберки был построен рыболовецкий колхоз «Мурманец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емей рыбаков-колхозников, для переселенцев в становищах Дальние Зеленцы, Териберка, Белокаменка возводились индивидуальные брусчатые дом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о рыболовецкие колхозы Мурманской области..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ождение колхоза «Энергия» оказалось удачным проек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селенцы, прибывшие из приморских районов Архангельской и сельских районов Вологодской областей, мужественно перенесли трудности адаптации на новом мес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езло рыболовецкому колхозу и с первым председателем, потомственным рыбаком из Кандалакшских поморов - Мостовиковым Яковом Андрианович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к вдумчивый, хозяйственный, прошедший испытания колхозного строительства и Великую Отечественную войну, по-крестьянски сметливый и хитрый, он сумел сплотить колхозников в главном - стремлении быстрее вернуть к жизни порушенное хозяй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22 апреля по 9 мая стартует Народная патриотическая акция «Георгиевская ленточк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рибут акции представляет собой символическую ленту, в которой использован традиционный биколор «Георгиевской лент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хорошо известен каждому и использовался при создании одной из главных наград ВОВ — «Ордена Славы»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Георгиевская ленточка» не является ее точной копией, но призвана ассоциироваться с этим символом доблести и мужеств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-152280"/>
            <a:ext cx="76197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война коснулась твоей сем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ты знаешь, какой ценой досталась нам Побе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ты гордишься своей историей, своей страной, своей семь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ты помниш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делай «Георгиевскую ленточку» символом своей памяти — прикрепи ее на левый лацкан одежды, повяжи на руку, на сумку или на антенну автомоби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-15228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войне я знаю очень мал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наю, что тяжело было нашим солдатам и много людей погибло на полях сраж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 нас в семье воевал мой прапрадедуш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н - Герой войн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стовиков Яков Андрианови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ды жизни (5 ноября 1907 – 10 сентября 198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сто рождения – город Кандалакша, Мурманская обл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шел две войны (Советско-финскую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Великую Отечественную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67080" y="23623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 время ВОВ воевал и на полуострове Рыбачьем и подо Ржевом и Ор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йну закончил в Кенигсбе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улся с фронта живым, но с многочисленными ран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86200" y="2397240"/>
            <a:ext cx="5029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0773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Есть несколько записей на сайте Министерства обороны Российской Федерации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202896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да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За боевые заслу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401920" cy="4496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3276720"/>
            <a:ext cx="4343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де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ной Звез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394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4290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ден Отечественной войны II степе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33800" cy="4038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4190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ден Отечественной войны I степе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3380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3505320"/>
            <a:ext cx="4114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6:45:38Z</dcterms:created>
  <dc:creator>админ</dc:creator>
  <dc:description/>
  <dc:language>en-US</dc:language>
  <cp:lastModifiedBy>админ</cp:lastModifiedBy>
  <dcterms:modified xsi:type="dcterms:W3CDTF">2015-04-21T21:16:1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