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.gif" ContentType="image/gif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5485-8D66-4940-9C2E-CF9E5CC26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9DB-535D-41F3-AEE5-628359C72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12A-75DE-465B-89FF-CB8BFAEA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66A-09D4-4A98-9F53-86C83564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664-A791-4FCC-B31A-94E3C221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F10-1514-4C9B-944E-AC1FF5FD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F3F-4636-4F47-BA82-2C7B9593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D74-C4BF-4F87-A084-351BC837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3DF-FF5C-4308-B8BD-D67314C3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A93-C6CB-4EED-A0B7-966784EC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D5A-6AE4-4214-9204-1392508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196-CEFA-4318-995B-B1E3FC35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86F-3810-4D04-A3D4-450A0F6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936-5698-4A31-A167-5DAB19D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A3F8-6910-4CB8-A865-F68746B14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29152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000"/>
                </a:solidFill>
                <a:latin typeface="Arial"/>
              </a:rPr>
              <a:t>ОПЯТЬ </a:t>
            </a:r>
            <a:r>
              <a:rPr b="1" lang="ru-RU" sz="8800" spc="-1" strike="noStrike">
                <a:solidFill>
                  <a:srgbClr val="008000"/>
                </a:solidFill>
                <a:latin typeface="comic"/>
              </a:rPr>
              <a:t>ВЕСНА</a:t>
            </a:r>
            <a:r>
              <a:rPr b="1" lang="ru-RU" sz="8800" spc="-1" strike="noStrike">
                <a:solidFill>
                  <a:srgbClr val="008000"/>
                </a:solidFill>
                <a:latin typeface="Arial"/>
              </a:rPr>
              <a:t>...</a:t>
            </a:r>
            <a:br>
              <a:rPr sz="8800"/>
            </a:b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Б.Пастерн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lowers34"/>
          <p:cNvPicPr/>
          <p:nvPr/>
        </p:nvPicPr>
        <p:blipFill>
          <a:blip r:embed="rId1"/>
          <a:stretch/>
        </p:blipFill>
        <p:spPr>
          <a:xfrm>
            <a:off x="6804000" y="5084640"/>
            <a:ext cx="2104920" cy="150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lowers34"/>
          <p:cNvPicPr/>
          <p:nvPr/>
        </p:nvPicPr>
        <p:blipFill>
          <a:blip r:embed="rId2"/>
          <a:stretch/>
        </p:blipFill>
        <p:spPr>
          <a:xfrm>
            <a:off x="468360" y="5013360"/>
            <a:ext cx="2104920" cy="150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flowers34"/>
          <p:cNvPicPr/>
          <p:nvPr/>
        </p:nvPicPr>
        <p:blipFill>
          <a:blip r:embed="rId3"/>
          <a:stretch/>
        </p:blipFill>
        <p:spPr>
          <a:xfrm>
            <a:off x="3132000" y="260280"/>
            <a:ext cx="21052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«ВЕСНА» Ф.И.Тют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има недаром зл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шла её пор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сна в окно стуч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гонит со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сё засуетило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ё нудит зиму в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жаворонки в н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 подняли трезв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има ещё хлопо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на Весну вор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 ей в глаза хохо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пуще лишь шуми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бесилась ведьма з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, снегу захват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ила, убег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рекрасное ди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сне и горя ма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ылася в сне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лишь румяней с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ерекор вра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83281d4115ce0eddc0bd1698393d5ae"/>
          <p:cNvPicPr/>
          <p:nvPr/>
        </p:nvPicPr>
        <p:blipFill>
          <a:blip r:embed="rId1"/>
          <a:stretch/>
        </p:blipFill>
        <p:spPr>
          <a:xfrm>
            <a:off x="4714920" y="404640"/>
            <a:ext cx="4429080" cy="5905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24000" y="333360"/>
            <a:ext cx="4105080" cy="5523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есенние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i="1" lang="ru-RU" sz="1600" spc="-1" strike="noStrike">
                <a:solidFill>
                  <a:srgbClr val="ff3300"/>
                </a:solidFill>
                <a:latin typeface="Tahoma"/>
              </a:rPr>
              <a:t>щ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е в полях </a:t>
            </a:r>
            <a:r>
              <a:rPr b="1" i="1" lang="ru-RU" sz="1600" spc="-1" strike="noStrike">
                <a:solidFill>
                  <a:srgbClr val="ff3300"/>
                </a:solidFill>
                <a:latin typeface="Tahoma"/>
              </a:rPr>
              <a:t>б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елеет сне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А воды у</a:t>
            </a:r>
            <a:r>
              <a:rPr b="0" i="1" lang="ru-RU" sz="1600" spc="-1" strike="noStrike">
                <a:solidFill>
                  <a:srgbClr val="ff3300"/>
                </a:solidFill>
                <a:latin typeface="Tahoma"/>
              </a:rPr>
              <a:t>ж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весной </a:t>
            </a:r>
            <a:r>
              <a:rPr b="0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ш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умят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Б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егут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б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удят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сонный </a:t>
            </a:r>
            <a:r>
              <a:rPr b="1" i="1" lang="ru-RU" sz="1600" spc="-1" strike="noStrike">
                <a:solidFill>
                  <a:srgbClr val="ff3300"/>
                </a:solidFill>
                <a:latin typeface="Tahoma"/>
              </a:rPr>
              <a:t>б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ре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Б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егут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б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ле</a:t>
            </a:r>
            <a:r>
              <a:rPr b="0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щ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ут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глася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ни гласят во все конц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«Весна идет, весна ид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Мы молодой </a:t>
            </a:r>
            <a:r>
              <a:rPr b="0" i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весны гонцы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на нас выслала вперед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есна идет, весна ид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 тихих, теплых, майских 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Румяный, светлый хоро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олпится весело за 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24000" y="6237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059280" y="836640"/>
            <a:ext cx="1081080" cy="144144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3132000" y="2637000"/>
            <a:ext cx="1081080" cy="136836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Схема анализа стихо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ли название? Что в нем отраж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рифмы в этом стихотворении. Какой в нём способ рифм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ишите из стихотворения глаголы. Какое ощущение помогают передать эти глаг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изобразительные средства помогают поэтам создать образ весны и одновременно выразить собственные чувства и настроения? Выпишите эпит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глаголов больше всего в первой строфе, а эпитетов – в треть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 Unicode MS"/>
              </a:rPr>
              <a:t>Алексей Николаевич Плеще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1125360"/>
            <a:ext cx="49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Уж тает снег, бегут руч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В окно повеяло весно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Засвищут скоро солов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И лес оденется листво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Чиста небесная лазу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Теплей и ярче солнце ста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Пора метелей злых и бу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Опять надолго мино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И сердце сильно так в 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Стучит, как будто ждет чего-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Как будто счастье впере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И унесла зима заботы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Фет"/>
          <p:cNvPicPr/>
          <p:nvPr/>
        </p:nvPicPr>
        <p:blipFill>
          <a:blip r:embed="rId1"/>
          <a:stretch/>
        </p:blipFill>
        <p:spPr>
          <a:xfrm>
            <a:off x="468360" y="1052640"/>
            <a:ext cx="3897360" cy="5616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427640" y="148428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«… Я наконец познакомился с его книгой – там есть стихотворения, где пахнет душистым горошком и клевером, где запах переходит в цвет перламутра, в сияние светляка, а лунный свет или луч утренней зари переливаются в зв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Фет – поэт единственный в своём роде, не имеющий равного себе ни в одной литературе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лексей Константинович 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11280" y="189000"/>
            <a:ext cx="828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фанасий Афанасьевич Ф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20-18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141264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лексей Михайлович Жемчужников</a:t>
            </a:r>
            <a:r>
              <a:rPr b="1" lang="ru-RU" sz="4000" spc="-1" strike="noStrike">
                <a:solidFill>
                  <a:srgbClr val="003300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Tahoma"/>
              </a:rPr>
              <a:t>(1821-190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Жемчужников"/>
          <p:cNvPicPr/>
          <p:nvPr/>
        </p:nvPicPr>
        <p:blipFill>
          <a:blip r:embed="rId1"/>
          <a:stretch/>
        </p:blipFill>
        <p:spPr>
          <a:xfrm>
            <a:off x="250920" y="1916280"/>
            <a:ext cx="2625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Грачи прилетели"/>
          <p:cNvPicPr/>
          <p:nvPr/>
        </p:nvPicPr>
        <p:blipFill>
          <a:blip r:embed="rId1"/>
          <a:stretch/>
        </p:blipFill>
        <p:spPr>
          <a:xfrm>
            <a:off x="4334040" y="260280"/>
            <a:ext cx="4809960" cy="6264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500720" y="6093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. Саврасов 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«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Грачи прилетели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0920" y="692280"/>
            <a:ext cx="374472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Лесок дремал. Приход ни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Его покуда не тревож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Но я пришел, и сонм гра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злетел, крича, и весь он ож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Они, к полудню прилет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 прогулок утренних по ни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Качались на верхах дер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 расположении сонли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Я помешал; я их спугн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Над рощей долго в шумной свал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тоял грачей басистый гу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И звонко вторили им гал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Иным грачей несносен кри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А я его люблю, напроти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Я с детских лет к грачам привы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ебя их слушать приохоти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Друзья родной земли мо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Они, как я, здесь летом – до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Непостижима без гра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трана дубов и черноз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25892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А. М. Жемчуж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Гращенкова АМ\Мои документы\Мои рисунки\Левитан Март.jpg"/>
          <p:cNvPicPr/>
          <p:nvPr/>
        </p:nvPicPr>
        <p:blipFill>
          <a:blip r:embed="rId1"/>
          <a:stretch/>
        </p:blipFill>
        <p:spPr>
          <a:xfrm>
            <a:off x="285840" y="285840"/>
            <a:ext cx="7958160" cy="629424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214200" y="5715000"/>
            <a:ext cx="4429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.Левитан «Мар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Гращенкова АМ\Мои документы\Мои рисунки\Левитан Большая вода.jpg"/>
          <p:cNvPicPr/>
          <p:nvPr/>
        </p:nvPicPr>
        <p:blipFill>
          <a:blip r:embed="rId1"/>
          <a:stretch/>
        </p:blipFill>
        <p:spPr>
          <a:xfrm>
            <a:off x="0" y="1341360"/>
            <a:ext cx="4272120" cy="51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Заголовок 1"/>
          <p:cNvSpPr/>
          <p:nvPr/>
        </p:nvSpPr>
        <p:spPr>
          <a:xfrm>
            <a:off x="0" y="27468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.Левитан «Большая 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4284720" y="2714760"/>
            <a:ext cx="47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ды уж весной шумят —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ут и будят сонный брег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ут и блещут и гласят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"/>
          <p:cNvPicPr/>
          <p:nvPr/>
        </p:nvPicPr>
        <p:blipFill>
          <a:blip r:embed="rId1"/>
          <a:stretch/>
        </p:blipFill>
        <p:spPr>
          <a:xfrm>
            <a:off x="157320" y="1916280"/>
            <a:ext cx="3619440" cy="4392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4" name="Rectangle 2"/>
          <p:cNvSpPr/>
          <p:nvPr/>
        </p:nvSpPr>
        <p:spPr>
          <a:xfrm>
            <a:off x="571680" y="214200"/>
            <a:ext cx="82184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П. И. Чайковский</a:t>
            </a:r>
            <a:br>
              <a:rPr sz="4400"/>
            </a:b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«Времена год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643200" y="1600200"/>
            <a:ext cx="5072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есн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воей жизнью вдохновляет не только поэтов и художников, но и музыкантов. Музыкальное произведение выражает душевное настроение композитора, надеющегося, что найдутся души, которые чутко отзовутся на его музыку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П. И. Чайковский в 1876 году написал «Времена года» - альбом, состоящий из 12 музыкальных пьес, одну из которых вы  слышите. Мы  слушаем пьесу П.И.Чайковского «Апр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50920" y="274680"/>
            <a:ext cx="8435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ейчас говорить мы будем о весне – времени года, приносящем обновление природ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68360" y="2133720"/>
            <a:ext cx="821844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Что связано для вас со словом весна?   Можно закрыть глаза, произнести это слово отчётливо, выразительно и попробовать уловить, что слышится в этом слове, что ви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лово весна записать в левом углу листа, а под ним те слова, которые возникают у вас в памяти в связи с ним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едлагаю первую фразу:  при слове весна я вижу…., представляю…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2340000" y="1432080"/>
            <a:ext cx="45720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Уж верба вся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Раскинулась круг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Опять весна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Повеяла кры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Станицей тучки нося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Теплом озаре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И в душу снова прос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…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с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Везде 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Картиной занят взгля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Шумит толпою 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Народ, чему-то рад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Какой-то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  …         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жажд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Мечта распалена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И над душою кажд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Проносится вес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284720" y="1341360"/>
            <a:ext cx="172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ш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140360" y="2060640"/>
            <a:ext cx="158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ш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916360" y="3573360"/>
            <a:ext cx="2305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ен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276720" y="3860640"/>
            <a:ext cx="223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образн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0" y="4508640"/>
            <a:ext cx="158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здн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708360" y="5084640"/>
            <a:ext cx="1297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й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95280" y="333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эпитеты к стихотворению А.А.Фета, обоснуйте свой выбор, сравните с автор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353880" y="981000"/>
            <a:ext cx="84362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Птица рада весне, а младенец - ма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Март – с водой, апрель – с травой, а май – с ц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Март сухой да мокрый май – будет каша и кара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Много снега – много хлеба, много воды – много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Кукушка стала куковать – мороза больше не ви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Дружная весна – жди большо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Коли перелетная птица течет стаями – к дружной вес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Птицы вьют гнезда на солнечной стороне – лето будет холодное, на теневой – тепл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Длинные сосульки – к долгой вес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Снег скоро тает, и вода бежит дружно – к мокрому ле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333360"/>
            <a:ext cx="8540640" cy="1295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2268360" y="2492280"/>
            <a:ext cx="512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 !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a137-martovskijj-den_resize.jpg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95280" y="2205000"/>
            <a:ext cx="352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dventure"/>
              </a:rPr>
              <a:t>Шумят ручьи! Бегут ручь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есна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1197000"/>
            <a:ext cx="87138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Оказывается, об одном явлении можно рассказать по-разному: художник передаёт свежесть и великолепие весны красками, поэт пользуется выразительными средствами языка, композитор передаёт весеннее настроение человека, его восхищение красотой природы звуками. И эти картинки, как мозаика, складываются в большую и яркую картину жизни природы, где можно увидеть не просто весну,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Весну св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Весну в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Весну первой зелен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                        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Весну человека!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Calibri"/>
              </a:rPr>
              <a:t>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. Продемонстрировать своё умение выразительного чтения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2. Развивать навыки и умения в анализе стихотворных произведений, связно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. Воспитывать любовь к родной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Monotype Corsiva"/>
                <a:ea typeface="Mongolian Baiti"/>
              </a:rPr>
              <a:t>Не то, что мните вы, при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Monotype Corsiva"/>
                <a:ea typeface="Mongolian Baiti"/>
              </a:rPr>
              <a:t>Не слепок, не бездушный лик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Monotype Corsiva"/>
                <a:ea typeface="Mongolian Baiti"/>
              </a:rPr>
              <a:t>В ней есть душа, в ней есть своб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Monotype Corsiva"/>
                <a:ea typeface="Mongolian Baiti"/>
              </a:rPr>
              <a:t>В ней есть любовь, в ней есть язы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Monotype Corsiva"/>
                <a:ea typeface="Mongolian Baiti"/>
              </a:rPr>
              <a:t>Ф.И.Тют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Подснежник"/>
          <p:cNvPicPr/>
          <p:nvPr/>
        </p:nvPicPr>
        <p:blipFill>
          <a:blip r:embed="rId1"/>
          <a:stretch/>
        </p:blipFill>
        <p:spPr>
          <a:xfrm>
            <a:off x="2340000" y="1413000"/>
            <a:ext cx="4348080" cy="525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Тютчев"/>
          <p:cNvPicPr/>
          <p:nvPr/>
        </p:nvPicPr>
        <p:blipFill>
          <a:blip r:embed="rId2"/>
          <a:stretch/>
        </p:blipFill>
        <p:spPr>
          <a:xfrm>
            <a:off x="179280" y="141300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ФЕт"/>
          <p:cNvPicPr/>
          <p:nvPr/>
        </p:nvPicPr>
        <p:blipFill>
          <a:blip r:embed="rId3"/>
          <a:stretch/>
        </p:blipFill>
        <p:spPr>
          <a:xfrm>
            <a:off x="179280" y="393372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Плещеев"/>
          <p:cNvPicPr/>
          <p:nvPr/>
        </p:nvPicPr>
        <p:blipFill>
          <a:blip r:embed="rId4"/>
          <a:stretch/>
        </p:blipFill>
        <p:spPr>
          <a:xfrm>
            <a:off x="7164360" y="1413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Жемчужников"/>
          <p:cNvPicPr/>
          <p:nvPr/>
        </p:nvPicPr>
        <p:blipFill>
          <a:blip r:embed="rId5"/>
          <a:stretch/>
        </p:blipFill>
        <p:spPr>
          <a:xfrm>
            <a:off x="7236000" y="386064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2"/>
          <p:cNvSpPr/>
          <p:nvPr/>
        </p:nvSpPr>
        <p:spPr>
          <a:xfrm>
            <a:off x="179280" y="3357720"/>
            <a:ext cx="1800360" cy="368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Ф. И. 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79280" y="5805360"/>
            <a:ext cx="1800360" cy="368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А. А. Ф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7164360" y="3357720"/>
            <a:ext cx="1979640" cy="368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А. Н. Плещ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6551640" y="5805360"/>
            <a:ext cx="2592360" cy="368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А. М. Жемчуж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42920" y="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 весны в русской поэзии, в живописи и му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332000" y="1197000"/>
            <a:ext cx="67672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Эпитет</a:t>
            </a:r>
            <a:r>
              <a:rPr b="0" lang="ru-RU" sz="6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Олицетвор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Сравн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Метафо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1476360" y="260280"/>
            <a:ext cx="648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Вспомним тропы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Тютчев"/>
          <p:cNvPicPr/>
          <p:nvPr/>
        </p:nvPicPr>
        <p:blipFill>
          <a:blip r:embed="rId2"/>
          <a:stretch/>
        </p:blipFill>
        <p:spPr>
          <a:xfrm>
            <a:off x="0" y="0"/>
            <a:ext cx="257328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7"/>
          <p:cNvSpPr/>
          <p:nvPr/>
        </p:nvSpPr>
        <p:spPr>
          <a:xfrm>
            <a:off x="2268360" y="4437000"/>
            <a:ext cx="612000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76869">
                  <a:alpha val="3607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Monotype Corsiva"/>
              </a:rPr>
              <a:t>Федор Иванович Тютчев  (1803 – 18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8:20:37Z</dcterms:created>
  <dc:creator>User</dc:creator>
  <dc:description/>
  <dc:language>en-US</dc:language>
  <cp:lastModifiedBy>кабинет 39</cp:lastModifiedBy>
  <dcterms:modified xsi:type="dcterms:W3CDTF">2002-01-01T16:27:31Z</dcterms:modified>
  <cp:revision>74</cp:revision>
  <dc:subject/>
  <dc:title>Слайд 1</dc:title>
</cp:coreProperties>
</file>