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34EA-E94F-48FC-9FD8-A5A81157C9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5D0B-297E-42EC-BEF8-29B9661785FC}" type="slidenum">
              <a:rPr b="0" lang="ru-RU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B02A-8774-48D5-9C1D-B6195C400521}" type="slidenum">
              <a:rPr b="0" lang="en-US" sz="1200" spc="-1" strike="noStrike">
                <a:solidFill>
                  <a:srgbClr val="0066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BC0C-8A6A-4434-AD57-8011953C1579}" type="slidenum">
              <a:rPr b="0" lang="ru-RU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DE33-D5A1-4BB5-B156-16B962286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669E-CC4E-453F-90F5-C7ACCC92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7CE8-267E-4778-9C60-E797992B3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AF5B-EBA2-41E7-9182-B22E0A271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DCE8-FFB3-41EB-AD72-058E8F6F9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15BC-4429-4C8C-9A18-90F11DD7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C7218-0B9A-400A-A9F4-7CA404F7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1909-4B92-4D1F-B9A5-F2FA4402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FFA9-0DEE-403C-A8B4-F8BCA11A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82DD4-76E2-4D30-9A50-EE49E514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E837-738C-46A0-B5ED-BB512077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E325-FECA-4A0B-8F4B-AA856D05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7E6A-22A5-436D-AA5C-511FFE09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EDDB-370E-49E7-B14D-B590D867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4FA7-4739-4A01-BC6E-55B2AD1F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A4C67-98FB-4064-A9C9-5EC99770F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BD67-459C-46D1-A234-CCF85910A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321E-7474-42B0-8F33-E17B23E2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4460-1BBB-4159-9B6F-EC107241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E31D-4CB7-498A-86CA-B1108573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8BC9-E351-43E4-9C41-48C1A517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3774-2C9B-4C79-BC37-77A7DAB6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AFB5-2F79-4DE5-BD4F-2C25769D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DF66-AE66-49E1-8B71-ECFAFF39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1760" y="4054320"/>
                <a:ext cx="1834200" cy="1664640"/>
                <a:chOff x="851760" y="4054320"/>
                <a:chExt cx="183420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4680" y="3942720"/>
                  <a:ext cx="476280" cy="12232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7480" y="4976640"/>
                  <a:ext cx="110160" cy="5022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920" y="5568120"/>
                  <a:ext cx="199800" cy="85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D722-E664-4316-9219-D3F9ACB7874A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920" y="58680"/>
              <a:ext cx="3623040" cy="6133680"/>
              <a:chOff x="5407920" y="58680"/>
              <a:chExt cx="3623040" cy="613368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416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400" y="195660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3800" y="258912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400" y="67068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248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844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56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9120" y="293040"/>
              <a:ext cx="893160" cy="824760"/>
              <a:chOff x="5649120" y="293040"/>
              <a:chExt cx="893160" cy="824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0720" y="78696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9600" y="46728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2840" y="39276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8880"/>
              <a:ext cx="1059120" cy="829800"/>
              <a:chOff x="968760" y="525888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348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400" y="573408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34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1720"/>
              <a:ext cx="1690200" cy="1146600"/>
              <a:chOff x="375840" y="44172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020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9908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7200" y="3712320"/>
              <a:ext cx="1155600" cy="1607760"/>
              <a:chOff x="738720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192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264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520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55EF-B99B-4F9A-AE91-38DBB798DB33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6560" y="1026720"/>
            <a:ext cx="7293240" cy="33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66"/>
                </a:solidFill>
                <a:latin typeface="Times New Roman"/>
              </a:rPr>
              <a:t>Анализ анкетирования </a:t>
            </a:r>
            <a:br>
              <a:rPr sz="2600"/>
            </a:br>
            <a:r>
              <a:rPr b="0" i="1" lang="ru-RU" sz="2600" spc="-1" strike="noStrike">
                <a:solidFill>
                  <a:srgbClr val="006666"/>
                </a:solidFill>
                <a:latin typeface="Times New Roman"/>
              </a:rPr>
              <a:t>«Выявление удовлетворенности родителей работой дошкольного образовательного учреждения СП – «Детский сад №1 «Одуванчик»</a:t>
            </a:r>
            <a:br>
              <a:rPr sz="2600"/>
            </a:br>
            <a:r>
              <a:rPr b="0" i="1" lang="ru-RU" sz="2600" spc="-1" strike="noStrike">
                <a:solidFill>
                  <a:srgbClr val="006666"/>
                </a:solidFill>
                <a:latin typeface="Times New Roman"/>
              </a:rPr>
              <a:t>за  2014-2015  учебный год</a:t>
            </a:r>
            <a:br>
              <a:rPr sz="2600"/>
            </a:br>
            <a:br>
              <a:rPr sz="2600"/>
            </a:br>
            <a:r>
              <a:rPr b="0" i="1" lang="ru-RU" sz="2600" spc="-1" strike="noStrike" u="sng">
                <a:solidFill>
                  <a:srgbClr val="006666"/>
                </a:solidFill>
                <a:uFillTx/>
                <a:latin typeface="Times New Roman"/>
              </a:rPr>
              <a:t>Цель:</a:t>
            </a:r>
            <a:r>
              <a:rPr b="0" i="1" lang="ru-RU" sz="2600" spc="-1" strike="noStrike">
                <a:solidFill>
                  <a:srgbClr val="006666"/>
                </a:solidFill>
                <a:latin typeface="Times New Roman"/>
              </a:rPr>
              <a:t> выявить уровень удовлетворенности родителей  работой  СП – «Детский сад №1 «Одуванчик»</a:t>
            </a:r>
            <a:endParaRPr b="0" lang="en-US" sz="2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5" name="Picture 4" descr="post-31500-1217013448_thumb"/>
          <p:cNvPicPr/>
          <p:nvPr/>
        </p:nvPicPr>
        <p:blipFill>
          <a:blip r:embed="rId1"/>
          <a:stretch/>
        </p:blipFill>
        <p:spPr>
          <a:xfrm>
            <a:off x="7238880" y="4876920"/>
            <a:ext cx="168444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440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66"/>
                </a:solidFill>
                <a:latin typeface="Times New Roman"/>
              </a:rPr>
              <a:t>Родителям предлагалось прочитать утверждения и оценить степень  согласия с ними по следующей шкале: </a:t>
            </a: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«Да», «Нет», «Трудно сказать»</a:t>
            </a:r>
            <a:br>
              <a:rPr sz="1600"/>
            </a:br>
            <a:endParaRPr b="0" lang="en-US" sz="16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785880"/>
          <a:ext cx="8229600" cy="5904000"/>
        </p:xfrm>
        <a:graphic>
          <a:graphicData uri="http://schemas.openxmlformats.org/drawingml/2006/table">
            <a:tbl>
              <a:tblPr/>
              <a:tblGrid>
                <a:gridCol w="5105520"/>
                <a:gridCol w="838080"/>
                <a:gridCol w="914400"/>
                <a:gridCol w="13716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Наименование вопроса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«Да»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«Нет»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« Трудно сказать»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С удовольствием ли ваш ребенок посещает детский сад 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95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7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1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Удовлетворены ли вы качеством организации воспитательного процесса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94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4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Удовлетворены ли Вы материально – техническим оснащением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84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7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8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Информируют ли Вас об изменениях в состоянии здоровья ребенка, о профилактических мероприятиях по укреплению здоровья детей. 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1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0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Удовлетворены ли Вы качеством проводимой работой по адаптации детей? 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94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1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5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Получаете ли Вы информацию о жизни и об успехах  ребенка в детском саду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97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0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Вы активно участвуете в жизни детского сада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57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7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16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Вы посещаете мероприятия детского сада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87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9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4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Обсуждают  ли с Вами воспитатели различные вопросы, касающиеся жизни ребенка в детском саду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96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Вас лично удовлетворяет уход, воспитание и обучение, которое получает Ваш  ребенок в детском саду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0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0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Степень удовлетворенности родителей работой </a:t>
            </a:r>
            <a:br>
              <a:rPr sz="2000"/>
            </a:b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СП – «Детский сад №1 «Одуванчик» 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9" name="Picture 4" descr="post-31500-1217013448_thumb"/>
          <p:cNvPicPr/>
          <p:nvPr/>
        </p:nvPicPr>
        <p:blipFill>
          <a:blip r:embed="rId1"/>
          <a:stretch/>
        </p:blipFill>
        <p:spPr>
          <a:xfrm>
            <a:off x="7467480" y="5181480"/>
            <a:ext cx="1293840" cy="1319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0" name="Object 4"/>
          <p:cNvGraphicFramePr/>
          <p:nvPr/>
        </p:nvGraphicFramePr>
        <p:xfrm>
          <a:off x="785880" y="1285920"/>
          <a:ext cx="7429320" cy="385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5880" y="1285920"/>
                    <a:ext cx="7429320" cy="38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181c"/>
                </a:solidFill>
                <a:latin typeface="Times New Roman"/>
              </a:rPr>
              <a:t>В анкетировании приняло участие 80%  родителей, дети, которых посещают </a:t>
            </a:r>
            <a:br>
              <a:rPr sz="2000"/>
            </a:br>
            <a:r>
              <a:rPr b="1" lang="ru-RU" sz="2000" spc="-1" strike="noStrike">
                <a:solidFill>
                  <a:srgbClr val="10181c"/>
                </a:solidFill>
                <a:latin typeface="Times New Roman"/>
              </a:rPr>
              <a:t>СП – «Детский сад № 1 «Одуванчик»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10181c"/>
                </a:solidFill>
                <a:latin typeface="Times New Roman"/>
              </a:rPr>
              <a:t>Проанализировав анкеты было выявлено, что родители систематически получают  информацию: о целях и задачах детского сада в области обучения и воспитания, о режиме работы дошкольного учреждения , о питании. Удовлетворенность составила 94%.</a:t>
            </a:r>
            <a:br>
              <a:rPr sz="2000"/>
            </a:br>
            <a:r>
              <a:rPr b="0" lang="ru-RU" sz="2000" spc="-1" strike="noStrike">
                <a:solidFill>
                  <a:srgbClr val="10181c"/>
                </a:solidFill>
                <a:latin typeface="Times New Roman"/>
              </a:rPr>
              <a:t>Выявлено, что удовлетворенность специальной  работой по адаптации детей (беседы, консультации, семинары-практикумы с родителями) составила 94%.</a:t>
            </a:r>
            <a:br>
              <a:rPr sz="2000"/>
            </a:br>
            <a:r>
              <a:rPr b="0" lang="ru-RU" sz="2000" spc="-1" strike="noStrike">
                <a:solidFill>
                  <a:srgbClr val="10181c"/>
                </a:solidFill>
                <a:latin typeface="Times New Roman"/>
              </a:rPr>
              <a:t>Воспитатели ежедневно обсуждают с родителями различные вопросы, касающиеся жизни ребенка в детском саду (дисциплина, питание, гигиенические процедуры и др.).Удовлетворенность составила  96%.</a:t>
            </a:r>
            <a:br>
              <a:rPr sz="2000"/>
            </a:br>
            <a:r>
              <a:rPr b="0" lang="ru-RU" sz="2000" spc="-1" strike="noStrike">
                <a:solidFill>
                  <a:srgbClr val="10181c"/>
                </a:solidFill>
                <a:latin typeface="Times New Roman"/>
              </a:rPr>
              <a:t>В детском саду регулярно организуются совместные мероприятия с участием родителей, детей и педагогов (ярмарки, конкурсы, акции и т.д.) Родители удовлетворены работой детского сада в этой области на 87%.</a:t>
            </a:r>
            <a:br>
              <a:rPr sz="2000"/>
            </a:br>
            <a:r>
              <a:rPr b="0" lang="ru-RU" sz="2000" spc="-1" strike="noStrike">
                <a:solidFill>
                  <a:srgbClr val="10181c"/>
                </a:solidFill>
                <a:latin typeface="Times New Roman"/>
              </a:rPr>
              <a:t>Для удобства родителей в детском саду оборудованы:</a:t>
            </a:r>
            <a:br>
              <a:rPr sz="2000"/>
            </a:br>
            <a:r>
              <a:rPr b="0" lang="ru-RU" sz="2000" spc="-1" strike="noStrike">
                <a:solidFill>
                  <a:srgbClr val="10181c"/>
                </a:solidFill>
                <a:latin typeface="Times New Roman"/>
              </a:rPr>
              <a:t>информационные стенды, уголки специалистов: медицинской сестры, педагога-психолога, учителя-логопеда, инструктора по физкультуре, музыкального работника. Удовлетворенность 80%.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3" name="Picture 4" descr="post-31500-1217013448_thumb"/>
          <p:cNvPicPr/>
          <p:nvPr/>
        </p:nvPicPr>
        <p:blipFill>
          <a:blip r:embed="rId1"/>
          <a:stretch/>
        </p:blipFill>
        <p:spPr>
          <a:xfrm>
            <a:off x="7848720" y="5562720"/>
            <a:ext cx="106200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80880" y="85716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181c"/>
                </a:solidFill>
                <a:latin typeface="Times New Roman"/>
              </a:rPr>
              <a:t>Родителей  регулярно информируют об изменениях в состоянии здоровья ребенка, о профилактических мероприятиях по укреплению здоровья детей. Показатель удовлетворенности составил 96%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181c"/>
                </a:solidFill>
                <a:latin typeface="Times New Roman"/>
              </a:rPr>
              <a:t>65% считают, что  сотрудники детского сада  регулярно интересуются, насколько их работа удовлетворяет родителей (анкетирование, беседы)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181c"/>
                </a:solidFill>
                <a:latin typeface="Times New Roman"/>
              </a:rPr>
              <a:t>80% родителей  удовлетворены  уходом, воспитанием и обучением, которые получают дети в дошкольном учреждени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181c"/>
                </a:solidFill>
                <a:latin typeface="Times New Roman"/>
              </a:rPr>
              <a:t>65% родителей считают, что в процессе воспитания и обучения  педагоги учитывают индивидуальные особенности каждого ребенк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181c"/>
                </a:solidFill>
                <a:latin typeface="Times New Roman"/>
              </a:rPr>
              <a:t>85% родителей  удовлетворены работой персонала детского сад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181c"/>
                </a:solidFill>
                <a:latin typeface="Times New Roman"/>
              </a:rPr>
              <a:t>В целом, можно сделать следующие выводы по результатам анализа анкет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181c"/>
                </a:solidFill>
                <a:latin typeface="Times New Roman"/>
              </a:rPr>
              <a:t>Удовлетворенность родителей составляет 90%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181c"/>
                </a:solidFill>
                <a:latin typeface="Times New Roman"/>
              </a:rPr>
              <a:t>Вас  интересуют вопросы сохранения здоровья, обучения, воспитания и успешной социализации детей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181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</a:rPr>
              <a:t>Вы готовы к взаимодействию по самым различным аспектам образовательного процесс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181c"/>
                </a:solidFill>
                <a:latin typeface="Times New Roman"/>
              </a:rPr>
              <a:t>  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ас устраивают разнообразные формы взаимодействия с детским садом, о чем свидетельствуют  положительные отзывы о работе структурного подразделения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5" name="Picture 4" descr="post-31500-1217013448_thumb"/>
          <p:cNvPicPr/>
          <p:nvPr/>
        </p:nvPicPr>
        <p:blipFill>
          <a:blip r:embed="rId1"/>
          <a:stretch/>
        </p:blipFill>
        <p:spPr>
          <a:xfrm>
            <a:off x="7667640" y="115920"/>
            <a:ext cx="97308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Родителям, также было предложено оставить свои пожелания и комментарии о работе детского сад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26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26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Вот некоторые из них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26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Times New Roman"/>
              </a:rPr>
              <a:t>«</a:t>
            </a:r>
            <a:r>
              <a:rPr b="1" i="1" lang="ru-RU" sz="2000" spc="-1" strike="noStrike">
                <a:solidFill>
                  <a:srgbClr val="006699"/>
                </a:solidFill>
                <a:latin typeface="Times New Roman"/>
              </a:rPr>
              <a:t>Хотелось бы больше разнообразных дополнительных услуг. Например, спортивных секций для мальчиков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99"/>
                </a:solidFill>
                <a:latin typeface="Times New Roman"/>
              </a:rPr>
              <a:t>« Несомненным «плюсом» нашего детского сада является активная культурно-воспитательная работа. В качестве «минуса» хочу упомянуть разновозрастные группы, этот факт меня по-прежнему очень беспокоит»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99"/>
                </a:solidFill>
                <a:latin typeface="Times New Roman"/>
              </a:rPr>
              <a:t>« Очень нравится детский сад, его сотрудники, но территория сада требует доработки. Есть желание помочь»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Picture 4" descr="post-31500-1217013448_thumb"/>
          <p:cNvPicPr/>
          <p:nvPr/>
        </p:nvPicPr>
        <p:blipFill>
          <a:blip r:embed="rId1"/>
          <a:stretch/>
        </p:blipFill>
        <p:spPr>
          <a:xfrm>
            <a:off x="7772400" y="152280"/>
            <a:ext cx="1077840" cy="109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71680" y="42840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181c"/>
                </a:solidFill>
                <a:latin typeface="Times New Roman"/>
              </a:rPr>
              <a:t>В целом, можно сделать следующие выводы по результатам анализа анкет: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181c"/>
                </a:solidFill>
                <a:latin typeface="Times New Roman"/>
              </a:rPr>
              <a:t>Удовлетворенность родителей составляет 90%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181c"/>
                </a:solidFill>
                <a:latin typeface="Times New Roman"/>
              </a:rPr>
              <a:t>Вас  интересуют вопросы сохранения здоровья, обучения, воспитания и успешной социализации детей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181c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10181c"/>
                </a:solidFill>
                <a:latin typeface="Times New Roman"/>
              </a:rPr>
              <a:t>Вы готовы к взаимодействию по самым различным аспектам образовательного процесса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181c"/>
                </a:solidFill>
                <a:latin typeface="Times New Roman"/>
              </a:rPr>
              <a:t>  </a:t>
            </a:r>
            <a:r>
              <a:rPr b="0" lang="ru-RU" sz="1400" spc="-1" strike="noStrike">
                <a:solidFill>
                  <a:srgbClr val="10181c"/>
                </a:solidFill>
                <a:latin typeface="Verdana"/>
              </a:rPr>
              <a:t>Вас устраивают разнообразные формы взаимодействия с детским садом, о чем свидетельствуют  положительные отзывы о работе структурного подразделения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9" name="Picture 4" descr="post-31500-1217013448_thumb"/>
          <p:cNvPicPr/>
          <p:nvPr/>
        </p:nvPicPr>
        <p:blipFill>
          <a:blip r:embed="rId1"/>
          <a:stretch/>
        </p:blipFill>
        <p:spPr>
          <a:xfrm>
            <a:off x="7365960" y="115920"/>
            <a:ext cx="1187640" cy="1028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07:02:57Z</dcterms:created>
  <dc:creator>WIN7XP</dc:creator>
  <dc:description/>
  <dc:language>en-US</dc:language>
  <cp:lastModifiedBy>User</cp:lastModifiedBy>
  <dcterms:modified xsi:type="dcterms:W3CDTF">2015-04-23T11:59:41Z</dcterms:modified>
  <cp:revision>17</cp:revision>
  <dc:subject/>
  <dc:title>Анализ анкетирования  «Выявления удовлетворенности родителей работой дошкольного образовательного учреждения МАДОУ №20   и его педагогического коллектива» 2011-2012  учебный год  Цель: выявить уровень удовлетворенности родителей  работой МАДОУ №20 и его педагогического коллектива.</dc:title>
</cp:coreProperties>
</file>