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66BC3-9B2A-4B6B-9E48-BE26C16F5F2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214C6-B8F4-439A-A71D-ACA554BE5798}" type="slidenum">
              <a:rPr b="0" lang="ru-RU" sz="12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3F312-F976-4455-8FC3-E4F8DFEE63B4}" type="slidenum">
              <a:rPr b="0" lang="en-US" sz="1200" spc="-1" strike="noStrike">
                <a:solidFill>
                  <a:srgbClr val="00669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A5112-7BEA-4744-B402-AC4AA534AC6E}" type="slidenum">
              <a:rPr b="0" lang="ru-RU" sz="12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45A2C-8E2B-48D8-8C0C-7A937D026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98651-9E42-49AB-959B-26C5B2C8E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6DC3A-8829-48FE-951D-705D0CF20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A02DA-D0B4-4803-8707-429ECE9BF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03F6A-67D8-4DA1-9DCC-4DA82718F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D2035-B273-460C-AD92-9E38F806B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84AC6-F03F-4B5D-9FD2-96D7DD8A9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3316B-F2F2-42F2-8D53-6481F07D9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42FB8-E801-4EEE-8EB3-4F7D5526F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CE419-460F-4F15-99F1-D60CFF02D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B7821-02FA-4C9F-9C2B-4C3887F84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4020C-59A8-4263-B422-070A83E4D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EF668-9BE9-4E5C-B1D8-42CA7BE2D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3BE8F-30D2-402E-B815-615CEE194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00D68-671E-4F9C-9938-A5E955C84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5723E-8BE7-4A66-B0D4-11B4A3D32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EC093-8171-4137-9B7F-7D022ACD6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367CF-A3C2-4E37-92F1-3862A634F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B58FA-7F0A-4F19-86A2-98714E32F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AA009-1262-49B2-AA59-15395C02B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B3C71-4848-4645-8144-F4FD21537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670CD-0E6A-4CC0-B59B-90460EC38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D95EE-F5C5-4D95-996E-D9F954C9D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88748-1F00-406B-ABBC-5F2895119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prstGeom prst="pie">
              <a:avLst/>
            </a:pr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prstGeom prst="pie">
              <a:avLst/>
            </a:pr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8200" y="3847680"/>
                <a:ext cx="65520" cy="18180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1760" y="4054320"/>
                <a:ext cx="1834200" cy="1664640"/>
                <a:chOff x="851760" y="4054320"/>
                <a:chExt cx="1834200" cy="166464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4680" y="3942720"/>
                  <a:ext cx="476280" cy="122328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37480" y="4976640"/>
                  <a:ext cx="110160" cy="50220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0920" y="5568120"/>
                  <a:ext cx="199800" cy="8532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280" y="6172920"/>
              <a:ext cx="790920" cy="635400"/>
              <a:chOff x="467280" y="6172920"/>
              <a:chExt cx="790920" cy="63540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1600" y="6171480"/>
                <a:ext cx="196560" cy="2559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58880" y="6512760"/>
                <a:ext cx="336600" cy="2124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640" y="6410880"/>
                <a:ext cx="352080" cy="108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prstGeom prst="pie">
              <a:avLst/>
            </a:pr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F3652-3C8E-44E4-B73E-CD7F76B8634F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51120" cy="6858000"/>
            <a:chOff x="-20160" y="0"/>
            <a:chExt cx="905112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407920" y="58680"/>
              <a:ext cx="3623040" cy="6133680"/>
              <a:chOff x="5407920" y="58680"/>
              <a:chExt cx="3623040" cy="613368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2600" y="344160"/>
                <a:ext cx="2115360" cy="23572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21400" y="1956600"/>
                <a:ext cx="906120" cy="8431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3800" y="2589120"/>
                <a:ext cx="439200" cy="3952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50400" y="670680"/>
                <a:ext cx="388800" cy="5511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52480" y="2644920"/>
                <a:ext cx="163080" cy="3319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38440" y="1241640"/>
                <a:ext cx="190080" cy="1429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38560" y="2930400"/>
                <a:ext cx="523440" cy="326844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3480" y="3106800"/>
              <a:ext cx="512280" cy="10303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400" y="2000160"/>
              <a:ext cx="1998360" cy="24321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1160" cy="7286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4520" y="4532400"/>
              <a:ext cx="561600" cy="7365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7560" y="4728960"/>
              <a:ext cx="137880" cy="43488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88920" y="5195880"/>
              <a:ext cx="1758600" cy="16621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49720" y="1033560"/>
              <a:ext cx="1015200" cy="1262160"/>
              <a:chOff x="4149720" y="1033560"/>
              <a:chExt cx="1015200" cy="126216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63720" y="1071360"/>
                <a:ext cx="285840" cy="378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48680" y="1604520"/>
                <a:ext cx="488880" cy="3142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09760" y="1962000"/>
                <a:ext cx="511200" cy="1602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49120" y="293040"/>
              <a:ext cx="893160" cy="824760"/>
              <a:chOff x="5649120" y="293040"/>
              <a:chExt cx="893160" cy="82476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60720" y="786960"/>
                <a:ext cx="179280" cy="3618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09600" y="467280"/>
                <a:ext cx="306360" cy="300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52840" y="392760"/>
                <a:ext cx="319320" cy="153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68760" y="5258880"/>
              <a:ext cx="1059120" cy="829800"/>
              <a:chOff x="968760" y="5258880"/>
              <a:chExt cx="1059120" cy="82980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711080" y="5523480"/>
                <a:ext cx="250920" cy="2995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93400" y="5734080"/>
                <a:ext cx="429480" cy="2487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60120" y="5383440"/>
                <a:ext cx="448920" cy="126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75840" y="441720"/>
              <a:ext cx="1690200" cy="1146600"/>
              <a:chOff x="375840" y="441720"/>
              <a:chExt cx="1690200" cy="114660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76080" y="1060200"/>
                <a:ext cx="355320" cy="53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22760" y="585360"/>
                <a:ext cx="608400" cy="44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78640" y="1099080"/>
                <a:ext cx="636120" cy="2239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387200" y="3712320"/>
              <a:ext cx="1155600" cy="1607760"/>
              <a:chOff x="7387200" y="3712320"/>
              <a:chExt cx="1155600" cy="160776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41920" y="4755960"/>
                <a:ext cx="355320" cy="53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892640" y="4455360"/>
                <a:ext cx="608040" cy="44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585200" y="3781080"/>
                <a:ext cx="635760" cy="2242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1760" y="3240"/>
              <a:ext cx="1368000" cy="140652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25040" y="161280"/>
              <a:ext cx="1080720" cy="9414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69080" y="1361160"/>
              <a:ext cx="523440" cy="4410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29440" y="1282320"/>
              <a:ext cx="195120" cy="37044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4120" y="0"/>
              <a:ext cx="196560" cy="19224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48800" y="1963800"/>
              <a:ext cx="623520" cy="365148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6880" cy="2095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EE583-E009-4307-8FC8-D9532A90737B}" type="slidenum">
              <a:rPr b="0" lang="ru-RU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26560" y="1026720"/>
            <a:ext cx="7293240" cy="333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6666"/>
                </a:solidFill>
                <a:latin typeface="Times New Roman"/>
              </a:rPr>
              <a:t>Анализ анкетирования </a:t>
            </a:r>
            <a:br>
              <a:rPr sz="2600"/>
            </a:br>
            <a:r>
              <a:rPr b="0" i="1" lang="ru-RU" sz="2600" spc="-1" strike="noStrike">
                <a:solidFill>
                  <a:srgbClr val="006666"/>
                </a:solidFill>
                <a:latin typeface="Times New Roman"/>
              </a:rPr>
              <a:t>«Выявление удовлетворенности родителей работой дошкольного образовательного учреждения СП – «Детский сад №1 «Одуванчик»</a:t>
            </a:r>
            <a:br>
              <a:rPr sz="2600"/>
            </a:br>
            <a:r>
              <a:rPr b="0" i="1" lang="ru-RU" sz="2600" spc="-1" strike="noStrike">
                <a:solidFill>
                  <a:srgbClr val="006666"/>
                </a:solidFill>
                <a:latin typeface="Times New Roman"/>
              </a:rPr>
              <a:t>за  2014-2015  учебный год</a:t>
            </a:r>
            <a:br>
              <a:rPr sz="2600"/>
            </a:br>
            <a:br>
              <a:rPr sz="2600"/>
            </a:br>
            <a:r>
              <a:rPr b="0" i="1" lang="ru-RU" sz="2600" spc="-1" strike="noStrike" u="sng">
                <a:solidFill>
                  <a:srgbClr val="006666"/>
                </a:solidFill>
                <a:uFillTx/>
                <a:latin typeface="Times New Roman"/>
              </a:rPr>
              <a:t>Цель:</a:t>
            </a:r>
            <a:r>
              <a:rPr b="0" i="1" lang="ru-RU" sz="2600" spc="-1" strike="noStrike">
                <a:solidFill>
                  <a:srgbClr val="006666"/>
                </a:solidFill>
                <a:latin typeface="Times New Roman"/>
              </a:rPr>
              <a:t> выявить уровень удовлетворенности родителей  работой  СП – «Детский сад №1 «Одуванчик»</a:t>
            </a:r>
            <a:endParaRPr b="0" lang="en-US" sz="26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5" name="Picture 4" descr="post-31500-1217013448_thumb"/>
          <p:cNvPicPr/>
          <p:nvPr/>
        </p:nvPicPr>
        <p:blipFill>
          <a:blip r:embed="rId1"/>
          <a:stretch/>
        </p:blipFill>
        <p:spPr>
          <a:xfrm>
            <a:off x="7238880" y="4876920"/>
            <a:ext cx="1684440" cy="1714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244000" cy="88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66"/>
                </a:solidFill>
                <a:latin typeface="Times New Roman"/>
              </a:rPr>
              <a:t>Родителям предлагалось прочитать утверждения и оценить степень  согласия с ними по следующей шкале: </a:t>
            </a:r>
            <a:r>
              <a:rPr b="1" lang="ru-RU" sz="1600" spc="-1" strike="noStrike">
                <a:solidFill>
                  <a:srgbClr val="006666"/>
                </a:solidFill>
                <a:latin typeface="Times New Roman"/>
              </a:rPr>
              <a:t>«Да», «Нет», «Трудно сказать»</a:t>
            </a:r>
            <a:br>
              <a:rPr sz="1600"/>
            </a:br>
            <a:endParaRPr b="0" lang="en-US" sz="16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457200" y="785880"/>
          <a:ext cx="8229600" cy="5904000"/>
        </p:xfrm>
        <a:graphic>
          <a:graphicData uri="http://schemas.openxmlformats.org/drawingml/2006/table">
            <a:tbl>
              <a:tblPr/>
              <a:tblGrid>
                <a:gridCol w="5105520"/>
                <a:gridCol w="838080"/>
                <a:gridCol w="914400"/>
                <a:gridCol w="137160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Наименование вопроса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«Да»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«Нет»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« Трудно сказать»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34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С удовольствием ли ваш ребенок посещает детский сад 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95%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27%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1%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Удовлетворены ли вы качеством организации воспитательного процесса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94%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2%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4%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Удовлетворены ли Вы материально – техническим оснащением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84%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7%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8%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Информируют ли Вас об изменениях в состоянии здоровья ребенка, о профилактических мероприятиях по укреплению здоровья детей. 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99%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1%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0%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Удовлетворены ли Вы качеством проводимой работой по адаптации детей? 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94%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1%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5%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Получаете ли Вы информацию о жизни и об успехах  ребенка в детском саду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97%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0%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%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Вы активно участвуете в жизни детского сада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57%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27%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16%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Вы посещаете мероприятия детского сада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87%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9%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4%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Обсуждают  ли с Вами воспитатели различные вопросы, касающиеся жизни ребенка в детском саду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96%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2%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2%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Вас лично удовлетворяет уход, воспитание и обучение, которое получает Ваш  ребенок в детском саду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100%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0%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0%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66"/>
                </a:solidFill>
                <a:latin typeface="Times New Roman"/>
              </a:rPr>
              <a:t>Степень удовлетворенности родителей работой </a:t>
            </a:r>
            <a:br>
              <a:rPr sz="2000"/>
            </a:br>
            <a:r>
              <a:rPr b="1" lang="ru-RU" sz="2000" spc="-1" strike="noStrike">
                <a:solidFill>
                  <a:srgbClr val="006666"/>
                </a:solidFill>
                <a:latin typeface="Times New Roman"/>
              </a:rPr>
              <a:t>СП – «Детский сад №1 «Одуванчик» </a:t>
            </a:r>
            <a:endParaRPr b="0" lang="en-US" sz="20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9" name="Picture 4" descr="post-31500-1217013448_thumb"/>
          <p:cNvPicPr/>
          <p:nvPr/>
        </p:nvPicPr>
        <p:blipFill>
          <a:blip r:embed="rId1"/>
          <a:stretch/>
        </p:blipFill>
        <p:spPr>
          <a:xfrm>
            <a:off x="7467480" y="5181480"/>
            <a:ext cx="1293840" cy="1319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0" name="Object 4"/>
          <p:cNvGraphicFramePr/>
          <p:nvPr/>
        </p:nvGraphicFramePr>
        <p:xfrm>
          <a:off x="785880" y="1285920"/>
          <a:ext cx="7429320" cy="3852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1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85880" y="1285920"/>
                    <a:ext cx="7429320" cy="385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7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0181c"/>
                </a:solidFill>
                <a:latin typeface="Times New Roman"/>
              </a:rPr>
              <a:t>В анкетировании приняло участие 80%  родителей, дети, которых посещают </a:t>
            </a:r>
            <a:br>
              <a:rPr sz="2000"/>
            </a:br>
            <a:r>
              <a:rPr b="1" lang="ru-RU" sz="2000" spc="-1" strike="noStrike">
                <a:solidFill>
                  <a:srgbClr val="10181c"/>
                </a:solidFill>
                <a:latin typeface="Times New Roman"/>
              </a:rPr>
              <a:t>СП – «Детский сад № 1 «Одуванчик»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10181c"/>
                </a:solidFill>
                <a:latin typeface="Times New Roman"/>
              </a:rPr>
              <a:t>Проанализировав анкеты было выявлено, что родители систематически получают  информацию: о целях и задачах детского сада в области обучения и воспитания, о режиме работы дошкольного учреждения , о питании. Удовлетворенность составила 94%.</a:t>
            </a:r>
            <a:br>
              <a:rPr sz="2000"/>
            </a:br>
            <a:r>
              <a:rPr b="0" lang="ru-RU" sz="2000" spc="-1" strike="noStrike">
                <a:solidFill>
                  <a:srgbClr val="10181c"/>
                </a:solidFill>
                <a:latin typeface="Times New Roman"/>
              </a:rPr>
              <a:t>Выявлено, что удовлетворенность специальной  работой по адаптации детей (беседы, консультации, семинары-практикумы с родителями) составила 94%.</a:t>
            </a:r>
            <a:br>
              <a:rPr sz="2000"/>
            </a:br>
            <a:r>
              <a:rPr b="0" lang="ru-RU" sz="2000" spc="-1" strike="noStrike">
                <a:solidFill>
                  <a:srgbClr val="10181c"/>
                </a:solidFill>
                <a:latin typeface="Times New Roman"/>
              </a:rPr>
              <a:t>Воспитатели ежедневно обсуждают с родителями различные вопросы, касающиеся жизни ребенка в детском саду (дисциплина, питание, гигиенические процедуры и др.).Удовлетворенность составила  96%.</a:t>
            </a:r>
            <a:br>
              <a:rPr sz="2000"/>
            </a:br>
            <a:r>
              <a:rPr b="0" lang="ru-RU" sz="2000" spc="-1" strike="noStrike">
                <a:solidFill>
                  <a:srgbClr val="10181c"/>
                </a:solidFill>
                <a:latin typeface="Times New Roman"/>
              </a:rPr>
              <a:t>В детском саду регулярно организуются совместные мероприятия с участием родителей, детей и педагогов (ярмарки, конкурсы, акции и т.д.) Родители удовлетворены работой детского сада в этой области на 87%.</a:t>
            </a:r>
            <a:br>
              <a:rPr sz="2000"/>
            </a:br>
            <a:r>
              <a:rPr b="0" lang="ru-RU" sz="2000" spc="-1" strike="noStrike">
                <a:solidFill>
                  <a:srgbClr val="10181c"/>
                </a:solidFill>
                <a:latin typeface="Times New Roman"/>
              </a:rPr>
              <a:t>Для удобства родителей в детском саду оборудованы:</a:t>
            </a:r>
            <a:br>
              <a:rPr sz="2000"/>
            </a:br>
            <a:r>
              <a:rPr b="0" lang="ru-RU" sz="2000" spc="-1" strike="noStrike">
                <a:solidFill>
                  <a:srgbClr val="10181c"/>
                </a:solidFill>
                <a:latin typeface="Times New Roman"/>
              </a:rPr>
              <a:t>информационные стенды, уголки специалистов: медицинской сестры, педагога-психолога, учителя-логопеда, инструктора по физкультуре, музыкального работника. Удовлетворенность 80%.</a:t>
            </a:r>
            <a:endParaRPr b="0" lang="en-US" sz="20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3" name="Picture 4" descr="post-31500-1217013448_thumb"/>
          <p:cNvPicPr/>
          <p:nvPr/>
        </p:nvPicPr>
        <p:blipFill>
          <a:blip r:embed="rId1"/>
          <a:stretch/>
        </p:blipFill>
        <p:spPr>
          <a:xfrm>
            <a:off x="7848720" y="5562720"/>
            <a:ext cx="1062000" cy="108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380880" y="857160"/>
            <a:ext cx="8229600" cy="572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0181c"/>
                </a:solidFill>
                <a:latin typeface="Times New Roman"/>
              </a:rPr>
              <a:t>Родителей  регулярно информируют об изменениях в состоянии здоровья ребенка, о профилактических мероприятиях по укреплению здоровья детей. Показатель удовлетворенности составил 96%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0181c"/>
                </a:solidFill>
                <a:latin typeface="Times New Roman"/>
              </a:rPr>
              <a:t>65% считают, что  сотрудники детского сада  регулярно интересуются, насколько их работа удовлетворяет родителей (анкетирование, беседы)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0181c"/>
                </a:solidFill>
                <a:latin typeface="Times New Roman"/>
              </a:rPr>
              <a:t>80% родителей  удовлетворены  уходом, воспитанием и обучением, которые получают дети в дошкольном учреждении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0181c"/>
                </a:solidFill>
                <a:latin typeface="Times New Roman"/>
              </a:rPr>
              <a:t>65% родителей считают, что в процессе воспитания и обучения  педагоги учитывают индивидуальные особенности каждого ребенка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0181c"/>
                </a:solidFill>
                <a:latin typeface="Times New Roman"/>
              </a:rPr>
              <a:t>85% родителей  удовлетворены работой персонала детского сада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0181c"/>
                </a:solidFill>
                <a:latin typeface="Times New Roman"/>
              </a:rPr>
              <a:t>В целом, можно сделать следующие выводы по результатам анализа анкет: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0181c"/>
                </a:solidFill>
                <a:latin typeface="Times New Roman"/>
              </a:rPr>
              <a:t>Удовлетворенность родителей составляет 90%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0181c"/>
                </a:solidFill>
                <a:latin typeface="Times New Roman"/>
              </a:rPr>
              <a:t>Вас  интересуют вопросы сохранения здоровья, обучения, воспитания и успешной социализации детей;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0181c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10181c"/>
                </a:solidFill>
                <a:latin typeface="Times New Roman"/>
              </a:rPr>
              <a:t>Вы готовы к взаимодействию по самым различным аспектам образовательного процесса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0181c"/>
                </a:solidFill>
                <a:latin typeface="Times New Roman"/>
              </a:rPr>
              <a:t>  </a:t>
            </a:r>
            <a:r>
              <a:rPr b="0" lang="ru-RU" sz="20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Вас устраивают разнообразные формы взаимодействия с детским садом, о чем свидетельствуют  положительные отзывы о работе структурного подразделения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85" name="Picture 4" descr="post-31500-1217013448_thumb"/>
          <p:cNvPicPr/>
          <p:nvPr/>
        </p:nvPicPr>
        <p:blipFill>
          <a:blip r:embed="rId1"/>
          <a:stretch/>
        </p:blipFill>
        <p:spPr>
          <a:xfrm>
            <a:off x="7667640" y="115920"/>
            <a:ext cx="973080" cy="99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468360" y="40464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Times New Roman"/>
              </a:rPr>
              <a:t>Родителям, также было предложено оставить свои пожелания и комментарии о работе детского сада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3264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3264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Times New Roman"/>
              </a:rPr>
              <a:t>Вот некоторые из них: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3264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6699"/>
                </a:solidFill>
                <a:latin typeface="Times New Roman"/>
              </a:rPr>
              <a:t>«</a:t>
            </a:r>
            <a:r>
              <a:rPr b="1" i="1" lang="ru-RU" sz="2000" spc="-1" strike="noStrike">
                <a:solidFill>
                  <a:srgbClr val="006699"/>
                </a:solidFill>
                <a:latin typeface="Times New Roman"/>
              </a:rPr>
              <a:t>Хотелось бы больше разнообразных дополнительных услуг. Например, спортивных секций для мальчиков»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6699"/>
                </a:solidFill>
                <a:latin typeface="Times New Roman"/>
              </a:rPr>
              <a:t>« Несомненным «плюсом» нашего детского сада является активная культурно-воспитательная работа. В качестве «минуса» хочу упомянуть разновозрастные группы, этот факт меня по-прежнему очень беспокоит»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6699"/>
                </a:solidFill>
                <a:latin typeface="Times New Roman"/>
              </a:rPr>
              <a:t>« Очень нравится детский сад, его сотрудники, но территория сада требует доработки. Есть желание помочь»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87" name="Picture 4" descr="post-31500-1217013448_thumb"/>
          <p:cNvPicPr/>
          <p:nvPr/>
        </p:nvPicPr>
        <p:blipFill>
          <a:blip r:embed="rId1"/>
          <a:stretch/>
        </p:blipFill>
        <p:spPr>
          <a:xfrm>
            <a:off x="7772400" y="152280"/>
            <a:ext cx="1077840" cy="109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571680" y="42840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0181c"/>
                </a:solidFill>
                <a:latin typeface="Times New Roman"/>
              </a:rPr>
              <a:t>В целом, можно сделать следующие выводы по результатам анализа анкет: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0181c"/>
                </a:solidFill>
                <a:latin typeface="Times New Roman"/>
              </a:rPr>
              <a:t>Удовлетворенность родителей составляет 90%.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0181c"/>
                </a:solidFill>
                <a:latin typeface="Times New Roman"/>
              </a:rPr>
              <a:t>Вас  интересуют вопросы сохранения здоровья, обучения, воспитания и успешной социализации детей;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0181c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10181c"/>
                </a:solidFill>
                <a:latin typeface="Times New Roman"/>
              </a:rPr>
              <a:t>Вы готовы к взаимодействию по самым различным аспектам образовательного процесса.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0181c"/>
                </a:solidFill>
                <a:latin typeface="Times New Roman"/>
              </a:rPr>
              <a:t>  </a:t>
            </a:r>
            <a:r>
              <a:rPr b="0" lang="ru-RU" sz="1400" spc="-1" strike="noStrike">
                <a:solidFill>
                  <a:srgbClr val="10181c"/>
                </a:solidFill>
                <a:latin typeface="Verdana"/>
              </a:rPr>
              <a:t>Вас устраивают разнообразные формы взаимодействия с детским садом, о чем свидетельствуют  положительные отзывы о работе структурного подразделения.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89" name="Picture 4" descr="post-31500-1217013448_thumb"/>
          <p:cNvPicPr/>
          <p:nvPr/>
        </p:nvPicPr>
        <p:blipFill>
          <a:blip r:embed="rId1"/>
          <a:stretch/>
        </p:blipFill>
        <p:spPr>
          <a:xfrm>
            <a:off x="7365960" y="115920"/>
            <a:ext cx="1187640" cy="10285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2T07:02:57Z</dcterms:created>
  <dc:creator>WIN7XP</dc:creator>
  <dc:description/>
  <dc:language>en-US</dc:language>
  <cp:lastModifiedBy>User</cp:lastModifiedBy>
  <dcterms:modified xsi:type="dcterms:W3CDTF">2015-04-23T11:59:41Z</dcterms:modified>
  <cp:revision>17</cp:revision>
  <dc:subject/>
  <dc:title>Анализ анкетирования  «Выявления удовлетворенности родителей работой дошкольного образовательного учреждения МАДОУ №20   и его педагогического коллектива» 2011-2012  учебный год  Цель: выявить уровень удовлетворенности родителей  работой МАДОУ №20 и его педагогического коллектива.</dc:title>
</cp:coreProperties>
</file>