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1.png" ContentType="image/png"/>
  <Override PartName="/ppt/media/image19.jpeg" ContentType="image/jpeg"/>
  <Override PartName="/ppt/media/image29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84BE-EBB8-4992-80E6-49BC6A25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0B3D-4DD8-4975-99EF-FCBBBBDE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53D-CD04-451C-9F55-DFA35248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548C-120E-464E-8BD3-D1984114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AF77-392C-4D47-87CA-AEED572F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49F6-3B70-4649-80F3-11C1903C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9BE3-1B19-4500-8452-6E23DD10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6EBA-6170-4D91-B9AE-7EA5511C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3FA1-348D-4EB8-A6AC-DE2C2C23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6118-1004-407D-AF5B-365F5C32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C5ED-D345-4593-8E8B-6B77E065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BA7C-9219-4AC5-B3B5-63751808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B389-F59F-4340-A966-885EFC3FF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55;&#1088;&#1077;&#1079;&#1080;&#1076;&#1077;&#1085;&#1090;_&#1056;&#1086;&#1089;&#1089;&#1080;&#1081;&#1089;&#1082;&#1086;&#1081;_&#1060;&#1077;&#1076;&#1077;&#1088;&#1072;&#1094;&#1080;&#1080;" TargetMode="External"/><Relationship Id="rId3" Type="http://schemas.openxmlformats.org/officeDocument/2006/relationships/hyperlink" Target="https://ru.wikipedia.org/wiki/1_&#1076;&#1077;&#1082;&#1072;&#1073;&#1088;&#1103;" TargetMode="External"/><Relationship Id="rId4" Type="http://schemas.openxmlformats.org/officeDocument/2006/relationships/hyperlink" Target="https://ru.wikipedia.org/wiki/2006_&#1075;&#1086;&#1076;" TargetMode="External"/><Relationship Id="rId5" Type="http://schemas.openxmlformats.org/officeDocument/2006/relationships/hyperlink" Target="https://ru.wikipedia.org/wiki/27_&#1072;&#1087;&#1088;&#1077;&#1083;&#1103;" TargetMode="External"/><Relationship Id="rId6" Type="http://schemas.openxmlformats.org/officeDocument/2006/relationships/hyperlink" Target="https://ru.wikipedia.org/wiki/2007_&#1075;&#1086;&#1076;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s://ru.wikipedia.org/wiki/23_&#1092;&#1077;&#1074;&#1088;&#1072;&#1083;&#1103;" TargetMode="External"/><Relationship Id="rId4" Type="http://schemas.openxmlformats.org/officeDocument/2006/relationships/hyperlink" Target="https://ru.wikipedia.org/wiki/&#1044;&#1077;&#1085;&#1100;_&#1079;&#1072;&#1097;&#1080;&#1090;&#1085;&#1080;&#1082;&#1072;_&#1054;&#1090;&#1077;&#1095;&#1077;&#1089;&#1090;&#1074;&#1072;" TargetMode="External"/><Relationship Id="rId5" Type="http://schemas.openxmlformats.org/officeDocument/2006/relationships/hyperlink" Target="https://ru.wikipedia.org/wiki/9_&#1084;&#1072;&#1103;" TargetMode="External"/><Relationship Id="rId6" Type="http://schemas.openxmlformats.org/officeDocument/2006/relationships/hyperlink" Target="https://ru.wikipedia.org/wiki/&#1044;&#1077;&#1085;&#1100;_&#1055;&#1086;&#1073;&#1077;&#1076;&#1099;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2015_&#1075;&#1086;&#1076;" TargetMode="External"/><Relationship Id="rId3" Type="http://schemas.openxmlformats.org/officeDocument/2006/relationships/hyperlink" Target="https://ru.wikipedia.org/wiki/&#1056;&#1086;&#1089;&#1089;&#1080;&#1103;" TargetMode="External"/><Relationship Id="rId4" Type="http://schemas.openxmlformats.org/officeDocument/2006/relationships/hyperlink" Target="https://ru.wikipedia.org/wiki/27_&#1072;&#1087;&#1088;&#1077;&#1083;&#1103;" TargetMode="External"/><Relationship Id="rId5" Type="http://schemas.openxmlformats.org/officeDocument/2006/relationships/hyperlink" Target="https://ru.wikipedia.org/wiki/2007_&#1075;&#1086;&#1076;" TargetMode="External"/><Relationship Id="rId6" Type="http://schemas.openxmlformats.org/officeDocument/2006/relationships/hyperlink" Target="https://ru.wikipedia.org/wiki/&#1041;&#1077;&#1083;&#1075;&#1086;&#1088;&#1086;&#1076;" TargetMode="External"/><Relationship Id="rId7" Type="http://schemas.openxmlformats.org/officeDocument/2006/relationships/hyperlink" Target="https://ru.wikipedia.org/wiki/&#1050;&#1091;&#1088;&#1089;&#1082;" TargetMode="External"/><Relationship Id="rId8" Type="http://schemas.openxmlformats.org/officeDocument/2006/relationships/hyperlink" Target="https://ru.wikipedia.org/wiki/&#1054;&#1088;&#1105;&#1083;_%28&#1075;&#1086;&#1088;&#1086;&#1076;%29" TargetMode="External"/><Relationship Id="rId9" Type="http://schemas.openxmlformats.org/officeDocument/2006/relationships/hyperlink" Target="https://ru.wikipedia.org/wiki/6_&#1072;&#1087;&#1088;&#1077;&#1083;&#1103;" TargetMode="External"/><Relationship Id="rId10" Type="http://schemas.openxmlformats.org/officeDocument/2006/relationships/hyperlink" Target="https://ru.wikipedia.org/wiki/2015_&#1075;&#1086;&#1076;" TargetMode="External"/><Relationship Id="rId11" Type="http://schemas.openxmlformats.org/officeDocument/2006/relationships/hyperlink" Target="https://ru.wikipedia.org/wiki/&#1057;&#1090;&#1072;&#1088;&#1072;&#1103;_&#1056;&#1091;&#1089;&#1089;&#1072;" TargetMode="External"/><Relationship Id="rId12" Type="http://schemas.openxmlformats.org/officeDocument/2006/relationships/hyperlink" Target="https://ru.wikipedia.org/wiki/&#1043;&#1072;&#1090;&#1095;&#1080;&#1085;&#1072;" TargetMode="External"/><Relationship Id="rId13" Type="http://schemas.openxmlformats.org/officeDocument/2006/relationships/hyperlink" Target="https://ru.wikipedia.org/wiki/&#1060;&#1077;&#1086;&#1076;&#1086;&#1089;&#1080;&#1103;" TargetMode="External"/><Relationship Id="rId14" Type="http://schemas.openxmlformats.org/officeDocument/2006/relationships/hyperlink" Target="https://ru.wikipedia.org/wiki/&#1055;&#1077;&#1090;&#1088;&#1086;&#1079;&#1072;&#1074;&#1086;&#1076;&#1089;&#1082;" TargetMode="External"/><Relationship Id="rId15" Type="http://schemas.openxmlformats.org/officeDocument/2006/relationships/hyperlink" Target="https://ru.wikipedia.org/wiki/&#1043;&#1088;&#1086;&#1079;&#1085;&#1099;&#1081;" TargetMode="External"/><Relationship Id="rId16" Type="http://schemas.openxmlformats.org/officeDocument/2006/relationships/image" Target="../media/image3.jpeg"/><Relationship Id="rId17" Type="http://schemas.openxmlformats.org/officeDocument/2006/relationships/image" Target="../media/image4.jpeg"/><Relationship Id="rId18" Type="http://schemas.openxmlformats.org/officeDocument/2006/relationships/image" Target="../media/image5.jpeg"/><Relationship Id="rId19" Type="http://schemas.openxmlformats.org/officeDocument/2006/relationships/image" Target="../media/image6.jpeg"/><Relationship Id="rId20" Type="http://schemas.openxmlformats.org/officeDocument/2006/relationships/image" Target="../media/image7.jpe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s://ru.wikipedia.org/wiki/&#1041;&#1083;&#1086;&#1082;&#1072;&#1076;&#1072;_&#1051;&#1077;&#1085;&#1080;&#1085;&#1075;&#1088;&#1072;&#1076;&#1072;" TargetMode="External"/><Relationship Id="rId6" Type="http://schemas.openxmlformats.org/officeDocument/2006/relationships/hyperlink" Target="https://ru.wikipedia.org/wiki/&#1052;&#1072;&#1083;&#1072;&#1103;_&#1076;&#1086;&#1088;&#1086;&#1075;&#1072;_&#1078;&#1080;&#1079;&#1085;&#1080;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88080" y="836640"/>
            <a:ext cx="667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0000"/>
                </a:solidFill>
                <a:latin typeface="Century Schoolbook"/>
              </a:rPr>
              <a:t>70-летию Великой Побе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0000"/>
                </a:solidFill>
                <a:latin typeface="Century Schoolbook"/>
              </a:rPr>
              <a:t>посвящает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0000"/>
                </a:solidFill>
                <a:latin typeface="Century Schoolbook"/>
              </a:rPr>
              <a:t>«ГОРОДА ВОИНСКОЙ СЛАВ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0000"/>
                </a:solidFill>
                <a:latin typeface="Century Schoolbook"/>
              </a:rPr>
              <a:t>ЛЕНИНГРАДСКОЙ ОБЛАСТИ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41800" y="5013360"/>
            <a:ext cx="680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териалы к классному часу «Память, которой не будет забвенья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мках общешкольного проекта «Факел памят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отовил ученица 10 класса Кориняк Наталь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лассный руководитель Овчарова Ольга Эдуард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85800" y="630864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прель 2015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55640" y="18900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60000"/>
                </a:solidFill>
                <a:latin typeface="Century Gothic"/>
              </a:rPr>
              <a:t>ГОРОДА ВОИНСКОЙ СЛАВЫ ЛЕНИНГРАДСКОЙ ОБ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10880" y="620640"/>
            <a:ext cx="62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КОЛПИНО– 15 мая 2011г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Coat of Arms of Kolpino 1999.png"/>
          <p:cNvPicPr/>
          <p:nvPr/>
        </p:nvPicPr>
        <p:blipFill>
          <a:blip r:embed="rId2"/>
          <a:stretch/>
        </p:blipFill>
        <p:spPr>
          <a:xfrm>
            <a:off x="7308720" y="1413000"/>
            <a:ext cx="1514520" cy="1904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&amp;Vcy; &amp;Rcy;&amp;ocy;&amp;scy;&amp;scy;&amp;icy;&amp;icy; &amp;pcy;&amp;ocy;&amp;yacy;&amp;vcy;&amp;yacy;&amp;tcy;&amp;scy;&amp;yacy; &amp;iecy;&amp;shchcy;&amp;iecy; &amp;tcy;&amp;rcy;&amp;icy; &quot;&amp;Gcy;&amp;ocy;&amp;rcy;&amp;ocy;&amp;dcy;&amp;acy; &amp;vcy;&amp;ocy;&amp;icy;&amp;ncy;&amp;scy;&amp;kcy;&amp;ocy;&amp;jcy; &amp;scy;&amp;lcy;&amp;acy;&amp;vcy;&amp;ycy;&quot;"/>
          <p:cNvPicPr/>
          <p:nvPr/>
        </p:nvPicPr>
        <p:blipFill>
          <a:blip r:embed="rId3"/>
          <a:stretch/>
        </p:blipFill>
        <p:spPr>
          <a:xfrm>
            <a:off x="1835280" y="1197000"/>
            <a:ext cx="5041800" cy="2808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&amp;Kcy;&amp;ocy;&amp;lcy;&amp;pcy;&amp;icy;&amp;ncy;&amp;ocy; - &amp;Gcy;&amp;ocy;&amp;rcy;&amp;ocy;&amp;dcy; &amp;vcy;&amp;ocy;&amp;icy;&amp;ncy;&amp;scy;&amp;kcy;&amp;ocy;&amp;jcy; &amp;scy;&amp;lcy;&amp;acy;&amp;vcy;&amp;ycy;"/>
          <p:cNvPicPr/>
          <p:nvPr/>
        </p:nvPicPr>
        <p:blipFill>
          <a:blip r:embed="rId4"/>
          <a:stretch/>
        </p:blipFill>
        <p:spPr>
          <a:xfrm>
            <a:off x="4427640" y="3933720"/>
            <a:ext cx="4573440" cy="2737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 rot="10800000">
            <a:off x="1116000" y="4148280"/>
            <a:ext cx="36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 началом войны в Колпино формировались части народного ополчени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.08. – 4.09.1941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 рабочих завода сформирован  легендарный Ижорский батальо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8900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60000"/>
                </a:solidFill>
                <a:latin typeface="Century Gothic"/>
              </a:rPr>
              <a:t>ГОРОДА ВОИНСКОЙ СЛАВЫ ЛЕНИНГРАДСКОЙ ОБ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57080" y="620640"/>
            <a:ext cx="748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ЛОМОНОСОВ–3 ноября 2011г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Lomonosov gerb2007.gif"/>
          <p:cNvPicPr/>
          <p:nvPr/>
        </p:nvPicPr>
        <p:blipFill>
          <a:blip r:embed="rId2"/>
          <a:stretch/>
        </p:blipFill>
        <p:spPr>
          <a:xfrm>
            <a:off x="7291440" y="1413000"/>
            <a:ext cx="1622520" cy="2016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V="1" rot="10800000">
            <a:off x="1476000" y="421812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спримерное мужество и героизм проявили Ленинградц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оборо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аниенбаумского плацдарм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&amp;Mcy;&amp;ocy;&amp;jcy; &amp;Scy;&amp;acy;&amp;ncy;&amp;kcy;&amp;tcy;-&amp;Pcy;&amp;iecy;&amp;tcy;&amp;iecy;&amp;rcy;&amp;bcy;&amp;ucy;&amp;rcy;&amp;gcy;, &amp;Ncy;&amp;ocy;&amp;vcy;&amp;ocy;&amp;scy;&amp;tcy;&amp;icy;: &amp;Lcy;&amp;ocy;&amp;mcy;&amp;ocy;&amp;ncy;&amp;ocy;&amp;scy;&amp;ocy;&amp;vcy; &amp;scy;&amp;tcy;&amp;acy;&amp;lcy; &amp;gcy;&amp;ocy;&amp;rcy;&amp;ocy;&amp;dcy;&amp;ocy;&amp;mcy; &amp;vcy;&amp;ocy;&amp;icy;&amp;ncy;&amp;scy;&amp;kcy;&amp;ocy;&amp;jcy; &amp;scy;&amp;lcy;&amp;acy;&amp;vcy;&amp;ycy;"/>
          <p:cNvPicPr/>
          <p:nvPr/>
        </p:nvPicPr>
        <p:blipFill>
          <a:blip r:embed="rId3"/>
          <a:stretch/>
        </p:blipFill>
        <p:spPr>
          <a:xfrm>
            <a:off x="2124000" y="1268280"/>
            <a:ext cx="4537080" cy="2865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&amp;Gcy;&amp;Ocy;&amp;Rcy;&amp;Ocy;&amp;Dcy;&amp;Acy; &amp;Vcy;&amp;Ocy;&amp;Icy;&amp;Ncy;&amp;Scy;&amp;Kcy;&amp;Ocy;&amp;Jcy; &amp;Scy;&amp;Lcy;&amp;Acy;&amp;Vcy;&amp;Ycy; - &amp;Pcy;&amp;Acy;&amp;Tcy;&amp;Rcy;&amp;Icy;&amp;Ocy;&amp;Tcy;&amp;Icy;&amp;CHcy;&amp;IEcy;&amp;Scy;&amp;Kcy;&amp;Ocy;&amp;IEcy; &amp;Vcy;&amp;Ocy;&amp;Scy;&amp;Pcy;&amp;Icy;&amp;Tcy;&amp;Acy;&amp;Ncy;&amp;Icy;&amp;IEcy; - &amp;Kcy;&amp;acy;&amp;tcy;&amp;acy;&amp;lcy;&amp;ocy;&amp;gcy; &amp;scy;&amp;tcy;&amp;acy;&amp;tcy;&amp;iecy;&amp;jcy; - &amp;Tcy;&amp;icy;&amp;ncy;&amp;iecy;&amp;jcy;&amp;dcy;&amp;zhcy;&amp;iecy;&amp;rcy;&amp;ycy;"/>
          <p:cNvPicPr/>
          <p:nvPr/>
        </p:nvPicPr>
        <p:blipFill>
          <a:blip r:embed="rId4"/>
          <a:stretch/>
        </p:blipFill>
        <p:spPr>
          <a:xfrm>
            <a:off x="5016600" y="3760920"/>
            <a:ext cx="4127400" cy="3097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Coat of Arms of Gatchina (v. 1).svg"/>
          <p:cNvPicPr/>
          <p:nvPr/>
        </p:nvPicPr>
        <p:blipFill>
          <a:blip r:embed="rId2"/>
          <a:stretch/>
        </p:blipFill>
        <p:spPr>
          <a:xfrm>
            <a:off x="7596360" y="1268280"/>
            <a:ext cx="1349280" cy="1694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55640" y="18900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60000"/>
                </a:solidFill>
                <a:latin typeface="Century Gothic"/>
              </a:rPr>
              <a:t>ГОРОДА ВОИНСКОЙ СЛАВЫ ЛЕНИНГРАДСКОЙ ОБ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57800" y="620640"/>
            <a:ext cx="648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ГАТЧИНА–6 апреля 2015г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&amp;Kcy;&amp;acy;&amp;rcy;&amp;tcy;&amp;acy; &amp;Pcy;&amp;acy;&amp;mcy;&amp;yacy;&amp;tcy;&amp;icy;- &amp;Mcy;&amp;iecy;&amp;mcy;&amp;ocy;&amp;rcy;&amp;icy;&amp;acy;&amp;lcy; &amp;Vcy;&amp;ocy;&amp;icy;&amp;ncy;&amp;scy;&amp;kcy;&amp;ocy;&amp;jcy; &amp;Scy;&amp;lcy;&amp;acy;&amp;vcy;&amp;ycy;"/>
          <p:cNvPicPr/>
          <p:nvPr/>
        </p:nvPicPr>
        <p:blipFill>
          <a:blip r:embed="rId3"/>
          <a:stretch/>
        </p:blipFill>
        <p:spPr>
          <a:xfrm>
            <a:off x="755640" y="3933720"/>
            <a:ext cx="3960720" cy="2694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&amp;gcy;&amp;ocy;&amp;rcy;&amp;ocy;&amp;dcy; &amp;gcy;&amp;acy;&amp;tcy;&amp;chcy;&amp;icy;&amp;ncy;&amp;acy; &amp;Ocy;&amp;tcy;&amp;zcy;&amp;ycy;&amp;vcy;&amp;ycy; &amp;pcy;&amp;ocy;&amp;kcy;&amp;ucy;&amp;pcy;&amp;acy;&amp;tcy;&amp;iecy;&amp;lcy;&amp;iecy;&amp;jcy;"/>
          <p:cNvPicPr/>
          <p:nvPr/>
        </p:nvPicPr>
        <p:blipFill>
          <a:blip r:embed="rId4"/>
          <a:stretch/>
        </p:blipFill>
        <p:spPr>
          <a:xfrm>
            <a:off x="2484360" y="1197000"/>
            <a:ext cx="4753080" cy="2592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80000" y="3932640"/>
            <a:ext cx="446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 августа 1941 г.на ближних подступах к Ленинграду  командир танковой рот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иновий Колобанов провел бой, не имеющий аналогов в военной истории, уничтожив ротой 43, а своим экипажем – 22 фашистских тан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 rot="10800000">
            <a:off x="755640" y="186840"/>
            <a:ext cx="91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В 2011 году Банк России начал выпус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серии монет «Города воинской слав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10 &amp;rcy;&amp;ucy;&amp;bcy;&amp;lcy;&amp;iecy;&amp;jcy;. . 2012 &amp;gcy;&amp;ocy;&amp;dcy;. &amp;scy;&amp;iecy;&amp;rcy;&amp;icy;&amp;yacy; '&amp;Gcy;&amp;ocy;&amp;rcy;&amp;ocy;&amp;dcy;&amp;acy; &amp;Vcy;&amp;ocy;&amp;icy;&amp;ncy;&amp;scy;&amp;kcy;&amp;ocy;&amp;jcy; &amp;Scy;&amp;lcy;&amp;acy;&amp;vcy;&amp;ycy;' &amp;Lcy;&amp;ucy;&amp;gcy;&amp;acy;. . &amp;Scy;&amp;Pcy;&amp;Mcy;&amp;Dcy;. - &amp;icy;&amp;ncy;&amp;tcy;&amp;iecy;&amp;rcy;&amp;ncy;&amp;iecy;&amp;tcy;-&amp;mcy;&amp;acy;&amp;gcy;&amp;acy;&amp;zcy;&amp;icy;&amp;ncy; '&amp;Dcy;&amp;zhcy;&amp;acy;&amp;vcy;&amp;dcy;&amp;iecy;&amp;tcy;&amp;tcy;'"/>
          <p:cNvPicPr/>
          <p:nvPr/>
        </p:nvPicPr>
        <p:blipFill>
          <a:blip r:embed="rId2"/>
          <a:stretch/>
        </p:blipFill>
        <p:spPr>
          <a:xfrm>
            <a:off x="2050920" y="1413000"/>
            <a:ext cx="3168720" cy="163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10 &amp;rcy;&amp;ucy;&amp;bcy;&amp;lcy;&amp;iecy;&amp;jcy;. 2013 &amp;gcy;&amp;ocy;&amp;dcy;. &amp;scy;&amp;iecy;&amp;rcy;&amp;icy;&amp;yacy; '&amp;Gcy;&amp;ocy;&amp;rcy;&amp;ocy;&amp;dcy;&amp;acy; &amp;Vcy;&amp;ocy;&amp;icy;&amp;ncy;&amp;scy;&amp;kcy;&amp;ocy;&amp;jcy; &amp;Scy;&amp;lcy;&amp;acy;&amp;vcy;&amp;ycy;. &amp;Kcy;&amp;rcy;&amp;ocy;&amp;ncy;&amp;shcy;&amp;tcy;&amp;acy;&amp;dcy;&amp;tcy;…"/>
          <p:cNvPicPr/>
          <p:nvPr/>
        </p:nvPicPr>
        <p:blipFill>
          <a:blip r:embed="rId3"/>
          <a:stretch/>
        </p:blipFill>
        <p:spPr>
          <a:xfrm>
            <a:off x="5435640" y="1413000"/>
            <a:ext cx="3411360" cy="1673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&amp;Mcy;&amp;ocy;&amp;ncy;&amp;iecy;&amp;tcy;&amp;acy;,10 &amp;rcy;&amp;ucy;&amp;bcy;&amp;lcy;&amp;iecy;&amp;jcy;,2014 &amp;gcy;&amp;ocy;&amp;dcy;&amp;acy;.&amp;Gcy;&amp;ocy;&amp;rcy;&amp;ocy;&amp;dcy; &amp;Vcy;&amp;ycy;&amp;bcy;&amp;ocy;&amp;rcy;&amp;gcy;.VF+."/>
          <p:cNvPicPr/>
          <p:nvPr/>
        </p:nvPicPr>
        <p:blipFill>
          <a:blip r:embed="rId4"/>
          <a:stretch/>
        </p:blipFill>
        <p:spPr>
          <a:xfrm>
            <a:off x="2050920" y="3213000"/>
            <a:ext cx="3168720" cy="1584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&amp;Rcy;&amp;ocy;&amp;scy;&amp;scy;&amp;icy;&amp;yacy; 10 &amp;rcy;&amp;ucy;&amp;bcy;&amp;lcy;&amp;iecy;&amp;jcy; 2014 &quot;&amp;Tcy;&amp;icy;&amp;khcy;&amp;vcy;&amp;icy;&amp;ncy;&quot;"/>
          <p:cNvPicPr/>
          <p:nvPr/>
        </p:nvPicPr>
        <p:blipFill>
          <a:blip r:embed="rId5"/>
          <a:stretch/>
        </p:blipFill>
        <p:spPr>
          <a:xfrm>
            <a:off x="5435640" y="3213000"/>
            <a:ext cx="3538440" cy="161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10 &amp;rcy;&amp;ucy;&amp;bcy;&amp;lcy;&amp;iecy;&amp;jcy; - &amp;Gcy;&amp;ocy;&amp;rcy;&amp;ocy;&amp;dcy;&amp;acy; &amp;vcy;&amp;ocy;&amp;icy;&amp;ncy;&amp;scy;&amp;kcy;&amp;ocy;&amp;jcy; &amp;scy;&amp;lcy;&amp;acy;&amp;vcy;&amp;ycy; - &amp;Kcy;&amp;ocy;&amp;lcy;&amp;pcy;&amp;icy;&amp;ncy;&amp;ocy; 2014 &amp;gcy;&amp;ocy;&amp;dcy;&amp;acy;, &amp;Rcy;&amp;ocy;&amp;scy;&amp;scy;&amp;icy;&amp;yacy; - &amp;Lcy;&amp;ocy;&amp;tcy; 956 - &amp;Acy;&amp;ucy;&amp;kcy;&amp;tscy;&amp;icy;&amp;ocy;&amp;ncy; 48"/>
          <p:cNvPicPr/>
          <p:nvPr/>
        </p:nvPicPr>
        <p:blipFill>
          <a:blip r:embed="rId6"/>
          <a:stretch/>
        </p:blipFill>
        <p:spPr>
          <a:xfrm>
            <a:off x="4356000" y="486900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71640" y="259200"/>
            <a:ext cx="81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емориальный архитектурный ансамбл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Могила Неизвестного Солдат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Александровском сад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 Московского Кремл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195640" y="2349360"/>
            <a:ext cx="6408720" cy="4270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 rot="10800000">
            <a:off x="1110960" y="404280"/>
            <a:ext cx="8032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вание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 «Город воинской славы»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это  память, которая должна  остатьс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 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 благодарного человечества навсегд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ы всегда будем помнить о том, какую  большую цену  заплатил наш народ  за Великую Победу 1945 год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701800" y="476280"/>
            <a:ext cx="40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 подготовке данного материа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спользовались следующие ресурс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1970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pedsovet.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11280" y="170028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s://yandex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10560" y="227664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s://ru.wikipedia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9640" y="278136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nsportal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40360" y="33577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vppress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95640" y="4076640"/>
            <a:ext cx="64800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6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лагодарю за внимание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6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flipV="1" rot="10800000">
            <a:off x="1749600" y="615960"/>
            <a:ext cx="73944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 почётное звание, согласно положению об условиях и порядке присвоения почётного звания Российской Федерации «Город воинской славы» утверждено указом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Президента Российской Федераци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от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1 декабря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2006 год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№ 1340, а также изменениям, внесенным в данное положение Указом Президента Российской Федерации № 557 от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27 апреля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6"/>
              </a:rPr>
              <a:t>2007 год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вручае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00"/>
                </a:solidFill>
                <a:latin typeface="Times New Roman"/>
              </a:rPr>
              <a:t>За мужество, стойкость и массовый героизм, проявленные защитниками города, в борьбе за свободу и независимость Отече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&amp;Gcy;&amp;acy;&amp;zcy;&amp;gcy;&amp;ocy;&amp;lcy;&amp;softcy;&amp;dcy;&amp;iecy;&amp;rcy;"/>
          <p:cNvPicPr/>
          <p:nvPr/>
        </p:nvPicPr>
        <p:blipFill>
          <a:blip r:embed="rId2"/>
          <a:stretch/>
        </p:blipFill>
        <p:spPr>
          <a:xfrm>
            <a:off x="2627280" y="2997360"/>
            <a:ext cx="5826240" cy="3655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19280" y="330480"/>
            <a:ext cx="75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городе удостоенном з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d60000"/>
                </a:solidFill>
                <a:latin typeface="Times New Roman"/>
              </a:rPr>
              <a:t>«Город воинской славы»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танавливается стела с изображением герба города и текстом указа Президента Российской Федерации о присвоении городу этого звания; проводятся публичные мероприятия и праздничные салю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23 февраля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День защитника Отечеств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), 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9 мая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Times New Roman"/>
                <a:hlinkClick r:id="rId6"/>
              </a:rPr>
              <a:t>День Победы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28800" y="149040"/>
            <a:ext cx="731520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состоянию на апрель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2015 год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данное звание было присвое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d60000"/>
                </a:solidFill>
                <a:uFillTx/>
                <a:latin typeface="Times New Roman"/>
              </a:rPr>
              <a:t>45 городам </a:t>
            </a:r>
            <a:r>
              <a:rPr b="0" lang="en-US" sz="32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Российской Федерации</a:t>
            </a:r>
            <a:r>
              <a:rPr b="0" lang="en-US" sz="3200" spc="-1" strike="noStrike" u="sng">
                <a:solidFill>
                  <a:srgbClr val="d60000"/>
                </a:solidFill>
                <a:uFillTx/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первые, оно было присвоено </a:t>
            </a: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27 апрел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2007 год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ородам </a:t>
            </a: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6"/>
              </a:rPr>
              <a:t>Белгороду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7"/>
              </a:rPr>
              <a:t>Курску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8"/>
              </a:rPr>
              <a:t>Орлу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 в последний раз — </a:t>
            </a: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9"/>
              </a:rPr>
              <a:t>6 апрел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10"/>
              </a:rPr>
              <a:t>2015 год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ородам </a:t>
            </a: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11"/>
              </a:rPr>
              <a:t>Старой Русс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12"/>
              </a:rPr>
              <a:t>Гатчи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13"/>
              </a:rPr>
              <a:t>Феодоси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14"/>
              </a:rPr>
              <a:t>Петрозаводску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и </a:t>
            </a: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15"/>
              </a:rPr>
              <a:t>Грозному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&amp;Scy;&amp;tcy;&amp;acy;&amp;rcy;&amp;acy;&amp;yacy; &amp;Rcy;&amp;ucy;&amp;scy;&amp;scy;&amp;acy; - &amp;Mcy;&amp;ocy;&amp;icy; &amp;scy;&amp;tcy;&amp;acy;&amp;tcy;&amp;softcy;&amp;icy; - &amp;Kcy;&amp;acy;&amp;tcy;&amp;acy;&amp;lcy;&amp;ocy;&amp;gcy; &amp;scy;&amp;tcy;&amp;acy;&amp;tcy;&amp;iecy;&amp;jcy; - &amp;Zcy;&amp;acy;&amp;gcy;&amp;ocy;&amp;rcy;&amp;ocy;&amp;dcy;&amp;ncy;&amp;acy;&amp;yacy; &amp;ncy;&amp;iecy;&amp;dcy;&amp;vcy;&amp;icy;&amp;zhcy;&amp;icy;&amp;mcy;&amp;ocy;&amp;scy;&amp;tcy;&amp;softcy;"/>
          <p:cNvPicPr/>
          <p:nvPr/>
        </p:nvPicPr>
        <p:blipFill>
          <a:blip r:embed="rId16"/>
          <a:stretch/>
        </p:blipFill>
        <p:spPr>
          <a:xfrm>
            <a:off x="2411280" y="3008160"/>
            <a:ext cx="5133960" cy="384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&amp;Pcy;&amp;ocy;&amp;pcy;&amp;ycy;&amp;tcy;&amp;kcy;&amp;acy; &amp;dcy;&amp;acy;&amp;tcy;&amp;softcy; &amp;vcy;&amp;zcy;&amp;yacy;&amp;tcy;&amp;kcy;&amp;ucy; &amp;ocy;&amp;bcy;&amp;iecy;&amp;rcy;&amp;ncy;&amp;ucy;&amp;lcy;&amp;acy;&amp;scy;&amp;softcy; &amp;dcy;&amp;lcy;&amp;yacy; &amp;zhcy;&amp;iecy;&amp;ncy;&amp;shchcy;&amp;icy;&amp;ncy;&amp;ycy; &amp;ucy;&amp;gcy;&amp;ocy;&amp;lcy;&amp;ocy;&amp;vcy;&amp;ncy;&amp;ycy;&amp;mcy; &amp;dcy;&amp;iecy;&amp;lcy;&amp;ocy;&amp;mcy;"/>
          <p:cNvPicPr/>
          <p:nvPr/>
        </p:nvPicPr>
        <p:blipFill>
          <a:blip r:embed="rId17"/>
          <a:stretch/>
        </p:blipFill>
        <p:spPr>
          <a:xfrm>
            <a:off x="2411280" y="3076560"/>
            <a:ext cx="5040360" cy="3781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&amp;pcy;&amp;rcy;&amp;ocy;&amp;dcy;&amp;acy;&amp;zhcy;&amp;acy;: &amp;zhcy;&amp;dcy; &amp;bcy;&amp;icy;&amp;lcy;&amp;iecy;&amp;tcy;&amp;ycy; &amp;Pcy;&amp;iecy;&amp;tcy;&amp;rcy;&amp;ocy;&amp;zcy;&amp;acy;&amp;vcy;&amp;ocy;&amp;dcy;&amp;scy;&amp;kcy;- &amp;kcy;&amp;ucy;&amp;pcy;&amp;icy;&amp;tcy;&amp;softcy;: &amp;zhcy;&amp;dcy; &amp;bcy;&amp;icy;&amp;lcy;&amp;iecy;&amp;tcy;&amp;ycy; &amp;Pcy;&amp;iecy;&amp;tcy;&amp;rcy;&amp;ocy;&amp;zcy;&amp;acy;&amp;vcy;&amp;ocy;&amp;dcy;&amp;scy;&amp;kcy;-, &amp;tscy;&amp;iecy;&amp;ncy;&amp;acy;"/>
          <p:cNvPicPr/>
          <p:nvPr/>
        </p:nvPicPr>
        <p:blipFill>
          <a:blip r:embed="rId18"/>
          <a:stretch/>
        </p:blipFill>
        <p:spPr>
          <a:xfrm>
            <a:off x="2411280" y="2997360"/>
            <a:ext cx="5545440" cy="3693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&amp;CHcy;&amp;iecy;&amp;chcy;&amp;ncy;&amp;yacy; &amp;scy;&amp;iecy;&amp;gcy;&amp;ocy;&amp;dcy;&amp;ncy;&amp;yacy; &amp;fcy;&amp;ocy;&amp;tcy;&amp;ocy;"/>
          <p:cNvPicPr/>
          <p:nvPr/>
        </p:nvPicPr>
        <p:blipFill>
          <a:blip r:embed="rId19"/>
          <a:stretch/>
        </p:blipFill>
        <p:spPr>
          <a:xfrm>
            <a:off x="2411280" y="3071880"/>
            <a:ext cx="5616720" cy="3786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&amp;Gcy;&amp;acy;&amp;tcy;&amp;chcy;&amp;icy;&amp;ncy;&amp;acy;, &amp;SHcy;&amp;kcy;&amp;ocy;&amp;lcy;&amp;softcy;&amp;ncy;&amp;ycy;&amp;iecy; &amp;tcy;&amp;ucy;&amp;rcy;&amp;ycy; &amp;vcy; &amp;Scy;&amp;acy;&amp;ncy;&amp;kcy;&amp;tcy; &amp;Pcy;&amp;iecy;&amp;tcy;&amp;iecy;&amp;rcy;&amp;bcy;&amp;ucy;&amp;rcy;&amp;gcy;"/>
          <p:cNvPicPr/>
          <p:nvPr/>
        </p:nvPicPr>
        <p:blipFill>
          <a:blip r:embed="rId20"/>
          <a:stretch/>
        </p:blipFill>
        <p:spPr>
          <a:xfrm>
            <a:off x="2411280" y="2997360"/>
            <a:ext cx="5761080" cy="3860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V="1" rot="10800000">
            <a:off x="1720800" y="331200"/>
            <a:ext cx="7423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ждый из нас должен всегда помнить: мы живы благодаря тем, кто встал на защиту Родины, не пожалел своего здоровья и жизни ради будущих поколени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&amp;Vcy; &amp;Kcy;&amp;rcy;&amp;iecy;&amp;mcy;&amp;lcy;&amp;iecy; &amp;pcy;&amp;rcy;&amp;ocy;&amp;shcy;&amp;lcy;&amp;acy; &amp;tscy;&amp;iecy;&amp;rcy;&amp;iecy;&amp;mcy;&amp;ocy;&amp;ncy;&amp;icy;&amp;yacy; &amp;vcy;&amp;rcy;&amp;ucy;&amp;chcy;&amp;iecy;&amp;ncy;&amp;icy;&amp;yacy; &amp;gcy;&amp;rcy;&amp;acy;&amp;mcy;&amp;ocy;&amp;tcy; &quot;&amp;Gcy;&amp;ocy;&amp;rcy;&amp;ocy;&amp;dcy; &amp;vcy;&amp;ocy;&amp;icy;&amp;ncy;&amp;scy;&amp;kcy;&amp;ocy;&amp;jcy; &amp;scy;&amp;lcy;&amp;acy;&amp;vcy;&amp;ycy;&quot; &amp;gcy;&amp;ocy;&amp;rcy;&amp;ocy;&amp;dcy;&amp;acy;&amp;mcy; &amp;Scy;&amp;tcy;&amp;acy;&amp;rcy;&amp;ocy;&amp;mcy;&amp;ucy; &amp;Ocy;&amp;scy;&amp;kcy;&amp;ocy;&amp;lcy;&amp;ucy;, &amp;Kcy;&amp;ocy;&amp;lcy;&amp;pcy;&amp;icy;&amp;ncy;&amp;ocy; &amp;icy; &amp;Acy;&amp;ncy;&amp;acy;&amp;pcy;&amp;iecy;"/>
          <p:cNvPicPr/>
          <p:nvPr/>
        </p:nvPicPr>
        <p:blipFill>
          <a:blip r:embed="rId2"/>
          <a:stretch/>
        </p:blipFill>
        <p:spPr>
          <a:xfrm>
            <a:off x="2195640" y="2781360"/>
            <a:ext cx="6264000" cy="3887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34920" y="18900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60000"/>
                </a:solidFill>
                <a:latin typeface="Century Gothic"/>
              </a:rPr>
              <a:t>ГОРОДА ВОИНСКОЙ СЛАВЫ ЛЕНИНГРАДСКОЙ ОБ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Coat of Arms of Luga (Leningrad oblast).png"/>
          <p:cNvPicPr/>
          <p:nvPr/>
        </p:nvPicPr>
        <p:blipFill>
          <a:blip r:embed="rId2"/>
          <a:stretch/>
        </p:blipFill>
        <p:spPr>
          <a:xfrm>
            <a:off x="6877080" y="1052640"/>
            <a:ext cx="1657440" cy="2104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71240" y="404640"/>
            <a:ext cx="488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ЛУГА – 5 мая 2008г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&amp;Ocy;&amp;ocy;&amp;ocy; &quot;&amp;Fcy;&amp;icy;&amp;ncy;&amp;acy;&amp;ncy;&amp;scy;&amp;ocy;&amp;vcy;&amp;ycy;&amp;jcy; &amp;icy; &amp;ocy;&amp;rcy;&amp;gcy;&amp;acy;&amp;ncy;&amp;icy;&amp;zcy;&amp;acy;&amp;tscy;&amp;icy;&amp;ocy;&amp;ncy;&amp;ncy;&amp;ycy;&amp;jcy; &amp;kcy;&amp;ocy;&amp;ncy;&amp;scy;&amp;acy;&amp;lcy;&amp;tcy;&amp;icy;&amp;ncy;&amp;gcy;&quot; &amp;Mcy;&amp;ucy;&amp;ncy;&amp;icy;&amp;tscy;&amp;icy;&amp;pcy;&amp;acy;&amp;lcy;&amp;softcy;&amp;ncy;&amp;ycy;&amp;jcy; …"/>
          <p:cNvPicPr/>
          <p:nvPr/>
        </p:nvPicPr>
        <p:blipFill>
          <a:blip r:embed="rId3"/>
          <a:stretch/>
        </p:blipFill>
        <p:spPr>
          <a:xfrm>
            <a:off x="1835280" y="1052640"/>
            <a:ext cx="3889080" cy="2916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&amp;Icy;&amp;zcy;&amp;dcy;&amp;iecy;&amp;lcy;&amp;icy;&amp;yacy; &amp;icy;&amp;zcy; &amp;chcy;&amp;iecy;&amp;lcy;&amp;ocy;&amp;vcy;&amp;iecy;&amp;chcy;&amp;iecy;&amp;scy;&amp;kcy;&amp;ocy;&amp;jcy; &amp;kcy;&amp;ocy;&amp;zhcy;&amp;icy; &quot; &amp;Bcy;&amp;lcy;&amp;ocy;&amp;gcy; &quot; &amp;Fcy;&amp;ocy;&amp;ncy;&amp;tcy;&amp;acy;&amp;ncy;&amp;kcy;&amp;acy;.&amp;rcy;&amp;ucy;"/>
          <p:cNvPicPr/>
          <p:nvPr/>
        </p:nvPicPr>
        <p:blipFill>
          <a:blip r:embed="rId4"/>
          <a:stretch/>
        </p:blipFill>
        <p:spPr>
          <a:xfrm>
            <a:off x="4829040" y="3357720"/>
            <a:ext cx="4314960" cy="323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19280" y="4002120"/>
            <a:ext cx="338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ез город прошел знаменит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Лужский рубеж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ержавший продвижение группы армии «Север» на Ленингра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34920" y="18900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60000"/>
                </a:solidFill>
                <a:latin typeface="Century Gothic"/>
              </a:rPr>
              <a:t>ГОРОДА ВОИНСКОЙ СЛАВЫ ЛЕНИНГРАДСКОЙ ОБ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Kronstadt coat of arms 1780.gif"/>
          <p:cNvPicPr/>
          <p:nvPr/>
        </p:nvPicPr>
        <p:blipFill>
          <a:blip r:embed="rId2"/>
          <a:stretch/>
        </p:blipFill>
        <p:spPr>
          <a:xfrm>
            <a:off x="7236000" y="1484280"/>
            <a:ext cx="1657080" cy="2095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40440" y="620640"/>
            <a:ext cx="76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КРОНШТАДТ–27 апреля 2009г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&amp;Ecy;&amp;kcy;&amp;scy;&amp;kcy;&amp;ucy;&amp;rcy;&amp;scy;&amp;icy;&amp;yacy; &amp;vcy; &amp;Kcy;&amp;rcy;&amp;ocy;&amp;ncy;&amp;shcy;&amp;tcy;&amp;acy;&amp;dcy;&amp;tcy;"/>
          <p:cNvPicPr/>
          <p:nvPr/>
        </p:nvPicPr>
        <p:blipFill>
          <a:blip r:embed="rId3"/>
          <a:stretch/>
        </p:blipFill>
        <p:spPr>
          <a:xfrm>
            <a:off x="1763640" y="1341360"/>
            <a:ext cx="4535640" cy="299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&amp;Ocy;&amp;fcy;&amp;icy;&amp;tscy;&amp;icy;&amp;acy;&amp;lcy;&amp;softcy;&amp;ncy;&amp;ycy;&amp;jcy; &amp;scy;&amp;acy;&amp;jcy;&amp;tcy; &amp;Mcy;&amp;Bcy;&amp;Ocy;&amp;Ucy; &amp;Scy;&amp;Ocy;&amp;SHcy; 62 &amp;gcy;. &amp;Acy;&amp;rcy;&amp;khcy;&amp;acy;&amp;ncy;&amp;gcy;&amp;iecy;&amp;lcy;&amp;softcy;&amp;scy;&amp;kcy;&amp;acy; - &amp;Acy;&amp;rcy;&amp;khcy;&amp;acy;&amp;ncy;&amp;gcy;&amp;iecy;&amp;lcy;&amp;softcy;&amp;scy;&amp;kcy; - &amp;gcy;&amp;ocy;&amp;rcy;&amp;ocy;&amp;dcy; &amp;vcy;&amp;ocy;&amp;icy;&amp;ncy;&amp;scy;&amp;kcy;&amp;ocy;&amp;jcy; &amp;scy;&amp;lcy;&amp;acy;&amp;vcy;&amp;ycy;"/>
          <p:cNvPicPr/>
          <p:nvPr/>
        </p:nvPicPr>
        <p:blipFill>
          <a:blip r:embed="rId4"/>
          <a:stretch/>
        </p:blipFill>
        <p:spPr>
          <a:xfrm>
            <a:off x="4859280" y="3789360"/>
            <a:ext cx="4284720" cy="2921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 rot="10800000">
            <a:off x="1332000" y="454464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род находился в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блокад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но удерживался советскими войсками.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6"/>
              </a:rPr>
              <a:t>Малая дорога жизн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связывала Ораниенбаум, Кронштадт 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исий Но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5640" y="18900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60000"/>
                </a:solidFill>
                <a:latin typeface="Century Gothic"/>
              </a:rPr>
              <a:t>ГОРОДА ВОИНСКОЙ СЛАВЫ ЛЕНИНГРАДСКОЙ ОБ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Coat of Arms of Vyborg.jpg"/>
          <p:cNvPicPr/>
          <p:nvPr/>
        </p:nvPicPr>
        <p:blipFill>
          <a:blip r:embed="rId2"/>
          <a:stretch/>
        </p:blipFill>
        <p:spPr>
          <a:xfrm>
            <a:off x="7236000" y="1341360"/>
            <a:ext cx="1571400" cy="1528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09800" y="620640"/>
            <a:ext cx="61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ВЫБОРГ–25 марта 2010г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&quot;&amp;Ncy;&amp;acy;&amp;shcy;&amp;acy; &amp;Vcy;&amp;iecy;&amp;lcy;&amp;icy;&amp;kcy;&amp;acy;&amp;yacy; &amp;Pcy;&amp;ocy;&amp;bcy;&amp;iecy;&amp;dcy;&amp;acy;&quot; (&amp;Bcy;&amp;rcy;&amp;iecy;&amp;scy;&amp;tcy;-&amp;Scy;&amp;acy;&amp;ncy;&amp;kcy;&amp;tcy;-&amp;Pcy;&amp;iecy;&amp;tcy;&amp;iecy;&amp;rcy;&amp;bcy;&amp;ucy;&amp;rcy;&amp;gcy;) on Tripline"/>
          <p:cNvPicPr/>
          <p:nvPr/>
        </p:nvPicPr>
        <p:blipFill>
          <a:blip r:embed="rId3"/>
          <a:stretch/>
        </p:blipFill>
        <p:spPr>
          <a:xfrm>
            <a:off x="5796000" y="2925720"/>
            <a:ext cx="3066840" cy="3932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&amp;Vcy;&amp;ycy;&amp;bcy;&amp;ocy;&amp;rcy;&amp;gcy;&amp;scy;&amp;kcy;&amp;icy;&amp;jcy; &amp;rcy;&amp;acy;&amp;jcy;&amp;ocy;&amp;ncy; - ISPOLIN"/>
          <p:cNvPicPr/>
          <p:nvPr/>
        </p:nvPicPr>
        <p:blipFill>
          <a:blip r:embed="rId4"/>
          <a:stretch/>
        </p:blipFill>
        <p:spPr>
          <a:xfrm>
            <a:off x="1547640" y="1341360"/>
            <a:ext cx="4753080" cy="3240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835280" y="4653000"/>
            <a:ext cx="383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оргская опер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-20 июня 1944г. сокруши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линию Моннергейм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55640" y="18900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60000"/>
                </a:solidFill>
                <a:latin typeface="Century Gothic"/>
              </a:rPr>
              <a:t>ГОРОДА ВОИНСКОЙ СЛАВЫ ЛЕНИНГРАДСКОЙ ОБ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10160" y="620640"/>
            <a:ext cx="630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ТИХВИН– 4 ноября 2010г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&amp;Scy;&amp;Pcy;&amp;bcy;&amp;Gcy;&amp;Ucy;&amp;Ecy;&amp;icy;&amp;Fcy; - &amp;Rcy;&amp;Icy;&amp;Tcy;&amp;Mcy;&amp;Mcy; - &amp;Rcy;&amp;acy;&amp;scy;&amp;scy;&amp;kcy;&amp;acy;&amp;zcy;&amp;ycy; &amp;ocy; &amp;pcy;&amp;ocy;&amp;iecy;&amp;zcy;&amp;dcy;&amp;kcy;&amp;acy;&amp;khcy; &amp;scy;&amp;tcy;&amp;ucy;&amp;dcy;&amp;iecy;&amp;ncy;&amp;tcy;&amp;ocy;&amp;vcy;"/>
          <p:cNvPicPr/>
          <p:nvPr/>
        </p:nvPicPr>
        <p:blipFill>
          <a:blip r:embed="rId2"/>
          <a:stretch/>
        </p:blipFill>
        <p:spPr>
          <a:xfrm>
            <a:off x="1835280" y="1268280"/>
            <a:ext cx="4824360" cy="2951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&amp;Tcy;&amp;icy;&amp;khcy;&amp;vcy;&amp;icy;&amp;ncy;&amp;scy;&amp;kcy;&amp;icy;&amp;jcy; &amp;rcy;&amp;acy;&amp;jcy;&amp;ocy;&amp;ncy; - 16060 &amp;gcy;.&amp;Tcy;&amp;icy;&amp;khcy;&amp;vcy;&amp;icy;&amp;ncy;, &amp;pcy;&amp;lcy;.&amp;Mcy;&amp;iecy;&amp;rcy;&amp;iecy;&amp;tscy;&amp;kcy;&amp;ocy;&amp;vcy;&amp;acy;, &amp;scy;&amp;tcy;&amp;iecy;&amp;lcy;&amp;acy; &quot;&amp;Gcy;&amp;ocy;&amp;rcy;&amp;ocy;&amp;dcy; &amp;Vcy;&amp;ocy;&amp;icy;&amp;ncy;&amp;scy;&amp;kcy;&amp;ocy;&amp;jcy; &amp;Scy;&amp;lcy;&amp;acy;&amp;vcy;&amp;ycy;&quot;"/>
          <p:cNvPicPr/>
          <p:nvPr/>
        </p:nvPicPr>
        <p:blipFill>
          <a:blip r:embed="rId3"/>
          <a:stretch/>
        </p:blipFill>
        <p:spPr>
          <a:xfrm>
            <a:off x="6419880" y="2852640"/>
            <a:ext cx="2468520" cy="3700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Coat of Arms of Tikhvin (Leningrad oblast) (1773).png"/>
          <p:cNvPicPr/>
          <p:nvPr/>
        </p:nvPicPr>
        <p:blipFill>
          <a:blip r:embed="rId4"/>
          <a:stretch/>
        </p:blipFill>
        <p:spPr>
          <a:xfrm>
            <a:off x="7451640" y="1341360"/>
            <a:ext cx="1489320" cy="1803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 rot="10800000">
            <a:off x="1907640" y="4218120"/>
            <a:ext cx="42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ихвина в время блокады стал практически единственной коммуникацией, по которой Ленинград снабжался продовольствием, оружием и боеприпас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Admin</cp:lastModifiedBy>
  <dcterms:modified xsi:type="dcterms:W3CDTF">2015-04-23T12:15:21Z</dcterms:modified>
  <cp:revision>27</cp:revision>
  <dc:subject/>
  <dc:title>Слайд 1</dc:title>
</cp:coreProperties>
</file>