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B2A2-36E8-4695-BFDD-9835AEBA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2578-5FB0-4828-B3D6-10EB2F0E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2795-CDDE-43A5-856E-1501806E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B451-4590-429F-9196-F250045F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BFFF-188E-4FE2-ABED-8C662E2F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0770-B139-450D-91BF-30AF45F9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D272-B6F5-441B-818D-8F22D544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3D36-F688-480E-AEA0-C6B6FE0D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67CA-CBC5-4D7E-B21C-55504453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2991-B2E1-4CF5-9C82-5DA73BFF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0F6B-BE59-4E10-8C05-6739AF84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0C48-D9FD-4B69-8B01-029546D6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A01F9-8027-4B82-9439-4CD188469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20720" y="1979640"/>
            <a:ext cx="8305920" cy="36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ФГОС ступеней образования – преемственность и развит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333333"/>
                </a:solidFill>
                <a:latin typeface="Arial"/>
              </a:rPr>
              <a:t>Актуальность: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в необходимости организации работы по переходу школы на ФГОС основного общего образования и подготовки педагогов к освоению новых форм организации образовательного проц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000" spc="-1" strike="noStrike">
                <a:solidFill>
                  <a:srgbClr val="333333"/>
                </a:solidFill>
                <a:latin typeface="Arial"/>
              </a:rPr>
              <a:t>Цель: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Оказание методической помощи педагогам-практикам в подготовке и проведении уроков по русскому языку, математике, литературному чтению (литературе), окружающему миру (истории) в рамках перехода школы на ФГОС основного общего образ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000" spc="-1" strike="noStrike">
                <a:solidFill>
                  <a:srgbClr val="333333"/>
                </a:solidFill>
                <a:latin typeface="Arial"/>
              </a:rPr>
              <a:t>Задачи: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 проанализировать причины неуспешного адаптационного периода и пути коррекции труднойстей школь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 выработать четкие представления о целях и результатах образования на начальной и основной ступенях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. наметить преемственные связи в содержании и методах обучения последнего этапа в начальной школе и первого этапа в основн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обосновать необходимость преемственности в преподавании русского языка, литературы и литературного чтения, математики, окружающего мира и истории для 4-5 классов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274320"/>
            <a:ext cx="8609040" cy="182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333333"/>
                </a:solidFill>
                <a:latin typeface="Arial"/>
              </a:rPr>
              <a:t>Психолого-педагогические вопросы преемственности при переходе учащихсяиз начального звена обучения в основное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смена социальной обстанов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изменение роли учащего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увеличение объема нагруз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разность систем и форм обуч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нестыковкой программ начальной и основной ш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</a:rPr>
              <a:t>Рекомендации по прееемственности преподавания русского языка для 4-5 классов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9640" y="1979640"/>
            <a:ext cx="4680000" cy="5580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219640" y="1800360"/>
            <a:ext cx="485928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</a:rPr>
              <a:t>Рекомендации по преемственности преподавания литературного чтения и литературы для 4-5 классов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1619280"/>
            <a:ext cx="5040360" cy="5940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219640" y="1619280"/>
            <a:ext cx="4859280" cy="59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</a:rPr>
              <a:t>Рекомендации по преемственности преподавания математики 4-5 классы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60360" y="1979640"/>
            <a:ext cx="4319640" cy="4859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00720" y="1979640"/>
            <a:ext cx="558000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</a:rPr>
              <a:t>Рекомендации по преемственности преподавания окружающего мира и истории для 4-5 классов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20720" y="1979640"/>
            <a:ext cx="4140360" cy="4859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59280" y="1979640"/>
            <a:ext cx="4680000" cy="485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5:32:32Z</dcterms:created>
  <dc:creator/>
  <dc:description/>
  <dc:language>en-US</dc:language>
  <cp:lastModifiedBy/>
  <dcterms:modified xsi:type="dcterms:W3CDTF">2009-04-16T05:32:35Z</dcterms:modified>
  <cp:revision>2</cp:revision>
  <dc:subject/>
  <dc:title/>
</cp:coreProperties>
</file>