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AC57-3DC4-4699-939D-558D2FA84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1F69-C626-4A91-AA1A-CDFD5FEB6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5F74-92FE-462A-9B9B-627B7287C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14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17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C403-A189-4FB1-9B3D-F50683A42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41240" y="555480"/>
            <a:ext cx="86076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A6C2-3EFA-425E-85D0-AEC59D000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514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617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A390-073B-48BF-859B-77AAF249F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F782-42F5-4246-92CE-0EB8F5081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6AFF-B9DD-4505-812F-1442C42FF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1240" y="555480"/>
            <a:ext cx="86076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31BC-16E1-4161-9C2E-6F35A5822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F32B-4933-400F-890B-75279897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5F85-634C-4888-877F-7FE33B41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FFB7-FC97-47D0-B203-E3F0C6B1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7A4A2E-DBE6-4137-9712-4791293351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20720" y="1979640"/>
            <a:ext cx="8305920" cy="36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748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Arial"/>
              </a:rPr>
              <a:t>ФГОС ступеней образования – преемственность и развит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600" spc="-1" strike="noStrike">
                <a:solidFill>
                  <a:srgbClr val="333333"/>
                </a:solidFill>
                <a:latin typeface="Arial"/>
              </a:rPr>
              <a:t>Актуальность: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indent="0" algn="just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в необходимости организации работы по переходу школы на ФГОС основного общего образования и подготовки педагогов к освоению новых форм организации образовательного процес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4000" spc="-1" strike="noStrike">
                <a:solidFill>
                  <a:srgbClr val="333333"/>
                </a:solidFill>
                <a:latin typeface="Arial"/>
              </a:rPr>
              <a:t>Цель: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Оказание методической помощи педагогам-практикам в подготовке и проведении уроков по русскому языку, математике, литературному чтению (литературе), окружающему миру (истории) в рамках перехода школы на ФГОС основного общего образова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4000" spc="-1" strike="noStrike">
                <a:solidFill>
                  <a:srgbClr val="333333"/>
                </a:solidFill>
                <a:latin typeface="Arial"/>
              </a:rPr>
              <a:t>Задачи: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. проанализировать причины неуспешного адаптационного периода и пути коррекции труднойстей школьни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2. выработать четкие представления о целях и результатах образования на начальной и основной ступенях образ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3. наметить преемственные связи в содержании и методах обучения последнего этапа в начальной школе и первого этапа в основно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4. обосновать необходимость преемственности в преподавании русского языка, литературы и литературного чтения, математики, окружающего мира и истории для 4-5 классов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1240" y="274320"/>
            <a:ext cx="8609040" cy="1824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200" spc="-1" strike="noStrike">
                <a:solidFill>
                  <a:srgbClr val="333333"/>
                </a:solidFill>
                <a:latin typeface="Arial"/>
              </a:rPr>
              <a:t>Психолого-педагогические вопросы преемственности при переходе учащихсяиз начального звена обучения в основное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смена социальной обстанов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-изменение роли учащего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-увеличение объема нагруз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-разность систем и форм обуч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-нестыковкой программ начальной и основной шко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333333"/>
                </a:solidFill>
                <a:latin typeface="Arial"/>
              </a:rPr>
              <a:t>Рекомендации по прееемственности преподавания русского языка для 4-5 классов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39640" y="1979640"/>
            <a:ext cx="4680000" cy="5580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219640" y="1800360"/>
            <a:ext cx="4859280" cy="57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333333"/>
                </a:solidFill>
                <a:latin typeface="Arial"/>
              </a:rPr>
              <a:t>Рекомендации по преемственности преподавания литературного чтения и литературы для 4-5 классов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79280" y="1619280"/>
            <a:ext cx="5040360" cy="5940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219640" y="1619280"/>
            <a:ext cx="4859280" cy="59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333333"/>
                </a:solidFill>
                <a:latin typeface="Arial"/>
              </a:rPr>
              <a:t>Рекомендации по преемственности преподавания математики 4-5 классы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60360" y="1979640"/>
            <a:ext cx="4319640" cy="4859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500720" y="1979640"/>
            <a:ext cx="5580000" cy="48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333333"/>
                </a:solidFill>
                <a:latin typeface="Arial"/>
              </a:rPr>
              <a:t>Рекомендации по преемственности преподавания окружающего мира и истории для 4-5 классов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20720" y="1979640"/>
            <a:ext cx="4140360" cy="4859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859280" y="1979640"/>
            <a:ext cx="4680000" cy="4859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5:32:32Z</dcterms:created>
  <dc:creator/>
  <dc:description/>
  <dc:language>en-US</dc:language>
  <cp:lastModifiedBy/>
  <dcterms:modified xsi:type="dcterms:W3CDTF">2009-04-16T05:32:35Z</dcterms:modified>
  <cp:revision>2</cp:revision>
  <dc:subject/>
  <dc:title/>
</cp:coreProperties>
</file>