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143-B5C5-453D-8F73-10B695C1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BE1-D69F-4AAA-8538-7EDF80C9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485F9-3B1F-4B14-878F-CBC79318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9F7A3-9CAB-4177-94DB-AC0DA528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93F35-237E-4C13-A043-A143B7AC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D5871-A73B-4081-B99E-D0CC5DE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24C59-8D91-4DB9-BA12-1B66700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5ACF7-BA78-4D70-B2BE-7105742F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82343-9C56-4088-9FB6-C61B17D7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9CDF5-9718-4EB7-9D64-5E69233E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75FA8-E271-442F-97B8-2F8F08E7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317-0A42-41EF-AE9B-C67E8B60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951-BA9A-472C-9262-01C758F8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24A3-4572-4959-9BA7-87AF3EDA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3B2C-380E-4A5F-8727-9C01147A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C065-F6C2-494F-AF8F-D54BA86D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97F9-C625-4D39-BBC1-8ED50358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81F-6631-4464-8FD1-DDD8DF05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C3AF-D219-4DA4-BECD-78D1A42B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8AE4-E251-4C9D-8B60-6BDA4782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164-212E-48C6-B27F-579CD1FC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EEDD-8F36-4A44-84E5-D81166F8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441E-F8CE-4400-A31F-79AF84C3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6B93-A17F-474F-B662-66BB0CD1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B70B-303F-4DFC-8F2A-AF223364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7143-3013-4740-A10F-13AB7C83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B147B-703A-43E9-BB32-C1C21E19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8AC3-193C-4B6A-90C5-54A02EE8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F06F-6B8B-4970-BFD1-5F86ECF7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6D5F-A1DF-4553-A6FD-B1758DE9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F62D-042B-4F0C-877E-CBF008E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6BA-42BB-429A-A164-3FA73FE7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E864-C848-4FD8-8C4D-98E8C044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CAED-A4B6-49C8-B4C9-4D558D5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715C-A237-4832-8EB4-3410038D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508B-2AD5-4F5A-BCD8-24F4AA52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AD91-C4E5-4D7C-8D40-8B8BF61B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79DC-00F6-4E35-B0F7-9AA6B7DB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6313-455E-4916-962E-34BC0DA9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997D-F0AF-49E0-8918-FBB242C7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CDEE-A58D-408E-AAE5-D316D1B7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529B-61AB-4E8E-B40A-75B95805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F6A-85D6-482B-A564-1C830A94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DF53-CBE6-4D92-845F-2B349150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5D8B8-DEE2-4746-A1A9-7AF63DF6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32B0-6013-4CA0-8279-C9CEF26C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7B92-67EC-4D89-9BD0-88429074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88FA0-F2A1-4232-95BB-F326988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23B5-40D3-4849-8A57-15AD783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7EAA-0933-4D69-8D9C-9B1C7BE5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AA5DE-07FB-47C1-A0B4-91F0C2D4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B3892-34EB-4442-BCD7-F7E280A1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3847-76F5-4B8E-A1A7-92B6F1C7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753-583E-49C8-BB94-8E7A1BC7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8E013-7DF9-4C89-BA29-70F3043A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7EE97-512B-4683-BF1D-CA061849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88CC8-A206-403D-8855-F7CA414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44ADE-93EE-4A6E-98EA-934D742C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F1DF2-87A5-49D9-9028-781DD3E5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5DA6-5A31-4ECA-BA30-19BAB8E7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C2DF6-D9A5-4387-8B42-6EEFB39C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A3F8E-054C-4591-AD4E-D04BBC1C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1B59A-1E6D-4A6B-B748-1CB5207E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153C0-02DE-42E5-8777-38EE05DC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FDB-DECB-428E-BE64-6B939CD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87197-17EE-4295-8ABE-FF5F7A75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D14A-522F-42AE-870A-B06A2C40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E4F4-439D-4DAA-BA9A-7C64CB3B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D8B49-29C1-48E3-A723-1B8A77E1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FB685-F463-40D9-95F0-9F3057E1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98499-0164-468B-B452-5DCF276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B5FDF-4830-4AE0-9080-01D4F14E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AF94-5377-4438-A1FF-9931EEB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2D74A-0812-45DD-B9C3-DA4F7B9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7FF2-9EEA-42A0-81E2-747BB21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01A-4A98-47DB-BB67-2010F8BE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C79DB-1ADE-4626-9BA7-02BF361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89F5B-07D8-404E-B9C4-2B8B3AF2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09CF0-BC35-4E39-91E1-779578CC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2AA7-C932-4BDB-9BDE-6A8F0AE4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B7D20-F80E-4497-885E-DF6A761E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5910C-87B7-4F49-906D-8F749A2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9D0DE-63E8-4F0D-A1EF-829A0A7E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7F173-1FE1-46A5-92DF-4C69E480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81AB3-474F-4D52-809C-7EA0883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5ECEF-80E6-4AA7-A9A5-3D30F5E1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F4B-0DC5-43CE-8F1A-87A3DDF7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372D9-02A2-4162-9877-F53F2EBA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0E077-B204-476C-B291-76ED3259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AD195-4210-498F-BF27-2A0BC74F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ADF1E-4401-4234-9C47-031A2B18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5C408-C241-4203-8127-A3AD163A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AAD3-51E3-40D2-8BF2-77634A43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41399-47F2-4550-A84D-0F55A177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9DDD-E1FA-4503-B645-07846F87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0F293-813E-47E2-BCA7-21137A36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3E17-1727-4DD8-8375-5B12BE01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F86-CD98-4DAA-B7EC-0F5F352E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30DB4-FF7A-4BE7-9FFC-D21521F2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04C12-B244-4A7A-88F2-BDBDEC2D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17485-D2C6-41EF-A979-3C955AB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6F169-E180-4D15-9ECE-FA120759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2E1B9-BDA6-4F92-BBE1-9722155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47DD9-67FD-439A-AE69-6FFB40B1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3BC38-FBF4-4CA1-A5D4-8668D272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CC45A-E4F8-45F3-BA17-6593F82A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65AA1-2CFF-4B0A-8DA9-B0E030C0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8AB75-E0DB-4D9B-8422-48E31378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74C0-7687-4814-BEA8-3A2F508973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74FD-B864-4FD8-88F0-7E5EE0006F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5BE7-C736-4B19-8F18-3FFCC18940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4C8B-AF2C-428F-B0FC-5FD0E8C0E0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8846-BE0F-4E39-B409-B0DC82DDFF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3EE-0D82-4488-AEE5-9B5BAC1BE0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CCE4-818F-4B67-A8C0-440850AFCD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DFF9-421D-430A-8021-B4731CDFFA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1707-2042-4EFA-A4E3-32955987B6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76440" y="5413320"/>
            <a:ext cx="780876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457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298440" y="182520"/>
            <a:ext cx="8699400" cy="1609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 одной девушки спросили, какой самый главный человек, какое самое главное время и какое самое нужное дело? И она ответила, подумав, что самый главный человек тот, с которым ты в данную минуту общаешься, самое главное время то, в котором ты сейчас живешь, и самое нужное дело сделать добро тому человеку, с которым в каждую данную минуту имеешь дел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.Н.Толсто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4429080" y="6857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кой раздел науки о языке мы изучаем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то такое синтаксис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то такое словосочетание, предложение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кие предложения по цели высказывания вы знаете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кие предложения по интонации вы знаете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то такое грамматическая основа предложения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то такое подлежащее, сказуемое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зовите второстепенные члены предлож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31840" y="450720"/>
            <a:ext cx="8766000" cy="1305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ердц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м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н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тр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лове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уш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л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лов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822240" y="255600"/>
            <a:ext cx="8328240" cy="2225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8360" y="191592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добрать антонимы, определить род, число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сокий - 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алёкая - 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лижнее - …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ёплые - …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1547640" y="285480"/>
            <a:ext cx="4989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обрать пару, определить род, число, паде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ячий       низ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ёмная         малень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ое       холо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ие         светл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1403280" y="2404080"/>
            <a:ext cx="59626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зовать прилагательные от данных существи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и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нц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ОПРОСЫ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е – это главный член предложения?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е – это второстепенный член предложения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е отвечает на вопросы косвенных падеж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е отвечает на вопросы: какой? Ч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я обозначают признак предмет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я могут быть выражены именем прилагательным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я могут быть выражены именем существительным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я согласуются с существительным в роде, числе и падеж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31840" y="1908000"/>
            <a:ext cx="8594640" cy="4158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187280" y="692280"/>
            <a:ext cx="6337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Какой текст дает вам более подробную информацию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знак предмета или явления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означает определение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й и какой – ответы просты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ишь не хватает волнистой чер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7:17Z</dcterms:created>
  <dc:creator>Admin</dc:creator>
  <dc:description/>
  <dc:language>en-US</dc:language>
  <cp:lastModifiedBy>User</cp:lastModifiedBy>
  <dcterms:modified xsi:type="dcterms:W3CDTF">2015-04-23T08:18:55Z</dcterms:modified>
  <cp:revision>6</cp:revision>
  <dc:subject/>
  <dc:title> «Любовь к животным- признак доброты и душевного тепла».  Л.Н.Толстой «Старая лошадь»</dc:title>
</cp:coreProperties>
</file>