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F64-305D-46AA-B2BF-48B20FB7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D69-E41A-460F-9251-CBAEEA0C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C3674-BD4B-4BD1-84CD-8E108571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046BC-849A-4AFA-A21F-2BCB5C30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60CA6-00EB-4102-8F8A-5631F696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FAA58-BFB5-48D0-912F-995E93B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59B3F-AB88-4601-B422-8EDCDE1C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68D2A-2A5A-4AFF-ADFD-4900D8A1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B61AF-2659-4B3E-807F-23CB429C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B0D03-F9EB-44EB-861C-DA56B93E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77034-493D-4E0E-AFB0-77302C8C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337-B819-488C-8FAF-0A256D68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8F8-0D6E-4BD9-944D-38A952DA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F35B-37E9-418C-9421-99EE3C8F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1755-CEB8-43AB-97F6-E9EFD6BF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D4AD-C7C8-4284-88B6-BD03B75B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0C67-48E4-4D30-9B42-163D5FFE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FAD7-2E11-4C31-AD32-A18A54FF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FF0A-A18F-48A3-99ED-5067D8F9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B0C0-0DD7-440B-9558-1CD9EBE4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BAF-BCCB-4674-BF36-1F8FBFC1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3472-5C85-4CC6-9B63-E60AD8F7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BCD9-BE5E-4598-BE12-1FAFF38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AA5B-EFFE-4826-9EC6-52E94ADA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2805-E195-4ABE-86CE-8A118323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618F-2D77-47AC-8C37-2BF4D71C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5802-9B1B-4AFD-82C9-09A98A2A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93DF-E470-4699-9D22-44FDA9C1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715E-D8E2-4C64-998E-54B2A7B8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55B6F-D462-4D6E-BC30-CF1DA8E7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9DCBF-1D64-4DAF-9E64-20BA2A5D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61B-03F9-467B-A6F3-C58E042E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39E9-EB75-43A1-BFBA-BD13EEC1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BA3B2-C3FD-48BD-9830-A06BA201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49B6-96C8-4A97-8C3C-3AD00468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DBFFC-75D2-47FD-8070-99E91D47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DB68-358B-4841-AAFC-5275E00D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47C7B-6D41-471F-96A6-E66416D0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BE378-BB73-4A82-B5DC-19BC0DB4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77C63-AAE4-4E41-BB59-0AA97561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0BD56-1687-4678-B7D5-7C61562D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462A-5275-434D-B623-92EF78F0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883-6B9A-4FE8-8E07-A9C637C3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AB9B-02DF-4BA9-B09E-E3CA70D5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3A31-2184-4070-B0C9-8B372832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BDD1A-0F24-433C-97B6-C857E8D4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2CF5C-AFEA-41B1-8FB2-6778A128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1A933-044B-4939-84DC-14692701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0414-5869-4E1D-9914-B2DAFE35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B771-2211-47F7-8314-F3385E71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8296A-41C9-4DE1-8290-30F6A0CA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6A3C7-3F8D-446F-AA33-C40C78A0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0B73F-89AA-4073-AA8F-5B25E415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9E1-41DD-4E17-9924-DCFE25B0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4F0B9-18F6-4836-A841-D100C170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653BA-CE23-4D53-8D29-25F5184E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64746-7A55-41E8-B82B-7E74E202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E644A-BAC1-45D1-9275-9E0190C9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62AA2-F54C-459B-BC0E-6ECF3A7B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68123-8A55-41D0-BD5D-EF2DC39A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D7E2C-673F-42A4-8EEB-1F62AF75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B8F3A-FDC4-4062-81E4-BF532D53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21718-80B1-48E7-B21E-16AEB57D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9F984-C605-482C-B68E-C32C8FC5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78A-1D95-4E05-8121-87EE9638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93D5F-A942-4F0D-9463-2BA023E1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974CF-75A1-4C5E-8039-0D583AC5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010B1-FBB3-479C-B663-C2318127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3CF5B-1DB0-4995-B9BF-4215C102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0AF21-F3C8-41A0-83D9-BFCED1E5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9A176-B1A7-41A3-99A4-2E28EA00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A4623-C13C-41F4-9230-AF9339C4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998F5-46B2-4A33-B484-DD38BDB0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C41D9-AFC1-4A38-A015-A1F29B5F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9BF32-B034-4486-872D-61EBC960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345-CA13-4FFD-B796-044B3178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582B2-8CC8-4D4D-9C82-9E69CA59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E5AEB-AF1D-453F-A856-F0F573EB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79BB1-9F3C-416A-A42C-A580A4FB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369DF-BC4D-4221-A013-E21E399E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C24EB-DE7D-43CD-B5ED-81546B73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2510A-881E-4081-8415-7B84F7B8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93F6E-1DEB-4153-9A91-0A6CE75A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7288C-642F-42D8-B0E7-673E9BC8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3F4C4-6777-4A0A-9CB9-CA975797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C6063-D052-4700-8F65-C9C781B7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CE1-AC04-41F4-9673-CC73A386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3DBD7-69B9-4ABE-B5EF-6BF52D8F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F6EB9-317B-4235-BE64-38B35EC4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DD2DA-4320-43D5-BBA8-5046934D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E82F9-7B27-4426-BEB9-F8825A00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C6C8E-151E-4DE3-91DE-92FCE720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9EC5B-07CC-4814-89AB-F4D0967C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DA8AC-27C3-4D2A-BAF4-A074E1F1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E5399-A8B7-4C72-A4DE-23FFD9FA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D13D4-BBD3-43CF-8313-8896EBDA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487A8-39E6-4EC0-AB66-2325237F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4E8-06B1-4F34-813C-F6A15742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91200-955F-4D0C-95B3-B188F22A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2BFA8-C496-4D4E-8E4A-44C85336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4F48F-BF51-46EF-A60B-7D89877F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C0F0C-F3B7-4763-AF8D-64BE7CDD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252EB-24D2-4B9E-A5F6-6B30C570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D9AA6-2D8C-4AE4-9987-2B684A8D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5711B-7142-49C8-BF2A-AB9EA651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7CBF8-BB19-4A16-B6BC-44522E07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D3E7E-2C70-41EA-B334-F1C94340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BBC83-F986-4DC9-A00A-8B381CE7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DE13-54FB-4742-BB6C-F8B9E741B2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CFDB-AC98-4CC7-B6B1-7664CC6C21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937C-5A3D-4FC8-8D84-B61561677C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A414-1C0D-4750-9735-A2AB1A9BC66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8090-358F-4A2A-B221-3DBCD3B333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CF90-A9FC-4BE0-B90D-7D4BB01BB1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218B-E149-4B35-90BB-9E12ACAC32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3E12-35DA-49D1-8D83-66F3CD4920A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5C73-66BC-4464-9A3B-C249F926962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76440" y="5413320"/>
            <a:ext cx="7808760" cy="1243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3457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298440" y="182520"/>
            <a:ext cx="8699400" cy="16099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 одной девушки спросили, какой самый главный человек, какое самое главное время и какое самое нужное дело? И она ответила, подумав, что самый главный человек тот, с которым ты в данную минуту общаешься, самое главное время то, в котором ты сейчас живешь, и самое нужное дело сделать добро тому человеку, с которым в каждую данную минуту имеешь дел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Л.Н.Толсто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4429080" y="6857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кой раздел науки о языке мы изучаем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Что такое синтаксис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Что такое словосочетание, предложение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кие предложения по цели высказывания вы знаете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кие предложения по интонации вы знаете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Что такое грамматическая основа предложения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Что такое подлежащее, сказуемое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азовите второстепенные члены предложени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31840" y="450720"/>
            <a:ext cx="8766000" cy="1305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ердц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м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н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тр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ловек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уш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л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лов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822240" y="255600"/>
            <a:ext cx="8328240" cy="2225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68360" y="1915920"/>
            <a:ext cx="82296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одобрать антонимы, определить род, число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сокий - 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алёкая - 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лижнее - …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ёплые - …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1547640" y="285480"/>
            <a:ext cx="4989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добрать пару, определить род, число, паде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ячий       низ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ёмная         малень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ое       холо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льшие         светл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1403280" y="2404080"/>
            <a:ext cx="59626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разовать прилагательные от данных существи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и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лнц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ОПРОСЫ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е – это главный член предложения?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е – это второстепенный член предложения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е отвечает на вопросы косвенных падеж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е отвечает на вопросы: какой? Ч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я обозначают признак предмет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я могут быть выражены именем прилагательным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я могут быть выражены именем существительным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ределения согласуются с существительным в роде, числе и падеже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31840" y="1908000"/>
            <a:ext cx="8594640" cy="4158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1187280" y="692280"/>
            <a:ext cx="6337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Какой текст дает вам более подробную информацию?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знак предмета или явления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означает определение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ей и какой – ответы просты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ишь не хватает волнистой черт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7:17Z</dcterms:created>
  <dc:creator>Admin</dc:creator>
  <dc:description/>
  <dc:language>en-US</dc:language>
  <cp:lastModifiedBy>User</cp:lastModifiedBy>
  <dcterms:modified xsi:type="dcterms:W3CDTF">2015-04-23T08:18:55Z</dcterms:modified>
  <cp:revision>6</cp:revision>
  <dc:subject/>
  <dc:title> «Любовь к животным- признак доброты и душевного тепла».  Л.Н.Толстой «Старая лошадь»</dc:title>
</cp:coreProperties>
</file>