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F3C-907E-4EF6-940A-1F3E7607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B78-EE0F-4538-9F4D-FCBA9CC3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D58-0A9E-4591-8D43-E7515E53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AF1-F331-4FEC-B5E0-4C7BBCF7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754A-B92D-4789-A4C4-22E6372D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08E6-3B73-4175-A7DA-686D871B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9C7D-F0A4-4F6D-B856-4BD6102C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5E2C-17A9-47AF-AC72-747BE495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343A-CAC7-48C3-A194-20F97F56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72DE-EC9F-4F85-8A3D-B587D3CE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2070-E44C-4EA1-A307-97A7970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DE7-7148-42A4-BA36-5079A141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2134-4462-45E8-9D94-4ECCB4CC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5B8B-B143-474B-82A6-3F373BA3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F8B4-C670-4ADA-BFDF-18DAC047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0566-683A-41D6-9FC8-18AA3B3E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ABEE-E8D2-43C9-8FBF-C7D7494A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08BB9-3E3A-4365-A9CD-CFC312E1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8941-7974-42D0-B8C5-FCB8CD90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E627-BC6E-4F52-8F6B-086C0A56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E502-9DBA-42F7-BEC4-F1167779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C7BC-0786-4B46-886D-5D3CC3AF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CD5-079D-4AA7-94FC-0CF5B5E7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B827D-69FB-4FDA-BA66-C05E8524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42B0-AF4A-4EB3-9302-72A84980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07F3-1CA4-4914-8B01-7DD8AAA6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E3F61-26CC-4A7C-94FE-B0F57D1A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B2826-A4C9-4E6A-9C0C-23391718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1538-35C7-4496-BC8C-C2A67AA8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7C83-7AF4-4B77-99F9-E1902297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A3AF-C944-48D6-9FD0-F76FDDB9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5AD3-491E-4585-9224-0267B842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B40C-A5B6-4E54-A478-E7C85691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557-0601-473A-9A5C-0A602176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7DB7-60A5-44B5-BC85-0699C64B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70A6F-64DF-487F-B322-CA247AD2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E8C88-BC46-4DF1-B2EC-A5F40576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743D-B2FA-4B44-A55E-9F23451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F7428-B626-4900-8446-EB4741CC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B3E3-350E-4BDE-9169-B050EDD1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6EB4-FFBB-426B-9287-098A78A6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CE64C-85AF-45F2-A0F2-C49D1592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287CC-7BB0-4B02-AE37-11590D79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5FF1C-E637-4BF1-9721-9DC9D17D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BF5-8DD4-4DF1-806E-46A4B0A5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FE0E1-1A23-4EF6-9BE5-C9C0EA34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10438-49A1-4274-A543-3BF8EF66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7DFF3-1661-42D0-A080-AFE692A3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23A43-45D5-463E-955D-599AF95C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1E6C0-9D19-49AC-807D-2FC4D878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A25BC-49E0-4CF0-9A66-FA98D9BA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7AC59-E5D2-407C-BF10-601BB0E4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21CA-E2CD-4C97-8287-EE1AB41F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5E80A-7172-418E-A950-6010FD3F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F4B99-80CA-4E1A-82D5-29E579AD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C91-8794-4929-A6F0-1D9A1B29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BD5EA-7AA5-4BDB-88E3-44EDE06C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E9E23-CE33-4AC7-AEDA-844D5AEA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C07A5-76B6-49FE-9C4D-F23208DB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22068-D510-4861-BD4B-CB44D1FE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2BD69-113A-4F1E-8417-145FB3C1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0DBD5-250D-4A8A-8760-FF505D99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6E7B5-FD21-42E6-9257-1551D798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0EC60-78A5-4793-806A-D0952532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3694-C0D6-4E66-AC57-769868E4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A93F6-250D-476C-9BD2-995AB4F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1BA-6B21-42F2-8AFF-F413CAED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64696-FE70-4A0F-B6FF-BA24EC39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EE1DA-E59D-4A09-A4B2-F183BCD4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F1391-93EC-4FF7-AAF3-A458B7C0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02F6-F19F-4017-BA32-DF094677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6FAFD-795F-433C-AB18-B83A6FAB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F40CA-D945-4577-B822-34C68B9B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EFA6F-870F-4BFB-A20E-697F539F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0D78B-4E70-40D4-ADD7-7F26227C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DC64C-23A2-4146-97DF-90D3F5C1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5A802-B67E-4B7B-901C-BAFBB68A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D33-0B8B-443A-BE72-423685E5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1FEE2-6588-43AF-ADF3-A2B5722F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CE7E3-ADB3-4958-81B5-42FF9043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A402A-72C8-49DE-BFA3-FE700008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CCFD1-3E1D-41FF-9240-EAD7EF4F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82C0D-9F9D-41F0-BE73-74825F29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BC8-3C84-4A71-9BE9-EE40C20B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55D9-240D-44E4-BD2D-3D808D15929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53D4-53DF-4FAF-A107-1A9766418D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78A4-2EFB-447E-9739-95EE1110775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4091-28CF-4AC7-9FEB-97D7D05FC93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FF93-E656-495D-9210-E462C33D893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8AD2-4387-47E5-9EA9-E373100406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5C49-8C86-4BE8-9925-FE943E721A4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8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ndara"/>
              </a:rPr>
              <a:t>КЛАССНЫЙ ЧАС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Candara"/>
              </a:rPr>
              <a:t>«МОЯ МАЛАЯ РОДИНА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5720"/>
            <a:ext cx="64008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ГБОУ средняя школа №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29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Кузьмина Елена Владимировн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2014-2015 уч.г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ворцовы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Объект 9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2630520" cy="19713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лодарски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3" name="Объект 10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266364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ольшеохтински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6" name="Объект 9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2952720" cy="195264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ольшой Обуховски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8" name="Объект 10" descr=""/>
          <p:cNvPicPr/>
          <p:nvPr/>
        </p:nvPicPr>
        <p:blipFill>
          <a:blip r:embed="rId2"/>
          <a:stretch/>
        </p:blipFill>
        <p:spPr>
          <a:xfrm>
            <a:off x="5003640" y="3429000"/>
            <a:ext cx="31276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итейны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1" name="Объект 9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2884680" cy="21747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Мост Александра Невского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3" name="Объект 10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29257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роицки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6" name="Объект 9" descr=""/>
          <p:cNvPicPr/>
          <p:nvPr/>
        </p:nvPicPr>
        <p:blipFill>
          <a:blip r:embed="rId1"/>
          <a:stretch/>
        </p:blipFill>
        <p:spPr>
          <a:xfrm>
            <a:off x="798480" y="3429000"/>
            <a:ext cx="305748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Финляндский железнодорожный мос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8" name="Объект 10" descr=""/>
          <p:cNvPicPr/>
          <p:nvPr/>
        </p:nvPicPr>
        <p:blipFill>
          <a:blip r:embed="rId2"/>
          <a:stretch/>
        </p:blipFill>
        <p:spPr>
          <a:xfrm>
            <a:off x="5003640" y="3606840"/>
            <a:ext cx="28213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Сфинксы на Университетской набережно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ежит гранитный добрый ле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 входа в старый д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ребятишки, осмелев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идят на нём верх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ранитный лев ребятам рад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ез них скучает он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1" name="Объект 9" descr=""/>
          <p:cNvPicPr/>
          <p:nvPr/>
        </p:nvPicPr>
        <p:blipFill>
          <a:blip r:embed="rId1"/>
          <a:stretch/>
        </p:blipFill>
        <p:spPr>
          <a:xfrm>
            <a:off x="5796000" y="2708280"/>
            <a:ext cx="217944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едный всадни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от памятник царю Петру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И царскому коню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Фотографируют его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По 200 раз на дню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Царь много славных дел свершил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А конь неоднократно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Его на подвиги возил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И привозил обратно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4" name="Объект 4" descr=""/>
          <p:cNvPicPr/>
          <p:nvPr/>
        </p:nvPicPr>
        <p:blipFill>
          <a:blip r:embed="rId1"/>
          <a:stretch/>
        </p:blipFill>
        <p:spPr>
          <a:xfrm>
            <a:off x="4395960" y="2781360"/>
            <a:ext cx="4219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Объект 4" descr=""/>
          <p:cNvPicPr/>
          <p:nvPr/>
        </p:nvPicPr>
        <p:blipFill>
          <a:blip r:embed="rId1"/>
          <a:stretch/>
        </p:blipFill>
        <p:spPr>
          <a:xfrm>
            <a:off x="1763640" y="2451240"/>
            <a:ext cx="5761080" cy="39938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рмитаж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Объект 8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7991280" cy="362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усский музе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 родине – негромко говорю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едь о большой любви кричать не над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на – моя отрада и награда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кажу о ней – молитву сотворю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удь вечно в благоденствии и славе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ай сил тебе, Всевышний, мир хранить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ай сил нам жить, не мудрствуя лукаво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пред тобой себя не уронить!”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Объект 3" descr=""/>
          <p:cNvPicPr/>
          <p:nvPr/>
        </p:nvPicPr>
        <p:blipFill>
          <a:blip r:embed="rId1"/>
          <a:stretch/>
        </p:blipFill>
        <p:spPr>
          <a:xfrm>
            <a:off x="1730520" y="2674800"/>
            <a:ext cx="5690880" cy="34513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1268280"/>
            <a:ext cx="7408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чего  начинается  Родина?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картинки  в  твоём букваре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хороших  и  верных   товарищей,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А  может,  она  начинается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Живущих  в соседнем   дворе.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той песни,  что  пела  нам  мать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того,  что  в  любых  испытаниях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У нас никому  не  отнять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чего   начинается  Родина?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заветной  скамьи  у  ворот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той  самой  берёзки,  что  в  поле,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А  может,  она  начинается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Под  ветром  склоняясь,  растёт.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весенней  запевки скворца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И  с  этой  дороги  просёлочной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Которой  не  видно  конца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чего  начинается  Родина?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окошек,  горящих  вдали,                         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о  старой  отцовской  будёновки,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А  может,  она  начинается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Что   где-то  в  шкафу  мы  нашли.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о  стука  вагонных   колёс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И   с  клятвы,  которую  в  юности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Ты  ей  в  своём  сердце   принёс…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73e87"/>
                </a:solidFill>
                <a:latin typeface="Candara"/>
              </a:rPr>
              <a:t>А. Прокофьев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С чего начинается Родин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Мой город Санкт-Петербург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утешествие в будуще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Объект 3" descr=""/>
          <p:cNvPicPr/>
          <p:nvPr/>
        </p:nvPicPr>
        <p:blipFill>
          <a:blip r:embed="rId1"/>
          <a:stretch/>
        </p:blipFill>
        <p:spPr>
          <a:xfrm>
            <a:off x="260280" y="2852640"/>
            <a:ext cx="4238640" cy="2822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ля  России  наш  город – частица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  для  нас  он – родительский  д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 мы  рады,  что  можем  гордитьс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алой  Родиной,  где мы  живё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Объект 3" descr=""/>
          <p:cNvPicPr/>
          <p:nvPr/>
        </p:nvPicPr>
        <p:blipFill>
          <a:blip r:embed="rId1"/>
          <a:stretch/>
        </p:blipFill>
        <p:spPr>
          <a:xfrm>
            <a:off x="3195720" y="2674800"/>
            <a:ext cx="2760480" cy="3451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ётр Первы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етропавловская креп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думал, видно, ангел улететь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вдруг застыл, пространство не осиля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Ему на город весело глядеть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вершины Петропавловского шпиля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Объект 5" descr=""/>
          <p:cNvPicPr/>
          <p:nvPr/>
        </p:nvPicPr>
        <p:blipFill>
          <a:blip r:embed="rId1"/>
          <a:stretch/>
        </p:blipFill>
        <p:spPr>
          <a:xfrm>
            <a:off x="4643280" y="2637000"/>
            <a:ext cx="40928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Герб Санкт-Петербург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Объект 6" descr=""/>
          <p:cNvPicPr/>
          <p:nvPr/>
        </p:nvPicPr>
        <p:blipFill>
          <a:blip r:embed="rId1"/>
          <a:stretch/>
        </p:blipFill>
        <p:spPr>
          <a:xfrm>
            <a:off x="914400" y="2679840"/>
            <a:ext cx="3346560" cy="34462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красном щите державный скипетр и два якоря – морской и речно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едь Санкт-Петербург – город-пор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Адмиралтейство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д грохотом и пылью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д шумной сует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лывёт на тонком шпил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раблик золото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етают рядом чайки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везда горит вдал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н бы и рад причалить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а в небе нет земл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2" name="Объект 5" descr=""/>
          <p:cNvPicPr/>
          <p:nvPr/>
        </p:nvPicPr>
        <p:blipFill>
          <a:blip r:embed="rId1"/>
          <a:stretch/>
        </p:blipFill>
        <p:spPr>
          <a:xfrm>
            <a:off x="4643280" y="2924280"/>
            <a:ext cx="42037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У красавицы Невы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Ожерелье из листвы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Из гранитов самых лучших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шито платье на век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о совсем не белоручка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Знаменитая рек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Баржи, лодки, пароходы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а себе несёт Нев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И в трубе  водопроводной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Тоже плещется Нев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5" name="Объект 9" descr=""/>
          <p:cNvPicPr/>
          <p:nvPr/>
        </p:nvPicPr>
        <p:blipFill>
          <a:blip r:embed="rId1"/>
          <a:stretch/>
        </p:blipFill>
        <p:spPr>
          <a:xfrm>
            <a:off x="4067280" y="2421000"/>
            <a:ext cx="47750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осты через Нев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Объект 14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2830680" cy="1871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лаговещенски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0T08:18:03Z</dcterms:created>
  <dc:creator>Walera</dc:creator>
  <dc:description/>
  <dc:language>en-US</dc:language>
  <cp:lastModifiedBy>Lenovo</cp:lastModifiedBy>
  <dcterms:modified xsi:type="dcterms:W3CDTF">2014-08-31T20:43:12Z</dcterms:modified>
  <cp:revision>20</cp:revision>
  <dc:subject/>
  <dc:title>КЛАССНЫЙ ЧАС «МОЯ МАЛАЯ РОДИНА»</dc:title>
</cp:coreProperties>
</file>