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090B-123C-45B1-B120-7DE1F65EA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A8C5-68B3-4F8F-8A98-3DD849C4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9F76-D9F8-425B-A4E9-EC4789500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CF2A-ADCD-496B-9EB9-8B99AA12D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1955-6088-4CAB-88B8-4B4B595D6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23032-53FC-4C09-9C71-478B8D67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A483-CD52-4BEA-AC87-0CE73219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81D6-D776-4566-962F-43CE73BF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6F57-54FD-4D8B-B90E-87E96075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8815-AA46-4722-B2F4-B7582514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E9967-117D-4278-B503-0EF54342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61C8-D477-4F33-8E94-0D10E595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7A0D-9C60-433C-8825-0C6D743D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858E-7662-4D79-8BB2-D9A6F1E8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5071-200A-4CAD-AEE8-83813CE1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DF7EE-86BD-4218-BF48-0EA0F7E5C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7C267-B9E8-4E42-BC1E-5BF4E9F17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D18DC-372F-4C4A-B80C-40A6708BB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10466-34E6-4840-B8C6-9C3E6661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A6377-834E-4592-A0B9-5DA3E548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AAFE8-A19D-497F-8675-53AE92EA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A68F3-1552-4CC7-8789-2EECBE2E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13FC-71FB-4E72-8816-BEB08EB2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6D8DA-ABE4-4286-922D-DAE1D8FE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B9FFC-1627-44EC-8F3B-7B47011E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758FC-B653-4346-ABA9-7F9B4E2A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B9EF3-0A65-4F0A-8219-8F7ED575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1F214-5CEF-434B-B5BB-8F040BEF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19179-20D0-46EF-9B73-D299636CB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EC739-E884-4CA7-B98F-6CA0D7C57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34DB6-631E-4BBE-A207-5A7704DF9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78662-1942-45C4-9D60-CCE1536E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E6B9E-5834-494E-AEDF-B223D3F4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EE28-E47C-4A82-B60A-3E2AB8F3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253A8-3D40-4A5F-A5D1-AF933516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470A5-2A0C-4F4B-B952-2CC6D3DA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352C0-99AA-468B-BFC2-138CA384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7A14F-E01C-4F6C-9394-13056F6C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6BD19-BBDD-4CB3-B2A6-30CBEDD3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4C5BB-FDB6-4936-A893-EB322C3F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E77FF-F18E-40EC-B527-B1AA29F4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BC22D-F808-4771-8D34-D8B74D39A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3B350-A4FF-44C8-8087-398143426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A6080-FD41-4784-8D5D-C3FD0CF6A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BDEE-9C39-4F29-AE93-6A60DF77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399A6-304D-4EB6-B870-2B7FBE70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31AE8-1771-46A3-A14C-BF6E9B24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99473-CC9C-4B85-9066-A4D4EAA3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1AD23-7881-47CF-8760-003892AE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BCDB6-6469-49C0-B502-76828EDA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DFEF8-FFC9-4D54-91FB-527F1208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65017-FBA1-4EDC-89E5-F3EB591B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838B4-DD46-4E55-9998-C8BB83E0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E5713-8C13-4BC8-9AC6-A5B03C3F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8A1A6-0963-45C7-B919-4185F523C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EA6D-90A2-45DB-99AC-061C8CB5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C6FF9-C62B-4B4E-9484-3F71353BF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0058B-DD69-4761-B0E9-1C0CDDCD1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410E5-6703-4933-B29F-C252CB7D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143FC-F7BF-4C46-9AB5-FC940EF2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27C5B-B635-43A4-A6DD-7146BD70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4D7C4-A23A-4F7F-9D41-823D9304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FF983-84C7-4571-8A76-1C4DA115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A7C1D-A584-4BB1-A7CE-90FE4222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B2541-D29D-4498-9A96-888CFFED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365F9-ADB4-4D9C-A70D-8A24409E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B605-F1B6-47C5-8634-4D723157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91412-54B3-4623-9026-27E5B2CF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95B2A-3036-4DE6-9196-164426D54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5F49E-B690-47B6-87FF-27BBB7176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CCB16-750F-4F7D-931F-E5CFA45ED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CB276-12CD-4722-B39B-A6CEF4F6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C7779-B2DE-4C1F-B0C3-2D7FA12D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B8A0F-5D51-49BB-87FA-4965D15A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B4B94-7A43-4119-AAD4-B248C735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73796-A1D2-4553-8434-40AD3DF33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59F81-C911-4945-9266-3F37772D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1E07-137C-41CF-9CC8-23AB22F1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05D58-AD91-4F83-A78D-76A430A6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A5585-0146-463E-86E2-FDA078F9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1BF4E-A945-41DB-969F-06BE5B45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BE444-3AD2-4A22-A302-AB1AA5779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A5FCE-2CF9-4924-976B-474F3CF48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9F42-B148-4FA5-A19A-88FF7B89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617F-D48E-4B1D-A982-7CFA64BE8FA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0B6B-6E4B-4B04-B0A8-89EE9C8D737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D889-6CA9-4555-81A9-BD507A927C0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BFFD-D1C6-4339-9FE6-AF47C11010A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ED73-6831-441D-8007-F91261043F5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3C2D-5C0F-41A6-9886-B1917A76E3F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558D-A033-48D1-9086-B283A9629D8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82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ndara"/>
              </a:rPr>
              <a:t>КЛАССНЫЙ ЧАС</a:t>
            </a:r>
            <a:br>
              <a:rPr sz="4400"/>
            </a:br>
            <a:r>
              <a:rPr b="0" lang="ru-RU" sz="4400" spc="-1" strike="noStrike">
                <a:solidFill>
                  <a:srgbClr val="002060"/>
                </a:solidFill>
                <a:latin typeface="Candara"/>
              </a:rPr>
              <a:t>«МОЯ МАЛАЯ РОДИНА»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5720"/>
            <a:ext cx="6400800" cy="26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ndara"/>
              </a:rPr>
              <a:t>ГБОУ средняя школа № </a:t>
            </a:r>
            <a:r>
              <a:rPr b="0" lang="en-US" sz="2000" spc="-1" strike="noStrike">
                <a:solidFill>
                  <a:srgbClr val="002060"/>
                </a:solidFill>
                <a:latin typeface="Candara"/>
              </a:rPr>
              <a:t>291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ndara"/>
              </a:rPr>
              <a:t>Кузьмина Елена Владимировн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ndara"/>
              </a:rPr>
              <a:t>2014-2015 уч.г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76440" y="2677680"/>
            <a:ext cx="38224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Дворцовый мос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61" name="Объект 9" descr=""/>
          <p:cNvPicPr/>
          <p:nvPr/>
        </p:nvPicPr>
        <p:blipFill>
          <a:blip r:embed="rId1"/>
          <a:stretch/>
        </p:blipFill>
        <p:spPr>
          <a:xfrm>
            <a:off x="1403280" y="3357720"/>
            <a:ext cx="2630520" cy="197136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48320" y="2677680"/>
            <a:ext cx="38224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олодарский мос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63" name="Объект 10" descr=""/>
          <p:cNvPicPr/>
          <p:nvPr/>
        </p:nvPicPr>
        <p:blipFill>
          <a:blip r:embed="rId2"/>
          <a:stretch/>
        </p:blipFill>
        <p:spPr>
          <a:xfrm>
            <a:off x="5148360" y="3357720"/>
            <a:ext cx="266364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76440" y="2677680"/>
            <a:ext cx="38224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Большеохтинский мос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66" name="Объект 9" descr=""/>
          <p:cNvPicPr/>
          <p:nvPr/>
        </p:nvPicPr>
        <p:blipFill>
          <a:blip r:embed="rId1"/>
          <a:stretch/>
        </p:blipFill>
        <p:spPr>
          <a:xfrm>
            <a:off x="971640" y="3429000"/>
            <a:ext cx="2952720" cy="195264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48320" y="2677680"/>
            <a:ext cx="38224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Большой Обуховский мос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68" name="Объект 10" descr=""/>
          <p:cNvPicPr/>
          <p:nvPr/>
        </p:nvPicPr>
        <p:blipFill>
          <a:blip r:embed="rId2"/>
          <a:stretch/>
        </p:blipFill>
        <p:spPr>
          <a:xfrm>
            <a:off x="5003640" y="3429000"/>
            <a:ext cx="312768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76440" y="2677680"/>
            <a:ext cx="38224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Литейный мос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71" name="Объект 9" descr=""/>
          <p:cNvPicPr/>
          <p:nvPr/>
        </p:nvPicPr>
        <p:blipFill>
          <a:blip r:embed="rId1"/>
          <a:stretch/>
        </p:blipFill>
        <p:spPr>
          <a:xfrm>
            <a:off x="900000" y="3429000"/>
            <a:ext cx="2884680" cy="217476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48320" y="2677680"/>
            <a:ext cx="38224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Мост Александра Невского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73" name="Объект 10" descr=""/>
          <p:cNvPicPr/>
          <p:nvPr/>
        </p:nvPicPr>
        <p:blipFill>
          <a:blip r:embed="rId2"/>
          <a:stretch/>
        </p:blipFill>
        <p:spPr>
          <a:xfrm>
            <a:off x="5076720" y="3500280"/>
            <a:ext cx="292572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76440" y="2677680"/>
            <a:ext cx="38224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Троицкий мос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76" name="Объект 9" descr=""/>
          <p:cNvPicPr/>
          <p:nvPr/>
        </p:nvPicPr>
        <p:blipFill>
          <a:blip r:embed="rId1"/>
          <a:stretch/>
        </p:blipFill>
        <p:spPr>
          <a:xfrm>
            <a:off x="798480" y="3429000"/>
            <a:ext cx="3057480" cy="230364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48320" y="2677680"/>
            <a:ext cx="38224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Финляндский железнодорожный мост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78" name="Объект 10" descr=""/>
          <p:cNvPicPr/>
          <p:nvPr/>
        </p:nvPicPr>
        <p:blipFill>
          <a:blip r:embed="rId2"/>
          <a:stretch/>
        </p:blipFill>
        <p:spPr>
          <a:xfrm>
            <a:off x="5003640" y="3606840"/>
            <a:ext cx="282132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Сфинксы на Университетской набережной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Лежит гранитный добрый лев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У входа в старый дом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И ребятишки, осмелев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идят на нём верхом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Гранитный лев ребятам рад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Без них скучает он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81" name="Объект 9" descr=""/>
          <p:cNvPicPr/>
          <p:nvPr/>
        </p:nvPicPr>
        <p:blipFill>
          <a:blip r:embed="rId1"/>
          <a:stretch/>
        </p:blipFill>
        <p:spPr>
          <a:xfrm>
            <a:off x="5796000" y="2708280"/>
            <a:ext cx="217944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Медный всадник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Вот памятник царю Петру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И царскому коню,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Фотографируют его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По 200 раз на дню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Царь много славных дел свершил,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А конь неоднократно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Его на подвиги возил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И привозил обратно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84" name="Объект 4" descr=""/>
          <p:cNvPicPr/>
          <p:nvPr/>
        </p:nvPicPr>
        <p:blipFill>
          <a:blip r:embed="rId1"/>
          <a:stretch/>
        </p:blipFill>
        <p:spPr>
          <a:xfrm>
            <a:off x="4395960" y="2781360"/>
            <a:ext cx="42195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Объект 4" descr=""/>
          <p:cNvPicPr/>
          <p:nvPr/>
        </p:nvPicPr>
        <p:blipFill>
          <a:blip r:embed="rId1"/>
          <a:stretch/>
        </p:blipFill>
        <p:spPr>
          <a:xfrm>
            <a:off x="1763640" y="2451240"/>
            <a:ext cx="5761080" cy="399384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Эрмитаж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Объект 8" descr=""/>
          <p:cNvPicPr/>
          <p:nvPr/>
        </p:nvPicPr>
        <p:blipFill>
          <a:blip r:embed="rId1"/>
          <a:stretch/>
        </p:blipFill>
        <p:spPr>
          <a:xfrm>
            <a:off x="684360" y="2637000"/>
            <a:ext cx="7991280" cy="36208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Русский музей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 родине – негромко говорю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едь о большой любви кричать не надо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на – моя отрада и награда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кажу о ней – молитву сотворю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“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Будь вечно в благоденствии и славе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Дай сил тебе, Всевышний, мир хранить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Дай сил нам жить, не мудрствуя лукаво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И пред тобой себя не уронить!”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Объект 3" descr=""/>
          <p:cNvPicPr/>
          <p:nvPr/>
        </p:nvPicPr>
        <p:blipFill>
          <a:blip r:embed="rId1"/>
          <a:stretch/>
        </p:blipFill>
        <p:spPr>
          <a:xfrm>
            <a:off x="1730520" y="2674800"/>
            <a:ext cx="5690880" cy="345132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1268280"/>
            <a:ext cx="7408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С  чего  начинается  Родина?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С картинки  в  твоём букваре.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С  хороших  и  верных   товарищей, 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А  может,  она  начинается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Живущих  в соседнем   дворе. 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С  той песни,  что  пела  нам  мать,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С  того,  что  в  любых  испытаниях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У нас никому  не  отнять.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С  чего   начинается  Родина?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С  заветной  скамьи  у  ворот,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С той  самой  берёзки,  что  в  поле, 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А  может,  она  начинается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Под  ветром  склоняясь,  растёт. 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С  весенней  запевки скворца.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И  с  этой  дороги  просёлочной,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Которой  не  видно  конца.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С  чего  начинается  Родина?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С  окошек,  горящих  вдали,                          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Со  старой  отцовской  будёновки, 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А  может,  она  начинается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Что   где-то  в  шкафу  мы  нашли. 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Со  стука  вагонных   колёс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И   с  клятвы,  которую  в  юности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Ты  ей  в  своём  сердце   принёс…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73e87"/>
                </a:solidFill>
                <a:latin typeface="Candara"/>
              </a:rPr>
              <a:t>А. Прокофьев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С чего начинается Родина?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Мой город Санкт-Петербург: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путешествие в будущее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0" name="Объект 3" descr=""/>
          <p:cNvPicPr/>
          <p:nvPr/>
        </p:nvPicPr>
        <p:blipFill>
          <a:blip r:embed="rId1"/>
          <a:stretch/>
        </p:blipFill>
        <p:spPr>
          <a:xfrm>
            <a:off x="260280" y="2852640"/>
            <a:ext cx="4238640" cy="28227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Для  России  наш  город – частица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А  для  нас  он – родительский  дом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И  мы  рады,  что  можем  гордитьс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Малой  Родиной,  где мы  живём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Объект 3" descr=""/>
          <p:cNvPicPr/>
          <p:nvPr/>
        </p:nvPicPr>
        <p:blipFill>
          <a:blip r:embed="rId1"/>
          <a:stretch/>
        </p:blipFill>
        <p:spPr>
          <a:xfrm>
            <a:off x="3195720" y="2674800"/>
            <a:ext cx="2760480" cy="34513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ётр Первый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етропавловская крепость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Раздумал, видно, ангел улететь…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И вдруг застыл, пространство не осиля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Ему на город весело глядеть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 вершины Петропавловского шпиля…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6" name="Объект 5" descr=""/>
          <p:cNvPicPr/>
          <p:nvPr/>
        </p:nvPicPr>
        <p:blipFill>
          <a:blip r:embed="rId1"/>
          <a:stretch/>
        </p:blipFill>
        <p:spPr>
          <a:xfrm>
            <a:off x="4643280" y="2637000"/>
            <a:ext cx="409284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Герб Санкт-Петербург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8" name="Объект 6" descr=""/>
          <p:cNvPicPr/>
          <p:nvPr/>
        </p:nvPicPr>
        <p:blipFill>
          <a:blip r:embed="rId1"/>
          <a:stretch/>
        </p:blipFill>
        <p:spPr>
          <a:xfrm>
            <a:off x="914400" y="2679840"/>
            <a:ext cx="3346560" cy="34462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а красном щите державный скипетр и два якоря – морской и речной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едь Санкт-Петербург – город-порт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Адмиралтейство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ад грохотом и пылью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ад шумной суето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лывёт на тонком шпил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Кораблик золотой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Летают рядом чайки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Звезда горит вдал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н бы и рад причалить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Да в небе нет земл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2" name="Объект 5" descr=""/>
          <p:cNvPicPr/>
          <p:nvPr/>
        </p:nvPicPr>
        <p:blipFill>
          <a:blip r:embed="rId1"/>
          <a:stretch/>
        </p:blipFill>
        <p:spPr>
          <a:xfrm>
            <a:off x="4643280" y="2924280"/>
            <a:ext cx="420372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У красавицы Невы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Ожерелье из листвы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Из гранитов самых лучших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Сшито платье на века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Но совсем не белоручка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Знаменитая река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Баржи, лодки, пароходы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На себе несёт Нева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И в трубе  водопроводной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Тоже плещется Нева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5" name="Объект 9" descr=""/>
          <p:cNvPicPr/>
          <p:nvPr/>
        </p:nvPicPr>
        <p:blipFill>
          <a:blip r:embed="rId1"/>
          <a:stretch/>
        </p:blipFill>
        <p:spPr>
          <a:xfrm>
            <a:off x="4067280" y="2421000"/>
            <a:ext cx="47750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Мосты через Неву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7" name="Объект 14" descr=""/>
          <p:cNvPicPr/>
          <p:nvPr/>
        </p:nvPicPr>
        <p:blipFill>
          <a:blip r:embed="rId1"/>
          <a:stretch/>
        </p:blipFill>
        <p:spPr>
          <a:xfrm>
            <a:off x="826920" y="3141720"/>
            <a:ext cx="2830680" cy="18716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Благовещенский мос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30T08:18:03Z</dcterms:created>
  <dc:creator>Walera</dc:creator>
  <dc:description/>
  <dc:language>en-US</dc:language>
  <cp:lastModifiedBy>Lenovo</cp:lastModifiedBy>
  <dcterms:modified xsi:type="dcterms:W3CDTF">2014-08-31T20:43:12Z</dcterms:modified>
  <cp:revision>20</cp:revision>
  <dc:subject/>
  <dc:title>КЛАССНЫЙ ЧАС «МОЯ МАЛАЯ РОДИНА»</dc:title>
</cp:coreProperties>
</file>