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882-2F07-45B7-B889-34E71838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B96-43EE-457E-A03B-8C7E2D46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28F-F4A3-464D-9524-B0F73FB7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60D-CB4A-46E9-B75B-0D0530DA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7A8D-6A86-4A28-BF54-1F5F64D3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DDB9-5D77-454D-BFCD-DACC341C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A043-10D3-4349-8C7E-46E682B4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8456-6707-4F7E-9ED8-2C055C01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5711-EA4C-41DA-AB05-27B77816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0BA1-6571-4252-AE57-ACC83E27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C2A8-F947-463A-AFF5-4CFA388D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63B-C23B-44D4-A594-94C5BD60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737F-1C65-4321-A42C-20B25A7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F7D4-2301-403B-A3A1-EC743957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EA11-604F-4BC9-93C5-6958BA33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B7FB-2494-461C-9E79-A47462DB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1DAA-9588-4454-986C-0F106690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3F5-9A1E-4A78-88DC-81435BE5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D78-8F37-4A9F-A2B1-32B899FD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6A8-5109-453C-9ADC-88313283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6B2-1BDE-4173-9087-01EB7C37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15C-FCBA-4C1B-B791-1C0E10E1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8E1-0E9C-4254-8799-602552C8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ED1-6291-479F-A770-CA8DDA18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2D15-E99D-4D17-A0CD-8908FEA61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073-050D-46BE-BB9B-14EEE565A3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kafedotova38.ucoz.ru/load/shablony_prezentacij/armejskie_voennye/shablon_k_9_maja/51-1-0-73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Arial"/>
              </a:rPr>
              <a:t>Наша арм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Arial"/>
              </a:rPr>
              <a:t>сильная, сильная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84720" y="2852640"/>
            <a:ext cx="447480" cy="36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19280" y="9079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 70летию победы посвящ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4292640"/>
            <a:ext cx="55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4221000"/>
            <a:ext cx="59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724280"/>
            <a:ext cx="590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 Воспитатель  первой квалификационной категории МАДОУ ЦРР детский сад № 29 «Ягодка» Ларина Т.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оенно-морской ф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Надводные си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одводные си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Морская ави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Береговы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Текст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81228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Текст 2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502320" cy="459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Текст 2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6842160" cy="38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Текст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715000" cy="380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оздушно-десантные вой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Отдельный род войск Вооружённых Сил Российской Федерации быстрого реагирования, предназначенный для охвата противника по воздуху и ведения боевых и диверсионных действий в его ты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Текст 2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565776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Текст 2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6034320" cy="439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Ракетные войска </a:t>
            </a:r>
            <a:br>
              <a:rPr sz="4000"/>
            </a:b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стратегического назна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Отдельный род войск Вооружённых Сил Российской Федерации, сухопутный компонент стратегических ядерных сил. Войска постоянной боевой готовности. Предназначены для ядерного сдерживания возможной агре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Текст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84216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Сухопутные вой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Танковы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Ракетные войска и артилле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Войска противоздушной обор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Разведывательные соединения и воинские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Инженерны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Войска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Войска радиационной, химической и биологической защи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20908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Войска воздушно - космической оборо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Новый род войск Вооружённых Сил Российской Федерации. Предназначе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для обеспечения безопасности России в воздушно - космической сфе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Текст 2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619960" cy="3733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468720" y="404280"/>
            <a:ext cx="908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Наша армия самая силь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Текст 2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191280" cy="4133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Текст 2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7417080" cy="467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Текст 2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35840" cy="4526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Текст 2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603756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Текст 2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4105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vikafedotova38.ucoz.ru/load/shablony_prezentacij/armejskie_voennye/shablon_k_9_maja/51-1-0-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https://ru.wikipedia.org/wiki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Текст 2" descr=""/>
          <p:cNvPicPr/>
          <p:nvPr/>
        </p:nvPicPr>
        <p:blipFill>
          <a:blip r:embed="rId2"/>
          <a:stretch/>
        </p:blipFill>
        <p:spPr>
          <a:xfrm>
            <a:off x="1835280" y="1700280"/>
            <a:ext cx="5715000" cy="379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Текст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78996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Текст 2" descr=""/>
          <p:cNvPicPr/>
          <p:nvPr/>
        </p:nvPicPr>
        <p:blipFill>
          <a:blip r:embed="rId2"/>
          <a:stretch/>
        </p:blipFill>
        <p:spPr>
          <a:xfrm>
            <a:off x="1908000" y="1268280"/>
            <a:ext cx="5345280" cy="4465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Текст 2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6141960" cy="439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оенно-воздушные си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Ави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Зенитные ракетны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Радиотехнически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Специальные войс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Текст 2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789600" cy="43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Текст 2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383520" cy="453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Home</cp:lastModifiedBy>
  <dcterms:modified xsi:type="dcterms:W3CDTF">2015-03-10T03:00:58Z</dcterms:modified>
  <cp:revision>31</cp:revision>
  <dc:subject/>
  <dc:title>Слайд 1</dc:title>
</cp:coreProperties>
</file>