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DE0-B179-44E6-8F5E-4C3E4621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F71-54E7-4332-AC1F-A7EE11B1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5E7-AC9F-4617-B069-023049B7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BCD-8F26-4E43-8689-52A15C3E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8143-D047-4063-AFDA-CA846C74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81B7-75CF-4687-82A9-0CF562F5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167C-8F49-4179-ABFB-368F4D49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EA85-E374-47BE-9240-84075653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5027-00DB-4139-B28B-C66EE220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2C37-DD3B-4AC2-8AC8-526B8948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F710-A898-4D72-9FF4-00B3D08E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D4E-47BF-423E-91D3-4A78832F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D66F-87A8-4AA0-9926-FA0634D5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C6A8-4EA2-43F4-9F4D-42AC4C45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22B9-FDBC-465B-A153-833431EE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6A27-F39C-4986-8994-68C4BA39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0F77-1ADC-470B-9557-6C62AC91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00E-6C21-448C-B73E-E9D77D76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76B-7ED5-4D8D-88AB-D5FF9227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56A-2234-42BD-8BB8-B2827E3A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4087-B00B-4588-AD24-B9C168EC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7CF-BE96-481C-88A9-D884F8E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71C-6DFF-496B-9AA6-4921385C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F72-B134-4F87-AFEE-AEDC7A4D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6C0B-A090-4D45-8110-CEAA1CD4B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03C8-028D-4747-A4EE-F8D65EBCA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kafedotova38.ucoz.ru/load/shablony_prezentacij/armejskie_voennye/shablon_k_9_maja/51-1-0-73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Arial"/>
              </a:rPr>
              <a:t>Наша арм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Arial"/>
              </a:rPr>
              <a:t>сильная, сильная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84720" y="2852640"/>
            <a:ext cx="447480" cy="36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19280" y="9079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 70летию победы посвящ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4292640"/>
            <a:ext cx="55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4221000"/>
            <a:ext cx="59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724280"/>
            <a:ext cx="590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 Воспитатель  первой квалификационной категории МАДОУ ЦРР детский сад № 29 «Ягодка» Ларина Т.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оенно-морской ф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Надводные си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одводные си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Морская ави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Береговые вой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Текст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81228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Текст 2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502320" cy="459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Текст 2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6842160" cy="381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Текст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715000" cy="3809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оздушно-десантные вой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Отдельный род войск Вооружённых Сил Российской Федерации быстрого реагирования, предназначенный для охвата противника по воздуху и ведения боевых и диверсионных действий в его ты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Текст 2" descr=""/>
          <p:cNvPicPr/>
          <p:nvPr/>
        </p:nvPicPr>
        <p:blipFill>
          <a:blip r:embed="rId2"/>
          <a:stretch/>
        </p:blipFill>
        <p:spPr>
          <a:xfrm>
            <a:off x="1763640" y="1268280"/>
            <a:ext cx="565776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Текст 2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6034320" cy="439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Ракетные войска </a:t>
            </a:r>
            <a:br>
              <a:rPr sz="4000"/>
            </a:b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стратегического назна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Отдельный род войск Вооружённых Сил Российской Федерации, сухопутный компонент стратегических ядерных сил. Войска постоянной боевой готовности. Предназначены для ядерного сдерживания возможной агре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Текст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84216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Сухопутные вой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Танковые вой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Ракетные войска и артилле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Войска противоздушной обор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Разведывательные соединения и воинские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Инженерные вой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Войска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Войска радиационной, химической и биологической защи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20908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Войска воздушно - космической оборо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Новый род войск Вооружённых Сил Российской Федерации. Предназначе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для обеспечения безопасности России в воздушно - космической сфе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Текст 2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619960" cy="3733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468720" y="404280"/>
            <a:ext cx="908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Наша армия самая силь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Текст 2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191280" cy="4133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Текст 2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7417080" cy="4670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Текст 2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35840" cy="4526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Текст 2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603756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Текст 2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4105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vikafedotova38.ucoz.ru/load/shablony_prezentacij/armejskie_voennye/shablon_k_9_maja/51-1-0-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https://ru.wikipedia.org/wiki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Текст 2" descr=""/>
          <p:cNvPicPr/>
          <p:nvPr/>
        </p:nvPicPr>
        <p:blipFill>
          <a:blip r:embed="rId2"/>
          <a:stretch/>
        </p:blipFill>
        <p:spPr>
          <a:xfrm>
            <a:off x="1835280" y="1700280"/>
            <a:ext cx="5715000" cy="379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Текст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78996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Текст 2" descr=""/>
          <p:cNvPicPr/>
          <p:nvPr/>
        </p:nvPicPr>
        <p:blipFill>
          <a:blip r:embed="rId2"/>
          <a:stretch/>
        </p:blipFill>
        <p:spPr>
          <a:xfrm>
            <a:off x="1908000" y="1268280"/>
            <a:ext cx="5345280" cy="4465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Текст 2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6141960" cy="439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оенно-воздушные си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Ави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Зенитные ракетные вой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Радиотехнические вой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Специальные войс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Текст 2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789600" cy="43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В наше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Текст 2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383520" cy="453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7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44:05Z</dcterms:created>
  <dc:creator>Федотова Виктория Александровна</dc:creator>
  <dc:description/>
  <dc:language>en-US</dc:language>
  <cp:lastModifiedBy>Home</cp:lastModifiedBy>
  <dcterms:modified xsi:type="dcterms:W3CDTF">2015-03-10T03:00:58Z</dcterms:modified>
  <cp:revision>31</cp:revision>
  <dc:subject/>
  <dc:title>Слайд 1</dc:title>
</cp:coreProperties>
</file>