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jpeg" ContentType="image/jpeg"/>
  <Override PartName="/ppt/media/image33.png" ContentType="image/png"/>
  <Override PartName="/ppt/media/image58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61.png" ContentType="image/png"/>
  <Override PartName="/ppt/media/image1.jpeg" ContentType="image/jpeg"/>
  <Override PartName="/ppt/media/image21.png" ContentType="image/png"/>
  <Override PartName="/ppt/media/image36.png" ContentType="image/png"/>
  <Override PartName="/ppt/media/image29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62.gif" ContentType="image/gif"/>
  <Override PartName="/ppt/media/image23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5.png" ContentType="image/png"/>
  <Override PartName="/ppt/media/image11.jpeg" ContentType="image/jpeg"/>
  <Override PartName="/ppt/media/image24.png" ContentType="image/png"/>
  <Override PartName="/ppt/media/image22.png" ContentType="image/png"/>
  <Override PartName="/ppt/media/image59.png" ContentType="image/png"/>
  <Override PartName="/ppt/media/image20.png" ContentType="image/png"/>
  <Override PartName="/ppt/media/image3.png" ContentType="image/png"/>
  <Override PartName="/ppt/media/image15.jpeg" ContentType="image/jpeg"/>
  <Override PartName="/ppt/media/image14.jpeg" ContentType="image/jpeg"/>
  <Override PartName="/ppt/media/image27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0.jpeg" ContentType="image/jpe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6.jpeg" ContentType="image/jpeg"/>
  <Override PartName="/ppt/media/image5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1C5-5664-4BD6-9448-0B383484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D0C-0E16-4F2C-B532-4F585C48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FD7-8451-4F9C-A296-38FA5F90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150-06BF-4410-8DB8-615E4D37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34AD-08DA-4592-A46B-6DF4F9B2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7B97-4B2B-445B-8A6C-78FC778F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E659-31D7-44B6-B8F1-1671C8BB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58C6-5124-4C4A-918A-099586A3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4F8B-8178-4DEB-94AB-612DB372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BAC7-1CAB-4458-B25B-8560FC5A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5E17-ADCF-415A-BD9C-A526B007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F04-0562-4347-AA88-2E33AF2E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4FAE-AA3D-405A-BC9D-67CF8173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13D5-2429-4673-BDB1-1A593836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A87B-820E-4B76-97BC-D4DA2C9C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5B44-FE10-4503-A443-10C0C738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A3B3-6492-40D9-A1E5-15C72C9A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907-CE1F-4919-A68D-B8E54A88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E95-25D8-4C23-9505-C04DCB35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FB3-990B-4D55-AF7E-A0F47F2B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62B-AADC-4F79-B024-2870318E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0BE-8D86-42D4-BF38-4FEA8AEE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C71-EDA9-4DAA-B7C7-43CECBB0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208-7299-4C43-8C10-272FE6C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5D67-6E84-440D-8155-2077C90DCC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525E-64D8-4B80-B171-CA4ECDE141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6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36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60;&#1072;&#1081;&#1083;:Afonina-Taisia-Still-life-with-Pussy-Willows-per02bw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llery-art.org.ua/images/datsogallery/img_originals/BA7165A28D87-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allery-art.org.ua/images/datsogallery/img_originals/F9F09035A09E-1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allery-art.org.ua/images/datsogallery/img_originals/A5A59AF06A54-1.jpg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20559000">
            <a:off x="394920" y="2039400"/>
            <a:ext cx="8499600" cy="27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a26d18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НАТЮРМОРТ</a:t>
            </a:r>
            <a:endParaRPr b="1" lang="en-US" sz="8000" spc="1" strike="noStrike">
              <a:ln w="9360">
                <a:solidFill>
                  <a:srgbClr val="993366"/>
                </a:solidFill>
                <a:miter/>
              </a:ln>
              <a:solidFill>
                <a:srgbClr val="a26d18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21" name="Picture 5" descr="Image5"/>
          <p:cNvPicPr/>
          <p:nvPr/>
        </p:nvPicPr>
        <p:blipFill>
          <a:blip r:embed="rId1"/>
          <a:stretch/>
        </p:blipFill>
        <p:spPr>
          <a:xfrm>
            <a:off x="6572160" y="3357720"/>
            <a:ext cx="2571840" cy="350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Image21"/>
          <p:cNvPicPr/>
          <p:nvPr/>
        </p:nvPicPr>
        <p:blipFill>
          <a:blip r:embed="rId2"/>
          <a:stretch/>
        </p:blipFill>
        <p:spPr>
          <a:xfrm>
            <a:off x="0" y="189000"/>
            <a:ext cx="3816360" cy="2898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Прямоугольник 3" descr=""/>
          <p:cNvPicPr/>
          <p:nvPr/>
        </p:nvPicPr>
        <p:blipFill>
          <a:blip r:embed="rId1"/>
          <a:stretch/>
        </p:blipFill>
        <p:spPr>
          <a:xfrm>
            <a:off x="500040" y="444600"/>
            <a:ext cx="1359000" cy="110304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4" descr=""/>
          <p:cNvPicPr/>
          <p:nvPr/>
        </p:nvPicPr>
        <p:blipFill>
          <a:blip r:embed="rId2"/>
          <a:stretch/>
        </p:blipFill>
        <p:spPr>
          <a:xfrm>
            <a:off x="1841400" y="208080"/>
            <a:ext cx="6858000" cy="207144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5"/>
          <p:cNvSpPr/>
          <p:nvPr/>
        </p:nvSpPr>
        <p:spPr>
          <a:xfrm>
            <a:off x="1116000" y="2565360"/>
            <a:ext cx="6912000" cy="3816360"/>
          </a:xfrm>
          <a:prstGeom prst="rect">
            <a:avLst/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http://t0.gstatic.com/images?q=tbn:ANd9GcR13js-nEgjoNFQN1pul-doxBsyCAEIJzLYz7cHdTrCF7Zt7auYO8QtFcsMrg"/>
          <p:cNvPicPr/>
          <p:nvPr/>
        </p:nvPicPr>
        <p:blipFill>
          <a:blip r:embed="rId3"/>
          <a:stretch/>
        </p:blipFill>
        <p:spPr>
          <a:xfrm>
            <a:off x="2987640" y="2637000"/>
            <a:ext cx="3511440" cy="30956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ая соединительная линия 8"/>
          <p:cNvSpPr/>
          <p:nvPr/>
        </p:nvSpPr>
        <p:spPr>
          <a:xfrm>
            <a:off x="1116000" y="5950080"/>
            <a:ext cx="6912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ая соединительная линия 9"/>
          <p:cNvSpPr/>
          <p:nvPr/>
        </p:nvSpPr>
        <p:spPr>
          <a:xfrm>
            <a:off x="1116000" y="4724280"/>
            <a:ext cx="2664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ая соединительная линия 11"/>
          <p:cNvSpPr/>
          <p:nvPr/>
        </p:nvSpPr>
        <p:spPr>
          <a:xfrm>
            <a:off x="5364000" y="4724280"/>
            <a:ext cx="2664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1" descr="http://t1.gstatic.com/images?q=tbn:ANd9GcRWKmZVBWdZKJJnqQ2-D2t2oBPzLdR5sYUKEc-_bGminOefk9IO"/>
          <p:cNvPicPr/>
          <p:nvPr/>
        </p:nvPicPr>
        <p:blipFill>
          <a:blip r:embed="rId4"/>
          <a:srcRect l="0" t="50223" r="2459" b="0"/>
          <a:stretch/>
        </p:blipFill>
        <p:spPr>
          <a:xfrm rot="1360800">
            <a:off x="4917960" y="4856040"/>
            <a:ext cx="1233720" cy="917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http://t3.gstatic.com/images?q=tbn:ANd9GcRj_6YWRSJ7XbAPJE2aafpY-ZWfOlnPyqXf2zu-XkWlQUBeFvh5"/>
          <p:cNvPicPr/>
          <p:nvPr/>
        </p:nvPicPr>
        <p:blipFill>
          <a:blip r:embed="rId5"/>
          <a:stretch/>
        </p:blipFill>
        <p:spPr>
          <a:xfrm>
            <a:off x="1403280" y="3645000"/>
            <a:ext cx="367344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3" descr=""/>
          <p:cNvPicPr/>
          <p:nvPr/>
        </p:nvPicPr>
        <p:blipFill>
          <a:blip r:embed="rId1"/>
          <a:stretch/>
        </p:blipFill>
        <p:spPr>
          <a:xfrm>
            <a:off x="500040" y="444600"/>
            <a:ext cx="1359000" cy="11030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4" descr=""/>
          <p:cNvPicPr/>
          <p:nvPr/>
        </p:nvPicPr>
        <p:blipFill>
          <a:blip r:embed="rId2"/>
          <a:stretch/>
        </p:blipFill>
        <p:spPr>
          <a:xfrm>
            <a:off x="1494000" y="493560"/>
            <a:ext cx="6894360" cy="8416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5"/>
          <p:cNvSpPr/>
          <p:nvPr/>
        </p:nvSpPr>
        <p:spPr>
          <a:xfrm>
            <a:off x="1116000" y="2565360"/>
            <a:ext cx="6912000" cy="3816360"/>
          </a:xfrm>
          <a:prstGeom prst="rect">
            <a:avLst/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http://t0.gstatic.com/images?q=tbn:ANd9GcR13js-nEgjoNFQN1pul-doxBsyCAEIJzLYz7cHdTrCF7Zt7auYO8QtFcsMrg"/>
          <p:cNvPicPr/>
          <p:nvPr/>
        </p:nvPicPr>
        <p:blipFill>
          <a:blip r:embed="rId3"/>
          <a:stretch/>
        </p:blipFill>
        <p:spPr>
          <a:xfrm>
            <a:off x="2987640" y="2637000"/>
            <a:ext cx="3511440" cy="30956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ая соединительная линия 8"/>
          <p:cNvSpPr/>
          <p:nvPr/>
        </p:nvSpPr>
        <p:spPr>
          <a:xfrm>
            <a:off x="1116000" y="5950080"/>
            <a:ext cx="6912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ая соединительная линия 9"/>
          <p:cNvSpPr/>
          <p:nvPr/>
        </p:nvSpPr>
        <p:spPr>
          <a:xfrm>
            <a:off x="1116000" y="4724280"/>
            <a:ext cx="2664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ая соединительная линия 11"/>
          <p:cNvSpPr/>
          <p:nvPr/>
        </p:nvSpPr>
        <p:spPr>
          <a:xfrm>
            <a:off x="5364000" y="4724280"/>
            <a:ext cx="2664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1" descr="http://t1.gstatic.com/images?q=tbn:ANd9GcRWKmZVBWdZKJJnqQ2-D2t2oBPzLdR5sYUKEc-_bGminOefk9IO"/>
          <p:cNvPicPr/>
          <p:nvPr/>
        </p:nvPicPr>
        <p:blipFill>
          <a:blip r:embed="rId4"/>
          <a:srcRect l="0" t="50223" r="2459" b="0"/>
          <a:stretch/>
        </p:blipFill>
        <p:spPr>
          <a:xfrm rot="1360800">
            <a:off x="4917960" y="4856040"/>
            <a:ext cx="1233720" cy="91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7" descr="http://t3.gstatic.com/images?q=tbn:ANd9GcRj_6YWRSJ7XbAPJE2aafpY-ZWfOlnPyqXf2zu-XkWlQUBeFvh5"/>
          <p:cNvPicPr/>
          <p:nvPr/>
        </p:nvPicPr>
        <p:blipFill>
          <a:blip r:embed="rId5"/>
          <a:stretch/>
        </p:blipFill>
        <p:spPr>
          <a:xfrm>
            <a:off x="1403280" y="3645000"/>
            <a:ext cx="3673440" cy="2905200"/>
          </a:xfrm>
          <a:prstGeom prst="rect">
            <a:avLst/>
          </a:prstGeom>
          <a:ln w="0">
            <a:noFill/>
          </a:ln>
        </p:spPr>
      </p:pic>
      <p:sp>
        <p:nvSpPr>
          <p:cNvPr id="189" name="Дуга 10"/>
          <p:cNvSpPr/>
          <p:nvPr/>
        </p:nvSpPr>
        <p:spPr>
          <a:xfrm>
            <a:off x="3635280" y="2565360"/>
            <a:ext cx="505080" cy="914400"/>
          </a:xfrm>
          <a:custGeom>
            <a:avLst/>
            <a:gdLst>
              <a:gd name="textAreaLeft" fmla="*/ 252720 w 505080"/>
              <a:gd name="textAreaRight" fmla="*/ 505440 w 50508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504056" h="914400">
                <a:moveTo>
                  <a:pt x="252029" y="0"/>
                </a:moveTo>
                <a:lnTo>
                  <a:pt x="252029" y="0"/>
                </a:lnTo>
                <a:arcTo wR="252028" hR="457200" stAng="-5399992" swAng="5400006"/>
                <a:lnTo>
                  <a:pt x="252028" y="457200"/>
                </a:lnTo>
                <a:close/>
              </a:path>
              <a:path fill="none" w="504056" h="914400">
                <a:moveTo>
                  <a:pt x="252029" y="0"/>
                </a:moveTo>
                <a:lnTo>
                  <a:pt x="252029" y="0"/>
                </a:lnTo>
                <a:arcTo wR="252028" hR="457200" stAng="-5399992" swAng="5400006"/>
              </a:path>
            </a:pathLst>
          </a:custGeom>
          <a:noFill/>
          <a:ln w="9360">
            <a:solidFill>
              <a:srgbClr val="fdc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Дуга 14"/>
          <p:cNvSpPr/>
          <p:nvPr/>
        </p:nvSpPr>
        <p:spPr>
          <a:xfrm>
            <a:off x="2124000" y="2565360"/>
            <a:ext cx="1800360" cy="3095640"/>
          </a:xfrm>
          <a:custGeom>
            <a:avLst/>
            <a:gdLst>
              <a:gd name="textAreaLeft" fmla="*/ 900360 w 1800360"/>
              <a:gd name="textAreaRight" fmla="*/ 1800720 w 1800360"/>
              <a:gd name="textAreaTop" fmla="*/ 0 h 3095640"/>
              <a:gd name="textAreaBottom" fmla="*/ 1548000 h 3095640"/>
            </a:gdLst>
            <a:ahLst/>
            <a:rect l="textAreaLeft" t="textAreaTop" r="textAreaRight" b="textAreaBottom"/>
            <a:pathLst>
              <a:path stroke="0" w="1800200" h="3096344">
                <a:moveTo>
                  <a:pt x="900102" y="0"/>
                </a:moveTo>
                <a:lnTo>
                  <a:pt x="900102" y="0"/>
                </a:lnTo>
                <a:arcTo wR="900100" hR="1548172" stAng="-5399996" swAng="5400003"/>
                <a:lnTo>
                  <a:pt x="900100" y="1548172"/>
                </a:lnTo>
                <a:close/>
              </a:path>
              <a:path fill="none" w="1800200" h="3096344">
                <a:moveTo>
                  <a:pt x="900102" y="0"/>
                </a:moveTo>
                <a:lnTo>
                  <a:pt x="900102" y="0"/>
                </a:lnTo>
                <a:arcTo wR="900100" hR="1548172" stAng="-5399996" swAng="5400003"/>
              </a:path>
            </a:pathLst>
          </a:custGeom>
          <a:noFill/>
          <a:ln w="9360">
            <a:solidFill>
              <a:srgbClr val="fdc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олилиния 15"/>
          <p:cNvSpPr/>
          <p:nvPr/>
        </p:nvSpPr>
        <p:spPr>
          <a:xfrm>
            <a:off x="5440320" y="2411280"/>
            <a:ext cx="1798560" cy="3989520"/>
          </a:xfrm>
          <a:custGeom>
            <a:avLst/>
            <a:gdLst/>
            <a:ahLst/>
            <a:rect l="l" t="t" r="r" b="b"/>
            <a:pathLst>
              <a:path w="1797844" h="3988594">
                <a:moveTo>
                  <a:pt x="1302544" y="145257"/>
                </a:moveTo>
                <a:cubicBezTo>
                  <a:pt x="1320403" y="72628"/>
                  <a:pt x="1338263" y="0"/>
                  <a:pt x="1245394" y="188119"/>
                </a:cubicBezTo>
                <a:cubicBezTo>
                  <a:pt x="1152525" y="376238"/>
                  <a:pt x="776288" y="985838"/>
                  <a:pt x="745332" y="1273969"/>
                </a:cubicBezTo>
                <a:cubicBezTo>
                  <a:pt x="714376" y="1562100"/>
                  <a:pt x="895351" y="1740695"/>
                  <a:pt x="1059657" y="1916907"/>
                </a:cubicBezTo>
                <a:cubicBezTo>
                  <a:pt x="1223963" y="2093119"/>
                  <a:pt x="1797844" y="2143125"/>
                  <a:pt x="1731169" y="2331244"/>
                </a:cubicBezTo>
                <a:cubicBezTo>
                  <a:pt x="1664494" y="2519363"/>
                  <a:pt x="864395" y="2886075"/>
                  <a:pt x="659607" y="3045619"/>
                </a:cubicBezTo>
                <a:cubicBezTo>
                  <a:pt x="454820" y="3205163"/>
                  <a:pt x="600075" y="3205163"/>
                  <a:pt x="502444" y="3288507"/>
                </a:cubicBezTo>
                <a:cubicBezTo>
                  <a:pt x="404813" y="3371851"/>
                  <a:pt x="147638" y="3429001"/>
                  <a:pt x="73819" y="3545682"/>
                </a:cubicBezTo>
                <a:cubicBezTo>
                  <a:pt x="0" y="3662363"/>
                  <a:pt x="45245" y="3924300"/>
                  <a:pt x="59532" y="3988594"/>
                </a:cubicBezTo>
              </a:path>
            </a:pathLst>
          </a:custGeom>
          <a:noFill/>
          <a:ln w="9360">
            <a:solidFill>
              <a:srgbClr val="fdc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Прямоугольник 3" descr=""/>
          <p:cNvPicPr/>
          <p:nvPr/>
        </p:nvPicPr>
        <p:blipFill>
          <a:blip r:embed="rId1"/>
          <a:stretch/>
        </p:blipFill>
        <p:spPr>
          <a:xfrm>
            <a:off x="500040" y="444600"/>
            <a:ext cx="1359000" cy="110304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4" descr=""/>
          <p:cNvPicPr/>
          <p:nvPr/>
        </p:nvPicPr>
        <p:blipFill>
          <a:blip r:embed="rId2"/>
          <a:stretch/>
        </p:blipFill>
        <p:spPr>
          <a:xfrm>
            <a:off x="2023920" y="493560"/>
            <a:ext cx="5827680" cy="841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t3.gstatic.com/images?q=tbn:ANd9GcQmtLeWpMaSRIgmAdU0kRdA6iKwuvvatvvg_7ZuTq2tg_ZWeQivRvi9s_BilA"/>
          <p:cNvPicPr/>
          <p:nvPr/>
        </p:nvPicPr>
        <p:blipFill>
          <a:blip r:embed="rId3"/>
          <a:stretch/>
        </p:blipFill>
        <p:spPr>
          <a:xfrm>
            <a:off x="2627280" y="1413000"/>
            <a:ext cx="4392720" cy="4457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://t2.gstatic.com/images?q=tbn:ANd9GcRE_3hbvecq4dHHPQuLgTRppBtuBBbJwqqYSzlQwr4aLS5AvrXzK4c-UryuRQ"/>
          <p:cNvPicPr/>
          <p:nvPr/>
        </p:nvPicPr>
        <p:blipFill>
          <a:blip r:embed="rId4"/>
          <a:stretch/>
        </p:blipFill>
        <p:spPr>
          <a:xfrm>
            <a:off x="3419640" y="4724280"/>
            <a:ext cx="3528720" cy="2460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t3.gstatic.com/images?q=tbn:ANd9GcSi131LQyQ6JJtBZCnNFxwU_ktV6ADfUxCzWHhYtpxCv7HTvNRylL6LlQvD2Q"/>
          <p:cNvPicPr/>
          <p:nvPr/>
        </p:nvPicPr>
        <p:blipFill>
          <a:blip r:embed="rId5"/>
          <a:stretch/>
        </p:blipFill>
        <p:spPr>
          <a:xfrm>
            <a:off x="6300720" y="2492280"/>
            <a:ext cx="2671920" cy="3044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http://t0.gstatic.com/images?q=tbn:ANd9GcQBFsf62HlASDYlUcp4p7nw1eE-2HRAIMhoStKT8nMMXBx2Twu34QZBC_GNYA"/>
          <p:cNvPicPr/>
          <p:nvPr/>
        </p:nvPicPr>
        <p:blipFill>
          <a:blip r:embed="rId6"/>
          <a:stretch/>
        </p:blipFill>
        <p:spPr>
          <a:xfrm rot="1681800">
            <a:off x="-309240" y="2581200"/>
            <a:ext cx="4503600" cy="3027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444600"/>
            <a:ext cx="7984800" cy="2768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t3.gstatic.com/images?q=tbn:ANd9GcSylaqXVJUtlW0MX8E5BwXdfliX7NLorZZtRMqeUsx3EaniQvpffA"/>
          <p:cNvPicPr/>
          <p:nvPr/>
        </p:nvPicPr>
        <p:blipFill>
          <a:blip r:embed="rId2"/>
          <a:stretch/>
        </p:blipFill>
        <p:spPr>
          <a:xfrm>
            <a:off x="3203640" y="3068640"/>
            <a:ext cx="2881080" cy="3565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1523880" y="517680"/>
            <a:ext cx="5748480" cy="1103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t0.gstatic.com/images?q=tbn:ANd9GcTYvXcuiHx4_10WYgsqDJrxl2QjU-l1s3HxPGeuSp62DWShwfByrg"/>
          <p:cNvPicPr/>
          <p:nvPr/>
        </p:nvPicPr>
        <p:blipFill>
          <a:blip r:embed="rId2"/>
          <a:stretch/>
        </p:blipFill>
        <p:spPr>
          <a:xfrm>
            <a:off x="1476360" y="1773360"/>
            <a:ext cx="6191280" cy="4638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t0.gstatic.com/images?q=tbn:ANd9GcQ_57zcnUIrsW7jP7lbJyl-aVYTVlxb1PIG7uTlId6RZ7bYZ5eb0ygnWhnn"/>
          <p:cNvPicPr/>
          <p:nvPr/>
        </p:nvPicPr>
        <p:blipFill>
          <a:blip r:embed="rId3"/>
          <a:stretch/>
        </p:blipFill>
        <p:spPr>
          <a:xfrm>
            <a:off x="1476360" y="1773360"/>
            <a:ext cx="6340320" cy="46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http://t1.gstatic.com/images?q=tbn:ANd9GcTCd7bE7_POazYl1zng4InDL4mDPQm1T5swxGC63aHG_3z8QELAGg"/>
          <p:cNvPicPr/>
          <p:nvPr/>
        </p:nvPicPr>
        <p:blipFill>
          <a:blip r:embed="rId4"/>
          <a:stretch/>
        </p:blipFill>
        <p:spPr>
          <a:xfrm>
            <a:off x="1476360" y="1773360"/>
            <a:ext cx="6335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Image11"/>
          <p:cNvPicPr/>
          <p:nvPr/>
        </p:nvPicPr>
        <p:blipFill>
          <a:blip r:embed="rId1"/>
          <a:stretch/>
        </p:blipFill>
        <p:spPr>
          <a:xfrm>
            <a:off x="395280" y="0"/>
            <a:ext cx="85327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Image22"/>
          <p:cNvPicPr/>
          <p:nvPr/>
        </p:nvPicPr>
        <p:blipFill>
          <a:blip r:embed="rId1"/>
          <a:stretch/>
        </p:blipFill>
        <p:spPr>
          <a:xfrm>
            <a:off x="190800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Прямоугольник 1" descr=""/>
          <p:cNvPicPr/>
          <p:nvPr/>
        </p:nvPicPr>
        <p:blipFill>
          <a:blip r:embed="rId1"/>
          <a:stretch/>
        </p:blipFill>
        <p:spPr>
          <a:xfrm>
            <a:off x="841320" y="133200"/>
            <a:ext cx="7712280" cy="841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ttp://t2.gstatic.com/images?q=tbn:ANd9GcSmU-APRuIZq6FcfUE_5tjvRRfEEiwJbq1PCqOFO2mI8811wZvGQQ"/>
          <p:cNvPicPr/>
          <p:nvPr/>
        </p:nvPicPr>
        <p:blipFill>
          <a:blip r:embed="rId2"/>
          <a:stretch/>
        </p:blipFill>
        <p:spPr>
          <a:xfrm>
            <a:off x="971640" y="549360"/>
            <a:ext cx="7129440" cy="6624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ttp://www.images-photo.ru/_ph/23/1/420747062.jpg"/>
          <p:cNvPicPr/>
          <p:nvPr/>
        </p:nvPicPr>
        <p:blipFill>
          <a:blip r:embed="rId3"/>
          <a:stretch/>
        </p:blipFill>
        <p:spPr>
          <a:xfrm>
            <a:off x="324000" y="4076640"/>
            <a:ext cx="1871640" cy="1873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http://img-fotki.yandex.ru/get/3700/adasem.e/0_14f43_c2e03cfb_L"/>
          <p:cNvPicPr/>
          <p:nvPr/>
        </p:nvPicPr>
        <p:blipFill>
          <a:blip r:embed="rId4"/>
          <a:stretch/>
        </p:blipFill>
        <p:spPr>
          <a:xfrm>
            <a:off x="2268360" y="2565360"/>
            <a:ext cx="380052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3" descr=""/>
          <p:cNvPicPr/>
          <p:nvPr/>
        </p:nvPicPr>
        <p:blipFill>
          <a:blip r:embed="rId1"/>
          <a:stretch/>
        </p:blipFill>
        <p:spPr>
          <a:xfrm>
            <a:off x="-66600" y="12600"/>
            <a:ext cx="4632120" cy="1103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2700360" y="105264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накомить учащихся с жанром натюрморт, основами композиции и правилами постанов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Прямоугольник 5" descr=""/>
          <p:cNvPicPr/>
          <p:nvPr/>
        </p:nvPicPr>
        <p:blipFill>
          <a:blip r:embed="rId2"/>
          <a:stretch/>
        </p:blipFill>
        <p:spPr>
          <a:xfrm>
            <a:off x="-139680" y="1957320"/>
            <a:ext cx="5199120" cy="1103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2916360" y="3071880"/>
            <a:ext cx="60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Показать учащимся ценность каждой вещи, формировать умение видеть заложенную в вещи частичку души челове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Формировать навыки рационального выбора точки зрения и формата для изображения натюрморта, передавать пропорции изображаемых предмет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Показать значение и место натюрморта в искусст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http://t0.gstatic.com/images?q=tbn:ANd9GcRJ6w4Y1Horc37SzYWKI2OiSaIUUXX_GXAlgvLD-TmH-goYA7bfZS_W4pogHQ"/>
          <p:cNvPicPr/>
          <p:nvPr/>
        </p:nvPicPr>
        <p:blipFill>
          <a:blip r:embed="rId3"/>
          <a:stretch/>
        </p:blipFill>
        <p:spPr>
          <a:xfrm>
            <a:off x="179280" y="306864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t1.gstatic.com/images?q=tbn:ANd9GcRHn6WXSh06Tcb2UaweNspv-LAm8qRl7l3U3CpZLmpr-XXZ8TEV"/>
          <p:cNvPicPr/>
          <p:nvPr/>
        </p:nvPicPr>
        <p:blipFill>
          <a:blip r:embed="rId4"/>
          <a:srcRect l="0" t="23160" r="2778" b="0"/>
          <a:stretch/>
        </p:blipFill>
        <p:spPr>
          <a:xfrm>
            <a:off x="179280" y="1052640"/>
            <a:ext cx="2521080" cy="1411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3708360" y="1197000"/>
            <a:ext cx="504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ждый день мы окружены множеством различных вещей, которые помогают нам жить, мы называем их – предметами быта, т .к. они необходимы  для нашего удобства и комфорта. Многие художники в своих произведениях стараются передать красоту различных предметов. Эти картины называются натюрморт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http://t2.gstatic.com/images?q=tbn:ANd9GcTm8eOINcCh801Bnu-Bm74f_AV5yfn9AoaSgMs9eoIYJIhXtip8SkZDLKmE"/>
          <p:cNvPicPr/>
          <p:nvPr/>
        </p:nvPicPr>
        <p:blipFill>
          <a:blip r:embed="rId1"/>
          <a:stretch/>
        </p:blipFill>
        <p:spPr>
          <a:xfrm>
            <a:off x="250920" y="549360"/>
            <a:ext cx="3313080" cy="255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t3.gstatic.com/images?q=tbn:ANd9GcSsWgAwhtEtVjDcLKiflq4ZR0339VYejrBo42QqBqo7oUS2Zokt"/>
          <p:cNvPicPr/>
          <p:nvPr/>
        </p:nvPicPr>
        <p:blipFill>
          <a:blip r:embed="rId2"/>
          <a:stretch/>
        </p:blipFill>
        <p:spPr>
          <a:xfrm>
            <a:off x="684360" y="357336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1" descr=""/>
          <p:cNvPicPr/>
          <p:nvPr/>
        </p:nvPicPr>
        <p:blipFill>
          <a:blip r:embed="rId1"/>
          <a:stretch/>
        </p:blipFill>
        <p:spPr>
          <a:xfrm>
            <a:off x="1828800" y="85680"/>
            <a:ext cx="4449600" cy="11034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564000" y="1268280"/>
            <a:ext cx="532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тюрмо́р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фр.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ature mort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— «мёртвая природа») — изображение неодушевлённых предметов в изобразительном искусстве, в отличие от портретной, жанровой, исторической и пейзажной темат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http://upload.wikimedia.org/wikipedia/commons/thumb/0/07/Afonina-Taisia-Still-life-with-Pussy-Willows-per02bw.jpg/220px-Afonina-Taisia-Still-life-with-Pussy-Willows-per02b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628640"/>
            <a:ext cx="28447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Огненные ма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Настроени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Ах эти воробьи!!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Танец подсолнухов"/>
          <p:cNvPicPr/>
          <p:nvPr/>
        </p:nvPicPr>
        <p:blipFill>
          <a:blip r:embed="rId7"/>
          <a:stretch/>
        </p:blipFill>
        <p:spPr>
          <a:xfrm>
            <a:off x="0" y="0"/>
            <a:ext cx="9144000" cy="6980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Вдохновение скрипача"/>
          <p:cNvPicPr/>
          <p:nvPr/>
        </p:nvPicPr>
        <p:blipFill>
          <a:blip r:embed="rId8"/>
          <a:stretch/>
        </p:blipFill>
        <p:spPr>
          <a:xfrm>
            <a:off x="0" y="0"/>
            <a:ext cx="9144000" cy="7026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3" descr=""/>
          <p:cNvPicPr/>
          <p:nvPr/>
        </p:nvPicPr>
        <p:blipFill>
          <a:blip r:embed="rId1"/>
          <a:stretch/>
        </p:blipFill>
        <p:spPr>
          <a:xfrm>
            <a:off x="1322280" y="231840"/>
            <a:ext cx="6589800" cy="19317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4" descr=""/>
          <p:cNvPicPr/>
          <p:nvPr/>
        </p:nvPicPr>
        <p:blipFill>
          <a:blip r:embed="rId2"/>
          <a:stretch/>
        </p:blipFill>
        <p:spPr>
          <a:xfrm>
            <a:off x="195120" y="2316240"/>
            <a:ext cx="1359000" cy="1103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403280" y="3645000"/>
            <a:ext cx="2737080" cy="1800000"/>
          </a:xfrm>
          <a:prstGeom prst="rect">
            <a:avLst/>
          </a:prstGeom>
          <a:solidFill>
            <a:srgbClr val="faf5ea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ая соединительная линия 7"/>
          <p:cNvSpPr/>
          <p:nvPr/>
        </p:nvSpPr>
        <p:spPr>
          <a:xfrm>
            <a:off x="2771640" y="3645000"/>
            <a:ext cx="0" cy="180000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9"/>
          <p:cNvSpPr/>
          <p:nvPr/>
        </p:nvSpPr>
        <p:spPr>
          <a:xfrm>
            <a:off x="1402560" y="4545000"/>
            <a:ext cx="273708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17"/>
          <p:cNvSpPr/>
          <p:nvPr/>
        </p:nvSpPr>
        <p:spPr>
          <a:xfrm rot="5400000">
            <a:off x="5903640" y="3968640"/>
            <a:ext cx="2737080" cy="1800000"/>
          </a:xfrm>
          <a:prstGeom prst="rect">
            <a:avLst/>
          </a:prstGeom>
          <a:solidFill>
            <a:srgbClr val="faf5ea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ая соединительная линия 18"/>
          <p:cNvSpPr/>
          <p:nvPr/>
        </p:nvSpPr>
        <p:spPr>
          <a:xfrm>
            <a:off x="6372360" y="4869000"/>
            <a:ext cx="1800000" cy="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ая соединительная линия 21"/>
          <p:cNvSpPr/>
          <p:nvPr/>
        </p:nvSpPr>
        <p:spPr>
          <a:xfrm>
            <a:off x="7235280" y="3500280"/>
            <a:ext cx="36360" cy="2737080"/>
          </a:xfrm>
          <a:prstGeom prst="line">
            <a:avLst/>
          </a:prstGeom>
          <a:ln w="9360">
            <a:solidFill>
              <a:srgbClr val="fdcd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Прямоугольник 23" descr=""/>
          <p:cNvPicPr/>
          <p:nvPr/>
        </p:nvPicPr>
        <p:blipFill>
          <a:blip r:embed="rId3"/>
          <a:stretch/>
        </p:blipFill>
        <p:spPr>
          <a:xfrm>
            <a:off x="1200240" y="2365200"/>
            <a:ext cx="6529320" cy="84168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4" descr=""/>
          <p:cNvPicPr/>
          <p:nvPr/>
        </p:nvPicPr>
        <p:blipFill>
          <a:blip r:embed="rId4"/>
          <a:stretch/>
        </p:blipFill>
        <p:spPr>
          <a:xfrm>
            <a:off x="1262160" y="5394240"/>
            <a:ext cx="5162400" cy="8352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6" descr=""/>
          <p:cNvPicPr/>
          <p:nvPr/>
        </p:nvPicPr>
        <p:blipFill>
          <a:blip r:embed="rId5"/>
          <a:stretch/>
        </p:blipFill>
        <p:spPr>
          <a:xfrm>
            <a:off x="341280" y="5200560"/>
            <a:ext cx="135900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3" descr="http://t0.gstatic.com/images?q=tbn:ANd9GcTOW-i4vRUrLQtm9W1ZlhebFQXFb_Wy22zCbh5SQZyKNn0JsWo-nSByTqbbvA"/>
          <p:cNvPicPr/>
          <p:nvPr/>
        </p:nvPicPr>
        <p:blipFill>
          <a:blip r:embed="rId1"/>
          <a:stretch/>
        </p:blipFill>
        <p:spPr>
          <a:xfrm>
            <a:off x="3992400" y="3157560"/>
            <a:ext cx="4187880" cy="370692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3" descr=""/>
          <p:cNvPicPr/>
          <p:nvPr/>
        </p:nvPicPr>
        <p:blipFill>
          <a:blip r:embed="rId2"/>
          <a:stretch/>
        </p:blipFill>
        <p:spPr>
          <a:xfrm>
            <a:off x="281160" y="444600"/>
            <a:ext cx="1358640" cy="110304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4" descr=""/>
          <p:cNvPicPr/>
          <p:nvPr/>
        </p:nvPicPr>
        <p:blipFill>
          <a:blip r:embed="rId3"/>
          <a:stretch/>
        </p:blipFill>
        <p:spPr>
          <a:xfrm>
            <a:off x="1195560" y="493560"/>
            <a:ext cx="7205400" cy="145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http://t0.gstatic.com/images?q=tbn:ANd9GcTdqCSDlKxT0GCeg24OK3cvf2_Q9f5Gz6FGjo6rbCNyAcL-KjJBD-roluMA"/>
          <p:cNvPicPr/>
          <p:nvPr/>
        </p:nvPicPr>
        <p:blipFill>
          <a:blip r:embed="rId4"/>
          <a:stretch/>
        </p:blipFill>
        <p:spPr>
          <a:xfrm rot="20627400">
            <a:off x="6588000" y="1197000"/>
            <a:ext cx="1729080" cy="2544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http://t0.gstatic.com/images?q=tbn:ANd9GcSTQLbw5J_gXKx3iQYbBcH_EFO0j8dVv_8Lwj1ECe1BEnmqyFjx"/>
          <p:cNvPicPr/>
          <p:nvPr/>
        </p:nvPicPr>
        <p:blipFill>
          <a:blip r:embed="rId5"/>
          <a:stretch/>
        </p:blipFill>
        <p:spPr>
          <a:xfrm>
            <a:off x="4500720" y="1916280"/>
            <a:ext cx="2781000" cy="360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http://t1.gstatic.com/images?q=tbn:ANd9GcQW4EPuQMnWgiriNeArEXMBrLPofEAVHHbnvwTN75O0GezlNB3oF9j-bZOH"/>
          <p:cNvPicPr/>
          <p:nvPr/>
        </p:nvPicPr>
        <p:blipFill>
          <a:blip r:embed="rId6"/>
          <a:stretch/>
        </p:blipFill>
        <p:spPr>
          <a:xfrm>
            <a:off x="0" y="1413000"/>
            <a:ext cx="5716440" cy="396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http://t3.gstatic.com/images?q=tbn:ANd9GcRj_6YWRSJ7XbAPJE2aafpY-ZWfOlnPyqXf2zu-XkWlQUBeFvh5"/>
          <p:cNvPicPr/>
          <p:nvPr/>
        </p:nvPicPr>
        <p:blipFill>
          <a:blip r:embed="rId7"/>
          <a:stretch/>
        </p:blipFill>
        <p:spPr>
          <a:xfrm>
            <a:off x="5435640" y="3573360"/>
            <a:ext cx="4537080" cy="3587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http://t1.gstatic.com/images?q=tbn:ANd9GcRWKmZVBWdZKJJnqQ2-D2t2oBPzLdR5sYUKEc-_bGminOefk9IO"/>
          <p:cNvPicPr/>
          <p:nvPr/>
        </p:nvPicPr>
        <p:blipFill>
          <a:blip r:embed="rId8"/>
          <a:srcRect l="0" t="50223" r="2459" b="0"/>
          <a:stretch/>
        </p:blipFill>
        <p:spPr>
          <a:xfrm rot="20718600">
            <a:off x="1361880" y="4511520"/>
            <a:ext cx="316836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Прямоугольник 4" descr=""/>
          <p:cNvPicPr/>
          <p:nvPr/>
        </p:nvPicPr>
        <p:blipFill>
          <a:blip r:embed="rId1"/>
          <a:stretch/>
        </p:blipFill>
        <p:spPr>
          <a:xfrm>
            <a:off x="1195560" y="493560"/>
            <a:ext cx="7205400" cy="1457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ttp://t3.gstatic.com/images?q=tbn:ANd9GcRoFNIPOghWbl3tJgz7YISyAuLUghT8gLZFduVRvxtGdAtsBdkZT_v6X-7c"/>
          <p:cNvPicPr/>
          <p:nvPr/>
        </p:nvPicPr>
        <p:blipFill>
          <a:blip r:embed="rId2"/>
          <a:stretch/>
        </p:blipFill>
        <p:spPr>
          <a:xfrm>
            <a:off x="539640" y="1916280"/>
            <a:ext cx="3837240" cy="352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t2.gstatic.com/images?q=tbn:ANd9GcSo6oA-tdnqIOwV1IS7aJaLtqIAUrKf3OLVTPet_5z59hvrOjFNruaYdrCi"/>
          <p:cNvPicPr/>
          <p:nvPr/>
        </p:nvPicPr>
        <p:blipFill>
          <a:blip r:embed="rId3"/>
          <a:stretch/>
        </p:blipFill>
        <p:spPr>
          <a:xfrm>
            <a:off x="3564000" y="2349360"/>
            <a:ext cx="5087880" cy="374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t1.gstatic.com/images?q=tbn:ANd9GcTWJ5RIOKtVjMyElTIGj5dAaQZKLOhoLyEeE9dBS5Mi5-GBwd2p4UGET6tF"/>
          <p:cNvPicPr/>
          <p:nvPr/>
        </p:nvPicPr>
        <p:blipFill>
          <a:blip r:embed="rId4"/>
          <a:stretch/>
        </p:blipFill>
        <p:spPr>
          <a:xfrm rot="4551600">
            <a:off x="776520" y="3488400"/>
            <a:ext cx="2016000" cy="2948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t3.gstatic.com/images?q=tbn:ANd9GcQsLtBZE_cKJyQhyKxBbEGw3RKXIpwvJLqR32cGwsP9E3t52F_65aPJFwHK"/>
          <p:cNvPicPr/>
          <p:nvPr/>
        </p:nvPicPr>
        <p:blipFill>
          <a:blip r:embed="rId5"/>
          <a:stretch/>
        </p:blipFill>
        <p:spPr>
          <a:xfrm>
            <a:off x="2735280" y="397044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t2.gstatic.com/images?q=tbn:ANd9GcQ2zqC2znOTnHRnG25V6mBamoCb2wSgAU1rZVQXEvteMKGJ45G3EHLOMT-C"/>
          <p:cNvPicPr/>
          <p:nvPr/>
        </p:nvPicPr>
        <p:blipFill>
          <a:blip r:embed="rId6"/>
          <a:stretch/>
        </p:blipFill>
        <p:spPr>
          <a:xfrm rot="4196400">
            <a:off x="6969960" y="4121640"/>
            <a:ext cx="1924200" cy="2455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Прямоугольник 3" descr=""/>
          <p:cNvPicPr/>
          <p:nvPr/>
        </p:nvPicPr>
        <p:blipFill>
          <a:blip r:embed="rId1"/>
          <a:stretch/>
        </p:blipFill>
        <p:spPr>
          <a:xfrm>
            <a:off x="895320" y="291960"/>
            <a:ext cx="7353360" cy="144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t0.gstatic.com/images?q=tbn:ANd9GcR13js-nEgjoNFQN1pul-doxBsyCAEIJzLYz7cHdTrCF7Zt7auYO8QtFcsMrg"/>
          <p:cNvPicPr/>
          <p:nvPr/>
        </p:nvPicPr>
        <p:blipFill>
          <a:blip r:embed="rId2"/>
          <a:stretch/>
        </p:blipFill>
        <p:spPr>
          <a:xfrm>
            <a:off x="250920" y="1916280"/>
            <a:ext cx="4083120" cy="36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t3.gstatic.com/images?q=tbn:ANd9GcTz0jEtJryPPG-uJPEkcx8dAvkOQ_7akruK2Sq4-F48c8ulS6Vu"/>
          <p:cNvPicPr/>
          <p:nvPr/>
        </p:nvPicPr>
        <p:blipFill>
          <a:blip r:embed="rId3"/>
          <a:stretch/>
        </p:blipFill>
        <p:spPr>
          <a:xfrm>
            <a:off x="2556000" y="3500280"/>
            <a:ext cx="2076480" cy="220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http://t2.gstatic.com/images?q=tbn:ANd9GcQa8FY-T5-I9wbVw7SnWl7PY3d2wzuGnEuBzOlIgklNX6dw9uLEg46kwTCa"/>
          <p:cNvPicPr/>
          <p:nvPr/>
        </p:nvPicPr>
        <p:blipFill>
          <a:blip r:embed="rId4"/>
          <a:stretch/>
        </p:blipFill>
        <p:spPr>
          <a:xfrm>
            <a:off x="6012000" y="3141720"/>
            <a:ext cx="2520720" cy="29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http://t2.gstatic.com/images?q=tbn:ANd9GcR0mX_VQmWIwiWnVQ3qcWY4XeCdJ0UGhXdWBFDB11kDaGqX4q9X5V0CEimQFw"/>
          <p:cNvPicPr/>
          <p:nvPr/>
        </p:nvPicPr>
        <p:blipFill>
          <a:blip r:embed="rId5"/>
          <a:stretch/>
        </p:blipFill>
        <p:spPr>
          <a:xfrm rot="2354400">
            <a:off x="2523960" y="4629240"/>
            <a:ext cx="2700360" cy="268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http://t0.gstatic.com/images?q=tbn:ANd9GcRH-HYF7c60mNHQI8Q_kRx0o2zy4VeZ0i0LbaNjepd_DBQsznTjNEtKj8m8"/>
          <p:cNvPicPr/>
          <p:nvPr/>
        </p:nvPicPr>
        <p:blipFill>
          <a:blip r:embed="rId6"/>
          <a:stretch/>
        </p:blipFill>
        <p:spPr>
          <a:xfrm>
            <a:off x="3708360" y="1484280"/>
            <a:ext cx="3240000" cy="5008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8:14:36Z</dcterms:created>
  <dc:creator>Пользователь</dc:creator>
  <dc:description/>
  <dc:language>en-US</dc:language>
  <cp:lastModifiedBy>FoM</cp:lastModifiedBy>
  <dcterms:modified xsi:type="dcterms:W3CDTF">2011-01-09T17:39:48Z</dcterms:modified>
  <cp:revision>19</cp:revision>
  <dc:subject/>
  <dc:title>Слайд 1</dc:title>
</cp:coreProperties>
</file>