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A3C4-3741-4161-97A2-5CCA5A89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A53A-3DFE-4E16-BCA2-7E4711C7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D1E88-A41A-4616-8199-C20CCD66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F54F-8CC3-487C-A87A-C9B0C6D5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2812-0EBE-494B-8A46-C7377DE2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C764-86C7-4BF5-B7F6-82E3657B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EB11-A4B5-40BE-959C-0B5ABA5E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73FE-6DBA-46F4-B615-CEB20EAE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8F44-3F98-4BA9-8D9B-820BCDA0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34BB-9C84-4B8D-B489-46B168B9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18B4-C16E-4679-BAC5-D475EBC0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0841-2DE2-4308-8EF7-4889367D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1DEF-243D-48A7-B32A-3994FDEB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6A12-9902-471B-AD6F-1D7B1D26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7F9D-3B9C-41A8-8C46-2B8E7DC8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3732-F728-4197-AA6B-901C2C7F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1360-C6EB-48F3-9740-C008D3AA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65E04-02A6-4572-9845-9DF8A4FB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8E4D4-2A46-485C-B052-51775212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5E1FA-83C0-465A-A074-5988AE4A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42A7-CEA1-44A4-918D-3CDD6D3B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8EF6A-26AC-4737-AF41-C9737DEA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9B6A-68B7-49F9-936D-DC39369D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3E28-05C2-437E-AC69-F3967E34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26EF-AC25-4C9F-A8F9-27D69B9E49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E865-AFF4-4694-B82D-25DEE4A9CCB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848720" cy="19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Периодический закон и периодическая система Менделеева.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5029200" y="4876920"/>
            <a:ext cx="4114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а: преподаватель Каховская Т.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Борий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ри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981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GSI и ОИЯ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рмания и СССР (Дубна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́рий (лат. Bohrium, обозначается символом Bh) — нестабильный радиоактивный химический элемент с атомным номером 107. Известны изотопы с массовыми числами от 261 до 272. Наиболее стабильный изотоп из полученных — борий-267 с периодом полураспада 17 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Мейтнерий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йтнер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8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. Амбрустер и Г. Мюнценберг, GS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рм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йтнерий (лат. Meitnerium, обозначается символом Mt, ранее был известен как унниленний Une или эка-иридий) — элемент VIII группы побочной подгруппы 7-го периода периодической системы элементов с атомным номером 109. Синтезирован искусствен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Хассий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сси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984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. Амбрустер и Г. Мюнценберг, GS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рм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́ссий (лат. Hassium, обозначается символом Hs; исторические названия эка-осмий, уннилоктий) — 108-й химический элеме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Дармштадтий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рмштадт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9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. Hofmann, V. Ninov и др., GS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рм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рмштадтий (лат. Darmstadtium, обозначение Ds; ранее Унуннилий, лат. Ununnillium, обозначение Uun) — искусственно синтезированный химический элемент VIII группы периодической системы, атомный номер 110. Для изотопов с массовыми числами 267—273 период полураспада не превышает нескольких миллисекунд. Но для самого тяжелого из известных изотопов (с массовым числом 281) период полураспада составляет около 10 секун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Рентгений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нтген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9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. Hofmann, V. Ninov и др., GS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рм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нтге́ний (лат. Roentgenium, обозначение Rg; ранее унунуний, лат. Unununium, обозначение Uuu) — искусственно синтезированный химический элемент побочной подгруппы первой группы, седьмого периода периодической системы химических элементов Д. И. Менделеева, с атомным номером 111. Простое вещество рентгений (CAS-номер: 54386-24-2) — переходный металл. Наиболее долгоживущий изотоп имеет атомную массу 281 и период полураспада = 26 секун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Коперниций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перниц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96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S. Hofmann, V. Ninov и др., GS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рм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перниций (лат. Copernicium, Cn; в качестве русского названия используется также копéрникий; ранее использовались названия уну́нбий, лат. Ununbium, Uub и эка-ртуть) — 112-й химический элемент. Ядро наиболее стабильного из его известных изотопов, 285Cn, состоит из 112 протонов, 173 нейтронов и имеет период полураспада около 34 секунд. Относится к той же химической группе, что цинк, кадмий и рту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Флеровий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леров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99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ИЯ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сия (Дуб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леро́вий[1][2][3] (лат. Flerovium, Fl), ранее был известен как унунква́дий (лат. Ununquadium, Uuq), использовалось также неофициальное название эка-свинец — 114-й химический элемент 14-й группы (по устаревшей классификации — главной подгруппы IV группы), 7-го периода периодической системы, атомный номер 114, из известных изотопов наиболее устойчив 289Fl. Элемент сильно радиоактив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Ливерморий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верморий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ИЯ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сия (Дуб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вермо́рий (лат. Livermorium, Lv), ранее был известен как унунге́ксий (лат. Ununhexium, Uuh) — 116-й химический элемент, относится к 16 группе (по устаревшей классификации — к главной подгруппе VI группы) и 7 периоду периодической системы, атомный номер 116, атомная масса наиболее устойчивого изотопа 29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fdef6"/>
                </a:solidFill>
                <a:latin typeface="Arial"/>
              </a:rPr>
              <a:t>XXI </a:t>
            </a:r>
            <a:r>
              <a:rPr b="0" lang="ru-RU" sz="9600" spc="-1" strike="noStrike">
                <a:solidFill>
                  <a:srgbClr val="dfdef6"/>
                </a:solidFill>
                <a:latin typeface="Arial"/>
              </a:rPr>
              <a:t>век.</a:t>
            </a:r>
            <a:endParaRPr b="0" lang="en-US" sz="9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Унуноктий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нунокт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ИЯ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ссия (Дуб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нуно́ктий (лат. Ununoctium, Uuo) или эка-радон — временное наименование для химического элемента с атомным номером 118, синтез изотопов которого был впервые осуществлён в 2002 и 2005 годах в Объединённом институте ядерных исследований (Дубна) в сотрудничестве с Ливерморской национальной лабораторией. Результаты этих экспериментов были опубликованы в 2006 году. Временное обозначение — Uuo. Элемент относится, вероятно, к инертным газ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Дмитрий Иванович Менделеев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митрий Иванович Менделеев (1834-1907) — российский химик, разносторонний ученый, педагог. Открыл (1869) периодический закон химических элементов — один из основных законов естествозн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6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Унунтрий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нунтри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0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ИЯИ и RIKE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ссия (Дубна) и Япо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нунтрий (лат. Ununtrium, Uut) или эка-таллий — 113-й химический элемент III группы периодической системы, атомный номер 113, атомная масса [286], наиболее устойчивый изотоп 286Uut. Радиоактив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Унунпентий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унпент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0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ИЯ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сия (Дуб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унпе́нтий (лат. Ununpentium, Uup) или эка-висмут — химический элемент пятнадцатой группы (по устаревшей классификации — главной подгруппы пятой группы), седьмого периода периодической системы химических элементов, атомный номер 115, атомная масса 288, наиболее стабильным является нуклид 288Uup (период полураспада оценивается в 87 мс). Искусственно синтезированный элемент, в природе не встречае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Унунсептий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унсепт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1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ИЯ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сия (Дуб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унсе́птий (лат. Ununseptium, Uus) или эка-астат — временное наименование для химического элемента с атомным номером 117. Временное обозначение — Uus. Период полураспада более устойчивого из двух известных изотопов 294Uus составляет около 78 миллисекунд[1][2]. Формально относится к галогенам, однако его химические свойства ещё не изучены и могут отличаться от характерных для этой группы эле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О химии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угого ничего в  природе н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 здесь, не там, в космических глубинах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ё – от песчинок малых до планет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элементов состоит единых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ериодическая систем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иодическая система химических элементов (таблица Менделеева) — классификация химических элементов, устанавливающая зависимость различных свойств элементов от заряда атомного ядра. Система является графическим выражением периодического закона, установленного русским химиком Д. И. Менделеевым в 1869 го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ериодический закон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иодический закон был сформулирован Д. И. Менделеевым в следующем виде (1871): «свойства простых тел, а также формы и свойства соединений элементов, а потому и свойства образуемых ими простых и сложных тел, стоят в периодической зависимости от их атомного веса».[1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арте 1869 года заседания Русского физико -  химического общества  в Петербурге была зачитана работа молодого русского химика Д.И Менделеева об открыто им зависимости свойств химических элементов, в которой они располагались друг за другом в порядке возрастания их атомных ве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571680" y="380880"/>
            <a:ext cx="3809880" cy="538668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648320" y="0"/>
            <a:ext cx="4038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сийские ученые в сотрудничестве со своими американскими коллегами синтезировали новый химический элемент. В подмосковной Дубне были получены несколько атомов элемента номер 118. Ученые рассказали, как это стало возможным. Открытый 118-й элемент займет место в самом конце периодической таблицы Менделеева. Говоря о его названии, российские ученые еще несколько лет назад, когда началась подготовка к экспериментам, предложили назвать его "московий". Однако, для закрепления такого решения необходимо заключение «Международного союза по чистой и прикладной хим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fdef6"/>
                </a:solidFill>
                <a:latin typeface="Arial"/>
              </a:rPr>
              <a:t>XX </a:t>
            </a:r>
            <a:r>
              <a:rPr b="0" lang="ru-RU" sz="9600" spc="-1" strike="noStrike">
                <a:solidFill>
                  <a:srgbClr val="dfdef6"/>
                </a:solidFill>
                <a:latin typeface="Arial"/>
              </a:rPr>
              <a:t>век.</a:t>
            </a:r>
            <a:endParaRPr b="0" lang="en-US" sz="9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5-04-23T10:25:1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