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5104-00C8-4A3C-94AF-C8E7E386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8B88-6EAD-4045-A9C7-20F3C9D5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E330-D826-447D-B02F-DD46314C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1866-52F4-4D93-95C0-6BCB54BF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3138-9761-42BF-9973-4250282B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E673-8376-404E-BCF2-9E9E6161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9C5F-298F-48BB-BB19-DA8379CE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0DEF-A14A-4237-895D-C9CF3A1D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5486-DC6F-4CB1-8986-A4ABF877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E4E2-0CEF-4C15-9BA6-F9A0FE1C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B1AF-DC16-41DD-B9AE-867DCE59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7775-2202-49FE-A909-8627D358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2C48-D7E1-4DDC-A212-DD23BCA2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80A9-E686-48F1-976F-14FDEBBE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BEE3-EDB3-49EA-874D-5072D954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F7A0-6D16-49CF-8B3E-C2702670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65CF-6991-40CE-B730-5B50D4B5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26FE-78E9-40BB-82FE-0B935722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A54C-A157-44A4-AB68-748AB036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A04B-EF5E-4B32-AC37-AD91EFD4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AB9F-1CBE-4BD4-8082-6CAC9C9E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0E1E-B1A8-4CFA-912B-81208961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966C-5D0D-44D2-86DF-1F3BCC84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44A1-47BA-4B4B-ABEF-69EA676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E5B5-88CF-4A54-8A44-19745509FF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0859-0AB3-464F-817E-7E9F08623F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848720" cy="19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Периодический закон и периодическая система Менделеева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029200" y="4876920"/>
            <a:ext cx="4114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преподаватель Каховская Т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Борий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р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8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GSI и ОИЯ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мания и СССР (Дубн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́рий (лат. Bohrium, обозначается символом Bh) — нестабильный радиоактивный химический элемент с атомным номером 107. Известны изотопы с массовыми числами от 261 до 272. Наиболее стабильный изотоп из полученных — борий-267 с периодом полураспада 17 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Мейтнер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йтнер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8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. Амбрустер и Г. Мюнценберг, GS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м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йтнерий (лат. Meitnerium, обозначается символом Mt, ранее был известен как унниленний Une или эка-иридий) — элемент VIII группы побочной подгруппы 7-го периода периодической системы элементов с атомным номером 109. Синтезирован искусстве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Хассий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сс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8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 Амбрустер и Г. Мюнценберг, GS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м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́ссий (лат. Hassium, обозначается символом Hs; исторические названия эка-осмий, уннилоктий) — 108-й химический эле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Дармштадт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рмштадт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. Hofmann, V. Ninov и др., GS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рмштадтий (лат. Darmstadtium, обозначение Ds; ранее Унуннилий, лат. Ununnillium, обозначение Uun) — искусственно синтезированный химический элемент VIII группы периодической системы, атомный номер 110. Для изотопов с массовыми числами 267—273 период полураспада не превышает нескольких миллисекунд. Но для самого тяжелого из известных изотопов (с массовым числом 281) период полураспада составляет около 10 секун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нтген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нтген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. Hofmann, V. Ninov и др., GS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нтге́ний (лат. Roentgenium, обозначение Rg; ранее унунуний, лат. Unununium, обозначение Uuu) — искусственно синтезированный химический элемент побочной подгруппы первой группы, седьмого периода периодической системы химических элементов Д. И. Менделеева, с атомным номером 111. Простое вещество рентгений (CAS-номер: 54386-24-2) — переходный металл. Наиболее долгоживущий изотоп имеет атомную массу 281 и период полураспада = 26 секун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Коперниц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перниц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. Hofmann, V. Ninov и др., GS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перниций (лат. Copernicium, Cn; в качестве русского названия используется также копéрникий; ранее использовались названия уну́нбий, лат. Ununbium, Uub и эка-ртуть) — 112-й химический элемент. Ядро наиболее стабильного из его известных изотопов, 285Cn, состоит из 112 протонов, 173 нейтронов и имеет период полураспада около 34 секунд. Относится к той же химической группе, что цинк, кадмий и рт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Флеров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леров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ИЯ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я (Дуб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леро́вий[1][2][3] (лат. Flerovium, Fl), ранее был известен как унунква́дий (лат. Ununquadium, Uuq), использовалось также неофициальное название эка-свинец — 114-й химический элемент 14-й группы (по устаревшей классификации — главной подгруппы IV группы), 7-го периода периодической системы, атомный номер 114, из известных изотопов наиболее устойчив 289Fl. Элемент сильно радиоактив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Ливермор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верморий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ИЯ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я (Дуб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вермо́рий (лат. Livermorium, Lv), ранее был известен как унунге́ксий (лат. Ununhexium, Uuh) — 116-й химический элемент, относится к 16 группе (по устаревшей классификации — к главной подгруппе VI группы) и 7 периоду периодической системы, атомный номер 116, атомная масса наиболее устойчивого изотопа 29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ef6"/>
                </a:solidFill>
                <a:latin typeface="Arial"/>
              </a:rPr>
              <a:t>XXI </a:t>
            </a:r>
            <a:r>
              <a:rPr b="0" lang="ru-RU" sz="9600" spc="-1" strike="noStrike">
                <a:solidFill>
                  <a:srgbClr val="dfdef6"/>
                </a:solidFill>
                <a:latin typeface="Arial"/>
              </a:rPr>
              <a:t>век.</a:t>
            </a:r>
            <a:endParaRPr b="0" lang="en-US" sz="9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Унунокт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нунокт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ИЯ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я (Дуб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нуно́ктий (лат. Ununoctium, Uuo) или эка-радон — временное наименование для химического элемента с атомным номером 118, синтез изотопов которого был впервые осуществлён в 2002 и 2005 годах в Объединённом институте ядерных исследований (Дубна) в сотрудничестве с Ливерморской национальной лабораторией. Результаты этих экспериментов были опубликованы в 2006 году. Временное обозначение — Uuo. Элемент относится, вероятно, к инертным газ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Дмитрий Иванович Менделеев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митрий Иванович Менделеев (1834-1907) — российский химик, разносторонний ученый, педагог. Открыл (1869) периодический закон химических элементов — один из основных законов естествозн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Унунтр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нунтр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ИЯИ и RIKE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я (Дубна) и Япо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нунтрий (лат. Ununtrium, Uut) или эка-таллий — 113-й химический элемент III группы периодической системы, атомный номер 113, атомная масса [286], наиболее устойчивый изотоп 286Uut. Радиоактив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Унунпентий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унпент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ИЯ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я (Дуб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унпе́нтий (лат. Ununpentium, Uup) или эка-висмут — химический элемент пятнадцатой группы (по устаревшей классификации — главной подгруппы пятой группы), седьмого периода периодической системы химических элементов, атомный номер 115, атомная масса 288, наиболее стабильным является нуклид 288Uup (период полураспада оценивается в 87 мс). Искусственно синтезированный элемент, в природе не встреч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Унунсептий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унсепт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ИЯ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я (Дуб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унсе́птий (лат. Ununseptium, Uus) или эка-астат — временное наименование для химического элемента с атомным номером 117. Временное обозначение — Uus. Период полураспада более устойчивого из двух известных изотопов 294Uus составляет около 78 миллисекунд[1][2]. Формально относится к галогенам, однако его химические свойства ещё не изучены и могут отличаться от характерных для этой группы эле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 химии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гого ничего в  природе 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 здесь, не там, в космических глубина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ё – от песчинок малых до планет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элементов состоит едины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ериодическая сист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(таблица Менделеева) — классификация химических элементов, устанавливающая зависимость различных свойств элементов от заряда атомного ядра. Система является графическим выражением периодического закона, установленного русским химиком Д. И. Менделеевым в 1869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ериодический закон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иодический закон был сформулирован Д. И. Менделеевым в следующем виде (1871): «свойства простых тел, а также формы и свойства соединений элементов, а потому и свойства образуемых ими простых и сложных тел, стоят в периодической зависимости от их атомного веса».[1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арте 1869 года заседания Русского физико -  химического общества  в Петербурге была зачитана работа молодого русского химика Д.И Менделеева об открыто им зависимости свойств химических элементов, в которой они располагались друг за другом в порядке возрастания их атомных ве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571680" y="380880"/>
            <a:ext cx="3809880" cy="53866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648320" y="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сийские ученые в сотрудничестве со своими американскими коллегами синтезировали новый химический элемент. В подмосковной Дубне были получены несколько атомов элемента номер 118. Ученые рассказали, как это стало возможным. Открытый 118-й элемент займет место в самом конце периодической таблицы Менделеева. Говоря о его названии, российские ученые еще несколько лет назад, когда началась подготовка к экспериментам, предложили назвать его "московий". Однако, для закрепления такого решения необходимо заключение «Международного союза по чистой и прикладной хим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ef6"/>
                </a:solidFill>
                <a:latin typeface="Arial"/>
              </a:rPr>
              <a:t>XX </a:t>
            </a:r>
            <a:r>
              <a:rPr b="0" lang="ru-RU" sz="9600" spc="-1" strike="noStrike">
                <a:solidFill>
                  <a:srgbClr val="dfdef6"/>
                </a:solidFill>
                <a:latin typeface="Arial"/>
              </a:rPr>
              <a:t>век.</a:t>
            </a:r>
            <a:endParaRPr b="0" lang="en-US" sz="9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5-04-23T10:25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