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27.wmf" ContentType="image/x-wmf"/>
  <Override PartName="/ppt/media/image21.jpeg" ContentType="image/jpeg"/>
  <Override PartName="/ppt/media/image5.jpeg" ContentType="image/jpeg"/>
  <Override PartName="/ppt/media/image28.png" ContentType="image/png"/>
  <Override PartName="/ppt/media/image8.jpeg" ContentType="image/jpeg"/>
  <Override PartName="/ppt/media/image29.jpeg" ContentType="image/jpeg"/>
  <Override PartName="/ppt/media/image30.png" ContentType="image/png"/>
  <Override PartName="/ppt/media/image13.jpeg" ContentType="image/jpeg"/>
  <Override PartName="/ppt/media/image23.png" ContentType="image/png"/>
  <Override PartName="/ppt/media/image6.jpeg" ContentType="image/jpeg"/>
  <Override PartName="/ppt/media/image11.jpeg" ContentType="image/jpeg"/>
  <Override PartName="/ppt/media/image7.png" ContentType="image/png"/>
  <Override PartName="/ppt/media/image22.jpeg" ContentType="image/jpeg"/>
  <Override PartName="/ppt/media/image9.png" ContentType="image/png"/>
  <Override PartName="/ppt/media/image20.jpeg" ContentType="image/jpeg"/>
  <Override PartName="/ppt/media/image12.png" ContentType="image/png"/>
  <Override PartName="/ppt/media/image4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2.png" ContentType="image/png"/>
  <Override PartName="/ppt/media/image25.jpeg" ContentType="image/jpeg"/>
  <Override PartName="/ppt/media/image31.png" ContentType="image/png"/>
  <Override PartName="/ppt/media/image1.png" ContentType="image/png"/>
  <Override PartName="/ppt/media/image10.jpeg" ContentType="image/jpeg"/>
  <Override PartName="/ppt/media/image14.png" ContentType="image/png"/>
  <Override PartName="/ppt/media/image24.jpeg" ContentType="image/jpeg"/>
  <Override PartName="/ppt/media/image16.jpeg" ContentType="image/jpeg"/>
  <Override PartName="/ppt/media/image15.png" ContentType="image/png"/>
  <Override PartName="/ppt/media/image18.jpeg" ContentType="image/jpeg"/>
  <Override PartName="/ppt/media/image19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7ED7D-9AA7-42C4-B694-656604305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7865D-3C2F-4BD6-A533-18F483B44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C3B83-1070-4938-902D-4ADCBAA7A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11570-506D-426A-867E-03004900D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02F30-2AAD-4370-B88F-8E18BC376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98645-9BBB-4CF4-B6CD-60C5B602F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58E10-29EA-4D1B-99F6-C1852B214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61F7F-9943-4D1E-BC44-1062DEF20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D9380-59DA-44ED-ADCC-60760C419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9DD1F-6BCC-436A-9FEC-24AA3ED14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D863A-8B08-4BFD-BACB-EE8541ABC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C0E92-309C-4AB3-A57D-12F056640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1B0F5-A763-4B18-A1F0-F3A85BA91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B8942-2A60-4CEC-8647-D6EC6E506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3591F-C144-4B40-BA05-0734ECBAB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64D88-4148-427A-8B7A-EB2B387A3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57FD4-CCF5-40B4-ACDE-4EACC0BD1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1631B7-177A-4055-93CE-151BAF0C7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64A727-6896-4B17-A9F9-44634D844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4FBD2B-AA1B-4083-9745-4273FFBEC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D9542E-1B15-4A2C-915E-5F50263AC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BAF375-2F7C-43FE-9947-771C58759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386F6-1F95-4EB8-80BB-B08DA3610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9F6973-DDA9-461E-B4EE-CB9D9DC3F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3D8234-FF1E-4BA6-B91C-15D8E9982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083563-8F17-43E4-8933-FF3514152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C3A972-4870-4F64-ACE0-F415914D5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3199FC-A207-4274-BF4C-036656B54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F8B62C-0134-4952-B573-B3BA85819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EC91E3-2A2E-44D2-8E48-6B40537CB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ADD1CF-AFE4-4C4C-A94D-4976D0730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1BD720-0D17-4276-A389-7129C1B57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1518DF-4FD5-4211-BBC3-08A80F3C4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F1043-369A-443F-BC98-D911F7E11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A0A6D9-4EA3-411C-9F83-BB8DD6509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2BAFD0-BE61-4695-9343-8076679FF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AE7C1B-5630-428B-8CE5-0AC890904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9F465E-1E6B-4B88-8E04-41336A596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FA1488-424A-44A4-9B90-0BBD58BF6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D44E86-7E19-4802-8989-008111ACE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78ABFB-A547-458F-814C-F5B0A556D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BFFDFB-4F63-4107-979A-45BE1E4FC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61E5DF-5601-457A-B1D6-981C556F3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840529-A988-453B-A48D-C5DED412D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18BDB-3BD3-4D2D-BAC6-43E4B6CFC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624C80-2C6C-40CA-A9B6-0825D314D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CF716F-C039-49AF-BA4D-04823A8B6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1C2E84-15C3-457A-8BC8-F15F36C5A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6ADC40-F53B-42F9-B780-0750F8D54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313846-A016-43BD-8504-D0B77D78C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8D6711-2274-490A-B677-2E5C810D6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DF735B-F6B8-466D-8D49-137C91FC2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761D8D-AAEC-45AB-B31F-8F6A69A42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CA7728-C27A-44E1-A216-B263FDB65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D629EB-FA10-4332-93FA-5FD72152E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00CA2-A411-498C-B597-242C921EE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B8EAC3-D92D-4CAD-A793-C0E24F1BD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059AC4-58E4-48D0-8FFC-ECC53FDB5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91B0AB-3137-4135-BCD2-7627D4E3F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85245B-10B2-463C-A110-08E276921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E159A4-48FA-4121-A1CF-0EE7877F5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36219C-53AC-4742-A423-9D5AF746D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8482E4-9EC5-4170-B8DF-648FB7D05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826AC7-DADB-4F59-9FE2-E3FA89F13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DF9682-D95E-4B7F-800E-D9B3A19A1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7089AE-C28D-44B6-A051-E84D88998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2C765-5603-41B8-9035-9D694D6ED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078B84-9516-4848-8C77-27FBD191A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68E4AC-F671-44CF-9DC2-DD10A33AC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0E2827-ADDB-42BD-954E-877B336D4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6D6007-7AC3-4FB0-B36F-BE1E71562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DE8DED-E26C-490F-8179-EBF4CBB01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3C0755-33E5-4CF7-85D6-5F1362237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09141C-B66C-46EC-91ED-769CB15BE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AB26E4-D2FE-407C-BDFA-050D25345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60EBF6-CEBE-42EE-8805-B988DA32E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9E1C5D-D341-41AF-A16A-5712C0F4B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1273D-3105-464E-9946-1FF0A1824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17F21E-4A85-4666-A7F8-BAD2C122F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908C37-23D1-4785-863D-C88FDA177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02EBA4-BD14-403B-A30D-C60AABBDF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16DA4F-A2F2-45EC-811F-ADFCCFA93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84F661-EAEF-4804-8BFA-A8256C96B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263417-94F0-416E-B4C3-DE00B3EEC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EF6B54-ABBC-4B5E-856E-DFDD00668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FC4229-B484-4EBA-8DA4-BFAF7B8E6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A1A5E7-7334-4E94-8D2D-0F6FBF047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C67DBD-F498-4FBA-A72B-3CB31E80F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629D8-D341-4384-9F50-C34139E69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8E4D9E-63B0-4315-9A92-A13398C9B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D72065-CA3D-430B-8802-A88F4C74D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A00D3F-0CA8-4518-B922-1F28D2052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8A4193-7782-49D6-B95D-1A8006B4A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C0D231-ECA2-4704-803A-C1816FEA4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6FCC49-F435-4309-A9A4-B9292F819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5C240B-F29B-4AC4-8396-B7BC52832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C7B8F-B77A-4451-B446-BF9497723B85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Полилиния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Полилиния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Прямая соединительная линия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F8883-8AD3-435C-880A-2577B6553C38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Нашивка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581F4-B5D3-493E-BFD5-319BDBD7A1EE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E940F-5A3B-4AD8-B56E-5C058873191D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2CA40-C527-4EAD-913B-90F45DFAD04D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DFC3D-ABD3-4310-8099-6F54CB9171BC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700BE-37E6-441B-9C98-AFBD11CF2938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олилиния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Полилиния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Прямоугольный треугольник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Прямоугольный треугольник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Прямая соединительная линия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Нашивка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Нашивка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54737-751C-4F20-AFB8-1FF7233ECEA9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image" Target="../media/image21.jpeg"/><Relationship Id="rId8" Type="http://schemas.openxmlformats.org/officeDocument/2006/relationships/image" Target="../media/image22.jpe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nsportal.ru/shkola/russkii-yazyk/library/rol-obobshchayushchih-shem-tablic-algoritmov-na-urokah-russkogo-yazyka" TargetMode="External"/><Relationship Id="rId2" Type="http://schemas.openxmlformats.org/officeDocument/2006/relationships/hyperlink" Target="http://nsportal.ru/shkola/russkii-yazyk/library/rol-obobshchayushchih-shem-tablic-algoritmov-na-urokah-russkogo-yazyka" TargetMode="External"/><Relationship Id="rId3" Type="http://schemas.openxmlformats.org/officeDocument/2006/relationships/hyperlink" Target="http://nsportal.ru/shkola/russkii-yazyk/library/rol-obobshchayushchih-shem-tablic-algoritmov-na-urokah-russkogo-yazyka" TargetMode="External"/><Relationship Id="rId4" Type="http://schemas.openxmlformats.org/officeDocument/2006/relationships/hyperlink" Target="http://nsportal.ru/shkola/russkii-yazyk/library/rol-obobshchayushchih-shem-tablic-algoritmov-na-urokah-russkogo-yazyka" TargetMode="External"/><Relationship Id="rId5" Type="http://schemas.openxmlformats.org/officeDocument/2006/relationships/hyperlink" Target="http://nsportal.ru/shkola/russkii-yazyk/library/rol-obobshchayushchih-shem-tablic-algoritmov-na-urokah-russkogo-yazyka" TargetMode="External"/><Relationship Id="rId6" Type="http://schemas.openxmlformats.org/officeDocument/2006/relationships/hyperlink" Target="http://nsportal.ru/shkola/russkii-yazyk/library/rol-obobshchayushchih-shem-tablic-algoritmov-na-urokah-russkogo-yazyka" TargetMode="External"/><Relationship Id="rId7" Type="http://schemas.openxmlformats.org/officeDocument/2006/relationships/hyperlink" Target="http://nsportal.ru/shkola/russkii-yazyk/library/rol-obobshchayushchih-shem-tablic-algoritmov-na-urokah-russkogo-yazyka" TargetMode="External"/><Relationship Id="rId8" Type="http://schemas.openxmlformats.org/officeDocument/2006/relationships/hyperlink" Target="http://nsportal.ru/shkola/russkii-yazyk/library/rol-obobshchayushchih-shem-tablic-algoritmov-na-urokah-russkogo-yazyka" TargetMode="External"/><Relationship Id="rId9" Type="http://schemas.openxmlformats.org/officeDocument/2006/relationships/hyperlink" Target="http://nsportal.ru/shkola/russkii-yazyk/library/rol-obobshchayushchih-shem-tablic-algoritmov-na-urokah-russkogo-yazyka" TargetMode="External"/><Relationship Id="rId10" Type="http://schemas.openxmlformats.org/officeDocument/2006/relationships/hyperlink" Target="http://nsportal.ru/shkola/russkii-yazyk/library/rol-obobshchayushchih-shem-tablic-algoritmov-na-urokah-russkogo-yazyka" TargetMode="External"/><Relationship Id="rId11" Type="http://schemas.openxmlformats.org/officeDocument/2006/relationships/image" Target="../media/image30.png"/><Relationship Id="rId1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Заголовок 1" descr=""/>
          <p:cNvPicPr/>
          <p:nvPr/>
        </p:nvPicPr>
        <p:blipFill>
          <a:blip r:embed="rId1"/>
          <a:stretch/>
        </p:blipFill>
        <p:spPr>
          <a:xfrm>
            <a:off x="585720" y="981000"/>
            <a:ext cx="8296200" cy="185904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642960" y="3571920"/>
            <a:ext cx="7772400" cy="16034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by Milena Belyanskaya, Varvara Kravets, Form </a:t>
            </a:r>
            <a:r>
              <a:rPr b="0" lang="ru-RU" sz="2400" spc="-1" strike="noStrike">
                <a:solidFill>
                  <a:srgbClr val="464646"/>
                </a:solidFill>
                <a:latin typeface="Lucida Sans Unicode"/>
              </a:rPr>
              <a:t>8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Teacher: Anastasiya Musich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aecd"/>
                </a:solidFill>
                <a:latin typeface="Lucida Sans Unicode"/>
              </a:rPr>
              <a:t>Gymnasium </a:t>
            </a:r>
            <a:r>
              <a:rPr b="1" lang="ru-RU" sz="2400" spc="-1" strike="noStrike">
                <a:solidFill>
                  <a:srgbClr val="1faecd"/>
                </a:solidFill>
                <a:latin typeface="Lucida Sans Unicode"/>
              </a:rPr>
              <a:t>№</a:t>
            </a:r>
            <a:r>
              <a:rPr b="1" lang="en-US" sz="2400" spc="-1" strike="noStrike">
                <a:solidFill>
                  <a:srgbClr val="1faecd"/>
                </a:solidFill>
                <a:latin typeface="Lucida Sans Unicode"/>
              </a:rPr>
              <a:t> 2072, Moscow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Заголовок 2" descr=""/>
          <p:cNvPicPr/>
          <p:nvPr/>
        </p:nvPicPr>
        <p:blipFill>
          <a:blip r:embed="rId1"/>
          <a:stretch/>
        </p:blipFill>
        <p:spPr>
          <a:xfrm>
            <a:off x="450720" y="725400"/>
            <a:ext cx="8242560" cy="44928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Содержимое 3" descr="Past Perf and Present Perf.jpg"/>
          <p:cNvPicPr/>
          <p:nvPr/>
        </p:nvPicPr>
        <p:blipFill>
          <a:blip r:embed="rId1"/>
          <a:srcRect l="0" t="68296" r="4692" b="0"/>
          <a:stretch/>
        </p:blipFill>
        <p:spPr>
          <a:xfrm>
            <a:off x="928800" y="1214280"/>
            <a:ext cx="7286400" cy="2428920"/>
          </a:xfrm>
          <a:prstGeom prst="rect">
            <a:avLst/>
          </a:prstGeom>
          <a:ln w="0">
            <a:noFill/>
          </a:ln>
        </p:spPr>
      </p:pic>
      <p:pic>
        <p:nvPicPr>
          <p:cNvPr id="373" name="Заголовок 2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374" name="Рисунок 4" descr="present perfect построение предложений.jpg"/>
          <p:cNvPicPr/>
          <p:nvPr/>
        </p:nvPicPr>
        <p:blipFill>
          <a:blip r:embed="rId3"/>
          <a:stretch/>
        </p:blipFill>
        <p:spPr>
          <a:xfrm>
            <a:off x="4197240" y="3857760"/>
            <a:ext cx="4946760" cy="3000240"/>
          </a:xfrm>
          <a:prstGeom prst="rect">
            <a:avLst/>
          </a:prstGeom>
          <a:ln w="0">
            <a:noFill/>
          </a:ln>
        </p:spPr>
      </p:pic>
      <p:pic>
        <p:nvPicPr>
          <p:cNvPr id="375" name="Рисунок 5" descr="времена таблица.jpg"/>
          <p:cNvPicPr/>
          <p:nvPr/>
        </p:nvPicPr>
        <p:blipFill>
          <a:blip r:embed="rId4"/>
          <a:stretch/>
        </p:blipFill>
        <p:spPr>
          <a:xfrm>
            <a:off x="428760" y="3357720"/>
            <a:ext cx="3660480" cy="257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2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2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2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2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English grammar in schemes and tables can help to save knowledge in the mind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7" name="Заголовок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378" name="Рисунок 3" descr="i.jpg"/>
          <p:cNvPicPr/>
          <p:nvPr/>
        </p:nvPicPr>
        <p:blipFill>
          <a:blip r:embed="rId2"/>
          <a:stretch/>
        </p:blipFill>
        <p:spPr>
          <a:xfrm>
            <a:off x="6643800" y="428760"/>
            <a:ext cx="1857240" cy="18572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" dur="2000" fill="hold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7200" y="1480680"/>
            <a:ext cx="8229600" cy="25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88360" indent="-201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learning of positive and negative aspects of schemes and table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288360" indent="-201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288360" indent="-201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schemes and tables’ analyzing 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288360" indent="-201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288360" indent="-201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288360" indent="-201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                           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0" name="Заголовок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grpSp>
        <p:nvGrpSpPr>
          <p:cNvPr id="381" name="Organization Chart 13"/>
          <p:cNvGrpSpPr/>
          <p:nvPr/>
        </p:nvGrpSpPr>
        <p:grpSpPr>
          <a:xfrm>
            <a:off x="5000760" y="2714760"/>
            <a:ext cx="3899880" cy="2306880"/>
            <a:chOff x="5000760" y="2714760"/>
            <a:chExt cx="3899880" cy="2306880"/>
          </a:xfrm>
        </p:grpSpPr>
        <p:cxnSp>
          <p:nvCxnSpPr>
            <p:cNvPr id="382" name="_s1028"/>
            <p:cNvCxnSpPr>
              <a:stCxn id="383" idx="0"/>
              <a:endCxn id="384" idx="2"/>
            </p:cNvCxnSpPr>
            <p:nvPr/>
          </p:nvCxnSpPr>
          <p:spPr>
            <a:xfrm flipV="1" rot="16200000">
              <a:off x="7401960" y="3184920"/>
              <a:ext cx="461880" cy="1365480"/>
            </a:xfrm>
            <a:prstGeom prst="bentConnector3">
              <a:avLst>
                <a:gd name="adj1" fmla="val 2090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85" name="_s1029"/>
            <p:cNvCxnSpPr>
              <a:stCxn id="386" idx="0"/>
              <a:endCxn id="384" idx="2"/>
            </p:cNvCxnSpPr>
            <p:nvPr/>
          </p:nvCxnSpPr>
          <p:spPr>
            <a:xfrm flipV="1">
              <a:off x="6950520" y="3636720"/>
              <a:ext cx="1800" cy="4618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87" name="_s1030"/>
            <p:cNvCxnSpPr>
              <a:stCxn id="388" idx="0"/>
              <a:endCxn id="384" idx="2"/>
            </p:cNvCxnSpPr>
            <p:nvPr/>
          </p:nvCxnSpPr>
          <p:spPr>
            <a:xfrm flipH="1" flipV="1" rot="5400000">
              <a:off x="6037200" y="3184920"/>
              <a:ext cx="461880" cy="1365480"/>
            </a:xfrm>
            <a:prstGeom prst="bentConnector3">
              <a:avLst>
                <a:gd name="adj1" fmla="val 20904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384" name="_s1031"/>
            <p:cNvSpPr/>
            <p:nvPr/>
          </p:nvSpPr>
          <p:spPr>
            <a:xfrm>
              <a:off x="6365520" y="2714760"/>
              <a:ext cx="1170000" cy="922680"/>
            </a:xfrm>
            <a:prstGeom prst="roundRect">
              <a:avLst>
                <a:gd name="adj" fmla="val 16667"/>
              </a:avLst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_s1032"/>
            <p:cNvSpPr/>
            <p:nvPr/>
          </p:nvSpPr>
          <p:spPr>
            <a:xfrm>
              <a:off x="5000760" y="4098960"/>
              <a:ext cx="1170000" cy="922680"/>
            </a:xfrm>
            <a:prstGeom prst="roundRect">
              <a:avLst>
                <a:gd name="adj" fmla="val 16667"/>
              </a:avLst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_s1033"/>
            <p:cNvSpPr/>
            <p:nvPr/>
          </p:nvSpPr>
          <p:spPr>
            <a:xfrm>
              <a:off x="6365520" y="4098960"/>
              <a:ext cx="1170000" cy="922680"/>
            </a:xfrm>
            <a:prstGeom prst="roundRect">
              <a:avLst>
                <a:gd name="adj" fmla="val 16667"/>
              </a:avLst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_s1034"/>
            <p:cNvSpPr/>
            <p:nvPr/>
          </p:nvSpPr>
          <p:spPr>
            <a:xfrm>
              <a:off x="7730640" y="4098960"/>
              <a:ext cx="1170000" cy="922680"/>
            </a:xfrm>
            <a:prstGeom prst="roundRect">
              <a:avLst>
                <a:gd name="adj" fmla="val 16667"/>
              </a:avLst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9" name="Diagram 22"/>
          <p:cNvGrpSpPr/>
          <p:nvPr/>
        </p:nvGrpSpPr>
        <p:grpSpPr>
          <a:xfrm>
            <a:off x="799920" y="4472640"/>
            <a:ext cx="2444040" cy="1424520"/>
            <a:chOff x="799920" y="4472640"/>
            <a:chExt cx="2444040" cy="1424520"/>
          </a:xfrm>
        </p:grpSpPr>
        <p:sp>
          <p:nvSpPr>
            <p:cNvPr id="390" name="_s1037"/>
            <p:cNvSpPr/>
            <p:nvPr/>
          </p:nvSpPr>
          <p:spPr>
            <a:xfrm flipH="1">
              <a:off x="1432080" y="5458320"/>
              <a:ext cx="295920" cy="109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_s1038"/>
            <p:cNvSpPr/>
            <p:nvPr/>
          </p:nvSpPr>
          <p:spPr>
            <a:xfrm>
              <a:off x="799920" y="5459040"/>
              <a:ext cx="678960" cy="438120"/>
            </a:xfrm>
            <a:prstGeom prst="ellipse">
              <a:avLst/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_s1039"/>
            <p:cNvSpPr/>
            <p:nvPr/>
          </p:nvSpPr>
          <p:spPr>
            <a:xfrm>
              <a:off x="2314440" y="5458320"/>
              <a:ext cx="294840" cy="110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_s1040"/>
            <p:cNvSpPr/>
            <p:nvPr/>
          </p:nvSpPr>
          <p:spPr>
            <a:xfrm>
              <a:off x="2564640" y="5459040"/>
              <a:ext cx="679320" cy="438120"/>
            </a:xfrm>
            <a:prstGeom prst="ellipse">
              <a:avLst/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_s1041"/>
            <p:cNvSpPr/>
            <p:nvPr/>
          </p:nvSpPr>
          <p:spPr>
            <a:xfrm flipV="1">
              <a:off x="2021400" y="4910040"/>
              <a:ext cx="0" cy="219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_s1042"/>
            <p:cNvSpPr/>
            <p:nvPr/>
          </p:nvSpPr>
          <p:spPr>
            <a:xfrm>
              <a:off x="1682280" y="4472640"/>
              <a:ext cx="678960" cy="438120"/>
            </a:xfrm>
            <a:prstGeom prst="ellipse">
              <a:avLst/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_s1043"/>
            <p:cNvSpPr/>
            <p:nvPr/>
          </p:nvSpPr>
          <p:spPr>
            <a:xfrm>
              <a:off x="1682280" y="5130360"/>
              <a:ext cx="678960" cy="438120"/>
            </a:xfrm>
            <a:prstGeom prst="ellipse">
              <a:avLst/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" dur="2000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" dur="2000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 txBox="1"/>
          <p:nvPr/>
        </p:nvSpPr>
        <p:spPr>
          <a:xfrm>
            <a:off x="457200" y="1481040"/>
            <a:ext cx="5757840" cy="34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articles in the Interne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survey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pupil’s and grammar book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8" name="Заголовок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399" name="Рисунок 3" descr="i (2).jpg"/>
          <p:cNvPicPr/>
          <p:nvPr/>
        </p:nvPicPr>
        <p:blipFill>
          <a:blip r:embed="rId2"/>
          <a:stretch/>
        </p:blipFill>
        <p:spPr>
          <a:xfrm>
            <a:off x="5357880" y="1357200"/>
            <a:ext cx="3429000" cy="1428840"/>
          </a:xfrm>
          <a:prstGeom prst="rect">
            <a:avLst/>
          </a:prstGeom>
          <a:ln w="0">
            <a:noFill/>
          </a:ln>
        </p:spPr>
      </p:pic>
      <p:pic>
        <p:nvPicPr>
          <p:cNvPr id="400" name="Рисунок 5" descr="i (3).jpg"/>
          <p:cNvPicPr/>
          <p:nvPr/>
        </p:nvPicPr>
        <p:blipFill>
          <a:blip r:embed="rId3"/>
          <a:stretch/>
        </p:blipFill>
        <p:spPr>
          <a:xfrm>
            <a:off x="2714760" y="2143080"/>
            <a:ext cx="1904760" cy="1857600"/>
          </a:xfrm>
          <a:prstGeom prst="rect">
            <a:avLst/>
          </a:prstGeom>
          <a:ln w="0">
            <a:noFill/>
          </a:ln>
        </p:spPr>
      </p:pic>
      <p:pic>
        <p:nvPicPr>
          <p:cNvPr id="401" name="Рисунок 11" descr="i (4).jpg"/>
          <p:cNvPicPr/>
          <p:nvPr/>
        </p:nvPicPr>
        <p:blipFill>
          <a:blip r:embed="rId4"/>
          <a:stretch/>
        </p:blipFill>
        <p:spPr>
          <a:xfrm>
            <a:off x="5643720" y="3214800"/>
            <a:ext cx="1643040" cy="2071440"/>
          </a:xfrm>
          <a:prstGeom prst="rect">
            <a:avLst/>
          </a:prstGeom>
          <a:ln w="0">
            <a:noFill/>
          </a:ln>
        </p:spPr>
      </p:pic>
      <p:pic>
        <p:nvPicPr>
          <p:cNvPr id="402" name="Рисунок 12" descr="i (5).jpg"/>
          <p:cNvPicPr/>
          <p:nvPr/>
        </p:nvPicPr>
        <p:blipFill>
          <a:blip r:embed="rId5"/>
          <a:stretch/>
        </p:blipFill>
        <p:spPr>
          <a:xfrm>
            <a:off x="7238880" y="2786040"/>
            <a:ext cx="1905120" cy="2500200"/>
          </a:xfrm>
          <a:prstGeom prst="rect">
            <a:avLst/>
          </a:prstGeom>
          <a:ln w="0">
            <a:noFill/>
          </a:ln>
        </p:spPr>
      </p:pic>
      <p:pic>
        <p:nvPicPr>
          <p:cNvPr id="403" name="Рисунок 13" descr="i (7).jpg"/>
          <p:cNvPicPr/>
          <p:nvPr/>
        </p:nvPicPr>
        <p:blipFill>
          <a:blip r:embed="rId6"/>
          <a:stretch/>
        </p:blipFill>
        <p:spPr>
          <a:xfrm>
            <a:off x="6357960" y="5000760"/>
            <a:ext cx="1643040" cy="1857240"/>
          </a:xfrm>
          <a:prstGeom prst="rect">
            <a:avLst/>
          </a:prstGeom>
          <a:ln w="0">
            <a:noFill/>
          </a:ln>
        </p:spPr>
      </p:pic>
      <p:pic>
        <p:nvPicPr>
          <p:cNvPr id="404" name="Рисунок 14" descr="i (8).jpg"/>
          <p:cNvPicPr/>
          <p:nvPr/>
        </p:nvPicPr>
        <p:blipFill>
          <a:blip r:embed="rId7"/>
          <a:stretch/>
        </p:blipFill>
        <p:spPr>
          <a:xfrm>
            <a:off x="4929120" y="4714920"/>
            <a:ext cx="1500120" cy="1857240"/>
          </a:xfrm>
          <a:prstGeom prst="rect">
            <a:avLst/>
          </a:prstGeom>
          <a:ln w="0">
            <a:noFill/>
          </a:ln>
        </p:spPr>
      </p:pic>
      <p:pic>
        <p:nvPicPr>
          <p:cNvPr id="405" name="Рисунок 15" descr="big.jpg"/>
          <p:cNvPicPr/>
          <p:nvPr/>
        </p:nvPicPr>
        <p:blipFill>
          <a:blip r:embed="rId8"/>
          <a:stretch/>
        </p:blipFill>
        <p:spPr>
          <a:xfrm>
            <a:off x="7881840" y="4881600"/>
            <a:ext cx="1262160" cy="19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" dur="500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/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 txBox="1"/>
          <p:nvPr/>
        </p:nvSpPr>
        <p:spPr>
          <a:xfrm>
            <a:off x="457200" y="1480680"/>
            <a:ext cx="7043760" cy="430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visibility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aving tim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easy and fast searching of informat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Lucida Sans Unicode"/>
              </a:rPr>
              <a:t>Negative aspects</a:t>
            </a:r>
            <a:endParaRPr b="0" lang="en-US" sz="4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 little information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hard for understanding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7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08" name="Рисунок 3" descr="i (11).jpg"/>
          <p:cNvPicPr/>
          <p:nvPr/>
        </p:nvPicPr>
        <p:blipFill>
          <a:blip r:embed="rId2"/>
          <a:stretch/>
        </p:blipFill>
        <p:spPr>
          <a:xfrm>
            <a:off x="5929200" y="357120"/>
            <a:ext cx="2643480" cy="1928880"/>
          </a:xfrm>
          <a:prstGeom prst="rect">
            <a:avLst/>
          </a:prstGeom>
          <a:ln w="0">
            <a:noFill/>
          </a:ln>
        </p:spPr>
      </p:pic>
      <p:pic>
        <p:nvPicPr>
          <p:cNvPr id="409" name="Рисунок 4" descr="i (12).jpg"/>
          <p:cNvPicPr/>
          <p:nvPr/>
        </p:nvPicPr>
        <p:blipFill>
          <a:blip r:embed="rId3"/>
          <a:stretch/>
        </p:blipFill>
        <p:spPr>
          <a:xfrm>
            <a:off x="6000840" y="3500280"/>
            <a:ext cx="2643120" cy="21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Заголовок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11" name="Содержимое 3"/>
          <p:cNvGraphicFramePr/>
          <p:nvPr/>
        </p:nvGraphicFramePr>
        <p:xfrm>
          <a:off x="857160" y="1712880"/>
          <a:ext cx="7715520" cy="4064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12" name="Содержимое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57160" y="1712880"/>
                    <a:ext cx="771552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 txBox="1"/>
          <p:nvPr/>
        </p:nvSpPr>
        <p:spPr>
          <a:xfrm>
            <a:off x="457200" y="1480680"/>
            <a:ext cx="7115040" cy="266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schemes and tables help to generalize informat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learning  English grammar is easy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knowledge is hard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4" name="Заголовок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415" name="Рисунок 3" descr="i (13).jpg"/>
          <p:cNvPicPr/>
          <p:nvPr/>
        </p:nvPicPr>
        <p:blipFill>
          <a:blip r:embed="rId2"/>
          <a:stretch/>
        </p:blipFill>
        <p:spPr>
          <a:xfrm>
            <a:off x="4214880" y="4071960"/>
            <a:ext cx="407196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indefinite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69" dur="indefinite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70" dur="indefinite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indefinite"/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74" dur="indefinite"/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75" dur="indefinite"/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indefinite"/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79" dur="indefinite"/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0" dur="indefinite"/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500"/>
                            </p:stCondLst>
                            <p:childTnLst>
                              <p:par>
                                <p:cTn id="8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000"/>
                            </p:stCondLst>
                            <p:childTnLst>
                              <p:par>
                                <p:cTn id="9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ff8119"/>
                </a:solidFill>
                <a:uFillTx/>
                <a:latin typeface="Lucida Sans Unicode"/>
                <a:hlinkClick r:id="rId1"/>
              </a:rPr>
              <a:t>http</a:t>
            </a:r>
            <a:r>
              <a:rPr b="0" lang="ru-RU" sz="2700" spc="-1" strike="noStrike" u="sng">
                <a:solidFill>
                  <a:srgbClr val="ff8119"/>
                </a:solidFill>
                <a:uFillTx/>
                <a:latin typeface="Lucida Sans Unicode"/>
                <a:hlinkClick r:id="rId2"/>
              </a:rPr>
              <a:t>://</a:t>
            </a:r>
            <a:r>
              <a:rPr b="0" lang="en-US" sz="2700" spc="-1" strike="noStrike" u="sng">
                <a:solidFill>
                  <a:srgbClr val="ff8119"/>
                </a:solidFill>
                <a:uFillTx/>
                <a:latin typeface="Lucida Sans Unicode"/>
                <a:hlinkClick r:id="rId3"/>
              </a:rPr>
              <a:t>nsportal</a:t>
            </a:r>
            <a:r>
              <a:rPr b="0" lang="ru-RU" sz="2700" spc="-1" strike="noStrike" u="sng">
                <a:solidFill>
                  <a:srgbClr val="ff8119"/>
                </a:solidFill>
                <a:uFillTx/>
                <a:latin typeface="Lucida Sans Unicode"/>
                <a:hlinkClick r:id="rId4"/>
              </a:rPr>
              <a:t>.</a:t>
            </a:r>
            <a:r>
              <a:rPr b="0" lang="en-US" sz="2700" spc="-1" strike="noStrike" u="sng">
                <a:solidFill>
                  <a:srgbClr val="ff8119"/>
                </a:solidFill>
                <a:uFillTx/>
                <a:latin typeface="Lucida Sans Unicode"/>
                <a:hlinkClick r:id="rId5"/>
              </a:rPr>
              <a:t>ru</a:t>
            </a:r>
            <a:r>
              <a:rPr b="0" lang="ru-RU" sz="2700" spc="-1" strike="noStrike" u="sng">
                <a:solidFill>
                  <a:srgbClr val="ff8119"/>
                </a:solidFill>
                <a:uFillTx/>
                <a:latin typeface="Lucida Sans Unicode"/>
                <a:hlinkClick r:id="rId6"/>
              </a:rPr>
              <a:t>/</a:t>
            </a:r>
            <a:r>
              <a:rPr b="0" lang="en-US" sz="2700" spc="-1" strike="noStrike" u="sng">
                <a:solidFill>
                  <a:srgbClr val="ff8119"/>
                </a:solidFill>
                <a:uFillTx/>
                <a:latin typeface="Lucida Sans Unicode"/>
                <a:hlinkClick r:id="rId7"/>
              </a:rPr>
              <a:t>shkola</a:t>
            </a:r>
            <a:r>
              <a:rPr b="0" lang="ru-RU" sz="2700" spc="-1" strike="noStrike" u="sng">
                <a:solidFill>
                  <a:srgbClr val="ff8119"/>
                </a:solidFill>
                <a:uFillTx/>
                <a:latin typeface="Lucida Sans Unicode"/>
                <a:hlinkClick r:id="rId8"/>
              </a:rPr>
              <a:t>/</a:t>
            </a:r>
            <a:r>
              <a:rPr b="0" lang="en-US" sz="2700" spc="-1" strike="noStrike" u="sng">
                <a:solidFill>
                  <a:srgbClr val="ff8119"/>
                </a:solidFill>
                <a:uFillTx/>
                <a:latin typeface="Lucida Sans Unicode"/>
                <a:hlinkClick r:id="rId9"/>
              </a:rPr>
              <a:t>russkii</a:t>
            </a:r>
            <a:r>
              <a:rPr b="0" lang="ru-RU" sz="2700" spc="-1" strike="noStrike" u="sng">
                <a:solidFill>
                  <a:srgbClr val="ff8119"/>
                </a:solidFill>
                <a:uFillTx/>
                <a:latin typeface="Lucida Sans Unicode"/>
                <a:hlinkClick r:id="rId10"/>
              </a:rPr>
              <a:t>-</a:t>
            </a:r>
            <a:r>
              <a:rPr b="0" lang="en-US" sz="2700" spc="-1" strike="noStrike" u="sng">
                <a:solidFill>
                  <a:srgbClr val="ff0000"/>
                </a:solidFill>
                <a:uFillTx/>
                <a:latin typeface="Lucida Sans Unicode"/>
              </a:rPr>
              <a:t>yazyk</a:t>
            </a:r>
            <a:r>
              <a:rPr b="0" lang="ru-RU" sz="2700" spc="-1" strike="noStrike" u="sng">
                <a:solidFill>
                  <a:srgbClr val="ff0000"/>
                </a:solidFill>
                <a:uFillTx/>
                <a:latin typeface="Lucida Sans Unicode"/>
              </a:rPr>
              <a:t>/</a:t>
            </a:r>
            <a:r>
              <a:rPr b="0" lang="en-US" sz="2700" spc="-1" strike="noStrike" u="sng">
                <a:solidFill>
                  <a:srgbClr val="ff0000"/>
                </a:solidFill>
                <a:uFillTx/>
                <a:latin typeface="Lucida Sans Unicode"/>
              </a:rPr>
              <a:t>library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0000"/>
                </a:solidFill>
                <a:latin typeface="Lucida Sans Unicode"/>
              </a:rPr>
              <a:t>http://images.yandex.ru/yandsearch?tex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0000"/>
                </a:solidFill>
                <a:latin typeface="Lucida Sans Unicode"/>
              </a:rPr>
              <a:t>http://images.yandex.ru/yandsearch?p=1&amp;tex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7" name="Заголовок 2" descr=""/>
          <p:cNvPicPr/>
          <p:nvPr/>
        </p:nvPicPr>
        <p:blipFill>
          <a:blip r:embed="rId1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" dur="500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" dur="500"/>
                                        <p:tgtEl>
                                          <p:spTgt spid="4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4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18T16:51:52Z</dcterms:created>
  <dc:creator>User</dc:creator>
  <dc:description/>
  <dc:language>en-US</dc:language>
  <cp:lastModifiedBy>Анастасия</cp:lastModifiedBy>
  <dcterms:modified xsi:type="dcterms:W3CDTF">2014-04-20T20:48:19Z</dcterms:modified>
  <cp:revision>43</cp:revision>
  <dc:subject/>
  <dc:title>Слайд 1</dc:title>
</cp:coreProperties>
</file>