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1.jpeg" ContentType="image/jpeg"/>
  <Override PartName="/ppt/media/image5.jpeg" ContentType="image/jpeg"/>
  <Override PartName="/ppt/media/image28.png" ContentType="image/png"/>
  <Override PartName="/ppt/media/image8.jpeg" ContentType="image/jpeg"/>
  <Override PartName="/ppt/media/image29.jpeg" ContentType="image/jpeg"/>
  <Override PartName="/ppt/media/image30.png" ContentType="image/png"/>
  <Override PartName="/ppt/media/image13.jpeg" ContentType="image/jpeg"/>
  <Override PartName="/ppt/media/image23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20.jpeg" ContentType="image/jpeg"/>
  <Override PartName="/ppt/media/image12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2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5E23-B974-4FCE-A9A8-CB783EAA1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806C-4939-408A-A64F-1EDD2FB1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443C-C14D-4988-A19B-AA1D7D55D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3270-3EED-45B7-A358-2235069C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0E41-CE48-4B39-9B93-BAA23A7D8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D316-B244-4F32-9D96-C37B1292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BE9D-7BE5-44D0-A074-61EC4D20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BAB5-B0D1-4A5E-A07E-351C03DE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3D4F-1E64-4BB7-A9F1-2A48B899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3D40-E8D7-4F21-A9C4-595A65DE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68B9-CB5D-4EFC-85CA-8774937B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7C48-4A60-4676-82A0-5B5AE54E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7AF4-672F-42F8-B381-676DF5C4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16FC-4229-4961-B465-461961AC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ED27-5B78-48C1-A2A4-1C897DE9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6565-B3FA-41F7-9490-B3E373622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FA8B-742A-4D30-A6C4-DF89050A9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FF54B-BB02-4304-89B9-A99B57017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7D8A1-23DC-4BED-B6F9-7719B188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78BEC-7494-40FB-A859-28909994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3FC38-FCA3-45EF-8321-0F99B59F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61A69-3E26-4DCB-AB9D-487A5986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4D8E-9574-41BC-B53D-B93A3F19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A20BC-D786-4200-9C56-30A53CD1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CE32F-1AA1-4F4A-B735-212086D1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1D8B3-5C71-4B2F-8587-1B5EAD4C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FBEDA-1266-438B-8D25-D77ADE44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755EE-66CF-4AC0-99B6-93CB4073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64759-0CAF-4187-94E5-FB214A2AA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EF5DF-6945-47CC-BA80-397960A8D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452B0-DB85-4F0F-9F15-E5E9AD7AF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58E98-5F34-4A0D-BEEC-D6F9E74D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33E31-4321-4CA1-87D9-F4E9F06F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BBB7-F177-4D53-AE95-EE7C4127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4E064-57A2-437C-BDF6-7D2F3468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9BF05-26FE-4B51-9CC6-F9FD722F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71E36-A1BB-4284-862B-B01DBCB2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CFEEE-47CD-453C-8D33-2F209B36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75F2F-C011-4FE2-B180-75C96CA2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13D27-AF7F-42BE-A082-E87F5026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C3B50-BB89-47E9-B94F-F5664176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8FCC4-9E56-4C7D-AB01-8DA08FACC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3EAB4-9CF8-46EE-A3DA-6C93C15B0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75EC8-3398-4DF9-9FE5-180DD209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9893-47AC-4C90-9C08-C906F5C4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23DF3-F6F7-4421-8099-8CB760E4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7CBBD-C96B-4A6A-8DAB-39555D28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53421-2860-42D6-9BFD-B1E4B45A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1FCC8-99C2-455C-B6AE-E7252F28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DC001-547C-4917-85EC-59E3F7C7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75736-30EA-4089-9819-5EAA1AFC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9D8D4-96FB-42EA-92D6-4AAB17E1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CF330-FBFE-42DA-BA0C-5E80964D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F29BF-36BF-4165-AE7B-E066429F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58A31-205D-45CB-8077-994ED99CF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8ADE-AC8D-4612-B81C-86D5708F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26718-0A47-4E1C-A65D-0CF7D344D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4C18E-52F7-48DD-83C2-800EA64DF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EEB5E-5E2E-4EF6-BF38-3FD00914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5A23F-F0B5-4E30-B484-3ACCB9D2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E966E-6ADE-4276-AF8D-8FF97E96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97557-A9F2-4DB3-9E2C-2F7EBA80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70B46-C012-4B6F-8F3E-08557A9F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25174-378B-41D3-AE7F-F8F67325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C02E6-9531-48EF-9A4B-65DF3601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CEB9A-4927-40F3-B7B1-F132AEA8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8642-6B13-46DC-92AB-D32AD46E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DDE77-20C6-4595-AE13-89765183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BB4DD-FECF-4DFC-9ED6-BBB5BBB03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FDF79-0572-4D47-BF49-EC97B387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20996-A097-4DAF-B4E9-2A37A7BCE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A8AB8-1640-4685-8017-D2F963FF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08586-945C-4FAC-A067-2D4FF1A0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0F849-1159-4CB5-AAA3-34E16888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496BA-DB86-405E-8814-23AA008F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9EE92-B386-431E-B3A0-758FCAA7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53AA8-3BC4-4E53-8748-FE564FB5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9833-7B97-4BA2-9123-FD7EA02F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EA372-44C7-4F59-B0DA-3E8A0785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7ACE2-D879-4A81-BD9D-F6E27689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A0D05-FBEC-44D1-A709-42FC3A33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37F3F-9DBE-4D6B-8173-F3BA0ED1B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871C4-00F3-44DF-B825-0561FDA2D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316A9-78E2-45B9-8301-2455E4F9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72F28-1753-4EE2-89DD-B7932903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9EA6C-13B3-4E13-BFA3-EB4A8F9F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999DF-47D5-48D9-A5FE-FC2A81A6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B380E-36F0-44A3-945F-C209EE03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B5E2-5865-41AD-BD6F-293501B1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6686F-7663-429C-B5E8-300E62E2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05630-3111-4C2D-BF73-1B280B81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F8795-D5D8-4B3E-900F-3078D623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3DAA5-D3F3-437C-80EF-52663019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B8F60-E28D-47FF-B6A4-F1F8AE12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2BF1B-A5A0-4DC9-A47C-3A48A06A5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E2FE3-E002-42E6-9169-4DE242644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6215-06B6-4375-89D8-81C34B42E140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6947-D97D-4587-8BE6-877FCB8F1524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50BD-08E0-4E47-8D23-35C7F56AB7DD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3D75-F116-4C92-A25B-14ECB1B6902D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F430-A846-49A7-A02E-B371E367E59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0870-CBF2-4298-82E0-EDF33EFEF4F1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261A-1913-4422-869D-99780A873DBE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C679-248B-4D31-A8F1-6A0E8912849D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nsportal.ru/shkola/russkii-yazyk/library/rol-obobshchayushchih-shem-tablic-algoritmov-na-urokah-russkogo-yazyka" TargetMode="External"/><Relationship Id="rId2" Type="http://schemas.openxmlformats.org/officeDocument/2006/relationships/hyperlink" Target="http://nsportal.ru/shkola/russkii-yazyk/library/rol-obobshchayushchih-shem-tablic-algoritmov-na-urokah-russkogo-yazyka" TargetMode="External"/><Relationship Id="rId3" Type="http://schemas.openxmlformats.org/officeDocument/2006/relationships/hyperlink" Target="http://nsportal.ru/shkola/russkii-yazyk/library/rol-obobshchayushchih-shem-tablic-algoritmov-na-urokah-russkogo-yazyka" TargetMode="External"/><Relationship Id="rId4" Type="http://schemas.openxmlformats.org/officeDocument/2006/relationships/hyperlink" Target="http://nsportal.ru/shkola/russkii-yazyk/library/rol-obobshchayushchih-shem-tablic-algoritmov-na-urokah-russkogo-yazyka" TargetMode="External"/><Relationship Id="rId5" Type="http://schemas.openxmlformats.org/officeDocument/2006/relationships/hyperlink" Target="http://nsportal.ru/shkola/russkii-yazyk/library/rol-obobshchayushchih-shem-tablic-algoritmov-na-urokah-russkogo-yazyka" TargetMode="External"/><Relationship Id="rId6" Type="http://schemas.openxmlformats.org/officeDocument/2006/relationships/hyperlink" Target="http://nsportal.ru/shkola/russkii-yazyk/library/rol-obobshchayushchih-shem-tablic-algoritmov-na-urokah-russkogo-yazyka" TargetMode="External"/><Relationship Id="rId7" Type="http://schemas.openxmlformats.org/officeDocument/2006/relationships/hyperlink" Target="http://nsportal.ru/shkola/russkii-yazyk/library/rol-obobshchayushchih-shem-tablic-algoritmov-na-urokah-russkogo-yazyka" TargetMode="External"/><Relationship Id="rId8" Type="http://schemas.openxmlformats.org/officeDocument/2006/relationships/hyperlink" Target="http://nsportal.ru/shkola/russkii-yazyk/library/rol-obobshchayushchih-shem-tablic-algoritmov-na-urokah-russkogo-yazyka" TargetMode="External"/><Relationship Id="rId9" Type="http://schemas.openxmlformats.org/officeDocument/2006/relationships/hyperlink" Target="http://nsportal.ru/shkola/russkii-yazyk/library/rol-obobshchayushchih-shem-tablic-algoritmov-na-urokah-russkogo-yazyka" TargetMode="External"/><Relationship Id="rId10" Type="http://schemas.openxmlformats.org/officeDocument/2006/relationships/hyperlink" Target="http://nsportal.ru/shkola/russkii-yazyk/library/rol-obobshchayushchih-shem-tablic-algoritmov-na-urokah-russkogo-yazyka" TargetMode="External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585720" y="981000"/>
            <a:ext cx="8296200" cy="18590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42960" y="3571920"/>
            <a:ext cx="7772400" cy="160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by Milena Belyanskaya, Varvara Kravets, Form </a:t>
            </a:r>
            <a:r>
              <a:rPr b="0" lang="ru-RU" sz="2400" spc="-1" strike="noStrike">
                <a:solidFill>
                  <a:srgbClr val="464646"/>
                </a:solidFill>
                <a:latin typeface="Lucida Sans Unicode"/>
              </a:rPr>
              <a:t>8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Teacher: Anastasiya Musich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aecd"/>
                </a:solidFill>
                <a:latin typeface="Lucida Sans Unicode"/>
              </a:rPr>
              <a:t>Gymnasium </a:t>
            </a:r>
            <a:r>
              <a:rPr b="1" lang="ru-RU" sz="2400" spc="-1" strike="noStrike">
                <a:solidFill>
                  <a:srgbClr val="1faecd"/>
                </a:solidFill>
                <a:latin typeface="Lucida Sans Unicode"/>
              </a:rPr>
              <a:t>№</a:t>
            </a:r>
            <a:r>
              <a:rPr b="1" lang="en-US" sz="2400" spc="-1" strike="noStrike">
                <a:solidFill>
                  <a:srgbClr val="1faecd"/>
                </a:solidFill>
                <a:latin typeface="Lucida Sans Unicode"/>
              </a:rPr>
              <a:t> 2072, Moscow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2" descr=""/>
          <p:cNvPicPr/>
          <p:nvPr/>
        </p:nvPicPr>
        <p:blipFill>
          <a:blip r:embed="rId1"/>
          <a:stretch/>
        </p:blipFill>
        <p:spPr>
          <a:xfrm>
            <a:off x="450720" y="725400"/>
            <a:ext cx="8242560" cy="449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Содержимое 3" descr="Past Perf and Present Perf.jpg"/>
          <p:cNvPicPr/>
          <p:nvPr/>
        </p:nvPicPr>
        <p:blipFill>
          <a:blip r:embed="rId1"/>
          <a:srcRect l="0" t="68296" r="4692" b="0"/>
          <a:stretch/>
        </p:blipFill>
        <p:spPr>
          <a:xfrm>
            <a:off x="928800" y="1214280"/>
            <a:ext cx="7286400" cy="2428920"/>
          </a:xfrm>
          <a:prstGeom prst="rect">
            <a:avLst/>
          </a:prstGeom>
          <a:ln w="0">
            <a:noFill/>
          </a:ln>
        </p:spPr>
      </p:pic>
      <p:pic>
        <p:nvPicPr>
          <p:cNvPr id="373" name="Заголовок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4" descr="present perfect построение предложений.jpg"/>
          <p:cNvPicPr/>
          <p:nvPr/>
        </p:nvPicPr>
        <p:blipFill>
          <a:blip r:embed="rId3"/>
          <a:stretch/>
        </p:blipFill>
        <p:spPr>
          <a:xfrm>
            <a:off x="4197240" y="3857760"/>
            <a:ext cx="4946760" cy="300024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5" descr="времена таблица.jpg"/>
          <p:cNvPicPr/>
          <p:nvPr/>
        </p:nvPicPr>
        <p:blipFill>
          <a:blip r:embed="rId4"/>
          <a:stretch/>
        </p:blipFill>
        <p:spPr>
          <a:xfrm>
            <a:off x="428760" y="3357720"/>
            <a:ext cx="366048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glish grammar in schemes and tables can help to save knowledge in the mi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3" descr="i.jpg"/>
          <p:cNvPicPr/>
          <p:nvPr/>
        </p:nvPicPr>
        <p:blipFill>
          <a:blip r:embed="rId2"/>
          <a:stretch/>
        </p:blipFill>
        <p:spPr>
          <a:xfrm>
            <a:off x="6643800" y="42876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0680"/>
            <a:ext cx="82296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88360" indent="-201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learning of positive and negative aspects of schemes and tabl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88360" indent="-201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88360" indent="-201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chemes and tables’ analyzing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88360" indent="-201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8360" indent="-201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8360" indent="-201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381" name="Organization Chart 13"/>
          <p:cNvGrpSpPr/>
          <p:nvPr/>
        </p:nvGrpSpPr>
        <p:grpSpPr>
          <a:xfrm>
            <a:off x="5000760" y="2714760"/>
            <a:ext cx="3899880" cy="2306880"/>
            <a:chOff x="5000760" y="2714760"/>
            <a:chExt cx="3899880" cy="2306880"/>
          </a:xfrm>
        </p:grpSpPr>
        <p:cxnSp>
          <p:nvCxnSpPr>
            <p:cNvPr id="382" name="_s1028"/>
            <p:cNvCxnSpPr>
              <a:stCxn id="383" idx="0"/>
              <a:endCxn id="384" idx="2"/>
            </p:cNvCxnSpPr>
            <p:nvPr/>
          </p:nvCxnSpPr>
          <p:spPr>
            <a:xfrm flipV="1" rot="16200000">
              <a:off x="7401960" y="3184920"/>
              <a:ext cx="461880" cy="1365480"/>
            </a:xfrm>
            <a:prstGeom prst="bentConnector3">
              <a:avLst>
                <a:gd name="adj1" fmla="val 209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5" name="_s1029"/>
            <p:cNvCxnSpPr>
              <a:stCxn id="386" idx="0"/>
              <a:endCxn id="384" idx="2"/>
            </p:cNvCxnSpPr>
            <p:nvPr/>
          </p:nvCxnSpPr>
          <p:spPr>
            <a:xfrm flipV="1">
              <a:off x="6950520" y="3636720"/>
              <a:ext cx="1800" cy="461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7" name="_s1030"/>
            <p:cNvCxnSpPr>
              <a:stCxn id="388" idx="0"/>
              <a:endCxn id="384" idx="2"/>
            </p:cNvCxnSpPr>
            <p:nvPr/>
          </p:nvCxnSpPr>
          <p:spPr>
            <a:xfrm flipH="1" flipV="1" rot="5400000">
              <a:off x="6037200" y="3184920"/>
              <a:ext cx="461880" cy="1365480"/>
            </a:xfrm>
            <a:prstGeom prst="bentConnector3">
              <a:avLst>
                <a:gd name="adj1" fmla="val 209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84" name="_s1031"/>
            <p:cNvSpPr/>
            <p:nvPr/>
          </p:nvSpPr>
          <p:spPr>
            <a:xfrm>
              <a:off x="6365520" y="2714760"/>
              <a:ext cx="1170000" cy="922680"/>
            </a:xfrm>
            <a:prstGeom prst="roundRect">
              <a:avLst>
                <a:gd name="adj" fmla="val 16667"/>
              </a:avLst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1032"/>
            <p:cNvSpPr/>
            <p:nvPr/>
          </p:nvSpPr>
          <p:spPr>
            <a:xfrm>
              <a:off x="5000760" y="4098960"/>
              <a:ext cx="1170000" cy="922680"/>
            </a:xfrm>
            <a:prstGeom prst="roundRect">
              <a:avLst>
                <a:gd name="adj" fmla="val 16667"/>
              </a:avLst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_s1033"/>
            <p:cNvSpPr/>
            <p:nvPr/>
          </p:nvSpPr>
          <p:spPr>
            <a:xfrm>
              <a:off x="6365520" y="4098960"/>
              <a:ext cx="1170000" cy="922680"/>
            </a:xfrm>
            <a:prstGeom prst="roundRect">
              <a:avLst>
                <a:gd name="adj" fmla="val 16667"/>
              </a:avLst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_s1034"/>
            <p:cNvSpPr/>
            <p:nvPr/>
          </p:nvSpPr>
          <p:spPr>
            <a:xfrm>
              <a:off x="7730640" y="4098960"/>
              <a:ext cx="1170000" cy="922680"/>
            </a:xfrm>
            <a:prstGeom prst="roundRect">
              <a:avLst>
                <a:gd name="adj" fmla="val 16667"/>
              </a:avLst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Diagram 22"/>
          <p:cNvGrpSpPr/>
          <p:nvPr/>
        </p:nvGrpSpPr>
        <p:grpSpPr>
          <a:xfrm>
            <a:off x="799920" y="4472640"/>
            <a:ext cx="2444040" cy="1424520"/>
            <a:chOff x="799920" y="4472640"/>
            <a:chExt cx="2444040" cy="1424520"/>
          </a:xfrm>
        </p:grpSpPr>
        <p:sp>
          <p:nvSpPr>
            <p:cNvPr id="390" name="_s1037"/>
            <p:cNvSpPr/>
            <p:nvPr/>
          </p:nvSpPr>
          <p:spPr>
            <a:xfrm flipH="1">
              <a:off x="1432080" y="5458320"/>
              <a:ext cx="295920" cy="10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1038"/>
            <p:cNvSpPr/>
            <p:nvPr/>
          </p:nvSpPr>
          <p:spPr>
            <a:xfrm>
              <a:off x="799920" y="5459040"/>
              <a:ext cx="678960" cy="43812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_s1039"/>
            <p:cNvSpPr/>
            <p:nvPr/>
          </p:nvSpPr>
          <p:spPr>
            <a:xfrm>
              <a:off x="2314440" y="5458320"/>
              <a:ext cx="29484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_s1040"/>
            <p:cNvSpPr/>
            <p:nvPr/>
          </p:nvSpPr>
          <p:spPr>
            <a:xfrm>
              <a:off x="2564640" y="5459040"/>
              <a:ext cx="679320" cy="43812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_s1041"/>
            <p:cNvSpPr/>
            <p:nvPr/>
          </p:nvSpPr>
          <p:spPr>
            <a:xfrm flipV="1">
              <a:off x="2021400" y="4910040"/>
              <a:ext cx="0" cy="219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_s1042"/>
            <p:cNvSpPr/>
            <p:nvPr/>
          </p:nvSpPr>
          <p:spPr>
            <a:xfrm>
              <a:off x="1682280" y="4472640"/>
              <a:ext cx="678960" cy="43812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_s1043"/>
            <p:cNvSpPr/>
            <p:nvPr/>
          </p:nvSpPr>
          <p:spPr>
            <a:xfrm>
              <a:off x="1682280" y="5130360"/>
              <a:ext cx="678960" cy="43812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57578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rticles in the Intern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urvey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pupil’s and grammar book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3" descr="i (2).jpg"/>
          <p:cNvPicPr/>
          <p:nvPr/>
        </p:nvPicPr>
        <p:blipFill>
          <a:blip r:embed="rId2"/>
          <a:stretch/>
        </p:blipFill>
        <p:spPr>
          <a:xfrm>
            <a:off x="5357880" y="1357200"/>
            <a:ext cx="3429000" cy="142884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5" descr="i (3).jpg"/>
          <p:cNvPicPr/>
          <p:nvPr/>
        </p:nvPicPr>
        <p:blipFill>
          <a:blip r:embed="rId3"/>
          <a:stretch/>
        </p:blipFill>
        <p:spPr>
          <a:xfrm>
            <a:off x="2714760" y="2143080"/>
            <a:ext cx="1904760" cy="185760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11" descr="i (4).jpg"/>
          <p:cNvPicPr/>
          <p:nvPr/>
        </p:nvPicPr>
        <p:blipFill>
          <a:blip r:embed="rId4"/>
          <a:stretch/>
        </p:blipFill>
        <p:spPr>
          <a:xfrm>
            <a:off x="5643720" y="3214800"/>
            <a:ext cx="1643040" cy="2071440"/>
          </a:xfrm>
          <a:prstGeom prst="rect">
            <a:avLst/>
          </a:prstGeom>
          <a:ln w="0">
            <a:noFill/>
          </a:ln>
        </p:spPr>
      </p:pic>
      <p:pic>
        <p:nvPicPr>
          <p:cNvPr id="402" name="Рисунок 12" descr="i (5).jpg"/>
          <p:cNvPicPr/>
          <p:nvPr/>
        </p:nvPicPr>
        <p:blipFill>
          <a:blip r:embed="rId5"/>
          <a:stretch/>
        </p:blipFill>
        <p:spPr>
          <a:xfrm>
            <a:off x="7238880" y="2786040"/>
            <a:ext cx="1905120" cy="250020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13" descr="i (7).jpg"/>
          <p:cNvPicPr/>
          <p:nvPr/>
        </p:nvPicPr>
        <p:blipFill>
          <a:blip r:embed="rId6"/>
          <a:stretch/>
        </p:blipFill>
        <p:spPr>
          <a:xfrm>
            <a:off x="6357960" y="5000760"/>
            <a:ext cx="1643040" cy="185724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14" descr="i (8).jpg"/>
          <p:cNvPicPr/>
          <p:nvPr/>
        </p:nvPicPr>
        <p:blipFill>
          <a:blip r:embed="rId7"/>
          <a:stretch/>
        </p:blipFill>
        <p:spPr>
          <a:xfrm>
            <a:off x="4929120" y="4714920"/>
            <a:ext cx="1500120" cy="185724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15" descr="big.jpg"/>
          <p:cNvPicPr/>
          <p:nvPr/>
        </p:nvPicPr>
        <p:blipFill>
          <a:blip r:embed="rId8"/>
          <a:stretch/>
        </p:blipFill>
        <p:spPr>
          <a:xfrm>
            <a:off x="7881840" y="4881600"/>
            <a:ext cx="126216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0680"/>
            <a:ext cx="704376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sibil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aving ti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asy and fast searching of inform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ucida Sans Unicode"/>
              </a:rPr>
              <a:t>Negative aspects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little informatio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rd for understand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3" descr="i (11).jpg"/>
          <p:cNvPicPr/>
          <p:nvPr/>
        </p:nvPicPr>
        <p:blipFill>
          <a:blip r:embed="rId2"/>
          <a:stretch/>
        </p:blipFill>
        <p:spPr>
          <a:xfrm>
            <a:off x="5929200" y="357120"/>
            <a:ext cx="2643480" cy="192888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4" descr="i (12).jpg"/>
          <p:cNvPicPr/>
          <p:nvPr/>
        </p:nvPicPr>
        <p:blipFill>
          <a:blip r:embed="rId3"/>
          <a:stretch/>
        </p:blipFill>
        <p:spPr>
          <a:xfrm>
            <a:off x="6000840" y="3500280"/>
            <a:ext cx="264312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1" name="Содержимое 3"/>
          <p:cNvGraphicFramePr/>
          <p:nvPr/>
        </p:nvGraphicFramePr>
        <p:xfrm>
          <a:off x="857160" y="1712880"/>
          <a:ext cx="771552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2" name="Содержимое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7160" y="1712880"/>
                    <a:ext cx="77155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0680"/>
            <a:ext cx="7115040" cy="26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chemes and tables help to generalize inform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learning  English grammar is eas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knowledge is har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3" descr="i (13).jpg"/>
          <p:cNvPicPr/>
          <p:nvPr/>
        </p:nvPicPr>
        <p:blipFill>
          <a:blip r:embed="rId2"/>
          <a:stretch/>
        </p:blipFill>
        <p:spPr>
          <a:xfrm>
            <a:off x="4214880" y="4071960"/>
            <a:ext cx="40719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9" dur="indefinite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0" dur="indefinite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indefinite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4" dur="indefinite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5" dur="indefinite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9" dur="indefinite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</a:t>
            </a: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://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nsportal</a:t>
            </a: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.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ru</a:t>
            </a: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6"/>
              </a:rPr>
              <a:t>/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7"/>
              </a:rPr>
              <a:t>shkola</a:t>
            </a: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8"/>
              </a:rPr>
              <a:t>/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9"/>
              </a:rPr>
              <a:t>russkii</a:t>
            </a: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0"/>
              </a:rPr>
              <a:t>-</a:t>
            </a:r>
            <a:r>
              <a:rPr b="0" lang="en-US" sz="2700" spc="-1" strike="noStrike" u="sng">
                <a:solidFill>
                  <a:srgbClr val="ff0000"/>
                </a:solidFill>
                <a:uFillTx/>
                <a:latin typeface="Lucida Sans Unicode"/>
              </a:rPr>
              <a:t>yazyk</a:t>
            </a:r>
            <a:r>
              <a:rPr b="0" lang="ru-RU" sz="2700" spc="-1" strike="noStrike" u="sng">
                <a:solidFill>
                  <a:srgbClr val="ff0000"/>
                </a:solidFill>
                <a:uFillTx/>
                <a:latin typeface="Lucida Sans Unicode"/>
              </a:rPr>
              <a:t>/</a:t>
            </a:r>
            <a:r>
              <a:rPr b="0" lang="en-US" sz="2700" spc="-1" strike="noStrike" u="sng">
                <a:solidFill>
                  <a:srgbClr val="ff0000"/>
                </a:solidFill>
                <a:uFillTx/>
                <a:latin typeface="Lucida Sans Unicode"/>
              </a:rPr>
              <a:t>librar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http://images.yandex.ru/yandsearch?tex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http://images.yandex.ru/yandsearch?p=1&amp;tex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Заголовок 2" descr=""/>
          <p:cNvPicPr/>
          <p:nvPr/>
        </p:nvPicPr>
        <p:blipFill>
          <a:blip r:embed="rId1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8T16:51:52Z</dcterms:created>
  <dc:creator>User</dc:creator>
  <dc:description/>
  <dc:language>en-US</dc:language>
  <cp:lastModifiedBy>Анастасия</cp:lastModifiedBy>
  <dcterms:modified xsi:type="dcterms:W3CDTF">2014-04-20T20:48:19Z</dcterms:modified>
  <cp:revision>43</cp:revision>
  <dc:subject/>
  <dc:title>Слайд 1</dc:title>
</cp:coreProperties>
</file>