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5D9-708E-4F32-8A80-C69A3B87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753-4862-4BEB-805A-C61DE294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4EF-16B5-4B4B-971E-7DDC75FC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686-18E0-46B1-9D3F-DF21FCDF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DA14-13B7-4B62-9EE4-873736DA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E964-02C8-4C5E-9069-AADC1BF5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FB3D-6C19-4A5C-BC39-E70D6A3D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40DB-12C6-487A-A7FB-4F7115E6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F64B-6DB7-410A-A9A7-7072672A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6138-6125-4BD5-9FE4-BC7AFC57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3A08-A278-4239-999B-703F60F5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033-5A0B-4AB5-98B0-AE151A50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A9D7-57C8-4760-B7C7-296192C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F931-9E69-4EDD-897F-ACEE5D5C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99A7-AE7E-4309-8819-7090AFFD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CC84-8C5E-425A-9BD8-8F87F334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8C41-7327-4B19-AFC7-1AC923F1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BEB-4302-4BD5-B6F3-A9B8B724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D5C-CD33-46A9-A20F-5BA69D07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F42-632B-43CE-AC50-A6AAF3F4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E3D-8BA4-4F6E-89AC-E9CB3DD8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0B1-AC2F-4536-B59A-E4A3AC3C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9F6-11C3-40E1-A557-72CD423F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CE8-C574-43F4-A796-E6070BA5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5303-789E-4BE3-B75D-57FADF5416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F037-B49E-4E89-A588-81B6B3EAED0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ролевых игр при формировании коммуникативной компетентности учащихся на уроках английского языка.</a:t>
            </a:r>
            <a:br>
              <a:rPr sz="2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 учитель английского языка МБОУ лицея №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Комсомольска-на-Амуре Дружинина Е.В.).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4" descr="8"/>
          <p:cNvPicPr/>
          <p:nvPr/>
        </p:nvPicPr>
        <p:blipFill>
          <a:blip r:embed="rId1"/>
          <a:stretch/>
        </p:blipFill>
        <p:spPr>
          <a:xfrm>
            <a:off x="1763640" y="2637000"/>
            <a:ext cx="472608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риемы групповой деятельност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зговой штур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йми позици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кала мнен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нк информац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юсы, минусы иде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углый стол (обмен мнениями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тыре угл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русел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ргументы «за» и «против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д «Бояр» или 12 записок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4"/>
          <p:cNvPicPr/>
          <p:nvPr/>
        </p:nvPicPr>
        <p:blipFill>
          <a:blip r:embed="rId11"/>
          <a:stretch/>
        </p:blipFill>
        <p:spPr>
          <a:xfrm>
            <a:off x="4067280" y="981000"/>
            <a:ext cx="2941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Речевые упражнения для обучения подготовленной диалогической реч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ы на вопросы (краткие, полные, развернутые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огизация прослушанного и прочитанного текс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ление диалога на изучаемую тему и заданную ситуацию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аматизация монологического текс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вершение диалога с ориентацией на подсказк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динение диалогических единств, данных в произвольной последовательности в диалог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олнение или видоизменение диалог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ление направленного или самостоятельного диалога по содержанию рассказ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Речевые упражнения для обучения подготовленной монологической реч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роизведение связных высказываний с некоторой модификацие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ление ситуации или рассказ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ание картины или серии картин, связанных с изучаемой тем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и краткое обоснование темы прослушанного рассказ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деление в сообщении смысловых частей, озаглавливание их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сказ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ление плана прослушанного рассказ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ление аргументированных ответов на вопрос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Речевые упражнения для обучения неподготовленной монологической реч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думывание заголовка и его обосновани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исание картин и карикатур, не связанных с изучаемой тем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ценка прослушанного или прочитанно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ление кратких объявлений и текст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4" descr="10"/>
          <p:cNvPicPr/>
          <p:nvPr/>
        </p:nvPicPr>
        <p:blipFill>
          <a:blip r:embed="rId5"/>
          <a:stretch/>
        </p:blipFill>
        <p:spPr>
          <a:xfrm>
            <a:off x="4140360" y="4797360"/>
            <a:ext cx="26161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риемы по обучению лексик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the definitions to the words/ match words with their definition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phrase using new word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l in the gaps using new word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ь предложения с новыми слов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едини разрозненные части предлож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олни кроссворд, чайнворд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ind-map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зови слово по его дефиниц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бери синонимы, антонимы к данному слов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предели слова по определенному принципу или признаку  например, по степени нарастания чувств (от ненависти до обожествления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единить разрозненные слова таким образом, чтобы получились идиомы, пословицы и т. д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ить рассказ с данными слов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брать из текста интернациональные слова, определить их значение в родном и иностранном языках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нежный ком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роблема ошибок учащихся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шибки являются неотъемлемой частью процесса обучения языку, и возможность свободно делать ошибки на уроке скорее содействует обучению нежели сдерживает его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4" descr="5"/>
          <p:cNvPicPr/>
          <p:nvPr/>
        </p:nvPicPr>
        <p:blipFill>
          <a:blip r:embed="rId2"/>
          <a:stretch/>
        </p:blipFill>
        <p:spPr>
          <a:xfrm>
            <a:off x="900000" y="3500280"/>
            <a:ext cx="3375000" cy="237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9"/>
          <p:cNvPicPr/>
          <p:nvPr/>
        </p:nvPicPr>
        <p:blipFill>
          <a:blip r:embed="rId3"/>
          <a:stretch/>
        </p:blipFill>
        <p:spPr>
          <a:xfrm rot="715200">
            <a:off x="4347720" y="3548160"/>
            <a:ext cx="35895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ое назначение курса 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Millennium English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5-11”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альнейше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звитие иноязычной коммуникативной компетентности учащихся 5-11 классов средних общеобразовательных учебных заведений и достижение рабочего уровня владения английским язык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муникативная компетентность (согласно авторам УМК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умма знаний, навыков, умений и других характеристик, позволяющих человеку осуществлять деятельность, связанную с использованием языка. В методических целях эту сложную структуру делят на лингвистическую, социолингвистическую, социокультурную, дискурсивную и стратегическую компетентност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Ролевая игра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олевая игра - «упражнение, в котором учащийся, исполняя попеременно различные социальные и межличностные роли, осваивает общение в пределах социального контакта» (Пассов, 1991. с. 95).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ролевой игры как  формы работы позволяет осуществить интегративное взаимодействие всех видов речевой деятельности при активном участии обучающихся в сюжетной импровизации. При этом и сам учитель может быть ее активным участником… » (Пассов, 1991. с. 138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Виды и свойства ролевой игры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55640" y="957240"/>
          <a:ext cx="6935760" cy="4775400"/>
        </p:xfrm>
        <a:graphic>
          <a:graphicData uri="http://schemas.openxmlformats.org/drawingml/2006/table">
            <a:tbl>
              <a:tblPr/>
              <a:tblGrid>
                <a:gridCol w="3468600"/>
                <a:gridCol w="346716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йств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ируемая ролевая игр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ники получают необходимые реплики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ренно-контролируемая ролевая игр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ники получают общее описание игры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бодная ролевая игр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никам предлагаются обстоятельства общения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пизодическая ролевая игр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ыгрывается отдельный эпизод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тельная ролевая игр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ыгрывается серия эпизодов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реимущества использования ролевой игры в классе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4" descr="2"/>
          <p:cNvPicPr/>
          <p:nvPr/>
        </p:nvPicPr>
        <p:blipFill>
          <a:blip r:embed="rId1"/>
          <a:stretch/>
        </p:blipFill>
        <p:spPr>
          <a:xfrm>
            <a:off x="685800" y="1598760"/>
            <a:ext cx="6541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Основные моменты при организации ролевой игры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Picture 4" descr="DSC03557"/>
          <p:cNvPicPr/>
          <p:nvPr/>
        </p:nvPicPr>
        <p:blipFill>
          <a:blip r:embed="rId1"/>
          <a:stretch/>
        </p:blipFill>
        <p:spPr>
          <a:xfrm rot="20622000">
            <a:off x="971280" y="1607760"/>
            <a:ext cx="3585960" cy="2691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13"/>
          <p:cNvPicPr/>
          <p:nvPr/>
        </p:nvPicPr>
        <p:blipFill>
          <a:blip r:embed="rId2"/>
          <a:stretch/>
        </p:blipFill>
        <p:spPr>
          <a:xfrm>
            <a:off x="4140360" y="2852640"/>
            <a:ext cx="3173400" cy="2168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SC03558"/>
          <p:cNvPicPr/>
          <p:nvPr/>
        </p:nvPicPr>
        <p:blipFill>
          <a:blip r:embed="rId3"/>
          <a:stretch/>
        </p:blipFill>
        <p:spPr>
          <a:xfrm>
            <a:off x="1979640" y="4365720"/>
            <a:ext cx="2782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7d47d"/>
                </a:solidFill>
                <a:uFillTx/>
                <a:latin typeface="Arial"/>
              </a:rPr>
              <a:t>Коммуникативные игры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язательные           Кооператив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1476360" y="836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5508720" y="836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7" descr="6"/>
          <p:cNvPicPr/>
          <p:nvPr/>
        </p:nvPicPr>
        <p:blipFill>
          <a:blip r:embed="rId2"/>
          <a:stretch/>
        </p:blipFill>
        <p:spPr>
          <a:xfrm>
            <a:off x="1692360" y="2781360"/>
            <a:ext cx="39909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Основные типы коммуникативных игр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ы на догадк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овые игр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ы на соответстви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ы по обмену или сбору информац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12"/>
          <p:cNvPicPr/>
          <p:nvPr/>
        </p:nvPicPr>
        <p:blipFill>
          <a:blip r:embed="rId5"/>
          <a:stretch/>
        </p:blipFill>
        <p:spPr>
          <a:xfrm rot="1353600">
            <a:off x="5076360" y="3068280"/>
            <a:ext cx="3024360" cy="2133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14"/>
          <p:cNvPicPr/>
          <p:nvPr/>
        </p:nvPicPr>
        <p:blipFill>
          <a:blip r:embed="rId6"/>
          <a:stretch/>
        </p:blipFill>
        <p:spPr>
          <a:xfrm>
            <a:off x="1979640" y="3789360"/>
            <a:ext cx="28652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2:25:31Z</dcterms:created>
  <dc:creator>User</dc:creator>
  <dc:description/>
  <dc:language>en-US</dc:language>
  <cp:lastModifiedBy>User</cp:lastModifiedBy>
  <dcterms:modified xsi:type="dcterms:W3CDTF">2014-10-02T21:56:15Z</dcterms:modified>
  <cp:revision>28</cp:revision>
  <dc:subject/>
  <dc:title>Качество знаний по английскому языку за 2008-2011г. (4А-7А класс)</dc:title>
</cp:coreProperties>
</file>