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0DB-20F8-4FC2-B1A0-14DC6068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9FA-B042-4767-B547-6F50A45A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C48-95F1-403E-AD8D-AE13C4E4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91A-5014-4DED-AF44-6922E0D2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4A5-7B12-42A0-8268-54B20101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CF58-5EB4-4E60-A41F-DAC5125B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576-8EC4-40B4-9187-9AF0ECF5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3D9-8B5F-486C-9172-5CBC5FF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3FF-FE59-4992-AC58-84F248F5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38C-8014-49E2-9911-D0827E4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E243-81DE-4CAA-ACAC-A5E11A4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852-43B7-4011-88D1-4F673E0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8B17-55D3-411E-9CBF-428FC3C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28BC-9B16-4236-A3D9-CDFEC55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0318-5541-4B9C-A2F2-9039606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E987-3CF7-40AC-BBA7-856AE2A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C0A-53AD-40B4-A48E-DD079188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85A-9460-49C9-9171-9DB8373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397-90F7-427A-A93D-1BB410A3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FD7-7081-4476-A281-3FE0C97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5C2-039E-4DAE-B6CD-98D7AD3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E40-0C82-4DD3-A0D0-DAA3878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BFF-9917-4670-9A4D-2E91BDB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3F3-445D-44A8-9BB7-5E4801B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CEE-174F-46C0-B37D-87A4BA8980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C35F-7641-43D8-BD83-5E85B199E03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ролевых игр при формировании коммуникативной компетентности учащихся на уроках английского языка.</a:t>
            </a:r>
            <a:br>
              <a:rPr sz="2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 учитель английского языка МБОУ лицея №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Комсомольска-на-Амуре Дружинина Е.В.)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8"/>
          <p:cNvPicPr/>
          <p:nvPr/>
        </p:nvPicPr>
        <p:blipFill>
          <a:blip r:embed="rId1"/>
          <a:stretch/>
        </p:blipFill>
        <p:spPr>
          <a:xfrm>
            <a:off x="1763640" y="2637000"/>
            <a:ext cx="472608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иемы групповой деятельност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зговой штур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йми позиц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кала мнен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нк информ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юсы, минусы иде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глый стол (обмен мнениями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тыре уг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усе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гументы «за» и «против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д «Бояр» или 12 запис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4"/>
          <p:cNvPicPr/>
          <p:nvPr/>
        </p:nvPicPr>
        <p:blipFill>
          <a:blip r:embed="rId11"/>
          <a:stretch/>
        </p:blipFill>
        <p:spPr>
          <a:xfrm>
            <a:off x="4067280" y="981000"/>
            <a:ext cx="2941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подготовленной диа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ы на вопросы (краткие, полные, развернутые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зация прослушанного и прочитанного тек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ление диалога на изучаемую тему и заданную ситуаци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аматизация монологического тек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ершение диалога с ориентацией на подсказ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динение диалогических единств, данных в произвольной последовательности в диалог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олнение или видоизменение диалог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ление направленного или самостоятельного диалога по содержанию рассказ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подготовленной моно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роизведение связных высказываний с некоторой модификаци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ситуации или рассказ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 картины или серии картин, связанных с изучаемой тем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и краткое обоснование темы прослушанного рассказ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ение в сообщении смысловых частей, озаглавливание и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каз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плана прослушанного рассказ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аргументированных ответов на вопрос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неподготовленной моно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думывание заголовка и его обоснова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сание картин и карикатур, не связанных с изучаемой тем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прослушанного или прочитанн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кратких объявлений и текс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10"/>
          <p:cNvPicPr/>
          <p:nvPr/>
        </p:nvPicPr>
        <p:blipFill>
          <a:blip r:embed="rId5"/>
          <a:stretch/>
        </p:blipFill>
        <p:spPr>
          <a:xfrm>
            <a:off x="4140360" y="4797360"/>
            <a:ext cx="26161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иемы по обучению лексик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the definitions to the words/ match words with their definition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phrase using new wor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in the gaps using new wor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ь предложения с новыми сло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едини разрозненные части предлож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лни кроссворд, чайнвор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ind-map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ови слово по его дефини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бери синонимы, антонимы к данному слов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 слова по определенному принципу или признаку  например, по степени нарастания чувств (от ненависти до обожествления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единить разрозненные слова таким образом, чтобы получились идиомы, пословицы и т. 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ить рассказ с данными сло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рать из текста интернациональные слова, определить их значение в родном и иностранном язык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нежный ком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облема ошибок учащихся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шибки являются неотъемлемой частью процесса обучения языку, и возможность свободно делать ошибки на уроке скорее содействует обучению нежели сдерживает его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5"/>
          <p:cNvPicPr/>
          <p:nvPr/>
        </p:nvPicPr>
        <p:blipFill>
          <a:blip r:embed="rId2"/>
          <a:stretch/>
        </p:blipFill>
        <p:spPr>
          <a:xfrm>
            <a:off x="900000" y="3500280"/>
            <a:ext cx="3375000" cy="237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9"/>
          <p:cNvPicPr/>
          <p:nvPr/>
        </p:nvPicPr>
        <p:blipFill>
          <a:blip r:embed="rId3"/>
          <a:stretch/>
        </p:blipFill>
        <p:spPr>
          <a:xfrm rot="715200">
            <a:off x="4347720" y="3548160"/>
            <a:ext cx="35895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ое назначение курса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Millennium English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5-11”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альнейше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тие иноязычной коммуникативной компетентности учащихся 5-11 классов средних общеобразовательных учебных заведений и достижение рабочего уровня владения английским язык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муникативная компетентность (согласно авторам УМК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умма знаний, навыков, умений и других характеристик, позволяющих человеку осуществлять деятельность, связанную с использованием языка. В методических целях эту сложную структуру делят на лингвистическую, социолингвистическую, социокультурную, дискурсивную и стратегическую компетент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олевая игр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левая игра - «упражнение, в котором учащийся, исполняя попеременно различные социальные и межличностные роли, осваивает общение в пределах социального контакта» (Пассов, 1991. с. 95).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ролевой игры как  формы работы позволяет осуществить интегративное взаимодействие всех видов речевой деятельности при активном участии обучающихся в сюжетной импровизации. При этом и сам учитель может быть ее активным участником… » (Пассов, 1991. с. 138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Виды и свойства ролевой игры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5640" y="957240"/>
          <a:ext cx="6935760" cy="4775400"/>
        </p:xfrm>
        <a:graphic>
          <a:graphicData uri="http://schemas.openxmlformats.org/drawingml/2006/table">
            <a:tbl>
              <a:tblPr/>
              <a:tblGrid>
                <a:gridCol w="3468600"/>
                <a:gridCol w="346716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ируем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получают необходимые реплики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-контролируем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получают общее описание игр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бодн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ам предлагаются обстоятельства общения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пизодическ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ыгрывается отдельный эпизод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ыгрывается серия эпизодов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еимущества использования ролевой игры в классе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4" descr="2"/>
          <p:cNvPicPr/>
          <p:nvPr/>
        </p:nvPicPr>
        <p:blipFill>
          <a:blip r:embed="rId1"/>
          <a:stretch/>
        </p:blipFill>
        <p:spPr>
          <a:xfrm>
            <a:off x="685800" y="1598760"/>
            <a:ext cx="6541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Основные моменты при организации ролевой игры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DSC03557"/>
          <p:cNvPicPr/>
          <p:nvPr/>
        </p:nvPicPr>
        <p:blipFill>
          <a:blip r:embed="rId1"/>
          <a:stretch/>
        </p:blipFill>
        <p:spPr>
          <a:xfrm rot="20622000">
            <a:off x="971280" y="1607760"/>
            <a:ext cx="3585960" cy="269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3"/>
          <p:cNvPicPr/>
          <p:nvPr/>
        </p:nvPicPr>
        <p:blipFill>
          <a:blip r:embed="rId2"/>
          <a:stretch/>
        </p:blipFill>
        <p:spPr>
          <a:xfrm>
            <a:off x="4140360" y="2852640"/>
            <a:ext cx="3173400" cy="216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SC03558"/>
          <p:cNvPicPr/>
          <p:nvPr/>
        </p:nvPicPr>
        <p:blipFill>
          <a:blip r:embed="rId3"/>
          <a:stretch/>
        </p:blipFill>
        <p:spPr>
          <a:xfrm>
            <a:off x="1979640" y="4365720"/>
            <a:ext cx="2782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Arial"/>
              </a:rPr>
              <a:t>Коммуникативные игры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язательные           Кооперати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476360" y="83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508720" y="83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7" descr="6"/>
          <p:cNvPicPr/>
          <p:nvPr/>
        </p:nvPicPr>
        <p:blipFill>
          <a:blip r:embed="rId2"/>
          <a:stretch/>
        </p:blipFill>
        <p:spPr>
          <a:xfrm>
            <a:off x="1692360" y="2781360"/>
            <a:ext cx="3990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Основные типы коммуникативных игр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на догадк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овые игр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на соответств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по обмену или сбору информ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12"/>
          <p:cNvPicPr/>
          <p:nvPr/>
        </p:nvPicPr>
        <p:blipFill>
          <a:blip r:embed="rId5"/>
          <a:stretch/>
        </p:blipFill>
        <p:spPr>
          <a:xfrm rot="1353600">
            <a:off x="5076360" y="3068280"/>
            <a:ext cx="3024360" cy="213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14"/>
          <p:cNvPicPr/>
          <p:nvPr/>
        </p:nvPicPr>
        <p:blipFill>
          <a:blip r:embed="rId6"/>
          <a:stretch/>
        </p:blipFill>
        <p:spPr>
          <a:xfrm>
            <a:off x="1979640" y="3789360"/>
            <a:ext cx="28652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2:25:31Z</dcterms:created>
  <dc:creator>User</dc:creator>
  <dc:description/>
  <dc:language>en-US</dc:language>
  <cp:lastModifiedBy>User</cp:lastModifiedBy>
  <dcterms:modified xsi:type="dcterms:W3CDTF">2014-10-02T21:56:15Z</dcterms:modified>
  <cp:revision>28</cp:revision>
  <dc:subject/>
  <dc:title>Качество знаний по английскому языку за 2008-2011г. (4А-7А класс)</dc:title>
</cp:coreProperties>
</file>