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4DF-8688-4A80-8BD1-9C7DDDDE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6C07-00D5-4D84-AABB-FECE5092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BD8F-BAEA-4010-BF7A-0EFBCE88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41A-F97F-43A6-9798-27844385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A1FA-CD95-4918-9261-1856824B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CADF-B60F-4777-93AB-B053A374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63B0-B14E-4AF2-A3DC-D819FCEE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346A-BD7E-48D5-A7D3-9239639E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175F-B9C3-444F-8297-F9A681B2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C4F8-98C8-4146-A502-C5FFF66B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F921-E470-4A9E-B231-4B59F181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EF1D-14ED-4A6B-AD2F-00CB2E21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9FD9-D8AA-46BC-9D0D-B020F106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747A-6D6B-48A5-B096-9F0E0E24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16EB-18ED-49C0-B960-794BD2F1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9080-23A5-4088-AA96-A34FB96F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CDAE-EF6F-418D-B6E4-0F75B570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AC3D-D58F-4F3D-B29C-45717CB7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162-2EC3-4C20-9118-D375AD89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FF9-5C4F-444E-85D6-F16B13DF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5FF-1A33-4291-B922-3271EA6A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73F6-B561-469C-A8D7-B946B85E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891-5C30-419B-87B0-F29ABB5C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5DE6-4850-455F-BAC4-D60B8BB4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75D0-9632-47F1-85E5-4353F2E7778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31BA-5B16-4976-A461-ADE9D60BBC5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696600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99"/>
                </a:solidFill>
                <a:latin typeface="Arial"/>
              </a:rPr>
              <a:t>ВИЧ-инфекция  и СПИД:</a:t>
            </a:r>
            <a:endParaRPr b="0" lang="en-US" sz="8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24000" y="4723920"/>
            <a:ext cx="70437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Без мифов и иллюзий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Arial"/>
              </a:rPr>
              <a:t>ПРОВЕРИМ СЕБЯ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ТО  ТАКОЕ   СПИД   и ВИЧ 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ЗОВИТЕ  ПУТИ ПЕРЕДАЧИ  ВИЧ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К   УБЕРЕЧЬ  СЕБЯ  ОТ ОПАСНОСТИ ЗАРАЖЕНИ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99"/>
                </a:solidFill>
                <a:latin typeface="Arial"/>
              </a:rPr>
              <a:t>ВИЧ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ВИРУС</a:t>
            </a: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КРОШЕЧНЫЙ МИКРООРГАНИЗМ, МИКРОБ)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ИММУНОДЕФИЦИТА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28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ЧЕЛОВЕКА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99"/>
                </a:solidFill>
                <a:latin typeface="Arial"/>
              </a:rPr>
              <a:t>СПИД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СИНДРОМ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ртина  болезни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РИОБРЕТЕННОГО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полученного при заражении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ИММУНО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невосприимчивость, т.е.защита от инфекций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ДЕФИЦИТА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недостаток, недостаточное  количество)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то есть недостаточная защита организма от инфекци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ГИПОТЕЗ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болевание возникло в Африке, а затем распространилось на другие территории (США и страны Европы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Согласно африканской гипотезе предшественником ВИЧ могди быть близкородственные вирусы приматов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рус мог приспособиться к жизни в человеческом организме благодаря широкому использованию таких научных движ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а, как переливание крови, пересадка органов и других открытий в медицине, которые могли способствовать формированию как более слабых, так и более опасных форм вирус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кусственное возникновение вируса в конце 70-х годов на основе бактериологического оруж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рус мог существовать с древнейших времен, меняя модификаци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49120" y="549360"/>
            <a:ext cx="7345080" cy="5326200"/>
            <a:chOff x="249120" y="549360"/>
            <a:chExt cx="7345080" cy="5326200"/>
          </a:xfrm>
        </p:grpSpPr>
        <p:cxnSp>
          <p:nvCxnSpPr>
            <p:cNvPr id="202" name="_s193550"/>
            <p:cNvCxnSpPr>
              <a:stCxn id="203" idx="0"/>
              <a:endCxn id="204" idx="2"/>
            </p:cNvCxnSpPr>
            <p:nvPr/>
          </p:nvCxnSpPr>
          <p:spPr>
            <a:xfrm flipV="1" rot="16200000">
              <a:off x="4673520" y="1926360"/>
              <a:ext cx="1065960" cy="257148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05" name="_s193549"/>
            <p:cNvCxnSpPr>
              <a:stCxn id="206" idx="0"/>
              <a:endCxn id="204" idx="2"/>
            </p:cNvCxnSpPr>
            <p:nvPr/>
          </p:nvCxnSpPr>
          <p:spPr>
            <a:xfrm flipV="1">
              <a:off x="3921480" y="2679120"/>
              <a:ext cx="3600" cy="106596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07" name="_s193548"/>
            <p:cNvCxnSpPr>
              <a:stCxn id="208" idx="0"/>
              <a:endCxn id="204" idx="2"/>
            </p:cNvCxnSpPr>
            <p:nvPr/>
          </p:nvCxnSpPr>
          <p:spPr>
            <a:xfrm flipH="1" flipV="1" rot="5400000">
              <a:off x="2103120" y="1926360"/>
              <a:ext cx="1065960" cy="257148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204" name="_s193544"/>
            <p:cNvSpPr/>
            <p:nvPr/>
          </p:nvSpPr>
          <p:spPr>
            <a:xfrm>
              <a:off x="2819880" y="549360"/>
              <a:ext cx="2203560" cy="213048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Основные </a:t>
              </a: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фазы</a:t>
              </a: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_s193545"/>
            <p:cNvSpPr/>
            <p:nvPr/>
          </p:nvSpPr>
          <p:spPr>
            <a:xfrm>
              <a:off x="249120" y="3745080"/>
              <a:ext cx="2203560" cy="213048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 u="sng">
                  <a:solidFill>
                    <a:srgbClr val="003399"/>
                  </a:solidFill>
                  <a:uFillTx/>
                  <a:latin typeface="Arial"/>
                </a:rPr>
                <a:t>НАЧАЛЬНАЯ-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f1311"/>
                  </a:solidFill>
                  <a:latin typeface="Arial"/>
                </a:rPr>
                <a:t>распространение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f1311"/>
                  </a:solidFill>
                  <a:latin typeface="Arial"/>
                </a:rPr>
                <a:t>ВИЧ идет в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f1311"/>
                  </a:solidFill>
                  <a:latin typeface="Arial"/>
                </a:rPr>
                <a:t>основном в  среде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f1311"/>
                  </a:solidFill>
                  <a:latin typeface="Arial"/>
                </a:rPr>
                <a:t>лиц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f1311"/>
                  </a:solidFill>
                  <a:latin typeface="Arial"/>
                </a:rPr>
                <a:t>гомосексуальной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f1311"/>
                  </a:solidFill>
                  <a:latin typeface="Arial"/>
                </a:rPr>
                <a:t>ориентаци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_s193546"/>
            <p:cNvSpPr/>
            <p:nvPr/>
          </p:nvSpPr>
          <p:spPr>
            <a:xfrm>
              <a:off x="2819880" y="3745080"/>
              <a:ext cx="2203560" cy="213048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 u="sng">
                  <a:solidFill>
                    <a:srgbClr val="003399"/>
                  </a:solidFill>
                  <a:uFillTx/>
                  <a:latin typeface="Arial"/>
                </a:rPr>
                <a:t>ВТОРАЯ-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Вирус попадает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в среду лиц,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использующих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наркотики внутривенно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и распространяется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арентеральным путем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через кровь)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_s193547"/>
            <p:cNvSpPr/>
            <p:nvPr/>
          </p:nvSpPr>
          <p:spPr>
            <a:xfrm>
              <a:off x="5390640" y="3745080"/>
              <a:ext cx="2203560" cy="213048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 u="sng">
                  <a:solidFill>
                    <a:srgbClr val="003399"/>
                  </a:solidFill>
                  <a:uFillTx/>
                  <a:latin typeface="Arial"/>
                </a:rPr>
                <a:t>ТРЕТЬЯ-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2f1311"/>
                  </a:solidFill>
                  <a:latin typeface="Arial"/>
                </a:rPr>
                <a:t>Когда в процесс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2f1311"/>
                  </a:solidFill>
                  <a:latin typeface="Arial"/>
                </a:rPr>
                <a:t>вовлекается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2f1311"/>
                  </a:solidFill>
                  <a:latin typeface="Arial"/>
                </a:rPr>
                <a:t>все население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2f1311"/>
                  </a:solidFill>
                  <a:latin typeface="Arial"/>
                </a:rPr>
                <a:t>и распространение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2f1311"/>
                  </a:solidFill>
                  <a:latin typeface="Arial"/>
                </a:rPr>
                <a:t>ВИЧ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2f1311"/>
                  </a:solidFill>
                  <a:latin typeface="Arial"/>
                </a:rPr>
                <a:t>осуществляется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2f1311"/>
                  </a:solidFill>
                  <a:latin typeface="Arial"/>
                </a:rPr>
                <a:t>преимущественно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2f1311"/>
                  </a:solidFill>
                  <a:latin typeface="Arial"/>
                </a:rPr>
                <a:t>половым путем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transition spd="med"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48400" cy="59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КАЗАНО, ЧТО    ВИЧ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ОЖЕТ ПЕРЕДАВАТЬСЯ ОТ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РАЖЕННОГО  ЧЕЛОВЕКА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ТОЛЬКО ТРЕМЯ  ПУТЯМИ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836640"/>
            <a:ext cx="73864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ПРИ ПОЛОВОМ КОНТАКТЕ  (ГОМОСЕКСУАЛЬНЫЙ; ГЕТЕРОСЕКСУАЛЬНЫЙ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ПАРЕНТЕРАЛЬНЫЙ (КРОВОКОНТАКТНЫЙ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-инъекции наркотиков инфицированными шприцам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-переливание необследуемой кров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-медицинские манипуляц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ВЕРТИКАЛЬНЫЙ (ОТ МАТЕРИ К РЕБЕНКУ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-внутриутробно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-во время родо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-при грудном вскармливани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Клинические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роявления болезн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487880" y="1402560"/>
            <a:ext cx="4618440" cy="5061240"/>
            <a:chOff x="1487880" y="1402560"/>
            <a:chExt cx="4618440" cy="5061240"/>
          </a:xfrm>
        </p:grpSpPr>
        <p:sp>
          <p:nvSpPr>
            <p:cNvPr id="214" name="_s204811"/>
            <p:cNvSpPr/>
            <p:nvPr/>
          </p:nvSpPr>
          <p:spPr>
            <a:xfrm>
              <a:off x="2619360" y="1402560"/>
              <a:ext cx="2355120" cy="2863800"/>
            </a:xfrm>
            <a:custGeom>
              <a:avLst/>
              <a:gdLst>
                <a:gd name="textAreaLeft" fmla="*/ 0 w 2355120"/>
                <a:gd name="textAreaRight" fmla="*/ 2355480 w 235512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_s204812"/>
            <p:cNvSpPr/>
            <p:nvPr/>
          </p:nvSpPr>
          <p:spPr>
            <a:xfrm rot="4320000">
              <a:off x="3111840" y="2315880"/>
              <a:ext cx="2863800" cy="2355120"/>
            </a:xfrm>
            <a:custGeom>
              <a:avLst/>
              <a:gdLst>
                <a:gd name="textAreaLeft" fmla="*/ 0 w 2863800"/>
                <a:gd name="textAreaRight" fmla="*/ 2864160 w 2863800"/>
                <a:gd name="textAreaTop" fmla="*/ 0 h 2355120"/>
                <a:gd name="textAreaBottom" fmla="*/ 2355480 h 23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204813"/>
            <p:cNvSpPr/>
            <p:nvPr/>
          </p:nvSpPr>
          <p:spPr>
            <a:xfrm rot="8640000">
              <a:off x="3080520" y="3130200"/>
              <a:ext cx="2355120" cy="2864160"/>
            </a:xfrm>
            <a:custGeom>
              <a:avLst/>
              <a:gdLst>
                <a:gd name="textAreaLeft" fmla="*/ 0 w 2355120"/>
                <a:gd name="textAreaRight" fmla="*/ 2355480 w 2355120"/>
                <a:gd name="textAreaTop" fmla="*/ 0 h 2864160"/>
                <a:gd name="textAreaBottom" fmla="*/ 2864520 h 286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204817"/>
            <p:cNvSpPr/>
            <p:nvPr/>
          </p:nvSpPr>
          <p:spPr>
            <a:xfrm rot="12960000">
              <a:off x="2157840" y="3130200"/>
              <a:ext cx="2355120" cy="2864160"/>
            </a:xfrm>
            <a:custGeom>
              <a:avLst/>
              <a:gdLst>
                <a:gd name="textAreaLeft" fmla="*/ 0 w 2355120"/>
                <a:gd name="textAreaRight" fmla="*/ 2355480 w 2355120"/>
                <a:gd name="textAreaTop" fmla="*/ 0 h 2864160"/>
                <a:gd name="textAreaBottom" fmla="*/ 2864520 h 286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_s204815"/>
            <p:cNvSpPr/>
            <p:nvPr/>
          </p:nvSpPr>
          <p:spPr>
            <a:xfrm rot="17280000">
              <a:off x="1618200" y="2315520"/>
              <a:ext cx="2863800" cy="2355120"/>
            </a:xfrm>
            <a:custGeom>
              <a:avLst/>
              <a:gdLst>
                <a:gd name="textAreaLeft" fmla="*/ 0 w 2863800"/>
                <a:gd name="textAreaRight" fmla="*/ 2864160 w 2863800"/>
                <a:gd name="textAreaTop" fmla="*/ 0 h 2355120"/>
                <a:gd name="textAreaBottom" fmla="*/ 2355480 h 23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204808"/>
            <p:cNvSpPr/>
            <p:nvPr/>
          </p:nvSpPr>
          <p:spPr>
            <a:xfrm>
              <a:off x="4400280" y="1522080"/>
              <a:ext cx="866160" cy="10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f1311"/>
                  </a:solidFill>
                  <a:latin typeface="Arial"/>
                </a:rPr>
                <a:t>2стади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3399"/>
                  </a:solidFill>
                  <a:uFillTx/>
                  <a:latin typeface="Arial"/>
                </a:rPr>
                <a:t>Увеличение 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3399"/>
                  </a:solidFill>
                  <a:uFillTx/>
                  <a:latin typeface="Arial"/>
                </a:rPr>
                <a:t>лимфатических узлов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99"/>
                  </a:solidFill>
                  <a:latin typeface="Arial"/>
                </a:rPr>
                <a:t>Воспаление горла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99"/>
                  </a:solidFill>
                  <a:latin typeface="Arial"/>
                </a:rPr>
                <a:t>Кожная сыпь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99"/>
                  </a:solidFill>
                  <a:latin typeface="Arial"/>
                </a:rPr>
                <a:t>Головная боль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99"/>
                  </a:solidFill>
                  <a:latin typeface="Arial"/>
                </a:rPr>
                <a:t>Бессоннница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204809"/>
            <p:cNvSpPr/>
            <p:nvPr/>
          </p:nvSpPr>
          <p:spPr>
            <a:xfrm>
              <a:off x="5042160" y="3923280"/>
              <a:ext cx="866160" cy="10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3 стадия</a:t>
              </a:r>
              <a:r>
                <a:rPr b="0" lang="en-US" sz="1200" spc="-1" strike="noStrike">
                  <a:solidFill>
                    <a:srgbClr val="2f1311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Повышение 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температуры тела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Потливость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Учащение стула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Потеря в весе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204810"/>
            <p:cNvSpPr/>
            <p:nvPr/>
          </p:nvSpPr>
          <p:spPr>
            <a:xfrm>
              <a:off x="3364560" y="5409360"/>
              <a:ext cx="866520" cy="10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4 стадия: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Повреждение мозга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Рак кожи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Туберкулез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Кишечные инфекции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Похудание(вплоть до истощения)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Кашель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Одышка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Снижение памяти и 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Интеллекта.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_s204814"/>
            <p:cNvSpPr/>
            <p:nvPr/>
          </p:nvSpPr>
          <p:spPr>
            <a:xfrm>
              <a:off x="2323800" y="1522080"/>
              <a:ext cx="866520" cy="10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1стади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Скрытый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(инкубационный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период)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3" name="_s204816"/>
            <p:cNvSpPr/>
            <p:nvPr/>
          </p:nvSpPr>
          <p:spPr>
            <a:xfrm>
              <a:off x="1684080" y="3927240"/>
              <a:ext cx="866160" cy="10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5стади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Потеря зрения, голоса, 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глотательных функций</a:t>
              </a: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Итог-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2f1311"/>
                  </a:solidFill>
                  <a:uFillTx/>
                  <a:latin typeface="Arial"/>
                </a:rPr>
                <a:t>СМЕРТЬ от СПИДа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transition spd="med">
    <p:wheel spokes="1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7516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УГОЛОВНАЯ ОТВЕТСТВЕННОСТЬ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СТ.122 УК РФ.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Заведомое поставление другого лица в опасность заражения ВИЧ-инфекции наказывается ограничением свободы на срок до 3-х лет, либо арестом на срок от 3 до 6 мес, либо лишением свободы до 1 года%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Заражение другого лица ВИЧ-инфекцией, лицом, знавшим о наличии у него этой болезни, наказывается лишением свободы на срок 5 ле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8:16:16Z</dcterms:created>
  <dc:creator>Admin</dc:creator>
  <dc:description/>
  <dc:language>en-US</dc:language>
  <cp:lastModifiedBy>Admin</cp:lastModifiedBy>
  <dcterms:modified xsi:type="dcterms:W3CDTF">2008-11-30T15:19:57Z</dcterms:modified>
  <cp:revision>4</cp:revision>
  <dc:subject/>
  <dc:title>ВИЧ-инфекция  и СПИД:</dc:title>
</cp:coreProperties>
</file>