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06B9-99DF-4CF7-8D9B-AF133CD3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51DC-DF8F-4CD0-85D8-586C5110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785D-F5C6-45D0-981C-285D491B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9BCC-5FAA-42FC-A532-3F6B9CE9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CD9C-3AA1-487C-AB7B-CBE2EB96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639A-4900-4A5E-AC6B-A58EDD97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6AB0-3B24-4518-BD48-1F4DCF44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A816-4EA6-4241-B19B-7789C069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6FBB-1FCF-4DBD-B965-C7B65988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D6C3-5AF2-4373-89FF-EB76D431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A975-D570-405C-A270-CF28DE70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9C8-7844-46FD-B5D3-E3022EE2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D7AC-A69C-405C-974A-873C509B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C78B-6E42-435F-91AE-AD54CFC3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3D18-F2FB-4067-B863-8A4DC802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2B10-747E-4C91-AE4A-82BB9D47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CB04-1C1C-4606-AFF2-B08F088E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704D-B4F1-4C05-9A82-B3BF80ED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485-73B4-4E2C-97AE-5EAE22EE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1B7E-6C63-4BE0-818A-989AF0D8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C1E3-46A2-4611-9123-D1F8E691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F687-B560-4AC5-BBDA-DB2794D4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48D-31EC-4777-ADE2-ED54D4DC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389C-1317-4F54-8E7E-9AD252EA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4526-2117-4CA6-A29A-69F88168742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0180-8359-40CE-923D-712DD11896A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696600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99"/>
                </a:solidFill>
                <a:latin typeface="Arial"/>
              </a:rPr>
              <a:t>ВИЧ-инфекция  и СПИД:</a:t>
            </a:r>
            <a:endParaRPr b="0" lang="en-US" sz="8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24000" y="4723920"/>
            <a:ext cx="70437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Без мифов и иллюзий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d47d"/>
                </a:solidFill>
                <a:latin typeface="Arial"/>
              </a:rPr>
              <a:t>ПРОВЕРИМ СЕБЯ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ТО  ТАКОЕ   СПИД   и ВИЧ 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АЗОВИТЕ  ПУТИ ПЕРЕДАЧИ  ВИЧ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К   УБЕРЕЧЬ  СЕБЯ  ОТ ОПАСНОСТИ ЗАРАЖЕНИЯ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99"/>
                </a:solidFill>
                <a:latin typeface="Arial"/>
              </a:rPr>
              <a:t>ВИЧ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ВИРУС</a:t>
            </a: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КРОШЕЧНЫЙ МИКРООРГАНИЗМ, МИКРОБ)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ИММУНОДЕФИЦИТА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28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ЧЕЛОВЕКА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99"/>
                </a:solidFill>
                <a:latin typeface="Arial"/>
              </a:rPr>
              <a:t>СПИД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СИНДРОМ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ртина  болезни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РИОБРЕТЕННОГО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полученного при заражении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ИММУНО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невосприимчивость, т.е.защита от инфекций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ДЕФИЦИТА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недостаток, недостаточное  количество)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то есть недостаточная защита организма от инфекци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ГИПОТЕЗ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болевание возникло в Африке, а затем распространилось на другие территории (США и страны Европы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Согласно африканской гипотезе предшественником ВИЧ могди быть близкородственные вирусы приматов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рус мог приспособиться к жизни в человеческом организме благодаря широкому использованию таких научных движ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ка, как переливание крови, пересадка органов и других открытий в медицине, которые могли способствовать формированию как более слабых, так и более опасных форм вирус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кусственное возникновение вируса в конце 70-х годов на основе бактериологического оруж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рус мог существовать с древнейших времен, меняя модификаци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49120" y="549360"/>
            <a:ext cx="7345080" cy="5326200"/>
            <a:chOff x="249120" y="549360"/>
            <a:chExt cx="7345080" cy="5326200"/>
          </a:xfrm>
        </p:grpSpPr>
        <p:cxnSp>
          <p:nvCxnSpPr>
            <p:cNvPr id="202" name="_s193550"/>
            <p:cNvCxnSpPr>
              <a:stCxn id="203" idx="0"/>
              <a:endCxn id="204" idx="2"/>
            </p:cNvCxnSpPr>
            <p:nvPr/>
          </p:nvCxnSpPr>
          <p:spPr>
            <a:xfrm flipV="1" rot="16200000">
              <a:off x="4673520" y="1926360"/>
              <a:ext cx="1065960" cy="2571480"/>
            </a:xfrm>
            <a:prstGeom prst="bentConnector3">
              <a:avLst>
                <a:gd name="adj1" fmla="val 12804"/>
              </a:avLst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05" name="_s193549"/>
            <p:cNvCxnSpPr>
              <a:stCxn id="206" idx="0"/>
              <a:endCxn id="204" idx="2"/>
            </p:cNvCxnSpPr>
            <p:nvPr/>
          </p:nvCxnSpPr>
          <p:spPr>
            <a:xfrm flipV="1">
              <a:off x="3921480" y="2679120"/>
              <a:ext cx="3600" cy="106596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07" name="_s193548"/>
            <p:cNvCxnSpPr>
              <a:stCxn id="208" idx="0"/>
              <a:endCxn id="204" idx="2"/>
            </p:cNvCxnSpPr>
            <p:nvPr/>
          </p:nvCxnSpPr>
          <p:spPr>
            <a:xfrm flipH="1" flipV="1" rot="5400000">
              <a:off x="2103120" y="1926360"/>
              <a:ext cx="1065960" cy="2571480"/>
            </a:xfrm>
            <a:prstGeom prst="bentConnector3">
              <a:avLst>
                <a:gd name="adj1" fmla="val 12804"/>
              </a:avLst>
            </a:prstGeom>
            <a:ln w="28440">
              <a:solidFill>
                <a:srgbClr val="2f1311"/>
              </a:solidFill>
              <a:miter/>
            </a:ln>
          </p:spPr>
        </p:cxnSp>
        <p:sp>
          <p:nvSpPr>
            <p:cNvPr id="204" name="_s193544"/>
            <p:cNvSpPr/>
            <p:nvPr/>
          </p:nvSpPr>
          <p:spPr>
            <a:xfrm>
              <a:off x="2819880" y="549360"/>
              <a:ext cx="2203560" cy="213048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Основные </a:t>
              </a: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фазы</a:t>
              </a:r>
              <a:endParaRPr b="0" lang="en-US" sz="17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_s193545"/>
            <p:cNvSpPr/>
            <p:nvPr/>
          </p:nvSpPr>
          <p:spPr>
            <a:xfrm>
              <a:off x="249120" y="3745080"/>
              <a:ext cx="2203560" cy="213048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 u="sng">
                  <a:solidFill>
                    <a:srgbClr val="003399"/>
                  </a:solidFill>
                  <a:uFillTx/>
                  <a:latin typeface="Arial"/>
                </a:rPr>
                <a:t>НАЧАЛЬНАЯ-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2f1311"/>
                  </a:solidFill>
                  <a:latin typeface="Arial"/>
                </a:rPr>
                <a:t>распространение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2f1311"/>
                  </a:solidFill>
                  <a:latin typeface="Arial"/>
                </a:rPr>
                <a:t>ВИЧ идет в 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2f1311"/>
                  </a:solidFill>
                  <a:latin typeface="Arial"/>
                </a:rPr>
                <a:t>основном в  среде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2f1311"/>
                  </a:solidFill>
                  <a:latin typeface="Arial"/>
                </a:rPr>
                <a:t>лиц 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2f1311"/>
                  </a:solidFill>
                  <a:latin typeface="Arial"/>
                </a:rPr>
                <a:t>гомосексуальной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2f1311"/>
                  </a:solidFill>
                  <a:latin typeface="Arial"/>
                </a:rPr>
                <a:t>ориентаци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_s193546"/>
            <p:cNvSpPr/>
            <p:nvPr/>
          </p:nvSpPr>
          <p:spPr>
            <a:xfrm>
              <a:off x="2819880" y="3745080"/>
              <a:ext cx="2203560" cy="213048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 u="sng">
                  <a:solidFill>
                    <a:srgbClr val="003399"/>
                  </a:solidFill>
                  <a:uFillTx/>
                  <a:latin typeface="Arial"/>
                </a:rPr>
                <a:t>ВТОРАЯ-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Вирус попадает 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в среду лиц,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использующих 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наркотики внутривенно 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и распространяется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арентеральным путем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через кровь)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_s193547"/>
            <p:cNvSpPr/>
            <p:nvPr/>
          </p:nvSpPr>
          <p:spPr>
            <a:xfrm>
              <a:off x="5390640" y="3745080"/>
              <a:ext cx="2203560" cy="213048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 u="sng">
                  <a:solidFill>
                    <a:srgbClr val="003399"/>
                  </a:solidFill>
                  <a:uFillTx/>
                  <a:latin typeface="Arial"/>
                </a:rPr>
                <a:t>ТРЕТЬЯ-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2f1311"/>
                  </a:solidFill>
                  <a:latin typeface="Arial"/>
                </a:rPr>
                <a:t>Когда в процесс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2f1311"/>
                  </a:solidFill>
                  <a:latin typeface="Arial"/>
                </a:rPr>
                <a:t>вовлекается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2f1311"/>
                  </a:solidFill>
                  <a:latin typeface="Arial"/>
                </a:rPr>
                <a:t>все население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2f1311"/>
                  </a:solidFill>
                  <a:latin typeface="Arial"/>
                </a:rPr>
                <a:t>и распространение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2f1311"/>
                  </a:solidFill>
                  <a:latin typeface="Arial"/>
                </a:rPr>
                <a:t>ВИЧ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2f1311"/>
                  </a:solidFill>
                  <a:latin typeface="Arial"/>
                </a:rPr>
                <a:t>осуществляется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2f1311"/>
                  </a:solidFill>
                  <a:latin typeface="Arial"/>
                </a:rPr>
                <a:t>преимущественно 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2f1311"/>
                  </a:solidFill>
                  <a:latin typeface="Arial"/>
                </a:rPr>
                <a:t>половым путем</a:t>
              </a:r>
              <a:endParaRPr b="0" lang="en-US" sz="13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transition spd="med">
    <p:wheel spokes="1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448400" cy="59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КАЗАНО, ЧТО    ВИЧ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ОЖЕТ ПЕРЕДАВАТЬСЯ ОТ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РАЖЕННОГО  ЧЕЛОВЕКА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ТОЛЬКО ТРЕМЯ  ПУТЯМИ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836640"/>
            <a:ext cx="73864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ПРИ ПОЛОВОМ КОНТАКТЕ  (ГОМОСЕКСУАЛЬНЫЙ; ГЕТЕРОСЕКСУАЛЬНЫЙ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ПАРЕНТЕРАЛЬНЫЙ (КРОВОКОНТАКТНЫЙ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-инъекции наркотиков инфицированными шприцам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-переливание необследуемой кров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-медицинские манипуляц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ВЕРТИКАЛЬНЫЙ (ОТ МАТЕРИ К РЕБЕНКУ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-внутриутробно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-во время родо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-при грудном вскармливани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Клинические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роявления болезн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487880" y="1402560"/>
            <a:ext cx="4618440" cy="5061240"/>
            <a:chOff x="1487880" y="1402560"/>
            <a:chExt cx="4618440" cy="5061240"/>
          </a:xfrm>
        </p:grpSpPr>
        <p:sp>
          <p:nvSpPr>
            <p:cNvPr id="214" name="_s204811"/>
            <p:cNvSpPr/>
            <p:nvPr/>
          </p:nvSpPr>
          <p:spPr>
            <a:xfrm>
              <a:off x="2619360" y="1402560"/>
              <a:ext cx="2355120" cy="2863800"/>
            </a:xfrm>
            <a:custGeom>
              <a:avLst/>
              <a:gdLst>
                <a:gd name="textAreaLeft" fmla="*/ 0 w 2355120"/>
                <a:gd name="textAreaRight" fmla="*/ 2355480 w 235512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_s204812"/>
            <p:cNvSpPr/>
            <p:nvPr/>
          </p:nvSpPr>
          <p:spPr>
            <a:xfrm rot="4320000">
              <a:off x="3111840" y="2315880"/>
              <a:ext cx="2863800" cy="2355120"/>
            </a:xfrm>
            <a:custGeom>
              <a:avLst/>
              <a:gdLst>
                <a:gd name="textAreaLeft" fmla="*/ 0 w 2863800"/>
                <a:gd name="textAreaRight" fmla="*/ 2864160 w 2863800"/>
                <a:gd name="textAreaTop" fmla="*/ 0 h 2355120"/>
                <a:gd name="textAreaBottom" fmla="*/ 2355480 h 23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_s204813"/>
            <p:cNvSpPr/>
            <p:nvPr/>
          </p:nvSpPr>
          <p:spPr>
            <a:xfrm rot="8640000">
              <a:off x="3080520" y="3130200"/>
              <a:ext cx="2355120" cy="2864160"/>
            </a:xfrm>
            <a:custGeom>
              <a:avLst/>
              <a:gdLst>
                <a:gd name="textAreaLeft" fmla="*/ 0 w 2355120"/>
                <a:gd name="textAreaRight" fmla="*/ 2355480 w 2355120"/>
                <a:gd name="textAreaTop" fmla="*/ 0 h 2864160"/>
                <a:gd name="textAreaBottom" fmla="*/ 2864520 h 286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_s204817"/>
            <p:cNvSpPr/>
            <p:nvPr/>
          </p:nvSpPr>
          <p:spPr>
            <a:xfrm rot="12960000">
              <a:off x="2157840" y="3130200"/>
              <a:ext cx="2355120" cy="2864160"/>
            </a:xfrm>
            <a:custGeom>
              <a:avLst/>
              <a:gdLst>
                <a:gd name="textAreaLeft" fmla="*/ 0 w 2355120"/>
                <a:gd name="textAreaRight" fmla="*/ 2355480 w 2355120"/>
                <a:gd name="textAreaTop" fmla="*/ 0 h 2864160"/>
                <a:gd name="textAreaBottom" fmla="*/ 2864520 h 286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_s204815"/>
            <p:cNvSpPr/>
            <p:nvPr/>
          </p:nvSpPr>
          <p:spPr>
            <a:xfrm rot="17280000">
              <a:off x="1618200" y="2315520"/>
              <a:ext cx="2863800" cy="2355120"/>
            </a:xfrm>
            <a:custGeom>
              <a:avLst/>
              <a:gdLst>
                <a:gd name="textAreaLeft" fmla="*/ 0 w 2863800"/>
                <a:gd name="textAreaRight" fmla="*/ 2864160 w 2863800"/>
                <a:gd name="textAreaTop" fmla="*/ 0 h 2355120"/>
                <a:gd name="textAreaBottom" fmla="*/ 2355480 h 23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204808"/>
            <p:cNvSpPr/>
            <p:nvPr/>
          </p:nvSpPr>
          <p:spPr>
            <a:xfrm>
              <a:off x="4400280" y="1522080"/>
              <a:ext cx="866160" cy="10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f1311"/>
                  </a:solidFill>
                  <a:latin typeface="Arial"/>
                </a:rPr>
                <a:t>2стадия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3399"/>
                  </a:solidFill>
                  <a:uFillTx/>
                  <a:latin typeface="Arial"/>
                </a:rPr>
                <a:t>Увеличение 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3399"/>
                  </a:solidFill>
                  <a:uFillTx/>
                  <a:latin typeface="Arial"/>
                </a:rPr>
                <a:t>лимфатических узлов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99"/>
                  </a:solidFill>
                  <a:latin typeface="Arial"/>
                </a:rPr>
                <a:t>Воспаление горла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99"/>
                  </a:solidFill>
                  <a:latin typeface="Arial"/>
                </a:rPr>
                <a:t>Кожная сыпь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99"/>
                  </a:solidFill>
                  <a:latin typeface="Arial"/>
                </a:rPr>
                <a:t>Головная боль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99"/>
                  </a:solidFill>
                  <a:latin typeface="Arial"/>
                </a:rPr>
                <a:t>Бессоннница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_s204809"/>
            <p:cNvSpPr/>
            <p:nvPr/>
          </p:nvSpPr>
          <p:spPr>
            <a:xfrm>
              <a:off x="5042160" y="3923280"/>
              <a:ext cx="866160" cy="10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Arial"/>
                </a:rPr>
                <a:t>3 стадия</a:t>
              </a:r>
              <a:r>
                <a:rPr b="0" lang="en-US" sz="1200" spc="-1" strike="noStrike">
                  <a:solidFill>
                    <a:srgbClr val="2f1311"/>
                  </a:solidFill>
                  <a:latin typeface="Arial"/>
                </a:rPr>
                <a:t>: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Повышение 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температуры тела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Потливость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Учащение стула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Потеря в весе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_s204810"/>
            <p:cNvSpPr/>
            <p:nvPr/>
          </p:nvSpPr>
          <p:spPr>
            <a:xfrm>
              <a:off x="3364560" y="5409360"/>
              <a:ext cx="866520" cy="10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Arial"/>
                </a:rPr>
                <a:t>4 стадия: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Повреждение мозга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Рак кожи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Туберкулез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Кишечные инфекции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Похудание(вплоть до истощения)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Кашель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Одышка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Снижение памяти и 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Интеллекта.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2" name="_s204814"/>
            <p:cNvSpPr/>
            <p:nvPr/>
          </p:nvSpPr>
          <p:spPr>
            <a:xfrm>
              <a:off x="2323800" y="1522080"/>
              <a:ext cx="866520" cy="10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Arial"/>
                </a:rPr>
                <a:t>1стадия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Скрытый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(инкубационный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период)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3" name="_s204816"/>
            <p:cNvSpPr/>
            <p:nvPr/>
          </p:nvSpPr>
          <p:spPr>
            <a:xfrm>
              <a:off x="1684080" y="3927240"/>
              <a:ext cx="866160" cy="10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Arial"/>
                </a:rPr>
                <a:t>5стадия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Потеря зрения, голоса, 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99"/>
                  </a:solidFill>
                  <a:latin typeface="Arial"/>
                </a:rPr>
                <a:t>глотательных функций</a:t>
              </a:r>
              <a:r>
                <a:rPr b="1" lang="en-US" sz="1200" spc="-1" strike="noStrike">
                  <a:solidFill>
                    <a:srgbClr val="2f1311"/>
                  </a:solidFill>
                  <a:latin typeface="Arial"/>
                </a:rPr>
                <a:t>;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f1311"/>
                  </a:solidFill>
                  <a:latin typeface="Arial"/>
                </a:rPr>
                <a:t>Итог-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2f1311"/>
                  </a:solidFill>
                  <a:uFillTx/>
                  <a:latin typeface="Arial"/>
                </a:rPr>
                <a:t>СМЕРТЬ от СПИДа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transition spd="med">
    <p:wheel spokes="1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7516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УГОЛОВНАЯ ОТВЕТСТВЕННОСТЬ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СТ.122 УК РФ.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Заведомое поставление другого лица в опасность заражения ВИЧ-инфекции наказывается ограничением свободы на срок до 3-х лет, либо арестом на срок от 3 до 6 мес, либо лишением свободы до 1 года%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Заражение другого лица ВИЧ-инфекцией, лицом, знавшим о наличии у него этой болезни, наказывается лишением свободы на срок 5 ле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08:16:16Z</dcterms:created>
  <dc:creator>Admin</dc:creator>
  <dc:description/>
  <dc:language>en-US</dc:language>
  <cp:lastModifiedBy>Admin</cp:lastModifiedBy>
  <dcterms:modified xsi:type="dcterms:W3CDTF">2008-11-30T15:19:57Z</dcterms:modified>
  <cp:revision>4</cp:revision>
  <dc:subject/>
  <dc:title>ВИЧ-инфекция  и СПИД:</dc:title>
</cp:coreProperties>
</file>