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8B9F-58E2-42A5-B8F9-34B192CC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7900-3A73-480F-86DE-03732113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A44D2-5F6C-4261-892F-D120F166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EC536-A72F-40AF-B720-E1A2F147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BA6D2-C0E4-4423-9B3B-1DAD1077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E82B7-2A4C-4BEF-B4AC-BBE88010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93436-3870-4FD2-BCB2-44C265BE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64014-C5F5-42FE-A626-E9A2A34E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176DE-145A-4829-BDAD-ABF0A9DD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334E7-46DD-4745-949C-975F4491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FB7C0-EFF1-4D51-B48B-7BE1AF12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6A0F2-0F6E-4A5D-9E2E-0B49FA3F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B4C-B5F6-4474-9AEE-30546DF0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431D0-E566-4BDC-B120-F4193E04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666E4-53AF-4208-8BB0-415F2A7F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6D297-4A32-407E-8BCD-2F9ADAD9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F2C2A-382E-4EA6-8CA2-4B683965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E9BF6-0CA8-45A1-BFE0-CC1896AE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CF72F-A9B3-4416-8342-65CB7799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461A9-E592-445C-AD20-AD76E58B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617F9-83CA-4D3B-8ADD-4A432BC1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377F3-3BCD-47E9-B9A5-56C8CF8E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5681C-9D37-4D17-8E87-592519E8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47A9-0739-44A0-B34A-0A84EDB5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7886D-D6D0-4E5B-87DE-0AAE2531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EF3B9-0ED7-42CF-AF11-A8FD852E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B6A66-741B-4057-84DB-1637EC30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D2BF4-7387-460B-A0F0-2FC7238B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ECA83-763D-4C72-A4E2-49EE520F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7ED95-0B37-41B0-B293-B63B800A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CD143-2365-43FD-B31B-03A0FC16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753E4-33F1-48A5-AC48-2D9134C1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0F67F-3A4C-48AE-8872-A8DE0127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A467A-E3E8-483D-81EC-3E8B91DC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420F-BDCD-4C19-875C-3AFE7B88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8D2E8-06C0-4C1E-95A2-D69B28EE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E3749-6B9A-4A6E-94C3-E53C7EFA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A9327-655D-4161-A1D5-D9E9F82D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85336-D16C-48C8-9662-D55ED9E8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AF5CA-5C11-4114-9F4F-AE2C3F20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34E60-BE9C-4978-B1EB-E8AC5088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D6BB4-39CB-4526-BAD1-87584D28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1A0F7-78EB-48AF-BB52-3C56B7AD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8EB01-0950-436F-8768-2E5595BC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86D7F-2C47-4189-A361-0BFD3095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600A-B1DF-4C7D-8C45-EFFD3C30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89561-F88F-4F27-833F-015E28FD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17995-6B61-415A-A637-D206BE65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E057D-BD88-4AB2-AC9F-4B500E59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4D86F-C3C9-4F84-A6CA-4555D4F3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2E6F4-0F6B-45AE-8807-00B41F5C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24CE-A4F8-478F-8B10-06BFEA85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3A27-C540-404A-A1EE-E3508577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0E51-D712-4596-8359-98F9EA60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D96A-2C00-42F8-BDF4-74EF8D1E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52C2-4AD9-4909-B360-75D0DB7F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821D-F85B-40A7-89AC-BC341445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3EC1-73AF-4C04-8B9D-6386FA71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B31D-058D-4580-9B6E-32F36E5C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89E5-9B10-4449-8E64-8E94D779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3A51-9831-49E6-9BAF-06D03AC9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524D-6CCE-4820-904B-856AA010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884F1-6173-4C89-95DB-7BF020EC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5C8F9-ECC4-4654-A87C-8952889E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A3418-CCA0-4769-988D-EB21E516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B3D26-C5B5-48ED-8D7B-D0932693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30C4B-4763-43E5-B267-912563C1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7F94-02BA-45F1-9D0B-16A6DF69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746AB-3A53-4E7A-963E-5732F009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56880-058A-4BFA-8319-39AD6720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16301-B86E-4B2E-ACAB-CE2880B1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50EB1-18C9-47C2-933D-FC81C808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224CA-124C-4C76-9683-512356C8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62004-00E5-47A3-822E-8EBE75EB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3E822-F98E-4596-BFAA-C4E2E631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FCA28-3133-4CAA-B43F-01FEF716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CA56A-9CAC-4364-B316-12D0A946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01182-719E-4866-A931-F1D17A66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1391-265B-430E-8CE2-B49D38A5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52187-BFBF-46CA-881E-A7B667DB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A9FAF-DBFE-4B60-87A6-9E3C9E95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8548E-DAC3-4057-95C6-536C7D76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ED778-07FF-45BE-AD67-7EFAD2E6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763B3-307E-4A53-9DA4-495039B3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1BECF-EBD9-4C61-A6B9-B6636DDA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8EC28-3A40-4FD9-8135-95283DB2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6D051-A405-4337-9BBC-957BE2F4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2AF44-9689-4B36-81E1-DB261C0A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6853D-A445-4A7E-AF6E-09CFBD03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9C3C-A51C-4BFD-946C-D900C77A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BD700-0924-4F93-B612-D37A6E52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B3A71-2CE1-4296-95F3-6DC84C35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5BD28-AA06-4FB6-BFC0-F59B6959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A1579-B731-4C5F-B715-AD49D7FB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AE56B-E6AE-4148-8628-550028A1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FF15D-2F7B-403B-AC83-2CCC2463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F2E05-572C-41DA-8A76-DEED12AE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19DDE-1039-473F-910B-F37E1E17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3759A-62C1-4511-8A86-2974B522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17189-26F2-4676-AE7A-AED43DAC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F4D7-634C-486B-9F80-28A84814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F35DA-ED1B-401D-BA4A-FF9391CE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4A9E2-32EC-41A7-9F7E-82B67452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53EFD-113D-4705-89DB-41182DFB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1E7B7-376C-4ED8-B3E9-9776A03B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B12D0-9D73-44D9-85E1-45384D52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0EC99-69FD-4A48-9A61-1E1716D9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13FE5-C916-4B19-AEB0-CE69EDDD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75041-5C69-42C6-9DE8-5A684705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E00BF-25E9-4368-B80D-3861AC4B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EFEAD-79D4-4262-BFDB-ADC14C32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1413-64E0-4189-AAEA-8654521B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0DBBC-A8D9-4F43-8009-35ED0031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190BF-78E9-49F4-AEA8-9DD1EE60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A2676-12F0-4B05-B229-D13EB7CE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A19D9-20F7-41AC-A5A8-933AD7EE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8FCDA-9105-4AD7-B5C3-457019A1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1DDE5-F23F-4ED3-8CE5-C04BA082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ECC33-0EC6-4568-AA3B-EF15509B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8FD32-1329-4F78-BA96-7EE4E721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2B4EB-5BA6-4E2D-AA5A-24828CA2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732CA-4936-46A5-83A7-11D0018D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EF0C-40E3-486C-B7E4-5E499231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9CBB9-6A96-43B7-BA81-8B64F742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ACF9C-FEF0-4832-8B23-2618D27E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545A8-2291-4315-9988-3043C57A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4E8E7-9920-4960-8284-4200EEDA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B6D19-54DF-43B0-98F0-168CC463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266F6-F126-43F4-B9F0-2F6AB433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2B3AD-AB79-4580-A20F-BBBE4802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E05E8-1378-4D4D-AFE9-7A7461B1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B9E0A-3175-4D2D-A38F-088A368F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22E6E-AE13-44FC-AD68-042B2AF9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44F8-2B56-4EDC-8510-0C96EFD8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1429E-CBF4-419A-9DF3-D0C6588A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62B2E-C154-427F-A289-3FA068BB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32773-1A49-49DE-8F4F-310E1F04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422BB-8F06-4F53-81E9-9A92ED66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61717-A567-443B-B544-5DBD117B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8D807-64C1-4A05-A73C-A94622DC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82FED-3487-4F34-8042-7C921D9B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B065F-6516-4888-AFF1-92689860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5BEC6-5065-4045-9B68-EC8CB5EB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8BD5B-5F40-4D7D-A748-F00FE9AF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B86B-5529-45C8-AA25-EFF84C324682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37" name="Freeform 7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Freeform 8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Freeform 9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Freeform 10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255D-5F37-4129-97CE-7AA42BF8A16F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85" name="Freeform 6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Freeform 7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Freeform 8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Freeform 9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50CE-A280-468D-9AD8-D81395C4B780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33" name="Freeform 6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Freeform 7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Freeform 8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Freeform 9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AA95-98BD-4FDC-AD40-DD7717B3D324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7" name="Freeform 6"/>
          <p:cNvSpPr/>
          <p:nvPr/>
        </p:nvSpPr>
        <p:spPr>
          <a:xfrm>
            <a:off x="0" y="5292720"/>
            <a:ext cx="9144000" cy="1442880"/>
          </a:xfrm>
          <a:prstGeom prst="pie">
            <a:avLst/>
          </a:pr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8" name="Freeform 7"/>
          <p:cNvGrpSpPr/>
          <p:nvPr/>
        </p:nvGrpSpPr>
        <p:grpSpPr>
          <a:xfrm>
            <a:off x="-6480" y="5284800"/>
            <a:ext cx="9156960" cy="1457280"/>
            <a:chOff x="-6480" y="5284800"/>
            <a:chExt cx="9156960" cy="1457280"/>
          </a:xfrm>
        </p:grpSpPr>
        <p:pic>
          <p:nvPicPr>
            <p:cNvPr id="49" name="Freeform 7" descr=""/>
            <p:cNvPicPr/>
            <p:nvPr/>
          </p:nvPicPr>
          <p:blipFill>
            <a:blip r:embed="rId4"/>
            <a:stretch/>
          </p:blipFill>
          <p:spPr>
            <a:xfrm>
              <a:off x="-6480" y="5284800"/>
              <a:ext cx="91569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1" name="Freeform 8"/>
          <p:cNvSpPr/>
          <p:nvPr/>
        </p:nvSpPr>
        <p:spPr>
          <a:xfrm>
            <a:off x="0" y="5546880"/>
            <a:ext cx="9147240" cy="1312560"/>
          </a:xfrm>
          <a:prstGeom prst="pie">
            <a:avLst/>
          </a:prstGeom>
          <a:gradFill rotWithShape="0">
            <a:gsLst>
              <a:gs pos="0">
                <a:srgbClr val="fde99f"/>
              </a:gs>
              <a:gs pos="100000">
                <a:srgbClr val="fcde7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Freeform 10"/>
          <p:cNvSpPr/>
          <p:nvPr/>
        </p:nvSpPr>
        <p:spPr>
          <a:xfrm>
            <a:off x="0" y="5502240"/>
            <a:ext cx="9144000" cy="127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2647-A817-42D5-8688-4AEC1A79FD62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8" name="Freeform 6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8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9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CCAD-F650-4979-A509-D1282BBE8234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6" name="Freeform 6"/>
          <p:cNvSpPr/>
          <p:nvPr/>
        </p:nvSpPr>
        <p:spPr>
          <a:xfrm>
            <a:off x="0" y="5546880"/>
            <a:ext cx="9147240" cy="1312560"/>
          </a:xfrm>
          <a:prstGeom prst="pie">
            <a:avLst/>
          </a:prstGeom>
          <a:gradFill rotWithShape="0">
            <a:gsLst>
              <a:gs pos="0">
                <a:srgbClr val="cfefa4"/>
              </a:gs>
              <a:gs pos="100000">
                <a:srgbClr val="b7e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0" y="5292720"/>
            <a:ext cx="9144000" cy="1442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8" name="Freeform 8"/>
          <p:cNvGrpSpPr/>
          <p:nvPr/>
        </p:nvGrpSpPr>
        <p:grpSpPr>
          <a:xfrm>
            <a:off x="-6480" y="5284800"/>
            <a:ext cx="9156960" cy="1457280"/>
            <a:chOff x="-6480" y="5284800"/>
            <a:chExt cx="9156960" cy="1457280"/>
          </a:xfrm>
        </p:grpSpPr>
        <p:pic>
          <p:nvPicPr>
            <p:cNvPr id="149" name="Freeform 8" descr=""/>
            <p:cNvPicPr/>
            <p:nvPr/>
          </p:nvPicPr>
          <p:blipFill>
            <a:blip r:embed="rId4"/>
            <a:stretch/>
          </p:blipFill>
          <p:spPr>
            <a:xfrm>
              <a:off x="-6480" y="5284800"/>
              <a:ext cx="91569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1" name="Rectangle 9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10"/>
          <p:cNvSpPr/>
          <p:nvPr/>
        </p:nvSpPr>
        <p:spPr>
          <a:xfrm>
            <a:off x="0" y="5502240"/>
            <a:ext cx="9144000" cy="127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9A80-3ED2-4220-9321-44A008183263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7" name="Freeform 7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Freeform 8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Freeform 9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Freeform 10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4290-1B3F-4E1A-B04B-EA3503756F66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Freeform 9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Freeform 10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Freeform 11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Freeform 12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BBF0-F2A1-4931-BEAB-4A7F92908840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Freeform 5"/>
          <p:cNvSpPr/>
          <p:nvPr/>
        </p:nvSpPr>
        <p:spPr>
          <a:xfrm>
            <a:off x="0" y="5010120"/>
            <a:ext cx="7439040" cy="15717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Freeform 6"/>
          <p:cNvSpPr/>
          <p:nvPr/>
        </p:nvSpPr>
        <p:spPr>
          <a:xfrm>
            <a:off x="0" y="5730840"/>
            <a:ext cx="9147240" cy="1127160"/>
          </a:xfrm>
          <a:prstGeom prst="pie">
            <a:avLst/>
          </a:pr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Freeform 7"/>
          <p:cNvSpPr/>
          <p:nvPr/>
        </p:nvSpPr>
        <p:spPr>
          <a:xfrm>
            <a:off x="0" y="4973760"/>
            <a:ext cx="767556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Freeform 8"/>
          <p:cNvSpPr/>
          <p:nvPr/>
        </p:nvSpPr>
        <p:spPr>
          <a:xfrm>
            <a:off x="-3240" y="5695920"/>
            <a:ext cx="914724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A98B-8E03-4440-9DD5-38E1E86970C2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1" name="Freeform 4"/>
          <p:cNvSpPr/>
          <p:nvPr/>
        </p:nvSpPr>
        <p:spPr>
          <a:xfrm>
            <a:off x="0" y="5730840"/>
            <a:ext cx="9147240" cy="1127160"/>
          </a:xfrm>
          <a:prstGeom prst="pie">
            <a:avLst/>
          </a:pr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Freeform 5"/>
          <p:cNvSpPr/>
          <p:nvPr/>
        </p:nvSpPr>
        <p:spPr>
          <a:xfrm>
            <a:off x="0" y="5381640"/>
            <a:ext cx="3286080" cy="12081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Freeform 6"/>
          <p:cNvSpPr/>
          <p:nvPr/>
        </p:nvSpPr>
        <p:spPr>
          <a:xfrm>
            <a:off x="-3240" y="5695920"/>
            <a:ext cx="914724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Freeform 7"/>
          <p:cNvSpPr/>
          <p:nvPr/>
        </p:nvSpPr>
        <p:spPr>
          <a:xfrm>
            <a:off x="0" y="5346720"/>
            <a:ext cx="3425760" cy="94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C640-BAF2-4506-BB66-F8F5F65BBE50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89" name="Freeform 7"/>
          <p:cNvSpPr/>
          <p:nvPr/>
        </p:nvSpPr>
        <p:spPr>
          <a:xfrm>
            <a:off x="0" y="5010120"/>
            <a:ext cx="7439040" cy="15717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Freeform 8"/>
          <p:cNvSpPr/>
          <p:nvPr/>
        </p:nvSpPr>
        <p:spPr>
          <a:xfrm>
            <a:off x="0" y="5730840"/>
            <a:ext cx="9147240" cy="1127160"/>
          </a:xfrm>
          <a:prstGeom prst="pie">
            <a:avLst/>
          </a:pr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Freeform 9"/>
          <p:cNvSpPr/>
          <p:nvPr/>
        </p:nvSpPr>
        <p:spPr>
          <a:xfrm>
            <a:off x="0" y="4973760"/>
            <a:ext cx="767556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Freeform 10"/>
          <p:cNvSpPr/>
          <p:nvPr/>
        </p:nvSpPr>
        <p:spPr>
          <a:xfrm>
            <a:off x="-3240" y="5695920"/>
            <a:ext cx="914724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2484-F69D-4096-95BC-A1FF773A2641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1640" y="167616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СКОРБИНОВАЯ  КИСЛОТ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ВИТАМИН С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1640" y="3203280"/>
            <a:ext cx="3886200" cy="1825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4d4d4"/>
                </a:solidFill>
                <a:latin typeface="Calibri"/>
              </a:rPr>
              <a:t>Выполнила преподаватель Каховская Т.Н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0" name="Picture 2" descr="http://ts1.mm.bing.net/th?&amp;id=JN.alg5qh8D47DTPbtTSoSdMQ&amp;w=300&amp;h=300&amp;c=0&amp;pid=1.9&amp;rs=0&amp;p=0"/>
          <p:cNvPicPr/>
          <p:nvPr/>
        </p:nvPicPr>
        <p:blipFill>
          <a:blip r:embed="rId1"/>
          <a:stretch/>
        </p:blipFill>
        <p:spPr>
          <a:xfrm>
            <a:off x="0" y="0"/>
            <a:ext cx="4487760" cy="35002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4" descr="http://kedem.ru/photo/articles/2010/09/20100923-vitamin-c.jpg"/>
          <p:cNvPicPr/>
          <p:nvPr/>
        </p:nvPicPr>
        <p:blipFill>
          <a:blip r:embed="rId2"/>
          <a:stretch/>
        </p:blipFill>
        <p:spPr>
          <a:xfrm>
            <a:off x="7072200" y="3571920"/>
            <a:ext cx="19051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C:\Users\1\Desktop\0007-007-Vitamin-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C:\Users\1\Desktop\thCAPIP83V.jpg"/>
          <p:cNvPicPr/>
          <p:nvPr/>
        </p:nvPicPr>
        <p:blipFill>
          <a:blip r:embed="rId1"/>
          <a:stretch/>
        </p:blipFill>
        <p:spPr>
          <a:xfrm>
            <a:off x="1428840" y="285840"/>
            <a:ext cx="59292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ИТАМИНЫ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Прямоугольник 4"/>
          <p:cNvSpPr/>
          <p:nvPr/>
        </p:nvSpPr>
        <p:spPr>
          <a:xfrm>
            <a:off x="496800" y="1341360"/>
            <a:ext cx="80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(от латинского слова vita- жизнь) - группа органических соединений разнообразной химической природы, необходимых для питания человека, животных и других организмов в ничтожных количествах по сравнению с основными питательными веществами (белками, жирами, углеводами и солями), но имеющих огромное значение для нормального обмена веществ и жизнедеятельност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1908000" y="4017960"/>
            <a:ext cx="40132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76080" y="609480"/>
            <a:ext cx="3382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39b04"/>
                </a:solidFill>
                <a:latin typeface="Calibri"/>
              </a:rPr>
              <a:t>Входят в состав ферментов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3924360" y="0"/>
            <a:ext cx="5219640" cy="424800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76080" y="1527120"/>
            <a:ext cx="33829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Витамины либо входят в состав ферментов, либо являются компонентами ферментативных реакций. При отсутствии витаминов в организме нарушается деятельность ферментных систем, в которых они участвуют, а следовательно,- и обмен веществ. Известно несколько сот ферментов, в состав которых входят витамины, и огромное количество катализируемых ими реакций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C:\Users\1\Desktop\810_767017051.jpg"/>
          <p:cNvPicPr/>
          <p:nvPr/>
        </p:nvPicPr>
        <p:blipFill>
          <a:blip r:embed="rId1"/>
          <a:stretch/>
        </p:blipFill>
        <p:spPr>
          <a:xfrm>
            <a:off x="357120" y="214200"/>
            <a:ext cx="80596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76080" y="609480"/>
            <a:ext cx="3382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39b04"/>
                </a:solidFill>
                <a:latin typeface="Calibri"/>
              </a:rPr>
              <a:t>В организме человека аскорбиновая кислота не образуется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4024440" y="0"/>
            <a:ext cx="5119560" cy="410364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76080" y="1527120"/>
            <a:ext cx="33829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и отсутствуют ее накопления. Необходимое количество витамина C (взрослым от 50 до 100 мг, детям от 30 до 70 мг в сутки) должно поступать с пищей. Основными его источниками являются шиповник сухой (1200 мг в 100г), черная смородина (200 мг в 100 г), цитрусовые (40-60 мг в 100 г), брусника, клюква, черноплодная рябина, яблоки, персики, черешня 910-15 мг в 100 г), земляника (60 мг в 100 г), капуста белокочанная (40-50 мг в 100 г), малина, крыжовник (25-30 мг в 100 г), томаты, зеленый сладкий перец, красный перец, зеленый лук, щавель, шпинат, салат (40-55 мг в 100 г), зелень петрушки (150 мг в 100 г), картофель, свекла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76080" y="609480"/>
            <a:ext cx="3382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9b04"/>
                </a:solidFill>
                <a:latin typeface="Calibri"/>
              </a:rPr>
              <a:t>С кем связано  открытие витаминов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5148360" y="549360"/>
            <a:ext cx="3170160" cy="444348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76080" y="1527120"/>
            <a:ext cx="33829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ткрытие витаминов связано с именем русского ученого Н. И. Лунина, который в 1880 году экспериментально установил, что в пищевых продуктах имеются неизвестные факторы питания, необходимые для жизни. В развитие витаминологии внесли свой вклад ученые Казимир Функ, Х. Эйкман, Ф. Г. Хопкинс; А. Сент-Дьери сделал открытия в области процессов биологического окисления, связанные в особенности с изучением витамина С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76080" y="609480"/>
            <a:ext cx="3382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39b04"/>
                </a:solidFill>
                <a:latin typeface="Calibri"/>
              </a:rPr>
              <a:t>Витамин С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50560" y="1526760"/>
            <a:ext cx="4105080" cy="4565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Аскорбиновая кислота, или витамин С (водорастворимый витамин, мощный антиоксидант), играет немаловажную роль в организме. Он участвует в окислительно-восстановительных процессах, способствует наиболее оптимальному протеканию тканевого обмена, предохраняет гемоглобин эритроцитов от окисления, стимулирует синтез тропоклагена фибробластами и образование коллагеновых структур, участвует в восстановительных процессах, играет важную роль в поддержании нормального состояния капиллярной стенки, способствует созданию запасов гликогена в печени и повышает ее антитоксическую функцию, участвует в синтезе стериоидных гормонов коры надпочечников и в обмене тироксина, участвует в поддержании нормальной структуры и функции клеточных мембран,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4390920" y="692280"/>
            <a:ext cx="4753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40338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39b04"/>
                </a:solidFill>
                <a:latin typeface="Calibri"/>
              </a:rPr>
              <a:t>Недостаточность снабжения организма витаминами ведет к его ослаблению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420372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езкий недостаток витаминов – к разрушению обмена веществ и заболеваниям – авитаминозам, которые могут окончиться гибелью организма. Авитаминозы могут возникать не только от недостаточного поступления витаминов, но и от нарушения процессов их усваивания и использования в организм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1" name="Picture 1" descr="C:\Users\1\Desktop\76918026_large_4524271_4264676537_4975bf525e_Vitamin_C__dont_forget_to_get_plenty_O.jpg"/>
          <p:cNvPicPr/>
          <p:nvPr/>
        </p:nvPicPr>
        <p:blipFill>
          <a:blip r:embed="rId1"/>
          <a:stretch/>
        </p:blipFill>
        <p:spPr>
          <a:xfrm>
            <a:off x="4214880" y="0"/>
            <a:ext cx="492912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9T05:35:48Z</dcterms:created>
  <dc:creator>1</dc:creator>
  <dc:description/>
  <dc:language>en-US</dc:language>
  <cp:lastModifiedBy>1</cp:lastModifiedBy>
  <dcterms:modified xsi:type="dcterms:W3CDTF">2015-04-23T10:19:41Z</dcterms:modified>
  <cp:revision>6</cp:revision>
  <dc:subject/>
  <dc:title>Аскорбиновая  кислота (витамин С)</dc:title>
</cp:coreProperties>
</file>