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12DC-35F2-4847-9990-9F708DF2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2A18-E50F-4A77-9CBE-2FD4BF16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CFBCB-84C1-4EF1-A5D5-C20D7EEE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880FB-71C2-4BE9-8161-70AB52A8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27595-C2F8-47C9-951F-6BE664A9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8D82D-8671-426B-83E8-8B92494F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CCA00-5BC5-4579-BD27-36325446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41D6C-3F44-43DB-95B6-0A7773B0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B0AA3-86F1-4480-BBA1-397C2EE5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2C570-48C4-4C07-A14F-586CA9A7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83A6F-5265-45D6-9FB7-F9BC8462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88B38-CA10-4058-80D6-AB4E74C7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01B-8C85-4726-8340-7A73B45B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95224-1355-469E-984D-6EC9B1DA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80572-2D12-4EEC-89EE-5777AEC2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776C7-C67E-4882-8C71-9EC59DF2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BFDDA-0686-4C9C-93D2-E2209D14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70D0C-F5C3-425E-9898-EA19B13F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B67EC-DA73-4707-94C1-338736B2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633FE-EF18-481F-86B4-F2CBFC5C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30140-951A-40C8-8A19-6C417514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4FED5-19E8-4AE5-8038-625A3422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6D7FA-4099-46FD-A9E7-EF1885F4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B0A5-0EEA-443E-881F-E2777975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B5BAD-1B77-4F1A-B6C8-4D06CA66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C8BF5-561C-41CE-BC70-830D021E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56E02-C027-4CAC-920D-2A800DDE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E252E-1FFF-4B5C-86EF-357416C3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3F17F-CA12-4541-A9DB-D704E57C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8E1AF-F9D2-4052-8A19-86336A0B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91247-2A98-440A-8D54-8D032B8B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38E5C-D643-4238-846A-D1EC1827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D45B6-96CA-48EA-A1E3-EDDBE58F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22C8F-F2DD-4FD3-8AEA-A841F0A2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56AF-7031-45CC-BC95-7E10F1CD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08B0E-313A-4465-9096-BF61E988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33ED6-9AF2-496E-A200-C8A61915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D9167-8687-41A7-8609-9279354B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5CBFB-FE63-4ACA-9E69-5AE6EC94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D13D2-A58A-4F4B-B703-73037C92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BF02E-47AD-499E-AFF7-F89C9CD2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FB118-230D-48F2-B39C-2B57315A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BD784-3AD7-4BC9-A611-2D2F12D4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20F14-7D10-4EB3-AB00-76A6D038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5BD6E-7294-4A97-9FB7-051DFCD4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FB7D-DD22-49EE-B111-CC1F367A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02D75-A678-4C24-B3C6-349ADC0E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B028E-F0B3-476E-AA77-0868DEEB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96D89-F8C2-4F58-A810-A9DF61DC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89F1B-1604-45AA-9BDF-3938D648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8D7AF-379D-414D-807F-A6A00817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A8BF-F955-4A53-9D74-B50569F4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C58B-9FD1-48D8-A2ED-C1091EFB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E0EE-B3AA-4D6F-B07C-C876E14F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93C7-BBCB-4589-982F-314033B2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02DA-7C47-47B2-BBCC-917DA715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59E-AA1F-43BF-9DE6-EF35E34D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6D3A-5429-4123-BDA5-EA1DED43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B45A-580B-4031-83E2-2D96FAD7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6EE6-E80D-4ED4-9792-FAB8B9D5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3043-C2B2-42EF-8DEA-720A04B1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3B87-B033-429E-AA8E-F54143EF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79C8E-6BBC-4B41-96CE-A907874D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EDE1F-B500-4FBF-BFAC-D54DDCE5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C5C35-9D0E-4A21-B4B8-0CA5E0FA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59B8A-4656-45D6-961F-18B1D638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84A1A-CC92-4AE7-A1F9-918CF366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FA46-12B5-40AD-873C-331A1E78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5DDF2-F34D-4693-AC2D-C0596F94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D945E-D268-4481-A39C-C9B5B6E3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AAF21-DB24-47B1-8997-6671EC5F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AD299-A35A-4594-8891-7437CD8B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A6F32-424A-46DB-BBC7-17F23DCC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298DD-D2EE-4449-9ED7-8D984203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00CF8-B734-4FCE-8C2A-57EA038E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4B3E2-4DC0-4EF6-AB3D-BA1C4D19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9C879-CD21-48B1-B12B-105C3158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B056F-C956-49C1-B2B8-F6C76B95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70F5-F4B8-482D-ABE9-09B192B1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4AF72-D402-4E50-A563-D2254364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5113D-D44A-421E-BFB8-5ACCC4E7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AC05D-0B36-4681-964D-0EEA97F3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A9F05-7AE4-42A0-8F30-385B972F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6E391-C480-495D-A5D6-A63743B5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72465-8613-4AAB-9F04-34810359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6B520-9F1A-43DD-B406-85323FF1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2D846-7EAC-4CC2-9E22-13B2D8EA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98D60-F19E-47AC-AF3F-AE3A0CE9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CF4F5-867E-40EB-8BD0-5CB64CAF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06EB-790E-43E8-8C0D-117DB543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35D46-31A2-4C59-990B-8215638A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0CCA3-044A-4712-8F68-4231A43D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D5A7F-E89A-4F80-AAD6-BBAB8517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F018B-5118-4614-BF48-E35DE690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A66C9-1CA7-4C32-90D3-6E298618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72F7F-5B12-4D97-ABAA-FA8A34AF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E4F6A-8C55-4331-9C48-13424967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D412E-3533-41C3-A777-71F7AD3E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2B21C-00FF-4821-9E0B-C2E492D9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5FD2D-50A3-44DC-99BA-7E2596E2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5B54-1E64-4F3D-B48F-7E784A4D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3FE02-FCE0-416C-9B14-1D1A31D0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4302D-4A67-4D93-A582-521B540E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2662D-DFB0-45E0-A43A-19018862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2DD4F-29B9-45E9-8E12-67ADEF56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B2A85-07C3-4F71-966C-D2FC807A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DB7F3-085B-4B5A-91E1-90742AB5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A177C-CB85-47E9-A69B-0ACFE3F2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6110C-4FDC-45A8-BC87-318B0171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1BD64-6756-4015-A6BF-D6071458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8D4E1-883D-41BC-A12C-2ED1B6EE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FB3B-320A-446A-85B0-135AB939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A2372-096A-4798-8B8E-63F0F3C5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5BE66-99D0-4963-A27F-D4DDC7E7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E1524-54FC-43E9-9691-0918E89B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C88FA-2FF8-46B6-929E-B9D5615E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93A56-6692-4FFB-845B-8B93715C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DC654-D2B3-442F-92C9-6B75EDF9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83793-67D2-4515-BCFA-10CA390A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317B5-B9D8-427F-91AF-495303DC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6B032-D8EB-48A3-B5B7-7854CBA8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2473C-B14A-473D-A808-9F55355D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9639-57CB-4EBB-9CD3-65F3E10A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CFEBB-A7E8-4BCB-B971-DF714AD6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7EE51-881B-4828-8A15-F3227273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F434C-39C4-4B62-B4DB-2DAFD37C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B29B9-8671-4EE6-8978-75B577F1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AC715-D8AF-4183-9E9A-ABC6062D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5ADD4-D440-4085-98B0-5E63D050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5B144-8C43-4890-B2FD-15854D41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70901-DF6F-4F20-8643-DF1C8C6D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9F13A-2A3E-48E9-9895-FDAF2EE6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1DC88-20C5-44B7-9CEB-F07F52D5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1E04-37A9-4920-B560-141B8E83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305EC-2A87-4FF4-8372-BDCE0920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1E00B-D6DA-4479-BB04-76EAFDB3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1868B-09B9-4F93-BEA7-4C06C3DF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73874-43FF-4685-8A46-C8792465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1BF11-84E5-4063-BB53-3C4F8CBB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494B7-40D5-4195-94DC-7E1697E7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912D1-76D4-44D1-8F95-F9E0636E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219BC-1EA3-4F24-822F-AE9FB071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50429-15E7-4B74-AB45-50DE4C3F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56195-9E73-4A4B-97A3-A8E6FC1D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5628-784C-4F1C-A1E0-D6506A420B57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37" name="Freeform 7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Freeform 8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Freeform 9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Freeform 10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2E9D-EC2C-4F2E-82A1-01E522A6F267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85" name="Freeform 6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Freeform 7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Freeform 8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Freeform 9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B96A-2929-4042-88D6-84C7FF7401AB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33" name="Freeform 6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Freeform 7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Freeform 8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Freeform 9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32DA-9C7A-4697-9FDF-F19A9F9A1949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7" name="Freeform 6"/>
          <p:cNvSpPr/>
          <p:nvPr/>
        </p:nvSpPr>
        <p:spPr>
          <a:xfrm>
            <a:off x="0" y="5292720"/>
            <a:ext cx="9144000" cy="1442880"/>
          </a:xfrm>
          <a:prstGeom prst="pie">
            <a:avLst/>
          </a:pr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8" name="Freeform 7"/>
          <p:cNvGrpSpPr/>
          <p:nvPr/>
        </p:nvGrpSpPr>
        <p:grpSpPr>
          <a:xfrm>
            <a:off x="-6480" y="5284800"/>
            <a:ext cx="9156960" cy="1457280"/>
            <a:chOff x="-6480" y="5284800"/>
            <a:chExt cx="9156960" cy="1457280"/>
          </a:xfrm>
        </p:grpSpPr>
        <p:pic>
          <p:nvPicPr>
            <p:cNvPr id="49" name="Freeform 7" descr=""/>
            <p:cNvPicPr/>
            <p:nvPr/>
          </p:nvPicPr>
          <p:blipFill>
            <a:blip r:embed="rId4"/>
            <a:stretch/>
          </p:blipFill>
          <p:spPr>
            <a:xfrm>
              <a:off x="-6480" y="5284800"/>
              <a:ext cx="91569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1" name="Freeform 8"/>
          <p:cNvSpPr/>
          <p:nvPr/>
        </p:nvSpPr>
        <p:spPr>
          <a:xfrm>
            <a:off x="0" y="5546880"/>
            <a:ext cx="9147240" cy="1312560"/>
          </a:xfrm>
          <a:prstGeom prst="pie">
            <a:avLst/>
          </a:prstGeom>
          <a:gradFill rotWithShape="0">
            <a:gsLst>
              <a:gs pos="0">
                <a:srgbClr val="fde99f"/>
              </a:gs>
              <a:gs pos="100000">
                <a:srgbClr val="fcde7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Freeform 10"/>
          <p:cNvSpPr/>
          <p:nvPr/>
        </p:nvSpPr>
        <p:spPr>
          <a:xfrm>
            <a:off x="0" y="5502240"/>
            <a:ext cx="9144000" cy="127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EA20-3D69-4C65-9D7A-3E05A17C8D5C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8" name="Freeform 6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8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9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74F4-58CA-4639-9231-1A03E62D59B2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6" name="Freeform 6"/>
          <p:cNvSpPr/>
          <p:nvPr/>
        </p:nvSpPr>
        <p:spPr>
          <a:xfrm>
            <a:off x="0" y="5546880"/>
            <a:ext cx="9147240" cy="1312560"/>
          </a:xfrm>
          <a:prstGeom prst="pie">
            <a:avLst/>
          </a:prstGeom>
          <a:gradFill rotWithShape="0">
            <a:gsLst>
              <a:gs pos="0">
                <a:srgbClr val="cfefa4"/>
              </a:gs>
              <a:gs pos="100000">
                <a:srgbClr val="b7e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0" y="5292720"/>
            <a:ext cx="9144000" cy="1442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8" name="Freeform 8"/>
          <p:cNvGrpSpPr/>
          <p:nvPr/>
        </p:nvGrpSpPr>
        <p:grpSpPr>
          <a:xfrm>
            <a:off x="-6480" y="5284800"/>
            <a:ext cx="9156960" cy="1457280"/>
            <a:chOff x="-6480" y="5284800"/>
            <a:chExt cx="9156960" cy="1457280"/>
          </a:xfrm>
        </p:grpSpPr>
        <p:pic>
          <p:nvPicPr>
            <p:cNvPr id="149" name="Freeform 8" descr=""/>
            <p:cNvPicPr/>
            <p:nvPr/>
          </p:nvPicPr>
          <p:blipFill>
            <a:blip r:embed="rId4"/>
            <a:stretch/>
          </p:blipFill>
          <p:spPr>
            <a:xfrm>
              <a:off x="-6480" y="5284800"/>
              <a:ext cx="91569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1" name="Rectangle 9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10"/>
          <p:cNvSpPr/>
          <p:nvPr/>
        </p:nvSpPr>
        <p:spPr>
          <a:xfrm>
            <a:off x="0" y="5502240"/>
            <a:ext cx="9144000" cy="127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B86D-6457-4879-95EB-48501A530FF3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7" name="Freeform 7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Freeform 8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Freeform 9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Freeform 10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B1F6-37BD-4306-A749-AE3A91E691E7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Freeform 9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Freeform 10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Freeform 11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Freeform 12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BC61-73BE-4DBB-A543-F331E723AD1E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Freeform 5"/>
          <p:cNvSpPr/>
          <p:nvPr/>
        </p:nvSpPr>
        <p:spPr>
          <a:xfrm>
            <a:off x="0" y="5010120"/>
            <a:ext cx="7439040" cy="15717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Freeform 6"/>
          <p:cNvSpPr/>
          <p:nvPr/>
        </p:nvSpPr>
        <p:spPr>
          <a:xfrm>
            <a:off x="0" y="5730840"/>
            <a:ext cx="9147240" cy="1127160"/>
          </a:xfrm>
          <a:prstGeom prst="pie">
            <a:avLst/>
          </a:pr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Freeform 7"/>
          <p:cNvSpPr/>
          <p:nvPr/>
        </p:nvSpPr>
        <p:spPr>
          <a:xfrm>
            <a:off x="0" y="4973760"/>
            <a:ext cx="767556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Freeform 8"/>
          <p:cNvSpPr/>
          <p:nvPr/>
        </p:nvSpPr>
        <p:spPr>
          <a:xfrm>
            <a:off x="-3240" y="5695920"/>
            <a:ext cx="914724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1F8F-DC41-4FD7-8E64-7A441F79432D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1" name="Freeform 4"/>
          <p:cNvSpPr/>
          <p:nvPr/>
        </p:nvSpPr>
        <p:spPr>
          <a:xfrm>
            <a:off x="0" y="5730840"/>
            <a:ext cx="9147240" cy="1127160"/>
          </a:xfrm>
          <a:prstGeom prst="pie">
            <a:avLst/>
          </a:pr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Freeform 5"/>
          <p:cNvSpPr/>
          <p:nvPr/>
        </p:nvSpPr>
        <p:spPr>
          <a:xfrm>
            <a:off x="0" y="5381640"/>
            <a:ext cx="3286080" cy="12081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Freeform 6"/>
          <p:cNvSpPr/>
          <p:nvPr/>
        </p:nvSpPr>
        <p:spPr>
          <a:xfrm>
            <a:off x="-3240" y="5695920"/>
            <a:ext cx="914724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Freeform 7"/>
          <p:cNvSpPr/>
          <p:nvPr/>
        </p:nvSpPr>
        <p:spPr>
          <a:xfrm>
            <a:off x="0" y="5346720"/>
            <a:ext cx="3425760" cy="94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ED23-FC8C-4A37-80F6-2C5883C7303E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89" name="Freeform 7"/>
          <p:cNvSpPr/>
          <p:nvPr/>
        </p:nvSpPr>
        <p:spPr>
          <a:xfrm>
            <a:off x="0" y="5010120"/>
            <a:ext cx="7439040" cy="15717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Freeform 8"/>
          <p:cNvSpPr/>
          <p:nvPr/>
        </p:nvSpPr>
        <p:spPr>
          <a:xfrm>
            <a:off x="0" y="5730840"/>
            <a:ext cx="9147240" cy="1127160"/>
          </a:xfrm>
          <a:prstGeom prst="pie">
            <a:avLst/>
          </a:pr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Freeform 9"/>
          <p:cNvSpPr/>
          <p:nvPr/>
        </p:nvSpPr>
        <p:spPr>
          <a:xfrm>
            <a:off x="0" y="4973760"/>
            <a:ext cx="767556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Freeform 10"/>
          <p:cNvSpPr/>
          <p:nvPr/>
        </p:nvSpPr>
        <p:spPr>
          <a:xfrm>
            <a:off x="-3240" y="5695920"/>
            <a:ext cx="914724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081F-C4A3-46CC-A6B8-C7031AE500D4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1640" y="167616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СКОРБИНОВАЯ  КИСЛОТ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ВИТАМИН С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1640" y="3203280"/>
            <a:ext cx="3886200" cy="1825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4d4d4"/>
                </a:solidFill>
                <a:latin typeface="Calibri"/>
              </a:rPr>
              <a:t>Выполнила преподаватель Каховская Т.Н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0" name="Picture 2" descr="http://ts1.mm.bing.net/th?&amp;id=JN.alg5qh8D47DTPbtTSoSdMQ&amp;w=300&amp;h=300&amp;c=0&amp;pid=1.9&amp;rs=0&amp;p=0"/>
          <p:cNvPicPr/>
          <p:nvPr/>
        </p:nvPicPr>
        <p:blipFill>
          <a:blip r:embed="rId1"/>
          <a:stretch/>
        </p:blipFill>
        <p:spPr>
          <a:xfrm>
            <a:off x="0" y="0"/>
            <a:ext cx="4487760" cy="35002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4" descr="http://kedem.ru/photo/articles/2010/09/20100923-vitamin-c.jpg"/>
          <p:cNvPicPr/>
          <p:nvPr/>
        </p:nvPicPr>
        <p:blipFill>
          <a:blip r:embed="rId2"/>
          <a:stretch/>
        </p:blipFill>
        <p:spPr>
          <a:xfrm>
            <a:off x="7072200" y="3571920"/>
            <a:ext cx="19051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C:\Users\1\Desktop\0007-007-Vitamin-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C:\Users\1\Desktop\thCAPIP83V.jpg"/>
          <p:cNvPicPr/>
          <p:nvPr/>
        </p:nvPicPr>
        <p:blipFill>
          <a:blip r:embed="rId1"/>
          <a:stretch/>
        </p:blipFill>
        <p:spPr>
          <a:xfrm>
            <a:off x="1428840" y="285840"/>
            <a:ext cx="59292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ИТАМИНЫ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Прямоугольник 4"/>
          <p:cNvSpPr/>
          <p:nvPr/>
        </p:nvSpPr>
        <p:spPr>
          <a:xfrm>
            <a:off x="496800" y="1341360"/>
            <a:ext cx="80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(от латинского слова vita- жизнь) - группа органических соединений разнообразной химической природы, необходимых для питания человека, животных и других организмов в ничтожных количествах по сравнению с основными питательными веществами (белками, жирами, углеводами и солями), но имеющих огромное значение для нормального обмена веществ и жизнедеятельност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1908000" y="4017960"/>
            <a:ext cx="40132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76080" y="609480"/>
            <a:ext cx="3382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39b04"/>
                </a:solidFill>
                <a:latin typeface="Calibri"/>
              </a:rPr>
              <a:t>Входят в состав ферментов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3924360" y="0"/>
            <a:ext cx="5219640" cy="424800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76080" y="1527120"/>
            <a:ext cx="33829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Витамины либо входят в состав ферментов, либо являются компонентами ферментативных реакций. При отсутствии витаминов в организме нарушается деятельность ферментных систем, в которых они участвуют, а следовательно,- и обмен веществ. Известно несколько сот ферментов, в состав которых входят витамины, и огромное количество катализируемых ими реакций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C:\Users\1\Desktop\810_767017051.jpg"/>
          <p:cNvPicPr/>
          <p:nvPr/>
        </p:nvPicPr>
        <p:blipFill>
          <a:blip r:embed="rId1"/>
          <a:stretch/>
        </p:blipFill>
        <p:spPr>
          <a:xfrm>
            <a:off x="357120" y="214200"/>
            <a:ext cx="80596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76080" y="609480"/>
            <a:ext cx="3382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39b04"/>
                </a:solidFill>
                <a:latin typeface="Calibri"/>
              </a:rPr>
              <a:t>В организме человека аскорбиновая кислота не образуется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4024440" y="0"/>
            <a:ext cx="5119560" cy="410364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76080" y="1527120"/>
            <a:ext cx="33829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и отсутствуют ее накопления. Необходимое количество витамина C (взрослым от 50 до 100 мг, детям от 30 до 70 мг в сутки) должно поступать с пищей. Основными его источниками являются шиповник сухой (1200 мг в 100г), черная смородина (200 мг в 100 г), цитрусовые (40-60 мг в 100 г), брусника, клюква, черноплодная рябина, яблоки, персики, черешня 910-15 мг в 100 г), земляника (60 мг в 100 г), капуста белокочанная (40-50 мг в 100 г), малина, крыжовник (25-30 мг в 100 г), томаты, зеленый сладкий перец, красный перец, зеленый лук, щавель, шпинат, салат (40-55 мг в 100 г), зелень петрушки (150 мг в 100 г), картофель, свекла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76080" y="609480"/>
            <a:ext cx="3382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9b04"/>
                </a:solidFill>
                <a:latin typeface="Calibri"/>
              </a:rPr>
              <a:t>С кем связано  открытие витаминов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5148360" y="549360"/>
            <a:ext cx="3170160" cy="444348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76080" y="1527120"/>
            <a:ext cx="33829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ткрытие витаминов связано с именем русского ученого Н. И. Лунина, который в 1880 году экспериментально установил, что в пищевых продуктах имеются неизвестные факторы питания, необходимые для жизни. В развитие витаминологии внесли свой вклад ученые Казимир Функ, Х. Эйкман, Ф. Г. Хопкинс; А. Сент-Дьери сделал открытия в области процессов биологического окисления, связанные в особенности с изучением витамина С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76080" y="609480"/>
            <a:ext cx="3382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39b04"/>
                </a:solidFill>
                <a:latin typeface="Calibri"/>
              </a:rPr>
              <a:t>Витамин С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50560" y="1526760"/>
            <a:ext cx="4105080" cy="4565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Аскорбиновая кислота, или витамин С (водорастворимый витамин, мощный антиоксидант), играет немаловажную роль в организме. Он участвует в окислительно-восстановительных процессах, способствует наиболее оптимальному протеканию тканевого обмена, предохраняет гемоглобин эритроцитов от окисления, стимулирует синтез тропоклагена фибробластами и образование коллагеновых структур, участвует в восстановительных процессах, играет важную роль в поддержании нормального состояния капиллярной стенки, способствует созданию запасов гликогена в печени и повышает ее антитоксическую функцию, участвует в синтезе стериоидных гормонов коры надпочечников и в обмене тироксина, участвует в поддержании нормальной структуры и функции клеточных мембран,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4390920" y="692280"/>
            <a:ext cx="4753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40338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39b04"/>
                </a:solidFill>
                <a:latin typeface="Calibri"/>
              </a:rPr>
              <a:t>Недостаточность снабжения организма витаминами ведет к его ослаблению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420372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езкий недостаток витаминов – к разрушению обмена веществ и заболеваниям – авитаминозам, которые могут окончиться гибелью организма. Авитаминозы могут возникать не только от недостаточного поступления витаминов, но и от нарушения процессов их усваивания и использования в организм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1" name="Picture 1" descr="C:\Users\1\Desktop\76918026_large_4524271_4264676537_4975bf525e_Vitamin_C__dont_forget_to_get_plenty_O.jpg"/>
          <p:cNvPicPr/>
          <p:nvPr/>
        </p:nvPicPr>
        <p:blipFill>
          <a:blip r:embed="rId1"/>
          <a:stretch/>
        </p:blipFill>
        <p:spPr>
          <a:xfrm>
            <a:off x="4214880" y="0"/>
            <a:ext cx="492912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9T05:35:48Z</dcterms:created>
  <dc:creator>1</dc:creator>
  <dc:description/>
  <dc:language>en-US</dc:language>
  <cp:lastModifiedBy>1</cp:lastModifiedBy>
  <dcterms:modified xsi:type="dcterms:W3CDTF">2015-04-23T10:19:41Z</dcterms:modified>
  <cp:revision>6</cp:revision>
  <dc:subject/>
  <dc:title>Аскорбиновая  кислота (витамин С)</dc:title>
</cp:coreProperties>
</file>